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chimes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13CA-D74B-4A58-A03A-78664FC12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6FE6-A131-42AC-87A4-D6CDB6C84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9683-759F-4A00-942D-2C1674C5C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7107-DE66-47BF-BCDC-F3E2391FC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8ADA-9A25-4B24-9F5A-1CED71231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DCEC-8926-47EB-ADB8-B246882F7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759D-B677-40B2-A519-A95A570FC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00F9-CBC0-4A8D-85FD-9111FAE46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69E4-04A3-4B7B-B5D4-F60915C6E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0117-082B-4A02-84BD-032344A53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4B5D-5D33-4D38-BFAD-A97F8C3EA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41E1-3D9B-4AAD-BF94-B21A6AF9F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72E40-0C31-4109-BBFC-AF287F80FAC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2841120" y="457200"/>
            <a:ext cx="341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</a:t>
            </a: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8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课 舍不得这棵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1340640" y="4572000"/>
            <a:ext cx="677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●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导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●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识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●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课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●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练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725400" y="1143000"/>
            <a:ext cx="7691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这是一棵果树。秋天，它捧出串串小汤匙儿，里面盛着圆圆的小粒粒。妈妈把它们摘下来，炒熟了，全家吃得香甜香甜，乐乐呵呵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这是一棵有灵性的树。夏天，它撑开绿色的大伞，让我们在树下玩游戏，做功课；冬天，它抖落树叶，把阳光留给了大伙儿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3"/>
          <p:cNvSpPr/>
          <p:nvPr/>
        </p:nvSpPr>
        <p:spPr>
          <a:xfrm>
            <a:off x="1371600" y="1600200"/>
            <a:ext cx="19051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4"/>
          <p:cNvSpPr/>
          <p:nvPr/>
        </p:nvSpPr>
        <p:spPr>
          <a:xfrm>
            <a:off x="1447920" y="2666880"/>
            <a:ext cx="281916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4572000" y="533412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捧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7162920" y="533412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拟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4419720" y="39528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小汤匙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7238880" y="39528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比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9"/>
          <p:cNvSpPr/>
          <p:nvPr/>
        </p:nvSpPr>
        <p:spPr>
          <a:xfrm>
            <a:off x="6400800" y="434340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0"/>
          <p:cNvSpPr/>
          <p:nvPr/>
        </p:nvSpPr>
        <p:spPr>
          <a:xfrm>
            <a:off x="5867280" y="56386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Line 2"/>
          <p:cNvSpPr/>
          <p:nvPr/>
        </p:nvSpPr>
        <p:spPr>
          <a:xfrm>
            <a:off x="2286000" y="1371600"/>
            <a:ext cx="62485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3"/>
          <p:cNvSpPr/>
          <p:nvPr/>
        </p:nvSpPr>
        <p:spPr>
          <a:xfrm>
            <a:off x="685800" y="1828800"/>
            <a:ext cx="5335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4"/>
          <p:cNvSpPr/>
          <p:nvPr/>
        </p:nvSpPr>
        <p:spPr>
          <a:xfrm>
            <a:off x="228600" y="2819520"/>
            <a:ext cx="3429000" cy="2057400"/>
          </a:xfrm>
          <a:prstGeom prst="cloudCallout">
            <a:avLst>
              <a:gd name="adj1" fmla="val -49537"/>
              <a:gd name="adj2" fmla="val 63736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　　作者把梧桐树当做了家庭成员，说家里有四口人，为什么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649440" y="228600"/>
            <a:ext cx="7843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这些年来，虽然我没给梧桐浇过水，施过肥，但它给我们的，却是那么好，那么多。我们家和它分不开了。我常常觉得，家里有四口：爸爸、妈妈和我，还有这棵梧桐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梧桐树啊，虽然我不能把你带走，但我会常常想你的，因为你活在我的心里了。我也要长成一棵树，一棵会走路的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6"/>
          <p:cNvSpPr/>
          <p:nvPr/>
        </p:nvSpPr>
        <p:spPr>
          <a:xfrm>
            <a:off x="2666880" y="990720"/>
            <a:ext cx="20574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8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楷体_GB2312"/>
              </a:rPr>
              <a:t>为什么作者说家里有四口人？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21292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方正楷体_GBK"/>
                <a:ea typeface="方正楷体_GBK"/>
              </a:rPr>
              <a:t>     </a:t>
            </a: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天天看到，和它朝夕相处，就好像是家中的一员了。难怪我们一家和它分不开了。难怪“我”把它也看做了家中的一员，觉得家里有四个人了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未标题-1"/>
          <p:cNvPicPr/>
          <p:nvPr/>
        </p:nvPicPr>
        <p:blipFill>
          <a:blip r:embed="rId1"/>
          <a:stretch/>
        </p:blipFill>
        <p:spPr>
          <a:xfrm>
            <a:off x="-299880" y="-833400"/>
            <a:ext cx="10244160" cy="7678800"/>
          </a:xfrm>
          <a:prstGeom prst="rect">
            <a:avLst/>
          </a:prstGeom>
          <a:ln w="0">
            <a:noFill/>
          </a:ln>
        </p:spPr>
      </p:pic>
      <p:sp>
        <p:nvSpPr>
          <p:cNvPr id="96" name="Text Box 3"/>
          <p:cNvSpPr/>
          <p:nvPr/>
        </p:nvSpPr>
        <p:spPr>
          <a:xfrm>
            <a:off x="4367160" y="762120"/>
            <a:ext cx="409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花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3201840" y="1828800"/>
            <a:ext cx="409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5564160" y="1828800"/>
            <a:ext cx="409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果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2897280" y="3048120"/>
            <a:ext cx="6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普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5488200" y="3124080"/>
            <a:ext cx="86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有灵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4367160" y="3809880"/>
            <a:ext cx="40932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又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又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2"/>
          <p:cNvSpPr/>
          <p:nvPr/>
        </p:nvSpPr>
        <p:spPr>
          <a:xfrm>
            <a:off x="914400" y="1447920"/>
            <a:ext cx="152280" cy="1904760"/>
          </a:xfrm>
          <a:custGeom>
            <a:avLst/>
            <a:gdLst>
              <a:gd name="textAreaLeft" fmla="*/ 97200 w 152280"/>
              <a:gd name="textAreaRight" fmla="*/ 152640 w 152280"/>
              <a:gd name="textAreaTop" fmla="*/ 49680 h 1904760"/>
              <a:gd name="textAreaBottom" fmla="*/ 1855080 h 1904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2482920" y="1371600"/>
            <a:ext cx="933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我也要长成一棵树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3816000" y="2895480"/>
            <a:ext cx="1314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我也要长成一棵树，一棵会走路的树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380880" y="533520"/>
            <a:ext cx="115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比一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6"/>
          <p:cNvSpPr/>
          <p:nvPr/>
        </p:nvSpPr>
        <p:spPr>
          <a:xfrm>
            <a:off x="4724280" y="3429000"/>
            <a:ext cx="259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609480" y="426708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宋体"/>
              </a:rPr>
              <a:t>     </a:t>
            </a:r>
            <a:r>
              <a:rPr b="0" lang="zh-CN" sz="36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 </a:t>
            </a:r>
            <a:r>
              <a:rPr b="0" lang="zh-CN" sz="36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这句话实际上是讲作者要像这棵梧桐树那样，做一个给人们带来好处，不求回报，默默奉献的人。</a:t>
            </a:r>
            <a:r>
              <a:rPr b="0" lang="zh-CN" sz="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2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课堂小结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同学们，在我们的身边找找，都有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些人也是像梧桐树这样不求回报，默默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献的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2483640" y="4022640"/>
            <a:ext cx="2923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你想对这些人们说些什么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3871800" y="198108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结  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380880" y="1371600"/>
            <a:ext cx="8458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要搬家了，我最舍不得的，是门前这棵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是一棵普通的树。它没有樟树那样高大，没有桃树那样娇艳，也没有银杏树那样古老，普通得只有一个普通的名字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梧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是一棵鸟树。每天，那些叫得出名字和叫不出名字的鸟儿，总爱站到它身上，唱个没完，有了它，就有听不完的音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是一棵花树。到了花开季节，那黄绿色的花儿挂满枝头，淡淡的清香，灌满了我家小屋，染香了家里的每个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3795840" y="365040"/>
            <a:ext cx="1552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舍不得这棵树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457200" y="0"/>
            <a:ext cx="2666880" cy="1371600"/>
          </a:xfrm>
          <a:prstGeom prst="cloudCallout">
            <a:avLst>
              <a:gd name="adj1" fmla="val -47023"/>
              <a:gd name="adj2" fmla="val 66203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　　这是一棵怎样的树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7620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课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未标题-1"/>
          <p:cNvPicPr/>
          <p:nvPr/>
        </p:nvPicPr>
        <p:blipFill>
          <a:blip r:embed="rId1"/>
          <a:stretch/>
        </p:blipFill>
        <p:spPr>
          <a:xfrm>
            <a:off x="-299880" y="-833400"/>
            <a:ext cx="10244160" cy="7678800"/>
          </a:xfrm>
          <a:prstGeom prst="rect">
            <a:avLst/>
          </a:prstGeom>
          <a:ln w="0">
            <a:noFill/>
          </a:ln>
        </p:spPr>
      </p:pic>
      <p:sp>
        <p:nvSpPr>
          <p:cNvPr id="48" name="Text Box 3"/>
          <p:cNvSpPr/>
          <p:nvPr/>
        </p:nvSpPr>
        <p:spPr>
          <a:xfrm>
            <a:off x="4367160" y="762120"/>
            <a:ext cx="409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花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3201840" y="1828800"/>
            <a:ext cx="409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5564160" y="1859040"/>
            <a:ext cx="409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果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2897280" y="3048120"/>
            <a:ext cx="6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普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5488200" y="3154320"/>
            <a:ext cx="86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有灵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380880" y="1371600"/>
            <a:ext cx="8458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要搬家了，我最舍不得的，是门前这棵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是一棵普通的树。它没有樟树那样高大，没有桃树那样娇艳，也没有银杏树那样古老，普通得只有一个普通的名字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梧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是一棵鸟树。每天，那些叫得出名字和叫不出名字的鸟儿，总爱站到它身上，唱个没完，有了它，就有听不完的音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是一棵花树。到了花开季节，那黄绿色的花儿挂满枝头，淡淡的清香，灌满了我家小屋，染香了家里的每个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3795840" y="365040"/>
            <a:ext cx="1552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舍不得这棵树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4"/>
          <p:cNvSpPr/>
          <p:nvPr/>
        </p:nvSpPr>
        <p:spPr>
          <a:xfrm>
            <a:off x="1066680" y="2133720"/>
            <a:ext cx="25146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66680" y="3276720"/>
            <a:ext cx="19051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295280" y="4343400"/>
            <a:ext cx="19051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7620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课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0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725400" y="1143000"/>
            <a:ext cx="7691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是一棵果树。秋天，它捧出串串小汤匙儿，里面盛着圆圆的小粒粒。妈妈把它们摘下来，炒熟了，全家吃得香甜香甜，乐乐呵呵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是一棵有灵性的树。夏天，它撑开绿色的大伞，让我们在树下玩游戏，做功课；冬天，它抖落树叶，把阳光留给了大伙儿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3"/>
          <p:cNvSpPr/>
          <p:nvPr/>
        </p:nvSpPr>
        <p:spPr>
          <a:xfrm>
            <a:off x="1371600" y="1600200"/>
            <a:ext cx="19051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4"/>
          <p:cNvSpPr/>
          <p:nvPr/>
        </p:nvSpPr>
        <p:spPr>
          <a:xfrm>
            <a:off x="1447920" y="2666880"/>
            <a:ext cx="281916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76320" y="1836720"/>
            <a:ext cx="914400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华文行楷"/>
              </a:rPr>
              <a:t>   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华文行楷"/>
              </a:rPr>
              <a:t>在一个自然段开头有一句概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华文行楷"/>
              </a:rPr>
              <a:t>这段大意的句子，叫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华文行楷"/>
              </a:rPr>
              <a:t>总起句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华文行楷"/>
              </a:rPr>
              <a:t>，也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华文行楷"/>
              </a:rPr>
              <a:t>中心句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华文行楷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380880" y="1371600"/>
            <a:ext cx="8458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要搬家了，我最舍不得的，是门前这棵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这是一棵普通的树。它没有樟树那样高大，没有桃树那样娇艳，也没有银杏树那样古老，普通得只有一个普通的名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梧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这是一棵鸟树。每天，那些叫得出名字和叫不出名字的鸟儿，总爱站到它身上，唱个没完，有了它，就有听不完的音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这是一棵花树。到了花开季节，那黄绿色的花儿挂满枝头，淡淡的清香，灌满了我家小屋，染香了家里的每个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3795840" y="365040"/>
            <a:ext cx="1552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舍不得这棵树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4"/>
          <p:cNvSpPr/>
          <p:nvPr/>
        </p:nvSpPr>
        <p:spPr>
          <a:xfrm>
            <a:off x="1066680" y="2133720"/>
            <a:ext cx="25146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5"/>
          <p:cNvSpPr/>
          <p:nvPr/>
        </p:nvSpPr>
        <p:spPr>
          <a:xfrm>
            <a:off x="1066680" y="3276720"/>
            <a:ext cx="19051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6"/>
          <p:cNvSpPr/>
          <p:nvPr/>
        </p:nvSpPr>
        <p:spPr>
          <a:xfrm>
            <a:off x="1143000" y="3962520"/>
            <a:ext cx="19051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37620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课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01300001010468128904650184660"/>
          <p:cNvPicPr/>
          <p:nvPr/>
        </p:nvPicPr>
        <p:blipFill>
          <a:blip r:embed="rId1"/>
          <a:stretch/>
        </p:blipFill>
        <p:spPr>
          <a:xfrm>
            <a:off x="0" y="0"/>
            <a:ext cx="4429080" cy="33228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3"/>
          <p:cNvSpPr/>
          <p:nvPr/>
        </p:nvSpPr>
        <p:spPr>
          <a:xfrm>
            <a:off x="108000" y="189000"/>
            <a:ext cx="151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行楷"/>
              </a:rPr>
              <a:t>樟树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-254160" y="1879560"/>
            <a:ext cx="226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华文行楷"/>
              </a:rPr>
              <a:t>高大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2457331_185655246000_2"/>
          <p:cNvPicPr/>
          <p:nvPr/>
        </p:nvPicPr>
        <p:blipFill>
          <a:blip r:embed="rId2"/>
          <a:stretch/>
        </p:blipFill>
        <p:spPr>
          <a:xfrm>
            <a:off x="4645080" y="1440"/>
            <a:ext cx="4464000" cy="3356280"/>
          </a:xfrm>
          <a:prstGeom prst="rect">
            <a:avLst/>
          </a:prstGeom>
          <a:ln w="0">
            <a:noFill/>
          </a:ln>
        </p:spPr>
      </p:pic>
      <p:sp>
        <p:nvSpPr>
          <p:cNvPr id="73" name="Text Box 6"/>
          <p:cNvSpPr/>
          <p:nvPr/>
        </p:nvSpPr>
        <p:spPr>
          <a:xfrm>
            <a:off x="4500720" y="260280"/>
            <a:ext cx="165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行楷"/>
              </a:rPr>
              <a:t>桃树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4500720" y="2276640"/>
            <a:ext cx="223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ff"/>
                </a:solidFill>
                <a:latin typeface="Arial"/>
                <a:ea typeface="华文行楷"/>
              </a:rPr>
              <a:t>娇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4" descr=""/>
          <p:cNvPicPr/>
          <p:nvPr/>
        </p:nvPicPr>
        <p:blipFill>
          <a:blip r:embed="rId3"/>
          <a:stretch/>
        </p:blipFill>
        <p:spPr>
          <a:xfrm>
            <a:off x="0" y="3352680"/>
            <a:ext cx="9144000" cy="31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2233800" y="46080"/>
            <a:ext cx="4295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开动脑筋</a:t>
            </a:r>
            <a:br>
              <a:rPr sz="5400"/>
            </a:b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谁能用这个句式造句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85800" y="21333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排比句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没有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……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没有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……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也没有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……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762120" y="380988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我没有张明那样内向，没有李华那样害羞，也没有赵军那样暴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我家里没有游泳池，没有葡萄树，也没有后花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1T04:12:54Z</dcterms:created>
  <dc:creator/>
  <dc:description/>
  <cp:keywords/>
  <dc:language>en-US</dc:language>
  <cp:lastModifiedBy>Administrator</cp:lastModifiedBy>
  <dcterms:modified xsi:type="dcterms:W3CDTF">2015-04-09T06:53:21Z</dcterms:modified>
  <cp:revision>6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19</vt:lpwstr>
  </property>
  <property fmtid="{D5CDD505-2E9C-101B-9397-08002B2CF9AE}" pid="3" name="Version">
    <vt:r8>1</vt:r8>
  </property>
</Properties>
</file>