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8.gif" ContentType="image/gif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61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9.jpeg" ContentType="image/jpeg"/>
  <Override PartName="/ppt/media/image68.jpeg" ContentType="image/jpeg"/>
  <Override PartName="/ppt/media/image33.jpeg" ContentType="image/jpeg"/>
  <Override PartName="/ppt/media/image27.png" ContentType="image/png"/>
  <Override PartName="/ppt/media/image41.jpeg" ContentType="image/jpeg"/>
  <Override PartName="/ppt/media/image63.gif" ContentType="image/gif"/>
  <Override PartName="/ppt/media/image65.jpeg" ContentType="image/jpeg"/>
  <Override PartName="/ppt/media/image64.jpeg" ContentType="image/jpeg"/>
  <Override PartName="/ppt/media/image38.jpeg" ContentType="image/jpeg"/>
  <Override PartName="/ppt/media/image62.png" ContentType="image/png"/>
  <Override PartName="/ppt/media/image60.png" ContentType="image/png"/>
  <Override PartName="/ppt/media/image26.jpeg" ContentType="image/jpeg"/>
  <Override PartName="/ppt/media/image42.png" ContentType="image/png"/>
  <Override PartName="/ppt/media/image23.jpeg" ContentType="image/jpeg"/>
  <Override PartName="/ppt/media/image4.jpeg" ContentType="image/jpeg"/>
  <Override PartName="/ppt/media/image18.jpeg" ContentType="image/jpeg"/>
  <Override PartName="/ppt/media/image59.gif" ContentType="image/gif"/>
  <Override PartName="/ppt/media/image16.jpeg" ContentType="image/jpeg"/>
  <Override PartName="/ppt/media/image13.gif" ContentType="image/gif"/>
  <Override PartName="/ppt/media/image48.jpeg" ContentType="image/jpeg"/>
  <Override PartName="/ppt/media/image6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39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2AF-0964-4CF9-B557-0233B320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557-0307-43AE-9534-232959D1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CF8-D831-48BE-A179-13421B12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DAA-71DC-46C9-93BA-D53F3449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8AA-07A6-4312-8951-3ECB9A7B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5BF-CE65-4841-9196-4597FF75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FCF-BFD0-4997-89E0-CE30FE16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E23-20D0-4582-A4B4-B7F4F557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93A-C8F3-4530-B18F-29C90A96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A4E-FF5C-467E-B6BE-B3234B69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F68-1496-430A-95D2-4E3E8A1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ECA-28A2-4DE0-B32B-D6CAE51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48F-7EB3-4833-947C-E977C3DC78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42.png"/><Relationship Id="rId8" Type="http://schemas.openxmlformats.org/officeDocument/2006/relationships/slide" Target="slide3.xml"/><Relationship Id="rId9" Type="http://schemas.openxmlformats.org/officeDocument/2006/relationships/slide" Target="slide1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" Target="slide3.xml"/><Relationship Id="rId9" Type="http://schemas.openxmlformats.org/officeDocument/2006/relationships/slide" Target="slide1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" Target="slide3.xml"/><Relationship Id="rId8" Type="http://schemas.openxmlformats.org/officeDocument/2006/relationships/slide" Target="slide1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" Target="slide3.xml"/><Relationship Id="rId10" Type="http://schemas.openxmlformats.org/officeDocument/2006/relationships/slide" Target="slide1.xml"/><Relationship Id="rId11" Type="http://schemas.openxmlformats.org/officeDocument/2006/relationships/slide" Target="slide17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60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61.png"/><Relationship Id="rId7" Type="http://schemas.openxmlformats.org/officeDocument/2006/relationships/image" Target="../media/image32.png"/><Relationship Id="rId8" Type="http://schemas.openxmlformats.org/officeDocument/2006/relationships/slide" Target="slide3.xml"/><Relationship Id="rId9" Type="http://schemas.openxmlformats.org/officeDocument/2006/relationships/slide" Target="slide1.xml"/><Relationship Id="rId10" Type="http://schemas.openxmlformats.org/officeDocument/2006/relationships/slide" Target="slide17.xml"/><Relationship Id="rId11" Type="http://schemas.openxmlformats.org/officeDocument/2006/relationships/image" Target="../media/image62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" Target="slide1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" Target="slide3.xml"/><Relationship Id="rId6" Type="http://schemas.openxmlformats.org/officeDocument/2006/relationships/slide" Target="slide1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" Target="slide3.xml"/><Relationship Id="rId7" Type="http://schemas.openxmlformats.org/officeDocument/2006/relationships/slide" Target="slide1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7.jpeg"/><Relationship Id="rId8" Type="http://schemas.openxmlformats.org/officeDocument/2006/relationships/slide" Target="slide3.xml"/><Relationship Id="rId9" Type="http://schemas.openxmlformats.org/officeDocument/2006/relationships/slide" Target="slide1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" Target="slide1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28.png"/><Relationship Id="rId9" Type="http://schemas.openxmlformats.org/officeDocument/2006/relationships/slide" Target="slide3.xml"/><Relationship Id="rId10" Type="http://schemas.openxmlformats.org/officeDocument/2006/relationships/slide" Target="slide1.xml"/><Relationship Id="rId11" Type="http://schemas.openxmlformats.org/officeDocument/2006/relationships/slide" Target="slide17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32.png"/><Relationship Id="rId7" Type="http://schemas.openxmlformats.org/officeDocument/2006/relationships/slide" Target="slide3.xml"/><Relationship Id="rId8" Type="http://schemas.openxmlformats.org/officeDocument/2006/relationships/slide" Target="slide1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" Target="slide3.xml"/><Relationship Id="rId9" Type="http://schemas.openxmlformats.org/officeDocument/2006/relationships/slide" Target="slide1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3880" y="251460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十二生肖的故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040"/>
          <p:cNvPicPr/>
          <p:nvPr/>
        </p:nvPicPr>
        <p:blipFill>
          <a:blip r:embed="rId1"/>
          <a:stretch/>
        </p:blipFill>
        <p:spPr>
          <a:xfrm>
            <a:off x="5410080" y="2971800"/>
            <a:ext cx="3733920" cy="3524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038"/>
          <p:cNvPicPr/>
          <p:nvPr/>
        </p:nvPicPr>
        <p:blipFill>
          <a:blip r:embed="rId2"/>
          <a:stretch/>
        </p:blipFill>
        <p:spPr>
          <a:xfrm>
            <a:off x="228600" y="4191120"/>
            <a:ext cx="128268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039"/>
          <p:cNvPicPr/>
          <p:nvPr/>
        </p:nvPicPr>
        <p:blipFill>
          <a:blip r:embed="rId3"/>
          <a:stretch/>
        </p:blipFill>
        <p:spPr>
          <a:xfrm>
            <a:off x="7696080" y="304920"/>
            <a:ext cx="1143000" cy="89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ard1399"/>
          <p:cNvPicPr/>
          <p:nvPr/>
        </p:nvPicPr>
        <p:blipFill>
          <a:blip r:embed="rId4"/>
          <a:stretch/>
        </p:blipFill>
        <p:spPr>
          <a:xfrm>
            <a:off x="1447920" y="38088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2096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0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马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8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 flipV="1" rot="10200">
            <a:off x="312372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 rot="208800">
            <a:off x="191880" y="1677600"/>
            <a:ext cx="5369040" cy="1220760"/>
          </a:xfrm>
          <a:prstGeom prst="rect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马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人马牛狗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马牛狗因为寒交迫非常痛苦便请求人给们庇荫和保护人亲切地接待们生起火来让们温暖也毫不吝蔷地给马饱吃燕麦又给牛足稻草同时拿出 他自己桌上的肉给狗饱餐一顿她们感激得很就决定尽各自的力量来报答人的厚恩因此他们三个各自将自己特异的本质赠送给人马选择最早的年将自己 的特性送给人们所以每个人在青年时代总是乐观劲积极进取牛选定第二个时期因此入在中年时代都是埋头工作勤俭积聚自己的资财而狗的特性就 奉献给人最後的一段时光了於是老年人较重情义守家顾家 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寓意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人生是变化多彩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 rot="2080800">
            <a:off x="6095520" y="1219320"/>
            <a:ext cx="3048120" cy="198108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9"/>
          <p:cNvSpPr/>
          <p:nvPr/>
        </p:nvSpPr>
        <p:spPr>
          <a:xfrm rot="19080600">
            <a:off x="7093440" y="990000"/>
            <a:ext cx="11538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早也盼，晚也盼，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出一个伯乐，最后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发现自己只不过改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了被奴役的方式而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0"/>
          <p:cNvSpPr/>
          <p:nvPr/>
        </p:nvSpPr>
        <p:spPr>
          <a:xfrm rot="263400">
            <a:off x="1981080" y="4343040"/>
            <a:ext cx="3124440" cy="2362320"/>
          </a:xfrm>
          <a:prstGeom prst="pie">
            <a:avLst/>
          </a:prstGeom>
          <a:gradFill rotWithShape="0">
            <a:gsLst>
              <a:gs pos="0">
                <a:srgbClr val="effeb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905120" y="4267080"/>
            <a:ext cx="32004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嚼子戴在牛嘴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胡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尾穿豆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提不起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尾巴搓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合不了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槽里伸个驴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多了一张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打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看题（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撩后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逞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>
            <a:hlinkClick r:id="rId8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>
            <a:hlinkClick r:id="rId9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6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033"/>
          <p:cNvPicPr/>
          <p:nvPr/>
        </p:nvPicPr>
        <p:blipFill>
          <a:blip r:embed="rId1"/>
          <a:stretch/>
        </p:blipFill>
        <p:spPr>
          <a:xfrm>
            <a:off x="0" y="3962520"/>
            <a:ext cx="2637000" cy="2666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120209010139214"/>
          <p:cNvPicPr/>
          <p:nvPr/>
        </p:nvPicPr>
        <p:blipFill>
          <a:blip r:embed="rId2"/>
          <a:stretch/>
        </p:blipFill>
        <p:spPr>
          <a:xfrm>
            <a:off x="14479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th20110328185634_1"/>
          <p:cNvPicPr/>
          <p:nvPr/>
        </p:nvPicPr>
        <p:blipFill>
          <a:blip r:embed="rId3"/>
          <a:stretch/>
        </p:blipFill>
        <p:spPr>
          <a:xfrm>
            <a:off x="6781680" y="380880"/>
            <a:ext cx="1143000" cy="1082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3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14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羊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6" name="未知"/>
          <p:cNvSpPr/>
          <p:nvPr/>
        </p:nvSpPr>
        <p:spPr>
          <a:xfrm flipV="1" rot="21597000">
            <a:off x="2970000" y="1218600"/>
            <a:ext cx="2743200" cy="29664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895480" y="1828800"/>
            <a:ext cx="3810240" cy="1191240"/>
          </a:xfrm>
          <a:prstGeom prst="rect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羊</a:t>
            </a:r>
            <a:r>
              <a:rPr b="0" lang="en-US" sz="1800" spc="-1" strike="noStrike">
                <a:solidFill>
                  <a:srgbClr val="0080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狼和羊</a:t>
            </a:r>
            <a:br>
              <a:rPr sz="1800"/>
            </a:b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　　一狼被猎狗咬伤伤势很重只能躺在洞因为缺少食物 就恳求一路过的羊请从附近的山溪取一些水来让解渴病狼说你若能好心地替我取些水来我就可以自己去寻找一些食物了羊说是的要是我供给你水喝 无疑的我将成为你要的那些食物了 </a:t>
            </a:r>
            <a:br>
              <a:rPr sz="1800"/>
            </a:b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　寓意</a:t>
            </a:r>
            <a:r>
              <a:rPr b="0" lang="en-US" sz="1800" spc="-1" strike="noStrike">
                <a:solidFill>
                  <a:srgbClr val="0080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花言巧语是容易被看破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0"/>
          <p:cNvSpPr/>
          <p:nvPr/>
        </p:nvSpPr>
        <p:spPr>
          <a:xfrm>
            <a:off x="228600" y="1676520"/>
            <a:ext cx="2209680" cy="2133360"/>
          </a:xfrm>
          <a:prstGeom prst="bevel">
            <a:avLst>
              <a:gd name="adj" fmla="val 848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古时候的名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商标，在其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下常有伪劣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狗肉混杂出售</a:t>
            </a: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1"/>
          <p:cNvSpPr/>
          <p:nvPr/>
        </p:nvSpPr>
        <p:spPr>
          <a:xfrm>
            <a:off x="2286000" y="5181480"/>
            <a:ext cx="4419720" cy="13716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2"/>
          <p:cNvSpPr/>
          <p:nvPr/>
        </p:nvSpPr>
        <p:spPr>
          <a:xfrm>
            <a:off x="2362320" y="5105520"/>
            <a:ext cx="42670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钻进了虎嘴里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进得来，出不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羔吃奶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双膝跪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群里跑出个兔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数它小，数它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身上取鸵毛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------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没法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群里跑出个骆驼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抖什么威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憧篱笆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------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进退两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3">
            <a:hlinkClick r:id="rId8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>
            <a:hlinkClick r:id="rId9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5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6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7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044"/>
          <p:cNvPicPr/>
          <p:nvPr/>
        </p:nvPicPr>
        <p:blipFill>
          <a:blip r:embed="rId1"/>
          <a:stretch/>
        </p:blipFill>
        <p:spPr>
          <a:xfrm>
            <a:off x="7010280" y="4876920"/>
            <a:ext cx="1905120" cy="1761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OOOPIC_zjcnjt_200908165ab23ab3a0858b9a"/>
          <p:cNvPicPr/>
          <p:nvPr/>
        </p:nvPicPr>
        <p:blipFill>
          <a:blip r:embed="rId2"/>
          <a:stretch/>
        </p:blipFill>
        <p:spPr>
          <a:xfrm>
            <a:off x="1295280" y="38088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u=3277582958,502206674&amp;fm=52&amp;gp=0"/>
          <p:cNvPicPr/>
          <p:nvPr/>
        </p:nvPicPr>
        <p:blipFill>
          <a:blip r:embed="rId3"/>
          <a:stretch/>
        </p:blipFill>
        <p:spPr>
          <a:xfrm>
            <a:off x="4876920" y="4724280"/>
            <a:ext cx="1752480" cy="1981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20070120133501859"/>
          <p:cNvPicPr/>
          <p:nvPr/>
        </p:nvPicPr>
        <p:blipFill>
          <a:blip r:embed="rId4"/>
          <a:stretch/>
        </p:blipFill>
        <p:spPr>
          <a:xfrm>
            <a:off x="7010280" y="304920"/>
            <a:ext cx="990720" cy="742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14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猴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4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未知"/>
          <p:cNvSpPr/>
          <p:nvPr/>
        </p:nvSpPr>
        <p:spPr>
          <a:xfrm flipV="1" rot="10200">
            <a:off x="312372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5105520" y="1981080"/>
            <a:ext cx="3504960" cy="828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猴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天神和猴子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　　天神丘彼得通知森林的野兽 将要颁奖给哪个有最漂亮子女的野兽 猴子也跟著其他的野兽来了 以宽容的母爱带著一扁鼻无毛相貌陋的小猴子做为这个奖项的候选者当献出儿子时引起了一阵哄堂大笑但却毅然地说我不知道丘彼得是否会将奖品给 我但有一点我是明白的在母亲的眼这小猴子才是一切野兽中最亲爱最漂亮最美丽的子女 寓意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在母亲的眼孩子永远是最美丽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3124080" y="1981080"/>
            <a:ext cx="1676520" cy="4496040"/>
          </a:xfrm>
          <a:prstGeom prst="rect">
            <a:avLst/>
          </a:prstGeom>
          <a:noFill/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228600" y="1676520"/>
            <a:ext cx="2438280" cy="213336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4"/>
          <p:cNvSpPr/>
          <p:nvPr/>
        </p:nvSpPr>
        <p:spPr>
          <a:xfrm>
            <a:off x="304920" y="1752480"/>
            <a:ext cx="2286000" cy="19814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爬树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拿手好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长角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出洋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照镜子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里外不是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捞月亮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空忙一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的脸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说变就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看书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假斯文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4346640" y="1981080"/>
            <a:ext cx="458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129480" y="1274760"/>
            <a:ext cx="1551960" cy="60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据可靠消息，它是人类的祖先，但现在不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被链子拴着，就是被笼子关着，据说都是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了偿还当年孙大圣大闹天宫欠下的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>
            <a:hlinkClick r:id="rId7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8">
            <a:hlinkClick r:id="rId8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9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>
            <a:hlinkClick r:id="rId9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016"/>
          <p:cNvPicPr/>
          <p:nvPr/>
        </p:nvPicPr>
        <p:blipFill>
          <a:blip r:embed="rId1"/>
          <a:stretch/>
        </p:blipFill>
        <p:spPr>
          <a:xfrm>
            <a:off x="6629400" y="0"/>
            <a:ext cx="1320840" cy="1752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017"/>
          <p:cNvPicPr/>
          <p:nvPr/>
        </p:nvPicPr>
        <p:blipFill>
          <a:blip r:embed="rId2"/>
          <a:stretch/>
        </p:blipFill>
        <p:spPr>
          <a:xfrm>
            <a:off x="2438280" y="2133720"/>
            <a:ext cx="1249560" cy="1828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018"/>
          <p:cNvPicPr/>
          <p:nvPr/>
        </p:nvPicPr>
        <p:blipFill>
          <a:blip r:embed="rId3"/>
          <a:stretch/>
        </p:blipFill>
        <p:spPr>
          <a:xfrm>
            <a:off x="7315200" y="4952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019"/>
          <p:cNvPicPr/>
          <p:nvPr/>
        </p:nvPicPr>
        <p:blipFill>
          <a:blip r:embed="rId4"/>
          <a:stretch/>
        </p:blipFill>
        <p:spPr>
          <a:xfrm>
            <a:off x="5562720" y="4997520"/>
            <a:ext cx="1784160" cy="1860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020"/>
          <p:cNvPicPr/>
          <p:nvPr/>
        </p:nvPicPr>
        <p:blipFill>
          <a:blip r:embed="rId5"/>
          <a:stretch/>
        </p:blipFill>
        <p:spPr>
          <a:xfrm>
            <a:off x="3733920" y="1981080"/>
            <a:ext cx="102528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045"/>
          <p:cNvPicPr/>
          <p:nvPr/>
        </p:nvPicPr>
        <p:blipFill>
          <a:blip r:embed="rId6"/>
          <a:stretch/>
        </p:blipFill>
        <p:spPr>
          <a:xfrm>
            <a:off x="1447920" y="380880"/>
            <a:ext cx="1066680" cy="9493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1"/>
          <p:cNvSpPr/>
          <p:nvPr/>
        </p:nvSpPr>
        <p:spPr>
          <a:xfrm>
            <a:off x="213372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2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鸡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56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未知"/>
          <p:cNvSpPr/>
          <p:nvPr/>
        </p:nvSpPr>
        <p:spPr>
          <a:xfrm flipV="1" rot="10200">
            <a:off x="297144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 rot="207600">
            <a:off x="4808520" y="1828800"/>
            <a:ext cx="4038480" cy="2895480"/>
          </a:xfrm>
          <a:prstGeom prst="pie">
            <a:avLst/>
          </a:prstGeom>
          <a:gradFill rotWithShape="0">
            <a:gsLst>
              <a:gs pos="0">
                <a:srgbClr val="effeb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4"/>
          <p:cNvSpPr/>
          <p:nvPr/>
        </p:nvSpPr>
        <p:spPr>
          <a:xfrm>
            <a:off x="152280" y="1676520"/>
            <a:ext cx="2133720" cy="2514600"/>
          </a:xfrm>
          <a:prstGeom prst="bracketPair">
            <a:avLst>
              <a:gd name="adj" fmla="val 40921"/>
            </a:avLst>
          </a:prstGeom>
          <a:noFill/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0800000">
            <a:off x="2743200" y="4572000"/>
            <a:ext cx="2857680" cy="1943280"/>
          </a:xfrm>
          <a:custGeom>
            <a:avLst/>
            <a:gdLst>
              <a:gd name="textAreaLeft" fmla="*/ 0 w 2857680"/>
              <a:gd name="textAreaRight" fmla="*/ 2858040 w 2857680"/>
              <a:gd name="textAreaTop" fmla="*/ 251640 h 1943280"/>
              <a:gd name="textAreaBottom" fmla="*/ 16916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3500000"/>
          </a:gradFill>
          <a:ln cap="rnd" w="936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屙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没见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给黄鼠狼拜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自投罗网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毛做毽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闹着玩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孵鸭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干着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毛炒韭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乱七八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蛋壳发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没多大发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4952880" y="2435760"/>
            <a:ext cx="3810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鸡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贼和公鸡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有个贼进入一座屋子去   他们找不到什么值钱的东西  有一公鸡 于是他们就偷了公鸡很快逃跑回到了家后正打算去杀那公鸡却未料公鸡苦苦哀求说  请饶了我吧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!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我是很有用处的我可以在清晨啼叫催醒人们去工作但是贼人们却回答说因为当你叫醒人们时正好破坏了我们的偷窃行动这正是我们必须杀你的理由呀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!!! 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寓意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维护道德者自然为恶人所痛恨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-86040" y="1981080"/>
            <a:ext cx="21006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自从闹钟问世以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便从此只能在餐桌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露面的早期报时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>
            <a:hlinkClick r:id="rId9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>
            <a:hlinkClick r:id="rId10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>
            <a:hlinkClick r:id="rId11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7" descr="046"/>
          <p:cNvPicPr/>
          <p:nvPr/>
        </p:nvPicPr>
        <p:blipFill>
          <a:blip r:embed="rId1"/>
          <a:stretch/>
        </p:blipFill>
        <p:spPr>
          <a:xfrm>
            <a:off x="1447920" y="380880"/>
            <a:ext cx="990360" cy="8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01300000082745120532362954936"/>
          <p:cNvPicPr/>
          <p:nvPr/>
        </p:nvPicPr>
        <p:blipFill>
          <a:blip r:embed="rId2"/>
          <a:stretch/>
        </p:blipFill>
        <p:spPr>
          <a:xfrm flipH="1">
            <a:off x="5626080" y="2819520"/>
            <a:ext cx="3517920" cy="4038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th20110328185620_1"/>
          <p:cNvPicPr/>
          <p:nvPr/>
        </p:nvPicPr>
        <p:blipFill>
          <a:blip r:embed="rId3"/>
          <a:stretch/>
        </p:blipFill>
        <p:spPr>
          <a:xfrm>
            <a:off x="7086600" y="304920"/>
            <a:ext cx="1295280" cy="1207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1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12"/>
          <p:cNvSpPr txBox="1"/>
          <p:nvPr/>
        </p:nvSpPr>
        <p:spPr>
          <a:xfrm>
            <a:off x="480060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狗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74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 flipV="1" rot="10200">
            <a:off x="3047760" y="144720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5"/>
          <p:cNvSpPr/>
          <p:nvPr/>
        </p:nvSpPr>
        <p:spPr>
          <a:xfrm rot="5400000">
            <a:off x="227880" y="1523520"/>
            <a:ext cx="2514600" cy="2667240"/>
          </a:xfrm>
          <a:custGeom>
            <a:avLst/>
            <a:gdLst>
              <a:gd name="textAreaLeft" fmla="*/ 0 w 2514600"/>
              <a:gd name="textAreaRight" fmla="*/ 2514960 w 2514600"/>
              <a:gd name="textAreaTop" fmla="*/ 345600 h 2667240"/>
              <a:gd name="textAreaBottom" fmla="*/ 232164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8900000"/>
          </a:gradFill>
          <a:ln cap="rnd" w="936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吃王八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找不到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扯羊肠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越扯越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逮老鼠猫看家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反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吠月亮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少见多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掀门帘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全仗一张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咬耗子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多管闲事</a:t>
            </a:r>
            <a:r>
              <a:rPr b="0" lang="zh-CN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2895480" y="3200400"/>
            <a:ext cx="2667240" cy="824040"/>
          </a:xfrm>
          <a:prstGeom prst="rect">
            <a:avLst/>
          </a:prstGeom>
          <a:blipFill rotWithShape="0">
            <a:blip r:embed="rId6"/>
            <a:srcRect/>
            <a:stretch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狗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狗和野兔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一猎狗从兔窝追出一野兔追了好久便停下来不追了一个牧童看见猎狗停住便嘲笑说你们两个反而是小的跑得较快猎狗回答说你可知道我们的目标是不同的我只是为了一顿饱餐而跑但却为了性命在跑呢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!!! 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寓意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需要的标不同努力的程度也不一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5655240" y="-16560"/>
            <a:ext cx="1033560" cy="4572000"/>
          </a:xfrm>
          <a:custGeom>
            <a:avLst/>
            <a:gdLst>
              <a:gd name="textAreaLeft" fmla="*/ 151200 w 1033560"/>
              <a:gd name="textAreaRight" fmla="*/ 882360 w 1033560"/>
              <a:gd name="textAreaTop" fmla="*/ 151200 h 4572000"/>
              <a:gd name="textAreaBottom" fmla="*/ 4420800 h 4572000"/>
            </a:gdLst>
            <a:ahLst/>
            <a:rect l="textAreaLeft" t="textAreaTop" r="textAreaRight" b="textAreaBottom"/>
            <a:pathLst>
              <a:path w="21600" h="95523">
                <a:moveTo>
                  <a:pt x="10800" y="0"/>
                </a:moveTo>
                <a:arcTo wR="10800" hR="10800" stAng="16200000" swAng="-5400000"/>
                <a:lnTo>
                  <a:pt x="0" y="84723"/>
                </a:lnTo>
                <a:arcTo wR="10800" hR="10800" stAng="10800000" swAng="-5400000"/>
                <a:lnTo>
                  <a:pt x="10800" y="9552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无私的奉献着，常常把自己的腿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肺捐献给某些“残疾”患者配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1">
            <a:hlinkClick r:id="rId8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2">
            <a:hlinkClick r:id="rId9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3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4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5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6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9" descr=""/>
          <p:cNvPicPr/>
          <p:nvPr/>
        </p:nvPicPr>
        <p:blipFill>
          <a:blip r:embed="rId11"/>
          <a:stretch/>
        </p:blipFill>
        <p:spPr>
          <a:xfrm>
            <a:off x="380880" y="4191120"/>
            <a:ext cx="2438640" cy="249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12"/>
          <p:cNvPicPr/>
          <p:nvPr/>
        </p:nvPicPr>
        <p:blipFill>
          <a:blip r:embed="rId1"/>
          <a:stretch/>
        </p:blipFill>
        <p:spPr>
          <a:xfrm>
            <a:off x="5334120" y="4003560"/>
            <a:ext cx="3371760" cy="2454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049"/>
          <p:cNvPicPr/>
          <p:nvPr/>
        </p:nvPicPr>
        <p:blipFill>
          <a:blip r:embed="rId2"/>
          <a:stretch/>
        </p:blipFill>
        <p:spPr>
          <a:xfrm>
            <a:off x="1447920" y="45720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589288310762488202"/>
          <p:cNvPicPr/>
          <p:nvPr/>
        </p:nvPicPr>
        <p:blipFill>
          <a:blip r:embed="rId3"/>
          <a:stretch/>
        </p:blipFill>
        <p:spPr>
          <a:xfrm>
            <a:off x="0" y="4357800"/>
            <a:ext cx="2590920" cy="2500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7738932_072544383000_2"/>
          <p:cNvPicPr/>
          <p:nvPr/>
        </p:nvPicPr>
        <p:blipFill>
          <a:blip r:embed="rId4"/>
          <a:stretch/>
        </p:blipFill>
        <p:spPr>
          <a:xfrm>
            <a:off x="678168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1"/>
          <p:cNvSpPr txBox="1"/>
          <p:nvPr/>
        </p:nvSpPr>
        <p:spPr>
          <a:xfrm>
            <a:off x="480060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猪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2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未知"/>
          <p:cNvSpPr/>
          <p:nvPr/>
        </p:nvSpPr>
        <p:spPr>
          <a:xfrm flipV="1" rot="10200">
            <a:off x="297144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 rot="10800000">
            <a:off x="5105520" y="1675800"/>
            <a:ext cx="3581280" cy="2057400"/>
          </a:xfrm>
          <a:prstGeom prst="cloudCallout">
            <a:avLst>
              <a:gd name="adj1" fmla="val 29032"/>
              <a:gd name="adj2" fmla="val -89046"/>
            </a:avLst>
          </a:prstGeom>
          <a:noFill/>
          <a:ln w="3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"/>
          <p:cNvSpPr/>
          <p:nvPr/>
        </p:nvSpPr>
        <p:spPr>
          <a:xfrm>
            <a:off x="5562720" y="1981080"/>
            <a:ext cx="26668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向前拱，鸡往后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各有各的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脑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死不开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肉汤洗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腻死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鬃刷子一一又粗又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嘴里挖泥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死也挖不出来 猪大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扶不起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4"/>
          <p:cNvSpPr/>
          <p:nvPr/>
        </p:nvSpPr>
        <p:spPr>
          <a:xfrm>
            <a:off x="2743200" y="1798560"/>
            <a:ext cx="2362320" cy="5059440"/>
          </a:xfrm>
          <a:prstGeom prst="pie">
            <a:avLst/>
          </a:prstGeom>
          <a:gradFill rotWithShape="0">
            <a:gsLst>
              <a:gs pos="0">
                <a:srgbClr val="e9dbd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5"/>
          <p:cNvSpPr/>
          <p:nvPr/>
        </p:nvSpPr>
        <p:spPr>
          <a:xfrm>
            <a:off x="0" y="1905120"/>
            <a:ext cx="2514600" cy="2438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不劳而获，享受了人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送上的美味佳肴后便“慷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就义”，属于过把瘾就死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朋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6"/>
          <p:cNvSpPr/>
          <p:nvPr/>
        </p:nvSpPr>
        <p:spPr>
          <a:xfrm>
            <a:off x="3023640" y="2057400"/>
            <a:ext cx="1883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　猪</a:t>
            </a:r>
            <a:r>
              <a:rPr b="0" lang="en-US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野猪和狐狸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　　一野猪站在树底下在树上磨利自己的撩牙一狐狸走过问现在没有猎人或猎狗到来的危险为什麽要这样磨利的牙齿 回答说我已经仔细想过才这样做的如果当我需要用到我的兵器时才临时去磨利那就来不及了 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　　寓意</a:t>
            </a:r>
            <a:r>
              <a:rPr b="0" lang="en-US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平时多烧香以免临时抱佛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7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8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9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0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1"/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2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图片1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304560"/>
            <a:ext cx="7391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在当今中国乃至世界，我国的古代民俗生肖文化可以说是最深入民心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对于每一个海内外华人，生肖属相是其与生俱来的标记和烙印，可谓 家喻户晓，人人皆知。十二生肖，是先民借用自己熟识的动物称谓来命名、 计时，标记出生年月的综合性民俗事项。每个中国人都有自己特定的动物 生肖属相。十二生肖代表了全中国所有人的情感与精神风貌，已成为华人 生命信仰的一部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或许有人认为十二生肖属相中有迷信成分，在科学昌明的今天不宜推 荐。确实，在我国，生肖不单单是表明年岁的问题，更是和算命卜卦息息 相关，一个人是什么属相在什么年中命运就会如何等等，因此生肖是中国 传统文化中遗留下来带有一定迷信色彩的事物。在我们国家，一些最能代 表农业文明、最有震撼力的东西，常常被简单地认为是封建、迷信，殊不 知，目前世界上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/3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左右的非物质文化遗产保护项目都与巫术及民间信仰 有关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十二生肖由十二种动物构成（龙为虚拟） ，反映了早期人类的动物崇拜 意识，体现了人类与动物的亲善关系，保护动物，保护自然界的生灵，这 种天人合一、与动物和谐共处的自然观，对当今社会和人类的未来发展都 具有十分重大的意义。从古至今国人赋予了十二种动物生肖以不同的象征 意义，共同表达着美好的祝愿和希望，传达着人们的精神寄托，由十二生肖构成的民俗文化，沉积着中华民族特有的思维方式、心理结构，是中华 民族创造力、想像力和智慧的结晶，是推动民族文化持续发展的不竭源泉。 十二生肖事关民族古老生命记忆的延续，事关对民族生存精神和生存智慧 及活态文化存在的认同，这对于中华文化的自我认知以及传统文化的传承 与保护，都有着重大的作用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WordArt 6"/>
          <p:cNvSpPr txBox="1"/>
          <p:nvPr/>
        </p:nvSpPr>
        <p:spPr>
          <a:xfrm rot="5400000">
            <a:off x="5295600" y="2628720"/>
            <a:ext cx="57909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十二生肖的意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1837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7" name="WordArt 8"/>
          <p:cNvSpPr txBox="1"/>
          <p:nvPr/>
        </p:nvSpPr>
        <p:spPr>
          <a:xfrm>
            <a:off x="1752480" y="60948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 谢 观 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18" name="Picture 9" descr="bottom2"/>
          <p:cNvPicPr/>
          <p:nvPr/>
        </p:nvPicPr>
        <p:blipFill>
          <a:blip r:embed="rId2"/>
          <a:srcRect l="0" t="0" r="7821" b="0"/>
          <a:stretch/>
        </p:blipFill>
        <p:spPr>
          <a:xfrm>
            <a:off x="0" y="4232160"/>
            <a:ext cx="6810480" cy="2625840"/>
          </a:xfrm>
          <a:prstGeom prst="rect">
            <a:avLst/>
          </a:prstGeom>
          <a:ln w="0">
            <a:noFill/>
          </a:ln>
        </p:spPr>
      </p:pic>
      <p:sp>
        <p:nvSpPr>
          <p:cNvPr id="319" name="WordArt 7"/>
          <p:cNvSpPr txBox="1"/>
          <p:nvPr/>
        </p:nvSpPr>
        <p:spPr>
          <a:xfrm>
            <a:off x="3962520" y="3657600"/>
            <a:ext cx="3962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再 见 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6" descr="7738932_003324020000_2"/>
          <p:cNvPicPr/>
          <p:nvPr/>
        </p:nvPicPr>
        <p:blipFill>
          <a:blip r:embed="rId1"/>
          <a:stretch/>
        </p:blipFill>
        <p:spPr>
          <a:xfrm>
            <a:off x="0" y="5562720"/>
            <a:ext cx="1287360" cy="129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5" descr="7738932_003042088000_2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4251240" y="10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809880" y="3124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895480" y="20574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4920" y="205740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十二生肖，是中国传统文化的重要部分，源于自然界的</a:t>
            </a:r>
            <a:r>
              <a:rPr b="1" lang="en-US" sz="2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种动物和一个民族图腾即鼠、牛、虎、兔、龙、蛇、马、羊、猴、鸡、狗、猪组成，用于记年，顺序排列为子鼠、丑牛、寅虎、卯兔、辰龙、巳蛇、午马、未羊、申猴、酉鸡、戌狗、亥猪。在中华文化圈内被广泛使用。有诸多描写十二生肖的文学作品。同时，十二生肖还被用于中药药材和动画片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8" descr="20070120133501481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521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8004600" y="1295280"/>
            <a:ext cx="790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1f497d"/>
                </a:solidFill>
                <a:latin typeface="Arial"/>
                <a:ea typeface="楷体_GB2312"/>
              </a:rPr>
              <a:t>十二生肖代表的是天象与地理，并非代表人的性格。现实生活中，一个年属的不同人，性格完全不同，更别说是不同年的同属的许多人了，不同的性格；不同的生活方式；不同的爱好；不同的出身；不同的教育；不同的人生经历；不同的道德观念；不同的说话方式；不同的判断能力；不同的忍耐力；不同的心理素质，等等许多不同，现实生活中，有很多一年出生的人，性格却体现出许多不同，再一次证明“十二属相”不是代表人，证明了，年属与人的性格运程无关，地支的十二个生肖与十个天干配合，用来记载日、月以及地球运转的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2057400" y="457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  <a:ea typeface="楷体_GB2312"/>
              </a:rPr>
              <a:t>十二生肖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7" descr="7738932_160241436000_2"/>
          <p:cNvPicPr/>
          <p:nvPr/>
        </p:nvPicPr>
        <p:blipFill>
          <a:blip r:embed="rId4"/>
          <a:stretch/>
        </p:blipFill>
        <p:spPr>
          <a:xfrm>
            <a:off x="0" y="0"/>
            <a:ext cx="205596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9"/>
          <p:cNvSpPr/>
          <p:nvPr/>
        </p:nvSpPr>
        <p:spPr>
          <a:xfrm>
            <a:off x="4572000" y="1143000"/>
            <a:ext cx="4267080" cy="503568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5035680"/>
              <a:gd name="textAreaBottom" fmla="*/ 4827600 h 5035680"/>
            </a:gdLst>
            <a:ahLst/>
            <a:rect l="textAreaLeft" t="textAreaTop" r="textAreaRight" b="textAreaBottom"/>
            <a:pathLst>
              <a:path w="21600" h="25490">
                <a:moveTo>
                  <a:pt x="3600" y="0"/>
                </a:moveTo>
                <a:arcTo wR="3600" hR="3600" stAng="16200000" swAng="-5400000"/>
                <a:lnTo>
                  <a:pt x="0" y="21890"/>
                </a:lnTo>
                <a:arcTo wR="3600" hR="3600" stAng="10800000" swAng="-5400000"/>
                <a:lnTo>
                  <a:pt x="18000" y="25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0"/>
          <p:cNvSpPr/>
          <p:nvPr/>
        </p:nvSpPr>
        <p:spPr>
          <a:xfrm>
            <a:off x="304920" y="1905120"/>
            <a:ext cx="3771720" cy="3962160"/>
          </a:xfrm>
          <a:custGeom>
            <a:avLst/>
            <a:gdLst>
              <a:gd name="textAreaLeft" fmla="*/ 183960 w 3771720"/>
              <a:gd name="textAreaRight" fmla="*/ 3587760 w 3771720"/>
              <a:gd name="textAreaTop" fmla="*/ 183960 h 3962160"/>
              <a:gd name="textAreaBottom" fmla="*/ 3778200 h 3962160"/>
            </a:gdLst>
            <a:ahLst/>
            <a:rect l="textAreaLeft" t="textAreaTop" r="textAreaRight" b="textAreaBottom"/>
            <a:pathLst>
              <a:path w="21600" h="22691">
                <a:moveTo>
                  <a:pt x="3600" y="0"/>
                </a:moveTo>
                <a:arcTo wR="3600" hR="3600" stAng="16200000" swAng="-5400000"/>
                <a:lnTo>
                  <a:pt x="0" y="19091"/>
                </a:lnTo>
                <a:arcTo wR="3600" hR="3600" stAng="10800000" swAng="-5400000"/>
                <a:lnTo>
                  <a:pt x="18000" y="22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9" descr="cut_92s"/>
          <p:cNvPicPr/>
          <p:nvPr/>
        </p:nvPicPr>
        <p:blipFill>
          <a:blip r:embed="rId5"/>
          <a:stretch/>
        </p:blipFill>
        <p:spPr>
          <a:xfrm>
            <a:off x="3505320" y="4952880"/>
            <a:ext cx="1419120" cy="1505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0">
            <a:hlinkClick r:id="rId6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1">
            <a:hlinkClick r:id="rId7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2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3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4">
            <a:hlinkClick r:id="rId8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447920" y="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 rot="5400000">
            <a:off x="-1791000" y="293364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十二生肖的传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971800" y="533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的由来流传着一个神话传说：当年轩辕黄帝要选十二动物担任宫廷卫士，猫托老鼠报名，老鼠给忘了，结果猫没有选上，从此与鼠结下冤家。大象也来参赛，被老鼠钻进鼻子，给赶跑了，其余的动物，原本推牛为首，老鼠却窜到牛背上，猪也跟着起哄 ，于是老鼠排第一，猪排最后。虎和龙不服，被封为山中之王和海中之王，排在鼠和牛的后面。兔子又不服，和龙赛跑，结果排在了龙的前面。狗又不平，一气之下咬了兔子，为此被罚在了倒数第二。蛇、马、羊、猴、鸡也经过一番较量，一一排定了位置，最后形成了鼠、牛、虎、兔、龙、蛇、马、羊、猴、鸡、狗、猪的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1447560" cy="1136880"/>
          </a:xfrm>
          <a:prstGeom prst="rect">
            <a:avLst/>
          </a:prstGeom>
          <a:ln w="0">
            <a:noFill/>
          </a:ln>
        </p:spPr>
      </p:pic>
      <p:sp>
        <p:nvSpPr>
          <p:cNvPr id="65" name="未知"/>
          <p:cNvSpPr/>
          <p:nvPr/>
        </p:nvSpPr>
        <p:spPr>
          <a:xfrm>
            <a:off x="2133720" y="1143000"/>
            <a:ext cx="431640" cy="5486400"/>
          </a:xfrm>
          <a:prstGeom prst="pie">
            <a:avLst/>
          </a:pr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 flipH="1">
            <a:off x="1751760" y="1066680"/>
            <a:ext cx="863640" cy="563904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HaoSc1_66_20052318447580"/>
          <p:cNvPicPr/>
          <p:nvPr/>
        </p:nvPicPr>
        <p:blipFill>
          <a:blip r:embed="rId2"/>
          <a:stretch/>
        </p:blipFill>
        <p:spPr>
          <a:xfrm>
            <a:off x="533520" y="304920"/>
            <a:ext cx="8665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HaoSc1_66_20052318447580"/>
          <p:cNvPicPr/>
          <p:nvPr/>
        </p:nvPicPr>
        <p:blipFill>
          <a:blip r:embed="rId3"/>
          <a:stretch/>
        </p:blipFill>
        <p:spPr>
          <a:xfrm>
            <a:off x="533520" y="6324480"/>
            <a:ext cx="8665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4B398613217"/>
          <p:cNvPicPr/>
          <p:nvPr/>
        </p:nvPicPr>
        <p:blipFill>
          <a:blip r:embed="rId4"/>
          <a:stretch/>
        </p:blipFill>
        <p:spPr>
          <a:xfrm>
            <a:off x="3048120" y="3429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9">
            <a:hlinkClick r:id="rId5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>
            <a:hlinkClick r:id="rId6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>
            <a:hlinkClick r:id="rId7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0071211113757369_2"/>
          <p:cNvPicPr/>
          <p:nvPr/>
        </p:nvPicPr>
        <p:blipFill>
          <a:blip r:embed="rId1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008918104737503_2"/>
          <p:cNvPicPr/>
          <p:nvPr/>
        </p:nvPicPr>
        <p:blipFill>
          <a:blip r:embed="rId2"/>
          <a:stretch/>
        </p:blipFill>
        <p:spPr>
          <a:xfrm>
            <a:off x="228600" y="4336920"/>
            <a:ext cx="5257800" cy="252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ard1381"/>
          <p:cNvPicPr/>
          <p:nvPr/>
        </p:nvPicPr>
        <p:blipFill>
          <a:blip r:embed="rId3"/>
          <a:stretch/>
        </p:blipFill>
        <p:spPr>
          <a:xfrm>
            <a:off x="990720" y="228600"/>
            <a:ext cx="1447560" cy="1260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鼠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457200" y="1600200"/>
            <a:ext cx="3657600" cy="373392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鼠</a:t>
            </a:r>
            <a:r>
              <a:rPr b="0" lang="en-US" sz="1800" spc="-1" strike="noStrike">
                <a:solidFill>
                  <a:srgbClr val="6699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谁去铃</a:t>
            </a:r>
            <a:br>
              <a:rPr sz="1800"/>
            </a:b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　　一群老鼠召集会议决定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出一个好法子让大家在大敌猫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到来之前可以有个备在许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计策中发觉其中最好的提议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一个铃在猫的颈子上如此这般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在猫到来的时候老鼠们一听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铃声可以迅速逃离躲到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的洞去但是当进一步讨论要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谁去把铃在猫头上的时候却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时鸦雀无声没有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老鼠敢去做这件事情</a:t>
            </a:r>
            <a:br>
              <a:rPr sz="1800"/>
            </a:b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　寓意</a:t>
            </a:r>
            <a:r>
              <a:rPr b="0" lang="en-US" sz="1800" spc="-1" strike="noStrike">
                <a:solidFill>
                  <a:srgbClr val="6699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大空言对事情无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6172200" y="304920"/>
            <a:ext cx="2666880" cy="1600200"/>
          </a:xfrm>
          <a:custGeom>
            <a:avLst/>
            <a:gdLst>
              <a:gd name="textAreaLeft" fmla="*/ 0 w 2666880"/>
              <a:gd name="textAreaRight" fmla="*/ 2666880 w 26668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鼠：电视上是人见人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宠物，生活中是人见人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的怪物，属于不被捧杀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被棒杀的“明星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257800" y="2209680"/>
            <a:ext cx="3200400" cy="2562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过街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人人喊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见了猫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骨头都软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拉木锨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大头在后边 老鼠吃猫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怪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啃皮球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嗑（客）气 老鼠钻到风箱里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两头受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876920" y="2209680"/>
            <a:ext cx="380880" cy="2598840"/>
          </a:xfrm>
          <a:prstGeom prst="rect">
            <a:avLst/>
          </a:prstGeom>
          <a:noFill/>
          <a:ln w="60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歇   后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未知"/>
          <p:cNvSpPr/>
          <p:nvPr/>
        </p:nvSpPr>
        <p:spPr>
          <a:xfrm flipV="1" rot="10200">
            <a:off x="297144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>
            <a:hlinkClick r:id="rId6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>
            <a:hlinkClick r:id="rId7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>
            <a:hlinkClick r:id="rId8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"/>
          <p:cNvPicPr/>
          <p:nvPr/>
        </p:nvPicPr>
        <p:blipFill>
          <a:blip r:embed="rId1"/>
          <a:stretch/>
        </p:blipFill>
        <p:spPr>
          <a:xfrm>
            <a:off x="0" y="4836960"/>
            <a:ext cx="2971800" cy="202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200921317483941_2"/>
          <p:cNvPicPr/>
          <p:nvPr/>
        </p:nvPicPr>
        <p:blipFill>
          <a:blip r:embed="rId2"/>
          <a:stretch/>
        </p:blipFill>
        <p:spPr>
          <a:xfrm>
            <a:off x="4600440" y="2905200"/>
            <a:ext cx="4543560" cy="39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ard1382"/>
          <p:cNvPicPr/>
          <p:nvPr/>
        </p:nvPicPr>
        <p:blipFill>
          <a:blip r:embed="rId3"/>
          <a:stretch/>
        </p:blipFill>
        <p:spPr>
          <a:xfrm>
            <a:off x="1447920" y="380880"/>
            <a:ext cx="86040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9422601_110243946000_2"/>
          <p:cNvPicPr/>
          <p:nvPr/>
        </p:nvPicPr>
        <p:blipFill>
          <a:blip r:embed="rId4"/>
          <a:stretch/>
        </p:blipFill>
        <p:spPr>
          <a:xfrm>
            <a:off x="6324480" y="533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480060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牛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未知"/>
          <p:cNvSpPr/>
          <p:nvPr/>
        </p:nvSpPr>
        <p:spPr>
          <a:xfrm flipV="1" rot="10200">
            <a:off x="3047760" y="137088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 flipV="1" rot="10200">
            <a:off x="312372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228600" y="1371600"/>
            <a:ext cx="6858000" cy="2209680"/>
          </a:xfrm>
          <a:custGeom>
            <a:avLst/>
            <a:gdLst>
              <a:gd name="textAreaLeft" fmla="*/ 0 w 6858000"/>
              <a:gd name="textAreaRight" fmla="*/ 6858360 w 6858000"/>
              <a:gd name="textAreaTop" fmla="*/ 286200 h 2209680"/>
              <a:gd name="textAreaBottom" fmla="*/ 19234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牛的无奈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公牛被老鼠咬了一口伤口很痛就要去捉但老鼠马上躲到洞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於是公牛用的角去挖墙挖得累了便睡在洞旁老鼠从洞中向外看了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儿 偷偷地爬到牛的腹部再咬了一口  又迅速退回到洞 公牛痛得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又急又气地 不知道如何是好老鼠喃喃地说  大的不见得就会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胜利有时候弱小的  低贱的反倒是最有能力去恶作剧的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         寓意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以貌取人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-4341600" y="5031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2743200" y="3657600"/>
            <a:ext cx="2514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蹄子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两瓣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口里的草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扯不出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老牛上了鼻绳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跑不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老牛拖破车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一摇三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鼻子穿环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让人家牵着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吃卷心菜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各人心中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7426800" y="1447920"/>
            <a:ext cx="127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牛：一辈子勤勤恳恳任劳任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没想到因为有人爱吹它的皮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遭到无辜株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7543800" y="1143000"/>
            <a:ext cx="1181160" cy="3581280"/>
          </a:xfrm>
          <a:prstGeom prst="flowChartPunchedCard">
            <a:avLst/>
          </a:prstGeom>
          <a:noFill/>
          <a:ln w="2232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043"/>
          <p:cNvPicPr/>
          <p:nvPr/>
        </p:nvPicPr>
        <p:blipFill>
          <a:blip r:embed="rId7"/>
          <a:stretch/>
        </p:blipFill>
        <p:spPr>
          <a:xfrm>
            <a:off x="7391520" y="838080"/>
            <a:ext cx="761760" cy="7048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8"/>
          <p:cNvSpPr/>
          <p:nvPr/>
        </p:nvSpPr>
        <p:spPr>
          <a:xfrm>
            <a:off x="685800" y="4267080"/>
            <a:ext cx="2057400" cy="762120"/>
          </a:xfrm>
          <a:prstGeom prst="rightArrow">
            <a:avLst>
              <a:gd name="adj1" fmla="val 50000"/>
              <a:gd name="adj2" fmla="val 67489"/>
            </a:avLst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838080" y="4648320"/>
            <a:ext cx="1219320" cy="7596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歇  后  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9" name="Text Box 29">
            <a:hlinkClick r:id="rId8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>
            <a:hlinkClick r:id="rId9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19"/>
          <p:cNvSpPr/>
          <p:nvPr/>
        </p:nvSpPr>
        <p:spPr>
          <a:xfrm>
            <a:off x="2438280" y="4191120"/>
            <a:ext cx="1828800" cy="22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ard1383"/>
          <p:cNvPicPr/>
          <p:nvPr/>
        </p:nvPicPr>
        <p:blipFill>
          <a:blip r:embed="rId1"/>
          <a:stretch/>
        </p:blipFill>
        <p:spPr>
          <a:xfrm>
            <a:off x="1447920" y="152280"/>
            <a:ext cx="1066680" cy="10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023"/>
          <p:cNvPicPr/>
          <p:nvPr/>
        </p:nvPicPr>
        <p:blipFill>
          <a:blip r:embed="rId2"/>
          <a:stretch/>
        </p:blipFill>
        <p:spPr>
          <a:xfrm>
            <a:off x="4267080" y="3355920"/>
            <a:ext cx="4876920" cy="350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026"/>
          <p:cNvPicPr/>
          <p:nvPr/>
        </p:nvPicPr>
        <p:blipFill>
          <a:blip r:embed="rId3"/>
          <a:stretch/>
        </p:blipFill>
        <p:spPr>
          <a:xfrm>
            <a:off x="0" y="4446720"/>
            <a:ext cx="2438280" cy="241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369219_144438308148_2"/>
          <p:cNvPicPr/>
          <p:nvPr/>
        </p:nvPicPr>
        <p:blipFill>
          <a:blip r:embed="rId4"/>
          <a:stretch/>
        </p:blipFill>
        <p:spPr>
          <a:xfrm>
            <a:off x="7238880" y="228600"/>
            <a:ext cx="1600200" cy="1006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057400" y="685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虎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 flipV="1" rot="10200">
            <a:off x="3047760" y="144720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 rot="20747400">
            <a:off x="6090840" y="1522080"/>
            <a:ext cx="2666880" cy="1601640"/>
          </a:xfrm>
          <a:prstGeom prst="rect">
            <a:avLst/>
          </a:prstGeom>
          <a:noFill/>
          <a:ln w="60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 rot="192600">
            <a:off x="182520" y="1829520"/>
            <a:ext cx="5715000" cy="1585800"/>
          </a:xfrm>
          <a:prstGeom prst="rect">
            <a:avLst/>
          </a:prstGeom>
          <a:blipFill rotWithShape="0">
            <a:blip r:embed="rId7"/>
            <a:srcRect/>
            <a:stretch/>
          </a:blip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虎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受了骗的老虎</a:t>
            </a:r>
            <a:br>
              <a:rPr sz="1400"/>
            </a:b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　　有一次森林之王狮子患了很重的病狡滑的狐狸趁机巴结日夜细心照顾一天狮子对狐狸说我现在很想吃虎肉而且听说吃了虎的心很快就会恢复健康 於是谄媚的狐狸立刻到森林找到老虎告诉老虎狮子就要死了想选出一个继承王位的狮王考虑後觉得只有老虎合适因此就请跟狐狸到狮王那走一趟 老虎不疑有他到了狮子洞穴等待已久的狮子可怜的虎就这样失去了的性命当狮子津津有味地吃著虎肉突然不小心把虎的心掉在地上狐狸看见了 悄悄地把它捡起来吃了狮子吃完虎肉之後四处寻找虎心都找不到就问狐狸狐狸说陆下那虎大概知道会受骗所以没有把心带来况且像那麽笨的 伙又那儿来的心呢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? </a:t>
            </a:r>
            <a:br>
              <a:rPr sz="1400"/>
            </a:b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　　寓意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应随时察言观色以免招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 rot="20790600">
            <a:off x="6012720" y="1601280"/>
            <a:ext cx="2819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嘴边的胡须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谁敢去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下山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来势凶猛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上山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谁敢阻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上街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人人害怕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长了翅膀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神了 老虎当和尚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人面兽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2836440" y="4722840"/>
            <a:ext cx="11408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虎：把头衔写在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门上，是为了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己有特殊的身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以便向武松讨还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的血债。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>
            <a:hlinkClick r:id="rId8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>
            <a:hlinkClick r:id="rId9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15"/>
          <p:cNvPicPr/>
          <p:nvPr/>
        </p:nvPicPr>
        <p:blipFill>
          <a:blip r:embed="rId1"/>
          <a:stretch/>
        </p:blipFill>
        <p:spPr>
          <a:xfrm>
            <a:off x="5943600" y="2514600"/>
            <a:ext cx="293364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4"/>
          <p:cNvSpPr/>
          <p:nvPr/>
        </p:nvSpPr>
        <p:spPr>
          <a:xfrm rot="444000">
            <a:off x="223920" y="1679400"/>
            <a:ext cx="5649840" cy="28148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2514600" y="4572000"/>
            <a:ext cx="3352680" cy="2057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7" descr="047"/>
          <p:cNvPicPr/>
          <p:nvPr/>
        </p:nvPicPr>
        <p:blipFill>
          <a:blip r:embed="rId2"/>
          <a:stretch/>
        </p:blipFill>
        <p:spPr>
          <a:xfrm>
            <a:off x="6477120" y="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card1396"/>
          <p:cNvPicPr/>
          <p:nvPr/>
        </p:nvPicPr>
        <p:blipFill>
          <a:blip r:embed="rId3"/>
          <a:stretch/>
        </p:blipFill>
        <p:spPr>
          <a:xfrm>
            <a:off x="1295280" y="228600"/>
            <a:ext cx="121932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YVsucaiw-guohua-yv546000"/>
          <p:cNvPicPr/>
          <p:nvPr/>
        </p:nvPicPr>
        <p:blipFill>
          <a:blip r:embed="rId4"/>
          <a:stretch/>
        </p:blipFill>
        <p:spPr>
          <a:xfrm>
            <a:off x="0" y="4495680"/>
            <a:ext cx="2316240" cy="2362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1"/>
          <p:cNvSpPr/>
          <p:nvPr/>
        </p:nvSpPr>
        <p:spPr>
          <a:xfrm rot="452400">
            <a:off x="457560" y="1685520"/>
            <a:ext cx="5410080" cy="1067400"/>
          </a:xfrm>
          <a:prstGeom prst="rect">
            <a:avLst/>
          </a:prstGeom>
          <a:blipFill rotWithShape="0">
            <a:blip r:embed="rId5"/>
            <a:srcRect/>
            <a:stretch/>
          </a:blipFill>
          <a:ln cap="rnd" w="9360">
            <a:solidFill>
              <a:srgbClr val="33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龟兔赛跑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有一天一兔子嘲笑乌龟的脚短且走路又慢於是乌龟笑著说道虽然你走路很快但假使我和你赛跑一次我一定会赢你的兔子以为乌龟在口便答应的提 议 请狐狸选择跑道指定终点到了比赛那天 们一同出发乌龟虽然跑得慢却坚定不移一步一步地向目标前进兔子相信自己能跑得很快一点也不将赛跑的事放在心上於是便在中途的一棵树下睡著了等 到醒来以後再尽力向前跑去时乌龟却早已到达终点获得了胜利正舒舒服服地在那休息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寓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骄矜者终必失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2133720" y="685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23"/>
          <p:cNvSpPr txBox="1"/>
          <p:nvPr/>
        </p:nvSpPr>
        <p:spPr>
          <a:xfrm>
            <a:off x="4952880" y="3808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兔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未知"/>
          <p:cNvSpPr/>
          <p:nvPr/>
        </p:nvSpPr>
        <p:spPr>
          <a:xfrm flipV="1" rot="10200">
            <a:off x="3047760" y="129456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 flipV="1" rot="10200">
            <a:off x="3047760" y="137088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2590920" y="4572000"/>
            <a:ext cx="3174840" cy="2040840"/>
          </a:xfrm>
          <a:prstGeom prst="rect">
            <a:avLst/>
          </a:prstGeom>
          <a:blipFill rotWithShape="0">
            <a:blip r:embed="rId8"/>
            <a:srcRect/>
            <a:stretch/>
          </a:blipFill>
          <a:ln cap="rnd" w="9360">
            <a:solidFill>
              <a:srgbClr val="33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上兔子不吃窝边草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留情（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腿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跑得快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耳朵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听得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嘴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三片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尾巴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长不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撵乌龟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赶得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1"/>
          <p:cNvSpPr/>
          <p:nvPr/>
        </p:nvSpPr>
        <p:spPr>
          <a:xfrm>
            <a:off x="6095880" y="1295280"/>
            <a:ext cx="2743200" cy="1295640"/>
          </a:xfrm>
          <a:prstGeom prst="pie">
            <a:avLst/>
          </a:prstGeom>
          <a:gradFill rotWithShape="0">
            <a:gsLst>
              <a:gs pos="0">
                <a:srgbClr val="effeb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6693840" y="1474920"/>
            <a:ext cx="15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随嫦娥登上月球的第一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宇航员，可惜至今无任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权威机构承认它的功绩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>
            <a:hlinkClick r:id="rId9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>
            <a:hlinkClick r:id="rId10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7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8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9">
            <a:hlinkClick r:id="rId11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0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009"/>
          <p:cNvPicPr/>
          <p:nvPr/>
        </p:nvPicPr>
        <p:blipFill>
          <a:blip r:embed="rId1"/>
          <a:stretch/>
        </p:blipFill>
        <p:spPr>
          <a:xfrm>
            <a:off x="5105520" y="2057400"/>
            <a:ext cx="3348000" cy="48006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21"/>
          <p:cNvSpPr/>
          <p:nvPr/>
        </p:nvSpPr>
        <p:spPr>
          <a:xfrm>
            <a:off x="7848720" y="304920"/>
            <a:ext cx="1143000" cy="46479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4647960"/>
              <a:gd name="textAreaBottom" fmla="*/ 4480560 h 4647960"/>
            </a:gdLst>
            <a:ahLst/>
            <a:rect l="textAreaLeft" t="textAreaTop" r="textAreaRight" b="textAreaBottom"/>
            <a:pathLst>
              <a:path w="21600" h="87815">
                <a:moveTo>
                  <a:pt x="10800" y="0"/>
                </a:moveTo>
                <a:arcTo wR="10800" hR="10800" stAng="16200000" swAng="-5400000"/>
                <a:lnTo>
                  <a:pt x="0" y="77015"/>
                </a:lnTo>
                <a:arcTo wR="10800" hR="10800" stAng="10800000" swAng="-5400000"/>
                <a:lnTo>
                  <a:pt x="10800" y="8781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u=1307439502,2477260363&amp;fm=52&amp;gp=0"/>
          <p:cNvPicPr/>
          <p:nvPr/>
        </p:nvPicPr>
        <p:blipFill>
          <a:blip r:embed="rId2"/>
          <a:stretch/>
        </p:blipFill>
        <p:spPr>
          <a:xfrm>
            <a:off x="1295280" y="228600"/>
            <a:ext cx="77652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OOOPIC_mml911_20091030f64993de1cf22091"/>
          <p:cNvPicPr/>
          <p:nvPr/>
        </p:nvPicPr>
        <p:blipFill>
          <a:blip r:embed="rId3"/>
          <a:stretch/>
        </p:blipFill>
        <p:spPr>
          <a:xfrm>
            <a:off x="6019920" y="380880"/>
            <a:ext cx="1241280" cy="1295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1"/>
          <p:cNvSpPr/>
          <p:nvPr/>
        </p:nvSpPr>
        <p:spPr>
          <a:xfrm>
            <a:off x="1981080" y="8380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 flipV="1" rot="10200">
            <a:off x="297144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0" y="1905120"/>
            <a:ext cx="5029200" cy="2514600"/>
          </a:xfrm>
          <a:custGeom>
            <a:avLst/>
            <a:gdLst>
              <a:gd name="textAreaLeft" fmla="*/ 0 w 5029200"/>
              <a:gd name="textAreaRight" fmla="*/ 5029560 w 5029200"/>
              <a:gd name="textAreaTop" fmla="*/ 325800 h 2514600"/>
              <a:gd name="textAreaBottom" fmla="*/ 21888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龙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龙困浅滩遭虾戏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一受伤的龙困在浅滩上  刚开始群虾被这庞然大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吓得躲起来但经测试後以为龙不过如此而已  於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虾群开始戏弄龙一老乌龟看不过去  警告虾群将来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有报应果然三天後龙体康复了  飞上天之前回头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吐火一群虾变成了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糊椒烤虾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寓意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不要趁人之危否则将遭报应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2514600" y="4495680"/>
            <a:ext cx="2590920" cy="2133720"/>
          </a:xfrm>
          <a:prstGeom prst="rect">
            <a:avLst/>
          </a:prstGeom>
          <a:noFill/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7848720" y="380880"/>
            <a:ext cx="1033200" cy="4572000"/>
          </a:xfrm>
          <a:custGeom>
            <a:avLst/>
            <a:gdLst>
              <a:gd name="textAreaLeft" fmla="*/ 151200 w 1033200"/>
              <a:gd name="textAreaRight" fmla="*/ 882000 w 1033200"/>
              <a:gd name="textAreaTop" fmla="*/ 151200 h 4572000"/>
              <a:gd name="textAreaBottom" fmla="*/ 4420800 h 4572000"/>
            </a:gdLst>
            <a:ahLst/>
            <a:rect l="textAreaLeft" t="textAreaTop" r="textAreaRight" b="textAreaBottom"/>
            <a:pathLst>
              <a:path w="21600" h="95556">
                <a:moveTo>
                  <a:pt x="10800" y="0"/>
                </a:moveTo>
                <a:arcTo wR="10800" hR="10800" stAng="16200000" swAng="-5400000"/>
                <a:lnTo>
                  <a:pt x="0" y="84756"/>
                </a:lnTo>
                <a:arcTo wR="10800" hR="10800" stAng="10800000" swAng="-5400000"/>
                <a:lnTo>
                  <a:pt x="10800" y="9555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称与每一位皇帝都有特殊的亲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系，其实谁也没有见过它的本来面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2057400" y="4648320"/>
            <a:ext cx="358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两个人舞龙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有头有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龙头不拉拉马尾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用力不对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叶公好龙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----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假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龙灯胡须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没人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龙船上装大粪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臭名远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鲤鱼跳龙门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高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>
            <a:hlinkClick r:id="rId7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>
            <a:hlinkClick r:id="rId8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>
            <a:hlinkClick r:id="rId9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01300000333999123841259881384"/>
          <p:cNvPicPr/>
          <p:nvPr/>
        </p:nvPicPr>
        <p:blipFill>
          <a:blip r:embed="rId1"/>
          <a:stretch/>
        </p:blipFill>
        <p:spPr>
          <a:xfrm>
            <a:off x="0" y="4665600"/>
            <a:ext cx="2743200" cy="2192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6"/>
          <p:cNvSpPr/>
          <p:nvPr/>
        </p:nvSpPr>
        <p:spPr>
          <a:xfrm>
            <a:off x="533520" y="17524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蛇</a:t>
            </a:r>
            <a:r>
              <a:rPr b="1" lang="en-US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--- </a:t>
            </a: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父亲和蛇</a:t>
            </a:r>
            <a:br>
              <a:rPr sz="1800"/>
            </a:b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　　一条蛇住在茅屋门口把住在茅屋中的婴孩狠狠的咬了一口那婴孩因此受伤而死 的父母很伤心父亲决定要杀死这条蛇替他的孩子报仇翌日他在那蛇出洞觅食的时候举起斧头朝蛇头砍下去但因为砍得太快没有砍下蛇的头只砍掉了 尾巴从此之後怕蛇会再来报仇於是每天提心吊胆的度日子蛇在洞对外头斥责地说我和你不可能再和平共存了因为我一看见你便会想起我失去的尾巴 而父亲也不肝示弱地说我一遇见你就会记起我死去的儿子 </a:t>
            </a:r>
            <a:br>
              <a:rPr sz="1800"/>
            </a:b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　　     寓意</a:t>
            </a:r>
            <a:r>
              <a:rPr b="1" lang="en-US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--- </a:t>
            </a: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冤冤相报何时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002"/>
          <p:cNvPicPr/>
          <p:nvPr/>
        </p:nvPicPr>
        <p:blipFill>
          <a:blip r:embed="rId2"/>
          <a:stretch/>
        </p:blipFill>
        <p:spPr>
          <a:xfrm>
            <a:off x="7086600" y="4343400"/>
            <a:ext cx="2057400" cy="1587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003"/>
          <p:cNvPicPr/>
          <p:nvPr/>
        </p:nvPicPr>
        <p:blipFill>
          <a:blip r:embed="rId3"/>
          <a:stretch/>
        </p:blipFill>
        <p:spPr>
          <a:xfrm>
            <a:off x="1523880" y="304920"/>
            <a:ext cx="9972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005"/>
          <p:cNvPicPr/>
          <p:nvPr/>
        </p:nvPicPr>
        <p:blipFill>
          <a:blip r:embed="rId4"/>
          <a:stretch/>
        </p:blipFill>
        <p:spPr>
          <a:xfrm>
            <a:off x="4724280" y="5148360"/>
            <a:ext cx="2133720" cy="170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042"/>
          <p:cNvPicPr/>
          <p:nvPr/>
        </p:nvPicPr>
        <p:blipFill>
          <a:blip r:embed="rId5"/>
          <a:stretch/>
        </p:blipFill>
        <p:spPr>
          <a:xfrm>
            <a:off x="6095880" y="609480"/>
            <a:ext cx="7621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5"/>
          <p:cNvSpPr/>
          <p:nvPr/>
        </p:nvSpPr>
        <p:spPr>
          <a:xfrm>
            <a:off x="2133720" y="533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6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蛇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0" name="未知"/>
          <p:cNvSpPr/>
          <p:nvPr/>
        </p:nvSpPr>
        <p:spPr>
          <a:xfrm flipV="1" rot="10200">
            <a:off x="3047760" y="1369440"/>
            <a:ext cx="266832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 flipV="1" rot="10200">
            <a:off x="2971440" y="1447200"/>
            <a:ext cx="2668680" cy="228600"/>
          </a:xfrm>
          <a:prstGeom prst="pie">
            <a:avLst/>
          </a:pr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7238880" y="380880"/>
            <a:ext cx="1447920" cy="3886200"/>
          </a:xfrm>
          <a:custGeom>
            <a:avLst/>
            <a:gdLst>
              <a:gd name="textAreaLeft" fmla="*/ 0 w 1447920"/>
              <a:gd name="textAreaRight" fmla="*/ 1448280 w 1447920"/>
              <a:gd name="textAreaTop" fmla="*/ 503640 h 3886200"/>
              <a:gd name="textAreaBottom" fmla="*/ 3382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不管最终有没有吞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大象，反正做出的广告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人注意到了自己的存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152280" y="1752480"/>
            <a:ext cx="432000" cy="3124440"/>
          </a:xfrm>
          <a:prstGeom prst="pie">
            <a:avLst/>
          </a:prstGeom>
          <a:solidFill>
            <a:srgbClr val="663300"/>
          </a:solidFill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 rot="10800000">
            <a:off x="6476760" y="1752120"/>
            <a:ext cx="431640" cy="2971800"/>
          </a:xfrm>
          <a:prstGeom prst="pie">
            <a:avLst/>
          </a:prstGeom>
          <a:solidFill>
            <a:srgbClr val="663300"/>
          </a:solidFill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9"/>
          <p:cNvSpPr/>
          <p:nvPr/>
        </p:nvSpPr>
        <p:spPr>
          <a:xfrm>
            <a:off x="2666880" y="5029200"/>
            <a:ext cx="2819520" cy="15238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吃鳗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比长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钻到竹筒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只好走这条道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钻窟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顾前不顾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头上的苍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来的衣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入筒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曲性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入曲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退路难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0">
            <a:hlinkClick r:id="rId8" action="ppaction://hlinksldjump"/>
          </p:cNvPr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1">
            <a:hlinkClick r:id="rId9" action="ppaction://hlinksldjump"/>
          </p:cNvPr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3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4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5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13T01:19:32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