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B3D-BB0A-4872-BB7B-5AB36B08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868-23C9-4A5A-9D3D-B02400B7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01C-F4EC-4ED2-B307-F2A32649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7AE-792D-42D5-983D-92A1B2AB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0C1-030E-452D-B75C-70529761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103-B587-4FCF-8856-EDC87C3B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705-66A5-4409-9DCF-729FC18E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950-7451-48E0-9548-1157DFA3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173-414C-45AC-B2CF-4BF8D174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4CD-2B60-44A9-9308-917F798A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CE6-A017-4E3F-B13D-6140EE61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E25-0B7B-46BF-9CCF-F29D7012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0D61-EFC2-4173-9A1C-41AC0C630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卡通~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3635280" y="2205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小学三年二期语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851280" y="386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羊05"/>
          <p:cNvPicPr/>
          <p:nvPr/>
        </p:nvPicPr>
        <p:blipFill>
          <a:blip r:embed="rId1"/>
          <a:stretch/>
        </p:blipFill>
        <p:spPr>
          <a:xfrm>
            <a:off x="6084720" y="260280"/>
            <a:ext cx="3059280" cy="6050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39640" y="549360"/>
            <a:ext cx="518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</a:rPr>
              <a:t>一个“孤”“独自”意思差不多，“关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门”“闭户”“掩柴扉”意思也一样，这样重复毫无用处，全是废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熊04"/>
          <p:cNvPicPr/>
          <p:nvPr/>
        </p:nvPicPr>
        <p:blipFill>
          <a:blip r:embed="rId1"/>
          <a:stretch/>
        </p:blipFill>
        <p:spPr>
          <a:xfrm>
            <a:off x="5003640" y="1025640"/>
            <a:ext cx="4140360" cy="5832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50920" y="90792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没必要的重复也是废话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0" y="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ff"/>
                </a:solidFill>
                <a:latin typeface="Arial"/>
                <a:ea typeface="楷体_GB2312"/>
              </a:rPr>
              <a:t>说一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什么样的话是废话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619280" y="2637000"/>
            <a:ext cx="752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啰唆就是废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自相矛盾也是废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没必要的重复也是废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18900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</a:rPr>
              <a:t>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119700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下面的句子是不是废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）我基本上全部完成了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31417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）丽丽快乐地度过了愉快的六一儿童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414972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学了这篇课文，你知道怎样才能把话     说简洁明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755640" y="566100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不啰唆        不矛盾          不重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卡通~10"/>
          <p:cNvPicPr/>
          <p:nvPr/>
        </p:nvPicPr>
        <p:blipFill>
          <a:blip r:embed="rId1"/>
          <a:stretch/>
        </p:blipFill>
        <p:spPr>
          <a:xfrm>
            <a:off x="0" y="0"/>
            <a:ext cx="8962920" cy="702936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3203640" y="981000"/>
            <a:ext cx="24382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卡通~26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2050920" y="54936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050920" y="765000"/>
            <a:ext cx="3745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收购废话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76500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什么样的话才叫废话呢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420440" y="32464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熊04"/>
          <p:cNvPicPr/>
          <p:nvPr/>
        </p:nvPicPr>
        <p:blipFill>
          <a:blip r:embed="rId1"/>
          <a:stretch/>
        </p:blipFill>
        <p:spPr>
          <a:xfrm>
            <a:off x="5796000" y="2133720"/>
            <a:ext cx="31669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小猪18"/>
          <p:cNvPicPr/>
          <p:nvPr/>
        </p:nvPicPr>
        <p:blipFill>
          <a:blip r:embed="rId1"/>
          <a:stretch/>
        </p:blipFill>
        <p:spPr>
          <a:xfrm>
            <a:off x="0" y="3139920"/>
            <a:ext cx="4753080" cy="3718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5092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猪先生：我喝了一斤白酒，一斤就是十两，如果用二两的杯子，就是五杯。今天真过瘾，    真开心，真快乐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羊05"/>
          <p:cNvPicPr/>
          <p:nvPr/>
        </p:nvPicPr>
        <p:blipFill>
          <a:blip r:embed="rId1"/>
          <a:stretch/>
        </p:blipFill>
        <p:spPr>
          <a:xfrm>
            <a:off x="5724360" y="2565360"/>
            <a:ext cx="3419640" cy="4176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84360" y="620640"/>
            <a:ext cx="521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羊站长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啰唆就是废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鸟06"/>
          <p:cNvPicPr/>
          <p:nvPr/>
        </p:nvPicPr>
        <p:blipFill>
          <a:blip r:embed="rId1"/>
          <a:stretch/>
        </p:blipFill>
        <p:spPr>
          <a:xfrm>
            <a:off x="5219640" y="1197000"/>
            <a:ext cx="3924360" cy="604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376280" y="1052640"/>
            <a:ext cx="459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0" y="155736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湖水泛起蔚蓝色的白浪，我想乘一叶小小的大船，在湖面慢慢地疾驶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羊05"/>
          <p:cNvPicPr/>
          <p:nvPr/>
        </p:nvPicPr>
        <p:blipFill>
          <a:blip r:embed="rId1"/>
          <a:stretch/>
        </p:blipFill>
        <p:spPr>
          <a:xfrm>
            <a:off x="5076720" y="2637000"/>
            <a:ext cx="4067280" cy="36064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79280" y="33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</a:rPr>
              <a:t>这些话乱加一些不准确的形容词，画蛇添足，自相矛盾，反而让人弄不明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熊04"/>
          <p:cNvPicPr/>
          <p:nvPr/>
        </p:nvPicPr>
        <p:blipFill>
          <a:blip r:embed="rId1"/>
          <a:stretch/>
        </p:blipFill>
        <p:spPr>
          <a:xfrm>
            <a:off x="5796000" y="0"/>
            <a:ext cx="3166920" cy="3860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95280" y="2637000"/>
            <a:ext cx="44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自相矛盾，也是废话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猴子04"/>
          <p:cNvPicPr/>
          <p:nvPr/>
        </p:nvPicPr>
        <p:blipFill>
          <a:blip r:embed="rId1"/>
          <a:stretch/>
        </p:blipFill>
        <p:spPr>
          <a:xfrm>
            <a:off x="5076720" y="1197000"/>
            <a:ext cx="421164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0" y="549360"/>
            <a:ext cx="673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一个孤猴独自归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关门闭户掩柴扉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7:12:49Z</dcterms:created>
  <dc:creator/>
  <dc:description/>
  <cp:keywords/>
  <dc:language>en-US</dc:language>
  <cp:lastModifiedBy>Administrator</cp:lastModifiedBy>
  <dcterms:modified xsi:type="dcterms:W3CDTF">2015-04-07T15:07:00Z</dcterms:modified>
  <cp:revision>9</cp:revision>
  <dc:subject/>
  <dc:title>幻灯片 1</dc:title>
</cp:coreProperties>
</file>