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FBB-F591-44CA-B665-18813269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94B-44DA-4A52-BAA4-1BED77E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323-6FFE-4101-A3DC-2343BCB7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7C9-800B-4038-BE42-28182C13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F981-A4E1-4E86-B5BF-A3118DA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203F-E892-490F-9084-EEC3C2E4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99BC-C50F-4379-BAD5-9001ED37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462A-EBF3-4A85-8F98-DE04E2D1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DDF5-33F0-4F38-8E4E-A653A056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3223-8B51-4A74-91E4-D84315A1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F557-E29A-47BC-B4F0-A2819A9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003-91B8-44D3-9A95-D462DCA3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63AA-49A3-472B-A662-37FBDE4A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4F53-EE7A-4055-802F-5DA4405B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1CCE-E675-4704-AD22-90C7E2CD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E3B7-7BAF-4D81-B682-AD95A242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AB4B-6ECA-4051-9133-785AE92F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AC9-7491-41BA-868E-054B56A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F15-7611-4D8D-8BB4-88A649D9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C98-147F-4B74-B94B-7D7A9280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E5D-5469-4FDE-8A24-B16B1F8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72C-11BA-4114-B571-BF4C1A9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E0F-51E5-423E-B194-68DBAB5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71D-D9C0-4631-89FA-7241065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DF4E-916D-4571-9A81-DB8C6AF9D3D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EAA4-BC65-48C6-8D54-A31411A1A2F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2,&#24187;&#28783;&#29255; 2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,&#24187;&#28783;&#29255; 3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,&#24187;&#28783;&#29255; 3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2photoshop.cn/pic46142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62800" y="347760"/>
            <a:ext cx="227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太  阳</a:t>
            </a:r>
            <a:endParaRPr b="0" lang="en-US" sz="9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268280"/>
            <a:ext cx="81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太阳会发光，会发热，是个大火球。太阳的温度很高，表面温度有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6000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摄氏度，就是钢铁碰到它，也会变成汽；中心温度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估计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是表面温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度的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2500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倍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702920" y="632448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Times New Roman"/>
                <a:hlinkClick r:id="rId2"/>
              </a:rPr>
              <a:t>课题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895880" y="6521400"/>
            <a:ext cx="546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Times New Roman"/>
                <a:hlinkClick r:id="rId2"/>
              </a:rPr>
              <a:t>关联词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920" cy="6813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地球上的光明和温暖，都是太阳送来的。如果没有太阳，地球上将到处是黑暗，到处是寒冷，没有风、雪、雨、露，没有草、木、鸟、兽，自然也不会有人。一句话，没有太阳，就没有我们这个美丽可爱的世界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地球上的光明和温暖，都是太阳送来的。如果没有太阳，地球上将到处是黑暗，到处是寒冷，没有风、雪、雨、露，没有草、木、鸟、兽，自然也不会有人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句话，没有太阳，就没有我们这个美丽可爱的世界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8000" y="62064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地球上的                   ，都是太阳送来的。如果没有太阳，地球上将到处是        ，到处是        ，没有      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，没有                          ，自然也不会有人。一句话，没有太阳，就没有我们这个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1268280"/>
            <a:ext cx="288144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492280"/>
            <a:ext cx="1368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3068640"/>
            <a:ext cx="122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068640"/>
            <a:ext cx="331308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789360"/>
            <a:ext cx="86364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3789360"/>
            <a:ext cx="417672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5084640"/>
            <a:ext cx="2016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734080"/>
            <a:ext cx="216072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62064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地球上的                   ，都是太阳送来的。如果没有太阳，地球上将到处是        ，到处是        ，没有      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，没有                          ，自然也不会有人。一句话，没有太阳，就没有我们这个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95640" y="1268280"/>
            <a:ext cx="266544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79640" y="2492280"/>
            <a:ext cx="108108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789360"/>
            <a:ext cx="64764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427640" y="3141720"/>
            <a:ext cx="367344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987640" y="3860640"/>
            <a:ext cx="3888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156000" y="5013360"/>
            <a:ext cx="165564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92000" y="3068640"/>
            <a:ext cx="108108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11280" y="5589720"/>
            <a:ext cx="2016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8360" y="549360"/>
            <a:ext cx="7775640" cy="5083560"/>
            <a:chOff x="468360" y="549360"/>
            <a:chExt cx="7775640" cy="5083560"/>
          </a:xfrm>
        </p:grpSpPr>
        <p:sp>
          <p:nvSpPr>
            <p:cNvPr id="126" name=""/>
            <p:cNvSpPr/>
            <p:nvPr/>
          </p:nvSpPr>
          <p:spPr>
            <a:xfrm>
              <a:off x="5508720" y="180324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黑暗 </a:t>
              </a:r>
              <a:endParaRPr b="0" lang="en-US" sz="4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8360" y="549360"/>
              <a:ext cx="7775640" cy="5083560"/>
              <a:chOff x="468360" y="549360"/>
              <a:chExt cx="7775640" cy="508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3924360" y="549360"/>
                <a:ext cx="3313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Arial"/>
                  </a:rPr>
                  <a:t>光明和温暖</a:t>
                </a:r>
                <a:endParaRPr b="0" lang="en-US" sz="40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19280" y="2349360"/>
                <a:ext cx="1440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寒冷</a:t>
                </a:r>
                <a:endParaRPr b="0" lang="en-US" sz="4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2000" y="2379240"/>
                <a:ext cx="3313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风、雪、雨、</a:t>
                </a:r>
                <a:endParaRPr b="0" lang="en-US" sz="4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8360" y="3068280"/>
                <a:ext cx="790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露</a:t>
                </a:r>
                <a:endParaRPr b="0" lang="en-US" sz="4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16360" y="3098520"/>
                <a:ext cx="4608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草、木、鸟、兽</a:t>
                </a:r>
                <a:endParaRPr b="0" lang="en-US" sz="4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56360" y="4221000"/>
                <a:ext cx="208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美丽可</a:t>
                </a:r>
                <a:endParaRPr b="0" lang="en-US" sz="4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360" y="4868640"/>
                <a:ext cx="2879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爱的世界</a:t>
                </a:r>
                <a:endParaRPr b="0" lang="en-US" sz="4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74898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00800" y="6521400"/>
            <a:ext cx="546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Times New Roman"/>
                <a:hlinkClick r:id="rId2"/>
              </a:rPr>
              <a:t>关联词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6308640"/>
            <a:ext cx="93636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440" y="-27000"/>
            <a:ext cx="9299880" cy="6885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88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850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实  野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兽   </a:t>
            </a: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治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疗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估</a:t>
            </a: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计  繁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殖</a:t>
            </a:r>
            <a:r>
              <a:rPr b="1" lang="en-US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蔬</a:t>
            </a: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菜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较</a:t>
            </a:r>
            <a:r>
              <a:rPr b="1" lang="en-US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地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区</a:t>
            </a:r>
            <a:r>
              <a:rPr b="1" lang="en-US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杀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菌</a:t>
            </a:r>
            <a:r>
              <a:rPr b="1" lang="en-US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摄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氏</a:t>
            </a: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度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62800" y="347760"/>
            <a:ext cx="227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太  阳</a:t>
            </a:r>
            <a:endParaRPr b="0" lang="en-US" sz="9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896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其实，太阳离我们有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1.5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亿公里远。到太阳上去，如果步行，日夜不停地走，差不多要走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3500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年；就是坐飞机，也要飞二十几年。这么远，箭哪能射得到呢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896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其实，太阳离我们有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亿公里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远。到太阳上去，如果步行，日夜不停地走，差不多要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50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；就是坐飞机，也要飞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二十几年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这么远，箭哪能射得到呢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540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这么远，箭哪能射得到呢？</a:t>
            </a:r>
            <a:br>
              <a:rPr sz="54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78936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这么远，箭是射不到的。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125360"/>
            <a:ext cx="896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其实，太阳离我们有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1.5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亿公里远。到太阳上去，如果步行，日夜不停地走，差不多要走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3500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年；就是坐飞机，也要飞二十几年。这么远，箭哪能射得到呢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700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我们看到太阳，觉得它并不大，实际上它大得很，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130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万个地球才能抵得上一个太阳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9280" y="5877000"/>
            <a:ext cx="36720" cy="36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76360" y="4941720"/>
            <a:ext cx="54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样比较有什么好处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9280" y="5877000"/>
            <a:ext cx="36720" cy="36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700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我们看到太阳，觉得它并不大，实际上它大得很，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30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万个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地球才能抵得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个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太阳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1268280"/>
            <a:ext cx="81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太阳会发光，会发热，是个大火球。太阳的温度很高，表面温度有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6000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摄氏度，就是钢铁碰到它，也会变成汽；中心温度估计是表面温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度的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2500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倍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09:11:31Z</dcterms:created>
  <dc:creator>hh</dc:creator>
  <dc:description/>
  <dc:language>en-US</dc:language>
  <cp:lastModifiedBy>田思齐</cp:lastModifiedBy>
  <dcterms:modified xsi:type="dcterms:W3CDTF">2015-06-15T03:45:28Z</dcterms:modified>
  <cp:revision>8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