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F90-775A-4C4F-981F-EA94C4042B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22DC-EEC1-4C1F-B5BF-475403C055A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031-B071-4DEA-832F-930485E3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833-3D8D-4500-B181-B4AD84A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046-BDD2-4249-9A18-FE61B3B8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884-8395-4B8C-9211-8E1A2CDF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A5D6-E233-4486-A8B3-3229ADF6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C62-D1DB-444A-8C53-8B6D150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88D-75AE-47C2-BD35-4C705371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FCB-A69E-4FE9-B1AC-BFD64C51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5C3-E5C9-40A7-AF4B-7DA4F33C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1AB-E33D-44DB-B36C-5284F15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F85-A239-42E2-977C-FF0EA96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D61-33B8-4801-8B8A-87BC7ED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AD9-EE41-403E-B8C4-E0DF7419D5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5400000">
            <a:off x="6013080" y="2923920"/>
            <a:ext cx="4537080" cy="122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田忌赛马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95280" y="3333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他们把各自的马分成上、中、下三等。比赛的时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等马对上等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等马对中等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等马对下等马。由于齐威王每个等级的马都比田忌的强，三场比赛下来，田忌都失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2200" y="2708280"/>
            <a:ext cx="86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声锣响，赛马又开始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孙膑让田忌用下等马对齐威王的上等马，第一场输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接着进行第二场比赛。孙膑让田忌拿上等马对齐威王的中等马，胜了第二场。第三场，田忌拿中等马对齐威王的下等马，又胜了一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比赛结果，田忌胜两场输一场，赢了齐威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682560" y="260280"/>
            <a:ext cx="3952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682560" y="2637000"/>
            <a:ext cx="3952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2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428760" y="3429000"/>
            <a:ext cx="2649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24000" y="666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他们把各自的马分成上、中、下三等。比赛的时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上等马对上等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等马对中等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等马对下等马。由于齐威王每个等级的马都比田忌的强，三场比赛下来，田忌都失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55600" y="3711960"/>
            <a:ext cx="86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（   ）比赛时，田忌用（    ）对齐威王的（    ），接着用（    ）对齐威王的（    ），最后用（    ）对齐威王的（    ）。由于（          ），所以（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41440" y="549360"/>
            <a:ext cx="3952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214200" y="3357720"/>
            <a:ext cx="265320" cy="407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8810640" y="6281640"/>
            <a:ext cx="333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60360" y="18432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一声锣响，赛马又开始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孙膑让田忌用下等马对齐威王的上等马，第一场输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接着进行第二场比赛。孙膑让田忌拿上等马对齐威王的中等马，胜了第二场。第三场，田忌拿中等马对齐威王的下等马，又胜了一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比赛结果，田忌胜两场输一场，赢了齐威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577800" y="142920"/>
            <a:ext cx="3952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2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5600" y="4642200"/>
            <a:ext cx="86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（   ）比赛时，田忌用（    ）对齐威王的（    ），接着用（    ）对齐威王的（    ），最后用（    ）对齐威王的（    ）。由于（          ），所以（     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87280" y="314316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还是原来的马，只调换了一下出场顺序，就可以转败为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92160" y="4378320"/>
            <a:ext cx="264960" cy="40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8810640" y="6281640"/>
            <a:ext cx="333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17440" y="304524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宋体"/>
                <a:ea typeface="宋体"/>
              </a:rPr>
              <a:t>孙膑在一旁看了赛马的全过程，他想：齐威王每个等级的马都比田忌每个等级的马快不了多少。田忌的（      ）比齐威王的（      ）慢一点，但一定比齐威王的（      ）快一点；田忌的（      ）比齐威王的（      ）慢一点，但一定比齐威王的（      ）快一点。因此只要（               ），田忌就能（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284720" y="25621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上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30654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上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724360" y="35020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中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19280" y="4005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中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332000" y="45068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下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1969920" y="5009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调换一下出场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588000" y="50101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转败为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84360" y="35020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中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50920" y="18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从刚才的情形看，大王的马比你的马快不了多少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684360" y="7714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快不了多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87240" y="5792760"/>
            <a:ext cx="817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孙膑：聪明、善于观察，仔细分析</a:t>
            </a: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4288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田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疑惑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地看着孙膑：“你是说另换几匹马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0920" y="24922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田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没信心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地说：“那还不是照样输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19240" y="3568680"/>
            <a:ext cx="8675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看见田忌走过来，便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讥讽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田忌：“怎么，难道你还不服气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9240" y="54212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齐威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轻蔑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地说：“那就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1643040"/>
            <a:ext cx="539640" cy="407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2643120"/>
            <a:ext cx="539640" cy="40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-31680" y="4210200"/>
            <a:ext cx="333360" cy="57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-31680" y="5230800"/>
            <a:ext cx="333360" cy="576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1"/>
          <p:cNvSpPr/>
          <p:nvPr/>
        </p:nvSpPr>
        <p:spPr>
          <a:xfrm>
            <a:off x="285840" y="3571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田忌觉得很扫兴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垂头丧气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地准备离开赛马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0" y="642960"/>
            <a:ext cx="324000" cy="2872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3"/>
          <p:cNvSpPr/>
          <p:nvPr/>
        </p:nvSpPr>
        <p:spPr>
          <a:xfrm>
            <a:off x="-31680" y="3714840"/>
            <a:ext cx="323640" cy="2872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4160" y="35719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齐威王正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得意洋洋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地夸耀自己的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897360" y="39672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ěn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682720" y="514368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4160" y="60642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这下，齐威王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目瞪口呆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5"/>
          <a:stretch/>
        </p:blipFill>
        <p:spPr>
          <a:xfrm>
            <a:off x="0" y="6000840"/>
            <a:ext cx="333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 rot="1248600">
            <a:off x="358560" y="2330280"/>
            <a:ext cx="43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892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1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892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71720" y="32828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孙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86680" y="319104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转败为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6"/>
          <p:cNvSpPr txBox="1"/>
          <p:nvPr/>
        </p:nvSpPr>
        <p:spPr>
          <a:xfrm rot="1248600">
            <a:off x="8359560" y="2198520"/>
            <a:ext cx="43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892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2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892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71720" y="2205000"/>
            <a:ext cx="15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齐威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71720" y="4500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田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359080" y="22147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得意洋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857760" y="4500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2357280" y="44766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垂头丧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857760" y="2205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357280" y="3286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42920" y="333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8143920" y="32068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000680" y="321480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快不了多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慢不了多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3060720" y="12160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田忌赛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直接箭头连接符 22"/>
          <p:cNvCxnSpPr/>
          <p:nvPr/>
        </p:nvCxnSpPr>
        <p:spPr>
          <a:xfrm flipV="1">
            <a:off x="714240" y="3642480"/>
            <a:ext cx="7501680" cy="72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直接箭头连接符 23"/>
          <p:cNvCxnSpPr/>
          <p:nvPr/>
        </p:nvCxnSpPr>
        <p:spPr>
          <a:xfrm>
            <a:off x="4214880" y="2714400"/>
            <a:ext cx="71496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直接箭头连接符 26"/>
          <p:cNvCxnSpPr/>
          <p:nvPr/>
        </p:nvCxnSpPr>
        <p:spPr>
          <a:xfrm flipV="1">
            <a:off x="4214880" y="4071240"/>
            <a:ext cx="714960" cy="5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02:23:36Z</dcterms:created>
  <dc:creator>wangliping</dc:creator>
  <dc:description/>
  <cp:keywords/>
  <dc:language>en-US</dc:language>
  <cp:lastModifiedBy>user</cp:lastModifiedBy>
  <cp:lastPrinted>1899-12-30T00:00:00Z</cp:lastPrinted>
  <dcterms:modified xsi:type="dcterms:W3CDTF">2012-03-12T16:53:31Z</dcterms:modified>
  <cp:revision>1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