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10.jpeg" ContentType="image/jpeg"/>
  <Override PartName="/ppt/media/image6.gif" ContentType="image/gif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B64-BF28-47B7-9E5B-BAC064FF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EBF-6AA0-4DD4-A1BE-782161F2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E34-A144-412C-B700-9220840A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330-492C-4A09-8FF5-ADF21DDB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38B-F194-486A-84EC-ED38ACDF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DE9-4589-4B72-9A89-C2644645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3DC-470B-4AA5-965F-3C972793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E38-D928-44EC-B4D2-C5776AC4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DFC-05B5-4EA8-AE1D-CA28C501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137-9563-4F91-A3D1-6E32DBF8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599-254F-46B7-92C3-35C454CE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0D5-B010-4419-80F2-41EE3C57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C269-2C99-4014-AB05-1F539354B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533520" y="2590920"/>
            <a:ext cx="6095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826920" y="2492280"/>
            <a:ext cx="64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为别人画张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1042920" y="17002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习作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2957877_120304052_2"/>
          <p:cNvPicPr/>
          <p:nvPr/>
        </p:nvPicPr>
        <p:blipFill>
          <a:blip r:embed="rId1"/>
          <a:srcRect l="0" t="6249" r="0" b="0"/>
          <a:stretch/>
        </p:blipFill>
        <p:spPr>
          <a:xfrm>
            <a:off x="4716360" y="3429000"/>
            <a:ext cx="4427640" cy="3429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0" y="1890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好的题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拟定提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介你最熟悉的人是谁，点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单介绍人物的外貌特征、爱好兴趣等（也可以不要第二段，在第三段的具体事例中渗透这些特点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具体的事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现某一方面的品质、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、情趣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四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写你对这个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价或他对你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c64e6089520ea396b60fbba"/>
          <p:cNvPicPr/>
          <p:nvPr/>
        </p:nvPicPr>
        <p:blipFill>
          <a:blip r:embed="rId1"/>
          <a:srcRect l="0" t="16667" r="0" b="0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3"/>
          <p:cNvSpPr txBox="1"/>
          <p:nvPr/>
        </p:nvSpPr>
        <p:spPr>
          <a:xfrm>
            <a:off x="611280" y="765000"/>
            <a:ext cx="79200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说说熟悉的人的外貌特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75ff3190035c91a35fa41dc"/>
          <p:cNvPicPr/>
          <p:nvPr/>
        </p:nvPicPr>
        <p:blipFill>
          <a:blip r:embed="rId1"/>
          <a:srcRect l="0" t="0" r="0" b="1000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781000"/>
            <a:ext cx="8388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有一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瓜子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乌黑明亮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眼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两颗黑珍珠，眼睛上面有两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柳叶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笑起来的时候还有一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酒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有一个表妹，名叫惠子，她有一头乌黑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头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爱扎成两根长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辫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圆圆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脸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长着淡淡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眉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双圆溜溜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眼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最可爱的是樱桃般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的弟弟，今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，不高不矮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有一双小小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眼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笑起来眯成两条线，弟弟总是流口水，脖子上成天都带着围兜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75ff3190035c91a35fa41dc"/>
          <p:cNvPicPr/>
          <p:nvPr/>
        </p:nvPicPr>
        <p:blipFill>
          <a:blip r:embed="rId1"/>
          <a:srcRect l="0" t="0" r="0" b="7776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0" y="0"/>
            <a:ext cx="8642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的哥哥一个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瓜子脸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长着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弯弯的眉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眼睛眯笑起来变成一条线，一顶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乌黑光亮的短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班有一位卫生委员，他长着一张瓜子脸，一双水汪汪的大眼睛，瘦瘦的，个子不高，你们猜猜他是谁？他当然就是我的好朋友陈飞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的姐姐叫陈丹屏，今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岁，两条弯弯的柳叶眉。一双黑珍珠般的眼睛，高而大的鼻子，一张大大的嘴巴，一笑露出了一排整齐的牙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611280" y="1890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那张小嘴巴蕴藏着丰富的表情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高兴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撇撇嘴，扮个鬼脸；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生气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撅起的小嘴能挂住一把小油壶。从这张嘴巴说出的话，有时能让人气得火冒三丈，抽泣不止，有时却让人忍俊不禁，大笑不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"/>
          <p:cNvSpPr/>
          <p:nvPr/>
        </p:nvSpPr>
        <p:spPr>
          <a:xfrm>
            <a:off x="685800" y="3581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妹妹今年十岁，读小学三年级。她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红扑扑的脸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，一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水灵灵的大眼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着聪明伶俐的神色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乌黑的头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，两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弯弯的眉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像那月牙儿。她那一排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雪白的牙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中，缺了颗门牙，一笑起来，就成了个豁牙巴，十分逗人喜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3"/>
          <p:cNvSpPr txBox="1"/>
          <p:nvPr/>
        </p:nvSpPr>
        <p:spPr>
          <a:xfrm>
            <a:off x="826920" y="981000"/>
            <a:ext cx="749016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说说熟悉的人的一件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24000" y="0"/>
            <a:ext cx="8280360" cy="57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事情六要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时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事情的起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事情的经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事情的结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152280"/>
            <a:ext cx="914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记得那是去年的夏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那天我们在放学经过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操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时候，刚好遇到一群小朋友在踢球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杨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么都要参上一脚。我因为要回家写作业就没有参加。而杨洋就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兴致勃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加入到“战斗”中去了。当我完成作业在家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津津有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看电视时，突然接到杨洋爸爸的电话。说是杨洋天黑了都没有回家。想问问我是否知道。我想啊、想啊，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突然灵机一动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难道杨洋还在操场踢球。于是我就跟杨洋的爸爸来到操场，远远的就听到杨洋那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兴奋喊叫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接下来就是杨洋被揍的喊叫声啦，原因是踢球踢到不晓得回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（第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段：举例说明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有两个同学们做不到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优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一是细心，二是身体灵活。就说她细心的特点吧！有一次，数学老师表扬她：“孟一凡同学做题很细心，一般做题不出错，大家都要向她学习。’’你们看，数学老师都说了，那还有什么可说的呢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还有一个优点，身体很灵活。就说有一次我们玩儿脚投沙包吧！我们每次都是黑白配分组，这次也不例外，我正好和她分到了一组。该她跳时，还没等我反应过来，她就把沙包甩了出去，而且甩得又高又远，我顿时就把大拇指竖了起来，说：“孟一凡，你真厉害！”别人有的也说她是个“沙包职业杀手”。瞧，她不但学习好，身体也很灵活吧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老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最尊敬的一位老师是我的班主任老师。她像妈妈一样严格要求我们。老师留着一头卷曲的长头发，戴着一副黑色的眼镜，看起来文质彬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一次，我写的字歪歪扭扭的，非常难看。陈老师把我留了下来，说：“字要写端正，这就像做人一样，要认认真真。”老师让我重新写，直到我把字写工整、规范，老师才让我回家。我当时很不是滋味，心想：不就是几个字吗 ？写好写坏不都是一样吗？干吗这么一遍又一遍地写，硬是把字写规范，真是浪费时间。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到家，我把挨留的原因告诉了妈妈，妈妈对我说：“字是门面，从写字上能看出一个人的性格。老师严格要求是对的，是对你负责，你写一手好字是自己的，谁也盗不去。”听了妈妈的一席话，我明白了陈老师的良苦用心，心里更加敬佩陈老师了。从那以后，我就象个一年级的小学生，天天坚持练字，无论写什么作业都坚持把字写工整，写规范。过了一段时间，我的字比以前漂亮了，规范了，还多次受到老师的表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都是陈老师严格要求的结果啊！我从心里感激陈老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914400" y="990720"/>
            <a:ext cx="716292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贪吃的表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有一个活泼又淘气的小表妹，她有一张圆圆的脸，一双圆溜溜的眼睛看起来特别有精神，嘴巴小小的，却很会吃东西。这就是她的特点，贪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得有一次，我到姑姑家，那时候表妹咳嗽得很厉害，但是她一个劲儿嚷着要吃面包，丝毫没想到自己咳嗽很多东西都不能吃。姑姑不同意，说：“不行！”她大哭起来，吵得奶奶没法睡觉。我哄着她说：“如果你再哭的话你妈妈会打你。”表妹不听继续哭，弄得全家人都不得安宁。姑姑没办法，就拿了一小半给表妹。吃完了，表妹又说要面包，姑姑特别生气，抱起表妹狠狠地打了她一顿。表妹越哭越大声，咳嗽发作，嘴里却不断喊着要面包。连我这个好脾气的人都生气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表妹能改掉着贪吃的毛病，那该多好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RX_014"/>
          <p:cNvPicPr/>
          <p:nvPr/>
        </p:nvPicPr>
        <p:blipFill>
          <a:blip r:embed="rId1"/>
          <a:stretch/>
        </p:blipFill>
        <p:spPr>
          <a:xfrm>
            <a:off x="0" y="5805360"/>
            <a:ext cx="5256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淘气的表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有一个表弟，他今年五岁，有一个小巧的鼻子和一张小小的嘴，尤其是那双大眼睛里的眸子，仿佛是一对黑色的水晶棋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弟很淘气，记得有一个周末，他来我家。刚好我们要包饺子，他也跟着来凑热闹。表弟没有包馅而且还乱包，包饺子包成飞机，包完“飞机”后，他还说自己长大要当宇航员。只见他手拿“飞机”饺子，斜着身子，绕着我们跑，我们拿他没办法，直摇头。这时候，表弟看我包得很认真，忽然，趁我不注意，拿了一块饺子皮贴在我的脸上，说：“哥哥的眼睛不见了。”说完哈哈大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表弟真是个惹人喜爱的淘气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0512301017306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39640" y="1052640"/>
            <a:ext cx="74898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MS UI Gothic"/>
              </a:rPr>
              <a:t>妙笔生花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开头写熟悉的人的外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中间通过一件事来表现人物，把这件事发生的时间、地点、人物、事情的起因、经过、结果写具体。注意写上人物的语言、动作、神态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结尾总结一下这个人给你留下的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5292720" y="907920"/>
            <a:ext cx="2303640" cy="2232000"/>
          </a:xfrm>
          <a:prstGeom prst="wedgeEllipseCallout">
            <a:avLst>
              <a:gd name="adj1" fmla="val -44347"/>
              <a:gd name="adj2" fmla="val 642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435640" y="1484280"/>
            <a:ext cx="251928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静思难忘事，细写动情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5240" y="1701720"/>
            <a:ext cx="89992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080" y="620280"/>
            <a:ext cx="7274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太阳给月亮写信。铺开天空湛蓝的信笺，用金灿灿的阳光，写下温暖的问候。飘飞的云彩，是问候开出的花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月亮给太阳写信。铺开天空墨黑的信笺，用银亮亮的月光，写下轻柔的问候。闪烁的星星，是问候开出的花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练习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838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9999"/>
                </a:solidFill>
                <a:latin typeface="Arial"/>
              </a:rPr>
              <a:t>处处留心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多练习几遍，你肯定能把这篇短文读好。短文中有好几个表示颜色的词语，你能找出来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834920" y="404640"/>
            <a:ext cx="70880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太阳给月亮写信。铺开天空湛蓝的信笺，用</a:t>
            </a:r>
            <a:r>
              <a:rPr b="0" lang="zh-CN" sz="5400" spc="-1" strike="noStrike">
                <a:solidFill>
                  <a:srgbClr val="ffff66"/>
                </a:solidFill>
                <a:latin typeface="Arial"/>
              </a:rPr>
              <a:t>金灿灿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阳光，写下温暖的问候。飘飞的云彩，是问候开出的花朵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58ff652098eebc75935807c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403280" y="2276640"/>
            <a:ext cx="77407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Arial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月亮给太阳写信。铺开天空墨黑的信笺，用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银亮亮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月光，写下轻柔的问候。闪烁的星星，是问候开出的花朵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371960" y="761760"/>
            <a:ext cx="9906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ff9999"/>
                </a:solidFill>
                <a:latin typeface="Arial"/>
              </a:rPr>
              <a:t>读一读，再说出几个类似这样的词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2971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湛蓝      墨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灿灿     银亮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3581280" y="35812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267080" y="480060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下面一段话填上表示色彩的词，再读一读，你是否觉得很美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2708280"/>
            <a:ext cx="8458200" cy="37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         ）的迎春花，（             ）的桃花，（            ）的梨花，引来一群美丽的蝴蝶。小河河面映着（                ）的天空，再加上岸边（                 ）的柳树，真像一幅美丽的图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343600" y="1219320"/>
            <a:ext cx="4539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伍建设比我胖，比我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在班里他是最高的。他喜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留小平头。眼睛不大，一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起来几乎看不见眼珠，但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力很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260720" y="450828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 ）的迎春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35"/>
          <p:cNvPicPr/>
          <p:nvPr/>
        </p:nvPicPr>
        <p:blipFill>
          <a:blip r:embed="rId1"/>
          <a:stretch/>
        </p:blipFill>
        <p:spPr>
          <a:xfrm>
            <a:off x="179280" y="189000"/>
            <a:ext cx="4284720" cy="3700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a270978"/>
          <p:cNvPicPr/>
          <p:nvPr/>
        </p:nvPicPr>
        <p:blipFill>
          <a:blip r:embed="rId2"/>
          <a:stretch/>
        </p:blipFill>
        <p:spPr>
          <a:xfrm>
            <a:off x="4643280" y="2565360"/>
            <a:ext cx="42483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无标题"/>
          <p:cNvPicPr/>
          <p:nvPr/>
        </p:nvPicPr>
        <p:blipFill>
          <a:blip r:embed="rId1"/>
          <a:stretch/>
        </p:blipFill>
        <p:spPr>
          <a:xfrm>
            <a:off x="4724280" y="2057400"/>
            <a:ext cx="3954600" cy="2960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BP7jgQtr"/>
          <p:cNvPicPr/>
          <p:nvPr/>
        </p:nvPicPr>
        <p:blipFill>
          <a:blip r:embed="rId2"/>
          <a:stretch/>
        </p:blipFill>
        <p:spPr>
          <a:xfrm>
            <a:off x="304920" y="533520"/>
            <a:ext cx="4122720" cy="3033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880" y="5105160"/>
            <a:ext cx="57038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        ）的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              ）的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梨花"/>
          <p:cNvPicPr/>
          <p:nvPr/>
        </p:nvPicPr>
        <p:blipFill>
          <a:blip r:embed="rId1"/>
          <a:stretch/>
        </p:blipFill>
        <p:spPr>
          <a:xfrm>
            <a:off x="4038480" y="274320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      ）的柳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柳树"/>
          <p:cNvPicPr/>
          <p:nvPr/>
        </p:nvPicPr>
        <p:blipFill>
          <a:blip r:embed="rId1"/>
          <a:stretch/>
        </p:blipFill>
        <p:spPr>
          <a:xfrm>
            <a:off x="3809880" y="3200400"/>
            <a:ext cx="4572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1655420_074115078014_2"/>
          <p:cNvPicPr/>
          <p:nvPr/>
        </p:nvPicPr>
        <p:blipFill>
          <a:blip r:embed="rId1"/>
          <a:srcRect l="0" t="0" r="-567" b="4443"/>
          <a:stretch/>
        </p:blipFill>
        <p:spPr>
          <a:xfrm>
            <a:off x="-76320" y="0"/>
            <a:ext cx="9220320" cy="6553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71640" y="2276280"/>
            <a:ext cx="3672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喜欢这图上的景色吗？说说你看到了什么，别忘了用上表示颜色的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8120" cy="5400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4788000" y="213372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引导学生注意上分下合但上面不能分得太开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-316080"/>
            <a:ext cx="8655120" cy="58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含有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“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字的四个成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91440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有利可图     有机可乘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有根有底     有始有终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有口难言     有恃无恐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有求必应     有志竟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828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利可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从中牟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贪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机可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机会可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空子可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根有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喻事情是有其根源和内情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始有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人做事能坚持到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口难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嘴却难以说出。形容有话不便说或不敢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恃无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有倚仗就无所畏惧或顾忌。恃：倚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靠。 恐：害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求必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要有请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一定答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志竟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志气的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后一定能成功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566720" y="1185840"/>
            <a:ext cx="60105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343600" y="1219320"/>
            <a:ext cx="4539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伍建设比我胖，比我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在班里他是最高的。</a:t>
            </a:r>
            <a:r>
              <a:rPr b="0" lang="zh-CN" sz="4000" spc="-1" strike="noStrike">
                <a:solidFill>
                  <a:srgbClr val="00b0f0"/>
                </a:solidFill>
                <a:latin typeface="Arial"/>
              </a:rPr>
              <a:t>他喜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Arial"/>
              </a:rPr>
              <a:t>留小平头。眼睛不大，一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Arial"/>
              </a:rPr>
              <a:t>起来几乎看不见眼珠，但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Arial"/>
              </a:rPr>
              <a:t>力很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6629400" y="228600"/>
            <a:ext cx="190512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身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3695083_145610452377_2"/>
          <p:cNvPicPr/>
          <p:nvPr/>
        </p:nvPicPr>
        <p:blipFill>
          <a:blip r:embed="rId1"/>
          <a:srcRect l="0" t="0" r="781" b="4097"/>
          <a:stretch/>
        </p:blipFill>
        <p:spPr>
          <a:xfrm>
            <a:off x="-304920" y="-57240"/>
            <a:ext cx="96775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5063545_161744274940_2"/>
          <p:cNvPicPr/>
          <p:nvPr/>
        </p:nvPicPr>
        <p:blipFill>
          <a:blip r:embed="rId1"/>
          <a:srcRect l="3125" t="8488" r="3125" b="12270"/>
          <a:stretch/>
        </p:blipFill>
        <p:spPr>
          <a:xfrm>
            <a:off x="-612720" y="-747720"/>
            <a:ext cx="10153440" cy="8137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920" y="278100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句诗意：清明时节细雨纷纷，扫墓的人民感念已故亲人，伤心断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句诗意：向人询问酒家哪里有，牧童远远地指了指杏花村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39640" y="692280"/>
            <a:ext cx="93600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词语解释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】 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纷纷：形容多。 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断魂：形容十分伤心悲哀。 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2981079_152303016_2"/>
          <p:cNvPicPr/>
          <p:nvPr/>
        </p:nvPicPr>
        <p:blipFill>
          <a:blip r:embed="rId1"/>
          <a:srcRect l="0" t="0" r="0" b="5556"/>
          <a:stretch/>
        </p:blipFill>
        <p:spPr>
          <a:xfrm>
            <a:off x="-61920" y="0"/>
            <a:ext cx="9205920" cy="64771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琥珀"/>
              </a:rPr>
              <a:t>春 游 啦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华文琥珀"/>
              </a:rPr>
              <a:t>~\(≧▽≦)/~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琥珀"/>
              </a:rPr>
              <a:t>啦啦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班准备一次春游，你打算去哪儿？可以安排哪些活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343960" y="1219320"/>
            <a:ext cx="4538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伍建设比我胖，比我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在班里他是最高的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他喜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留小平头。</a:t>
            </a:r>
            <a:r>
              <a:rPr b="0" lang="zh-CN" sz="4000" spc="-1" strike="noStrike">
                <a:solidFill>
                  <a:srgbClr val="00b0f0"/>
                </a:solidFill>
                <a:latin typeface="Arial"/>
              </a:rPr>
              <a:t>眼睛不大，一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Arial"/>
              </a:rPr>
              <a:t>起来几乎看不见眼珠，但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Arial"/>
              </a:rPr>
              <a:t>力很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629400" y="228600"/>
            <a:ext cx="190512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身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7315200" y="1676520"/>
            <a:ext cx="1447920" cy="6858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发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343600" y="1219320"/>
            <a:ext cx="4539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伍建设比我胖，比我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在班里他是最高的。他喜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留小平头。</a:t>
            </a:r>
            <a:r>
              <a:rPr b="0" lang="zh-CN" sz="4000" spc="-1" strike="noStrike">
                <a:solidFill>
                  <a:srgbClr val="00b0f0"/>
                </a:solidFill>
                <a:latin typeface="Arial"/>
              </a:rPr>
              <a:t>眼睛不大，一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Arial"/>
              </a:rPr>
              <a:t>起来几乎看不见眼珠，但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Arial"/>
              </a:rPr>
              <a:t>力很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6629400" y="228600"/>
            <a:ext cx="190512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身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7315200" y="1676520"/>
            <a:ext cx="1447920" cy="6858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发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7315200" y="2819520"/>
            <a:ext cx="1523880" cy="9144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眼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057400" y="1447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33520" y="1066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他饭量大，力气也大，连走路都带风。他是学校篮球队的主力队员，最喜欢穿一身蓝色球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065040" y="48769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爱好（特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838080" y="1066680"/>
            <a:ext cx="54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有一次和外校比赛，他投中了一个“三分球”。从此，我们都叫他“大三”，他听了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到很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自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828800" y="47242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他的事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90720" y="1600200"/>
            <a:ext cx="495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也许是我们都叫“建设”的缘故吧，从一年级起，我们就成了形影不离的好朋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905120" y="4952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676520" y="5029200"/>
            <a:ext cx="4876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他对你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Yujiao</cp:lastModifiedBy>
  <dcterms:modified xsi:type="dcterms:W3CDTF">2016-03-05T15:56:36Z</dcterms:modified>
  <cp:revision>4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