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E7E-CB24-4D94-BAAB-418C86AF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0F2-9B7E-4DD9-BCB7-A3C0A893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856-AC20-4853-80E5-AE7C7E76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639-BCF3-4799-A2BB-19D3B09F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B39-DA47-464F-AE70-DD1DAC83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5D6-D697-4DAB-AD90-CE45AD0E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7ED-3852-482E-9C35-8C5D120B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836-8752-4906-9C53-160ADCCD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C71-77A7-4423-BF50-3B9EC6EB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81B-2B1E-4144-9774-4889A5B8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90F-6828-4593-9322-852F216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1A5-F9C0-47D3-90B1-F1B19592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384F-E0DE-454A-8AB2-85369BB9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25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习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谈谈你对某件事的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20115111631475621_27126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01dd4c2b9894040cc4"/>
          <p:cNvPicPr/>
          <p:nvPr/>
        </p:nvPicPr>
        <p:blipFill>
          <a:blip r:embed="rId1"/>
          <a:srcRect l="0" t="0" r="0" b="25323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亲爱的同学们，看了上面一组图片，你一定有很多话要说吧！请选择某一话题谈谈你的看法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把你的心声写下来，让更多的我听到你的呼唤。不要忘记修改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实，生活中处处有学问，只要你有一双善于发现的眼睛就一定会有所收获！希望大家都能做一个生活的有心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明代顾宪成写过一副对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风声雨声读书声  声声入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家事国事天下事  事事关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光读好书对一个读书人来说是不够的，小到家事，大到国家大事，都要关心。 这对联是劝勉读书人要以救国为己任，其实就是“天下兴旺，匹夫有责”的意思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58092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夏志成同学最近通过留心观察，发现了一个问题，快来看看他的发现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护蜻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发现有些小朋友喜欢捉蜻蜓，使好多蜻蜓死于非命，我感到非常痛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蜻蜓是昆虫世界中最出色的“除害飞行家”。它可以连续飞行一个小时不着陆。蜻蜓眼睛锐利，专们捕食苍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蚊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飞蛾等。一只蜻蜓一小时可以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苍蝇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蚊子，这是多么大的功劳哇！连它在水里的幼虫都能消灭许多害虫哩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护我们的“除害飞行家”蜻蜓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讨论：夏志成同学是怎样写好这篇稿子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头：交待了写作原因，表明了自己的态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间：结合材料和自己的观点有选择、有条理地写一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尾：归纳看法，发出呼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其实，在我们的身边经常发生各种各样的事情，说说看，看了这组图片之后你有什么感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t01526ecc949c411dd6"/>
          <p:cNvPicPr/>
          <p:nvPr/>
        </p:nvPicPr>
        <p:blipFill>
          <a:blip r:embed="rId1"/>
          <a:srcRect l="0" t="0" r="0" b="20657"/>
          <a:stretch/>
        </p:blipFill>
        <p:spPr>
          <a:xfrm>
            <a:off x="0" y="-15228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t01cfbc3e597236a753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Yujiao</cp:lastModifiedBy>
  <dcterms:modified xsi:type="dcterms:W3CDTF">2016-03-14T15:11:40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