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498-4A12-4B93-A508-5A0BA1BA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4CB-F787-4705-A1DF-D6FA4DFB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64F-FF8E-4F41-B846-5D66375F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D4D-8A3D-4EED-8F5E-D0524AD9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923-1998-4F2F-A479-EAC6A36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F77-13BC-4C61-B31B-68730DDC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2D5-AEBB-41F1-B502-ED5F08E1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9FD-9FFB-4421-85C2-2A888DB5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ED4-9B3E-4CBD-93A5-3B9C90F4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CEB-075E-4F46-BDC0-BBA67222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0A0-FCD4-452A-9F9F-A314483E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C95-B911-4511-8CE9-7CAB1CD1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01DD-CF91-42E1-B190-8FAF55F53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56000" y="2637000"/>
            <a:ext cx="407664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写日记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2240" y="2698560"/>
            <a:ext cx="74232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日记，就是记下一天中发生在自己周围的事，也可以记下自己在某一方面的收获、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620640"/>
            <a:ext cx="29228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日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</a:rPr>
              <a:t>看要求读例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02840" y="2153880"/>
            <a:ext cx="66200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记与我们以前写的作文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区别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篇日记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09480"/>
            <a:ext cx="59497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 rot="10800000">
            <a:off x="839880" y="2865960"/>
            <a:ext cx="7161120" cy="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2120" bIns="4212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341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981000"/>
            <a:ext cx="7343640" cy="151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Comic Sans MS"/>
                <a:ea typeface="华文行楷"/>
              </a:rPr>
              <a:t>读一读，议一议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997360"/>
            <a:ext cx="70549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再读例文，把你觉得特别有趣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地方画出来，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和小组同学议一议、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日记可以写什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看到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做到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听到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想到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03280" y="620640"/>
            <a:ext cx="721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是一位小朋友一天的活动情况，想想，这位小朋友的日记最好选哪些材料来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早早起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洗脸、吃早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主动喂鸡受到妈妈的表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做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五）上街买了几本练习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六）看电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华文彩云"/>
                <a:ea typeface="华文彩云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日和星期，然后写天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要丰富，选材有意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论多与少，坚持有乐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57880" y="3035160"/>
            <a:ext cx="2286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939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4000" y="620640"/>
            <a:ext cx="352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儿歌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7680" y="2600280"/>
            <a:ext cx="76230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回忆今天的所见所闻、所做所想，选择一件最有意思的事，仿照例文写一篇日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640" y="476280"/>
            <a:ext cx="511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1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558720"/>
            <a:ext cx="6813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夺 星 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格式正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内容真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让别人看明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语句通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2-16T00:34:2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