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9A4F-897B-4873-80A9-8ECC2EC9B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88FB-67B6-4B83-9E88-3E59722B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0B37-0918-4573-AA69-DF7AE0A96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B653-41D9-435B-A554-47BD71222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2CC1-CA5A-463E-8051-A2877A6F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253D-9506-437E-B9D8-2CB2407C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3342-8C3F-468D-88EE-6FD3A897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67DD-6EC0-4E28-A91D-4D56E3C6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35F3-CB33-4232-86DC-50FEA951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53B9-8A19-42AB-A3BE-9384AF38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EF96-4B3A-4334-8D81-3315F971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8678-A182-404E-9666-5AA795E5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0B3E-AFE5-4AA9-87F3-9483AC15D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2050920" y="3068640"/>
            <a:ext cx="515808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华文新魏"/>
              </a:rPr>
              <a:t>我的发现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华文新魏"/>
              <a:ea typeface="华文新魏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276720" y="170028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3366"/>
                </a:solidFill>
                <a:uFillTx/>
                <a:latin typeface="黑体"/>
                <a:ea typeface="黑体"/>
              </a:rPr>
              <a:t>苏教版小学语文三年级下册习作</a:t>
            </a:r>
            <a:r>
              <a:rPr b="1" i="1" lang="en-US" sz="2400" spc="-1" strike="noStrike" u="sng">
                <a:solidFill>
                  <a:srgbClr val="003366"/>
                </a:solidFill>
                <a:uFillTx/>
                <a:latin typeface="黑体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851120" y="587700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3059280" y="1773360"/>
            <a:ext cx="5776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语句通顺，不写错别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按顺序把发现的过程写清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最好写上自己的心理和想象，让         文章更有意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3"/>
          <p:cNvSpPr txBox="1"/>
          <p:nvPr/>
        </p:nvSpPr>
        <p:spPr>
          <a:xfrm>
            <a:off x="1619280" y="981000"/>
            <a:ext cx="56196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d60093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把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d60093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d60093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你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d60093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d60093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的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d60093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d60093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发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d60093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d60093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现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d60093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d60093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写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d60093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d60093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下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d60093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d60093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来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d60093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Digital_composite_spring_1016"/>
          <p:cNvPicPr/>
          <p:nvPr/>
        </p:nvPicPr>
        <p:blipFill>
          <a:blip r:embed="rId1">
            <a:lum bright="12000"/>
          </a:blip>
          <a:srcRect l="3110" t="0" r="6668" b="1342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3059280" y="981000"/>
            <a:ext cx="475272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556000" y="836640"/>
            <a:ext cx="6048360" cy="193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d60093"/>
                </a:solidFill>
                <a:latin typeface="Times New Roman"/>
                <a:ea typeface="华文新魏"/>
              </a:rPr>
              <a:t>看谁写得有意思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d60093"/>
                </a:solidFill>
                <a:latin typeface="Times New Roman"/>
                <a:ea typeface="华文新魏"/>
              </a:rPr>
              <a:t>        </a:t>
            </a:r>
            <a:r>
              <a:rPr b="1" i="1" lang="zh-CN" sz="4800" spc="-1" strike="noStrike">
                <a:solidFill>
                  <a:srgbClr val="d60093"/>
                </a:solidFill>
                <a:latin typeface="Times New Roman"/>
                <a:ea typeface="华文新魏"/>
              </a:rPr>
              <a:t>期待你的佳作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春天的香格里拉，最平淡无奇的景色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1"/>
          <p:cNvPicPr/>
          <p:nvPr/>
        </p:nvPicPr>
        <p:blipFill>
          <a:blip r:embed="rId1"/>
          <a:srcRect l="0" t="0" r="1512" b="13946"/>
          <a:stretch/>
        </p:blipFill>
        <p:spPr>
          <a:xfrm>
            <a:off x="395280" y="1712880"/>
            <a:ext cx="83678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夏天，绿意盎然，雨季里云雨变幻，对摄影人来说总是有惊喜，是一年里最美的季节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）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yila2"/>
          <p:cNvPicPr/>
          <p:nvPr/>
        </p:nvPicPr>
        <p:blipFill>
          <a:blip r:embed="rId1"/>
          <a:srcRect l="0" t="0" r="945" b="15010"/>
          <a:stretch/>
        </p:blipFill>
        <p:spPr>
          <a:xfrm>
            <a:off x="0" y="1773360"/>
            <a:ext cx="891540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秋天的香格里拉，收获的季节，金色的季节。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）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yila3"/>
          <p:cNvPicPr/>
          <p:nvPr/>
        </p:nvPicPr>
        <p:blipFill>
          <a:blip r:embed="rId1"/>
          <a:srcRect l="0" t="12844" r="1701" b="0"/>
          <a:stretch/>
        </p:blipFill>
        <p:spPr>
          <a:xfrm>
            <a:off x="179280" y="2362320"/>
            <a:ext cx="8812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冬天，其实和春天一样的枯燥，但是遇上雪天，还是美丽的。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底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yila4"/>
          <p:cNvPicPr/>
          <p:nvPr/>
        </p:nvPicPr>
        <p:blipFill>
          <a:blip r:embed="rId1"/>
          <a:srcRect l="0" t="12920" r="614" b="0"/>
          <a:stretch/>
        </p:blipFill>
        <p:spPr>
          <a:xfrm>
            <a:off x="0" y="2057400"/>
            <a:ext cx="883908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5b224e4cdf561244b3de05b0"/>
          <p:cNvPicPr/>
          <p:nvPr/>
        </p:nvPicPr>
        <p:blipFill>
          <a:blip r:embed="rId1"/>
          <a:srcRect l="0" t="0" r="0" b="6666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2556000" y="1268280"/>
            <a:ext cx="52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人都有一双会发现的眼睛。只要你是个有心人，即使在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草丛、树林、池塘甚至泥土里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会有许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新的发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539640" y="476280"/>
            <a:ext cx="1546200" cy="57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d60093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留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d60093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d60093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d60093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d60093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d60093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d60093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d60093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d60093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d60093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善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d60093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d60093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于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d60093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d60093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发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d60093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d60093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d60093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2224080" y="961920"/>
            <a:ext cx="469584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119320" y="909720"/>
            <a:ext cx="4905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1763640" y="1413000"/>
            <a:ext cx="16560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小草中的               发现</a:t>
            </a:r>
            <a:r>
              <a:rPr b="0" lang="zh-CN" sz="1000" spc="-1" strike="noStrike">
                <a:solidFill>
                  <a:srgbClr val="006600"/>
                </a:solidFill>
                <a:latin typeface="宋体"/>
              </a:rPr>
              <a:t>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500720" y="1773360"/>
            <a:ext cx="93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宋体"/>
              </a:rPr>
              <a:t>经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916360" y="2852640"/>
            <a:ext cx="1008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宋体"/>
              </a:rPr>
              <a:t>蚂蚁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 flipH="1">
            <a:off x="899640" y="1989000"/>
            <a:ext cx="792360" cy="5050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539640" y="2492280"/>
            <a:ext cx="863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宋体"/>
              </a:rPr>
              <a:t>开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3564000" y="3933720"/>
            <a:ext cx="1081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宋体"/>
              </a:rPr>
              <a:t>  </a:t>
            </a:r>
            <a:r>
              <a:rPr b="1" lang="zh-CN" sz="2000" spc="-1" strike="noStrike">
                <a:solidFill>
                  <a:srgbClr val="006600"/>
                </a:solidFill>
                <a:latin typeface="宋体"/>
              </a:rPr>
              <a:t>新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732720" y="3933720"/>
            <a:ext cx="1008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6600"/>
                </a:solidFill>
                <a:latin typeface="宋体"/>
              </a:rPr>
              <a:t>长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5292720" y="3933720"/>
            <a:ext cx="122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宋体"/>
              </a:rPr>
              <a:t>颜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2050920" y="3933720"/>
            <a:ext cx="1081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宋体"/>
              </a:rPr>
              <a:t>蚂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5796000" y="2852640"/>
            <a:ext cx="93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宋体"/>
              </a:rPr>
              <a:t>甲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3"/>
          <p:cNvSpPr/>
          <p:nvPr/>
        </p:nvSpPr>
        <p:spPr>
          <a:xfrm flipH="1">
            <a:off x="5651640" y="3284640"/>
            <a:ext cx="288720" cy="6476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4"/>
          <p:cNvSpPr/>
          <p:nvPr/>
        </p:nvSpPr>
        <p:spPr>
          <a:xfrm>
            <a:off x="3419640" y="1700280"/>
            <a:ext cx="1008000" cy="3585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5"/>
          <p:cNvSpPr/>
          <p:nvPr/>
        </p:nvSpPr>
        <p:spPr>
          <a:xfrm flipH="1">
            <a:off x="2411280" y="3284640"/>
            <a:ext cx="503280" cy="5760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6"/>
          <p:cNvSpPr/>
          <p:nvPr/>
        </p:nvSpPr>
        <p:spPr>
          <a:xfrm>
            <a:off x="5003640" y="2205000"/>
            <a:ext cx="1079640" cy="576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7"/>
          <p:cNvSpPr/>
          <p:nvPr/>
        </p:nvSpPr>
        <p:spPr>
          <a:xfrm flipH="1">
            <a:off x="3347640" y="2276640"/>
            <a:ext cx="1081080" cy="5047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18"/>
          <p:cNvSpPr txBox="1"/>
          <p:nvPr/>
        </p:nvSpPr>
        <p:spPr>
          <a:xfrm rot="339000">
            <a:off x="3131640" y="189000"/>
            <a:ext cx="27432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117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70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刘常宁的发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70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73" name="Line 19"/>
          <p:cNvSpPr/>
          <p:nvPr/>
        </p:nvSpPr>
        <p:spPr>
          <a:xfrm>
            <a:off x="6588000" y="3284640"/>
            <a:ext cx="289080" cy="6476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0"/>
          <p:cNvSpPr/>
          <p:nvPr/>
        </p:nvSpPr>
        <p:spPr>
          <a:xfrm>
            <a:off x="3635280" y="3284640"/>
            <a:ext cx="360360" cy="6476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1"/>
          <p:cNvSpPr/>
          <p:nvPr/>
        </p:nvSpPr>
        <p:spPr>
          <a:xfrm>
            <a:off x="2050920" y="4365720"/>
            <a:ext cx="108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造新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2"/>
          <p:cNvSpPr/>
          <p:nvPr/>
        </p:nvSpPr>
        <p:spPr>
          <a:xfrm>
            <a:off x="5292720" y="436572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深褐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3"/>
          <p:cNvSpPr/>
          <p:nvPr/>
        </p:nvSpPr>
        <p:spPr>
          <a:xfrm>
            <a:off x="3564000" y="436572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像细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4"/>
          <p:cNvSpPr/>
          <p:nvPr/>
        </p:nvSpPr>
        <p:spPr>
          <a:xfrm>
            <a:off x="6732720" y="436572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像天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Yujiao</cp:lastModifiedBy>
  <dcterms:modified xsi:type="dcterms:W3CDTF">2016-03-12T15:49:05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