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C87-B487-4125-B372-5BD9A49C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523-76C5-4A4B-B55B-4437AE11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5E3-8F3B-4C89-99D0-7D4EBFEF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194-0C0E-4006-B9CB-407ABCD9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725-1376-4B74-AE06-87D4F830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49C-D6EE-4DB8-AC6D-DE43F0E6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8FA-C74D-40A4-897E-3696CE45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683-CD36-4B9E-B6AC-F3307A83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558-BA9D-4902-923C-F5C96CAD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6B2-936D-4AD3-8C26-9274B964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4F9-7263-463D-88A1-BA150907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9F4-7AF7-408D-BA1C-4536D35D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9939-13EA-4601-BD8E-38D243A049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22560" y="380880"/>
            <a:ext cx="31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课 小英雄于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333440" y="1447920"/>
            <a:ext cx="6477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导入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识字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6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7" action="ppaction://hlinksldjump"/>
              </a:rPr>
              <a:t>课文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hlinkClick r:id="rId8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9" action="ppaction://hlinksldjump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02320" y="3049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，比一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349160" y="19810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一个个惊得脸上改变了颜色，全身流出了冷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301560" y="35812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们一个个惊得面如土色，冷汗淋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57200" y="204300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95360" y="26668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叫大人处理已经来不及了，导火线很快会烧到墙洞那边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起初，于连着实慌张了一阵，但他马上镇静下来。他眨巴着乌溜溜的眼睛，连忙跑到正在燃烧的导火线旁，对着刺刺作响的火花撒起尿来。导火线立刻熄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不一会儿，闻讯赶来一批巡逻警察，他们一个个惊得面如土色，冷汗淋漓。当他们看到现场后，才深深嘘了一口气。大家把小英雄抱了起来，高高举过头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1752480" y="45720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886200" y="457200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7696080" y="41911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91240" y="29559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295280" y="156204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810080" y="2235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险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881360" y="4292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除险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91160" y="429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小便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619960" y="429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刻熄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3352680" y="15238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867480" y="15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冒着火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635800" y="15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刺刺作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294440" y="2757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寸寸缩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017040" y="27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快烧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7238880" y="1638360"/>
            <a:ext cx="228600" cy="3619440"/>
          </a:xfrm>
          <a:custGeom>
            <a:avLst/>
            <a:gdLst>
              <a:gd name="textAreaLeft" fmla="*/ 0 w 228600"/>
              <a:gd name="textAreaRight" fmla="*/ 82440 w 228600"/>
              <a:gd name="textAreaTop" fmla="*/ 94320 h 3619440"/>
              <a:gd name="textAreaBottom" fmla="*/ 3525120 h 361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7753680" y="312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机智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133720" y="1523880"/>
            <a:ext cx="4838760" cy="3048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在当时的情况下，除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用小便浇灭导火线”，还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没有其他的办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623960" y="2133720"/>
            <a:ext cx="589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侵略　　政府　　　　　血泊　　面如土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23960" y="3733920"/>
            <a:ext cx="589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慌张　　镇静　　　　　废墟　　冷汗淋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09"/>
          <p:cNvPicPr/>
          <p:nvPr/>
        </p:nvPicPr>
        <p:blipFill>
          <a:blip r:embed="rId1"/>
          <a:stretch/>
        </p:blipFill>
        <p:spPr>
          <a:xfrm>
            <a:off x="2133720" y="1295280"/>
            <a:ext cx="97128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H="1">
            <a:off x="1143000" y="32529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819520" y="3252960"/>
            <a:ext cx="1218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47840" y="4175280"/>
            <a:ext cx="102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ā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324240" y="4175280"/>
            <a:ext cx="102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à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408040" y="23223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09"/>
          <p:cNvPicPr/>
          <p:nvPr/>
        </p:nvPicPr>
        <p:blipFill>
          <a:blip r:embed="rId2"/>
          <a:stretch/>
        </p:blipFill>
        <p:spPr>
          <a:xfrm>
            <a:off x="6553080" y="1295280"/>
            <a:ext cx="971640" cy="1981440"/>
          </a:xfrm>
          <a:prstGeom prst="rect">
            <a:avLst/>
          </a:prstGeom>
          <a:ln w="0">
            <a:noFill/>
          </a:ln>
        </p:spPr>
      </p:pic>
      <p:sp>
        <p:nvSpPr>
          <p:cNvPr id="103" name="Line 12"/>
          <p:cNvSpPr/>
          <p:nvPr/>
        </p:nvSpPr>
        <p:spPr>
          <a:xfrm flipH="1">
            <a:off x="5562720" y="32529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238880" y="325296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867560" y="4175280"/>
            <a:ext cx="102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p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743960" y="4175280"/>
            <a:ext cx="102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b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27760" y="23223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282760" y="304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看仔细了，可不要交错了词语朋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3560" y="175248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略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哈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81360" y="175248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敌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故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707160" y="175248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府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符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63560" y="434340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导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异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681360" y="434340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慌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流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707160" y="4343400"/>
            <a:ext cx="178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耍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要（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033640" y="304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括号里填上意思相反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797120"/>
            <a:ext cx="83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）于连着实（    ）了一阵，但他马上（    ）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3886200"/>
            <a:ext cx="83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）这（    ）的小山村顿时（    ）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200692912522738553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115880" y="624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布鲁塞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506760" y="6248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换不同服装的撒尿男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nt_D210200xsb_20090419_6-1-31_resbrief"/>
          <p:cNvPicPr/>
          <p:nvPr/>
        </p:nvPicPr>
        <p:blipFill>
          <a:blip r:embed="rId1"/>
          <a:stretch/>
        </p:blipFill>
        <p:spPr>
          <a:xfrm>
            <a:off x="380880" y="3429000"/>
            <a:ext cx="2198880" cy="327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814373740374285"/>
          <p:cNvPicPr/>
          <p:nvPr/>
        </p:nvPicPr>
        <p:blipFill>
          <a:blip r:embed="rId2"/>
          <a:stretch/>
        </p:blipFill>
        <p:spPr>
          <a:xfrm>
            <a:off x="1981080" y="304920"/>
            <a:ext cx="1865520" cy="2819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01000000000000119091440607773"/>
          <p:cNvPicPr/>
          <p:nvPr/>
        </p:nvPicPr>
        <p:blipFill>
          <a:blip r:embed="rId3"/>
          <a:stretch/>
        </p:blipFill>
        <p:spPr>
          <a:xfrm>
            <a:off x="5029200" y="152280"/>
            <a:ext cx="16714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01"/>
          <p:cNvPicPr/>
          <p:nvPr/>
        </p:nvPicPr>
        <p:blipFill>
          <a:blip r:embed="rId4"/>
          <a:stretch/>
        </p:blipFill>
        <p:spPr>
          <a:xfrm>
            <a:off x="6429240" y="3471840"/>
            <a:ext cx="22575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MG_1307"/>
          <p:cNvPicPr/>
          <p:nvPr/>
        </p:nvPicPr>
        <p:blipFill>
          <a:blip r:embed="rId1"/>
          <a:stretch/>
        </p:blipFill>
        <p:spPr>
          <a:xfrm>
            <a:off x="1092240" y="819000"/>
            <a:ext cx="6959520" cy="5220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80880" y="1270080"/>
            <a:ext cx="83822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比利时首都布鲁塞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尔的一条小巷里，有一座撒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i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男孩的铜像，它是为纪念小英雄于连塑造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很多年前的一天晚上，布鲁塞尔的中心广场上，火树银花，热闹非凡。人们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zà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歌载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4" action="ppaction://hlinksldjump"/>
              </a:rPr>
              <a:t>舞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，庆祝打败了外国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hlinkClick r:id="rId5" action="ppaction://hlinksldjump"/>
              </a:rPr>
              <a:t>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qī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略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ü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可是，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人并不死心。他们经过周密策划，把烈性炸药放到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zhè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的地下室里，只要一引爆，政府大楼就会变成一片废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，许许多多的人将会倒在血泊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］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909960" y="304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小英雄于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95360" y="7621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敌人将长长的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ǎ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火线一直延伸到外面一个院子里。导火线点燃后，敌人便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uā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慌张张地溜了。导火线冒着火花，刺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刺作响，慢慢向地下室燃烧过去。一场毁灭性的大爆炸即将发生！沉浸在欢乐中的人们，哪会知道这隐藏在暗处的阴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就在这时，十岁的于连来到这个小院子里玩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u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。他忽然发现了墙角燃烧的导火线，正在一寸寸地缩短。他的心儿怦怦直跳，明白会有什么样的事情发生。长期的战争，使幼稚的孩子也懂得了一些军事常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33520" y="2819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叫大人处理已经来不及了，导火线很快会烧到墙洞那边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起初，于连着实慌张了一阵，但他马上镇静下来。他眨巴着乌溜溜的眼睛，连忙跑到正在燃烧的导火线旁，对着刺刺作响的火花撒起尿来。导火线立刻熄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不一会儿，闻讯赶来一批巡逻警察，他们一个个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ī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得面如土色，冷汗淋漓。当他们看到现场后，才深深嘘了一口气。大家把小英雄抱了起来，高高举过头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16956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比利时首都布鲁塞尔的一条小巷里，有一座撒尿男孩的铜像，它是为纪念小英雄于连塑造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很多年前的一天晚上，布鲁塞尔的中心广场上，火树银花，热闹非凡。人们载歌载舞，庆祝打败了外国侵略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可是，敌人并不死心。他们经过周密策划，把烈性炸药放到市政府的地下室里，只要一引爆，政府大楼就会变成一片废墟，许许多多的人将会倒在血泊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909960" y="304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小英雄于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152280" y="152280"/>
            <a:ext cx="3200400" cy="1371600"/>
          </a:xfrm>
          <a:prstGeom prst="cloudCallout">
            <a:avLst>
              <a:gd name="adj1" fmla="val -46083"/>
              <a:gd name="adj2" fmla="val 8090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说说于连为什么被称为英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95360" y="7621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敌人将长长的导火线一直延伸到外面一个院子里。导火线点燃后，敌人便慌慌张张地溜了。导火线冒着火花，刺刺作响，慢慢向地下室燃烧过去。一场毁灭性的大爆炸即将发生！沉浸在欢乐中的人们，哪会知道这隐藏在暗处的阴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就在这时，十岁的于连来到这个小院子里玩耍。他忽然发现了墙角燃烧的导火线，正在一寸寸地缩短。他的心儿怦怦直跳，明白会有什么样的事情发生。长期的战争，使幼稚的孩子也懂得了一些军事常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5562720" y="1523880"/>
            <a:ext cx="2971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609480" y="1905120"/>
            <a:ext cx="3962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533520" y="4343400"/>
            <a:ext cx="3504960" cy="1828800"/>
          </a:xfrm>
          <a:prstGeom prst="cloudCallout">
            <a:avLst>
              <a:gd name="adj1" fmla="val -50314"/>
              <a:gd name="adj2" fmla="val 671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从“冒着火花”、“一寸寸地缩短”等语句你感受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7543800" y="29718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09480" y="3352680"/>
            <a:ext cx="6172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91240" y="29559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295280" y="156204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810080" y="2235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现险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15238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867480" y="15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冒着火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635800" y="15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刺刺作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294440" y="2757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寸寸缩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017040" y="27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快烧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95360" y="26668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叫大人处理已经来不及了，导火线很快会烧到墙洞那边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起初，于连着实慌张了一阵，但他马上镇静下来。他眨巴着乌溜溜的眼睛，连忙跑到正在燃烧的导火线旁，对着刺刺作响的火花撒起尿来。导火线立刻熄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不一会儿，闻讯赶来一批巡逻警察，他们一个个惊得面如土色，冷汗淋漓。当他们看到现场后，才深深嘘了一口气。大家把小英雄抱了起来，高高举过头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6095880" y="4952880"/>
            <a:ext cx="2362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609480" y="525780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8T10:34:27Z</dcterms:modified>
  <cp:revision>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