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B2C-530D-45F1-9707-5AEB74A7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F19-031A-423E-AE31-0F57CE78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4C5C6-01AC-4161-9E7B-59ED3E4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4C369-5866-4BC3-8925-00E55ED1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492CF-D1F7-4509-8E45-4EA6D737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64F6F-0EEE-410D-8A04-F731145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3453F-3507-491B-8FBA-C6624602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44877-619B-467C-94DD-03E174FA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D7A5B-2EFB-4A00-8EF8-224C44AE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5AE43-622C-49E9-A3C8-2D9EB836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117D8-75AC-497E-BAD1-E0862678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6565B-16ED-4582-8906-7947AC9B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4A6-DD10-4E9D-AA1E-4F15D7F6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4FBE9-B42E-441E-95AD-B2AC3D3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3DCF8-C16D-4837-A4D5-2E8D48D8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1B301-75DB-4389-9CAC-A3E69C32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8CFA5-175B-4636-BD33-BD12AE8C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11996-0C4D-44A8-AD4F-F3CC4132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ECE87-29A3-46E4-8410-BBAA69FA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0A418-D063-4605-83AE-50A1628F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7C9DF-A189-4118-8B1D-7CF7541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3BE9C-404B-481C-962F-2AD54DCB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56269-8C20-45B7-9672-9CB63DB6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936-B191-41FD-AC3D-B51DF0AC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85F0F-61FC-4A3B-AEEE-D70E6EEF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B9D23-07B1-4A07-BAC0-8DBBDA7F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ED61F-3811-4DF5-AE7A-87F8D5EA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9519C-1E24-421F-92C5-7C70E66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C99F4-A7BA-4305-A054-03B8ED0F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57CBF-2C92-4561-881A-7700EE85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3B3AD-B91A-4059-84E9-D155101D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58BFE-AC78-432B-ADD1-3301D21B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E1456-DC18-4EC4-8993-C62D8444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7E912-D4BF-48CD-A70C-EF88B69F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AE76-496E-4478-BA50-C1811170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5F8B4-A818-4DFF-A969-0E287717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CC00C-5015-44E4-9227-E5EC379D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E10ED-2C4A-4AB6-9AA3-FA795385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DA6E-88B6-4833-9124-4BC77361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0E03-2716-48C5-9225-0E168BDE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9DB0-0EDA-403B-8572-5EB72E83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A287-BA6A-46F5-866F-EC70F918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6D30-A6ED-4024-BA5D-10FBA75E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19FF-1193-431A-9AE0-399E4662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9DB-4E89-4AD9-A3F6-5FA86606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B15D-6C30-4899-B0D1-709CE5DF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7F12-F5CA-4F5B-8EC4-21FC1157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86C1-D21D-42E3-B5A1-54BF3539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97A6-5071-4A8A-9203-A0DDAEBA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2DCD-DA3D-4A61-8C5F-852FE2AA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167E-DFCA-41EC-AE7A-D46B1AB1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A2C46-28A6-4D98-9B92-2320EDE9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37DA-C927-4F99-8F8F-6446AC6D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BA91-7B78-448E-A479-B30CB9C0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B02D-4E79-4FCC-9E1D-F1FA2383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DE9-4ABD-49F6-B91F-8D3EC438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5F07-9054-4842-ACC1-483C1F65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21CC-432E-4B64-8295-652ABE1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57D1-9934-4BCD-94CE-B6F64D32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0D70-70CC-4615-A670-92DD86D7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B2ED-B707-46B8-8FA5-CACB25EA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93ED4-85B5-4828-B885-F89D6998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98BB-6789-4A29-BDAA-3D489B77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D545-4D33-4ABB-B12F-A0E15FC4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B1C8B-77CA-454D-8F1B-6EA367BB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F1D49-0FC9-47EE-B354-29CC026E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3D2-538D-4A24-9EE2-749C9687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2776-987F-453E-B6DA-2414536E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2F55-4D7A-482D-8EA3-FC43F041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237D2-B6A6-41B9-A6DE-A9D18D10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AA41-81A3-4A97-9EBE-C4BAF765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4320-96D5-4A59-BF54-F9AD21E6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8994-2080-4BF4-B0FF-93059E5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DDE8-4230-40CD-AABC-8035D5E9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FC858-371D-4C8B-B19D-44A32A9F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78BF-6F75-4CA2-8891-29BD3DA5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1993B-A2DB-46AA-A3C3-9F64FEB3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25D-7065-4876-85B5-08FEA62D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7C335-3E87-435A-B6E9-BFE48689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8B7F7-8293-4AC0-9FF3-6E6F873B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EDEB8-BA9E-4D98-B59F-4A245936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6511C-B2CB-4710-8725-4F70CE3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33D9E-1D16-49BD-BDF4-C3FECEF1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37BC5-DCE5-47A2-953E-B951802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7DD61-7368-4A36-98EA-6E4D34EE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40677-FA78-42D8-8D74-0E238DC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61DF-3626-4A08-B10B-2CF4F34D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35A30-1D7B-4E33-9FFB-0AC5F402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025-6209-4383-9794-127B78AB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17B76-2393-428A-9B3B-515E16F6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1A099-802A-4FC3-A994-02C79C00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8773C-4841-4DE4-8808-15382C17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319DE-2730-433E-9A7D-2B7FE482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8AB15-D854-438A-B2A0-486526C5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99003-0910-4B36-840D-4533FFFB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308D7-60C8-42BF-98F6-6D4FA4F2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48D69-7C14-41B2-9F89-7A47164D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3C977-2615-46B0-A8A2-DFE7E5B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0B329-74F8-4B43-AF8A-A3251BA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ECD-C20E-4C12-8F87-6F65B41C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03A20-4324-48C9-B132-07B32A00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84516-9639-4B48-BF68-50D32719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A3D02-B2D0-4AC4-905B-4898F472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68722-B8BF-47D8-AEB4-042D59E7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ADDB0-134E-4157-A872-985BEB2A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30B38-1995-4DC2-905E-0F37462B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0176A-0CDE-4181-AC04-CEC6E2B6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EA704-F4F8-43F1-A58E-22B1A714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D89A7-7E0C-43D5-9A2F-8E8E102C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BE7D1-E7BE-46B8-A094-FC60DB3D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328-9668-402F-9402-861EEBB8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D87E0-C6BD-4C77-B7B2-F3781AE6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2273D-34C4-4FEB-9F29-704A3AA3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DF291-7C94-4056-9A6C-DE740710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9B4E5-38C3-40C4-9E16-87C65CB9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9DB5E-3A2B-49F4-8B8C-A47D1C8B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90ED8-81EE-4D0F-BF6D-F0FD43DB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EA65B-CD41-4B53-B153-6342F126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FF2A9-FBBB-499F-B546-EB2427D9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73EC2-8981-4178-89E1-309C0356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5098D-40E5-4575-93C7-4728BD30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344-EB66-4B02-9F1D-CEF9DF83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46A2F-7969-4BE8-B128-FFBB2628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61ADD-BCE5-4556-9442-BC419438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68D18-84CC-492E-B91E-D72FC115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CE720-6057-45B4-A8F3-734FAFFC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400B5-3109-420F-88B4-4D59501B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CB3E1-4D34-4DC3-A28D-197A0602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50EC0-E291-4FCC-B9E5-D0C82462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0160F-5DFC-4881-A641-1DA3DFFC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80F8B-1B3A-4BF4-A8BC-D5992666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B55A3-C179-44DF-A6E4-6A0A6819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9078-75C6-49E9-87A4-8C15FB6035A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FB2D-AC05-4313-A643-A4E45B8A30C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D647-F3FF-4758-8751-1094B647CB3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B8DB-7177-4007-A1A9-C4DEBA39244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A2BD-F122-434C-9FF1-00B280821D7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9BEB-7252-4C1A-84CE-0BB1B4F1A4C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49F2-B058-44CF-BB23-E8C3D1873F6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9F11-230F-4195-86F4-C87D0803A1A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A805-66D8-4854-9C64-DDBCA702D1D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287E-8A17-472A-AE03-B7F2396D8598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222D-0068-4E11-823C-23628901E53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4"/>
          <p:cNvSpPr txBox="1"/>
          <p:nvPr/>
        </p:nvSpPr>
        <p:spPr>
          <a:xfrm>
            <a:off x="457200" y="685800"/>
            <a:ext cx="7620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雪顿节上看赛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6553080" y="60958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1676520" y="83808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果然，被摔下来的选手一骨碌爬起来，笑着拍拍牦牛的头，看它还呼哧呼哧的喘着粗气，就随手从地下揪起一把嫩草，喂到它嘴里。那样子，就像在安慰一个受了惊吓的孩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5"/>
          <p:cNvSpPr/>
          <p:nvPr/>
        </p:nvSpPr>
        <p:spPr>
          <a:xfrm>
            <a:off x="0" y="6400800"/>
            <a:ext cx="304920" cy="152280"/>
          </a:xfrm>
          <a:prstGeom prst="ellipse">
            <a:avLst/>
          </a:prstGeom>
          <a:solidFill>
            <a:srgbClr val="918415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7"/>
          <p:cNvSpPr/>
          <p:nvPr/>
        </p:nvSpPr>
        <p:spPr>
          <a:xfrm>
            <a:off x="1752480" y="1447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牦牛慢慢地嚼着嫩草，轻轻地用背蹭着主人的身体，好像在诉说着什么。这一刻，他们俨然已经忘了比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8"/>
          <p:cNvSpPr/>
          <p:nvPr/>
        </p:nvSpPr>
        <p:spPr>
          <a:xfrm>
            <a:off x="1752480" y="6248520"/>
            <a:ext cx="152640" cy="75960"/>
          </a:xfrm>
          <a:prstGeom prst="ellipse">
            <a:avLst/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W020070824593472031497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373392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5"/>
          <p:cNvSpPr/>
          <p:nvPr/>
        </p:nvSpPr>
        <p:spPr>
          <a:xfrm>
            <a:off x="228600" y="37339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它的主人也被从看台上的同乡紧紧围住，一起用欢乐的歌声庆祝胜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6"/>
          <p:cNvSpPr/>
          <p:nvPr/>
        </p:nvSpPr>
        <p:spPr>
          <a:xfrm>
            <a:off x="2286000" y="6324480"/>
            <a:ext cx="228600" cy="152640"/>
          </a:xfrm>
          <a:prstGeom prst="ellipse">
            <a:avLst/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4"/>
          <p:cNvSpPr txBox="1"/>
          <p:nvPr/>
        </p:nvSpPr>
        <p:spPr>
          <a:xfrm>
            <a:off x="1295280" y="457200"/>
            <a:ext cx="30481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课外探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295280" y="1371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还知道我国少数民族的哪些节日呢？去查查资料与同学交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WordArt 5"/>
          <p:cNvSpPr txBox="1"/>
          <p:nvPr/>
        </p:nvSpPr>
        <p:spPr>
          <a:xfrm>
            <a:off x="228600" y="380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链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228600" y="13716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雪顿节”是藏族人民的传统节日。在藏语中，雪顿节的意思是“喝酸奶的节日”。一般在藏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月初举行，为期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—5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天。节日期间，藏族人民观看藏戏，同时举行游园活动，弹唱、歌舞、赛牛，尽情欢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5" descr="xin_c34b9964620b43738692ed0c3754b2ee_02"/>
          <p:cNvPicPr/>
          <p:nvPr/>
        </p:nvPicPr>
        <p:blipFill>
          <a:blip r:embed="rId1"/>
          <a:stretch/>
        </p:blipFill>
        <p:spPr>
          <a:xfrm>
            <a:off x="0" y="15228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82966267ed75"/>
          <p:cNvPicPr/>
          <p:nvPr/>
        </p:nvPicPr>
        <p:blipFill>
          <a:blip r:embed="rId2"/>
          <a:stretch/>
        </p:blipFill>
        <p:spPr>
          <a:xfrm>
            <a:off x="0" y="2629080"/>
            <a:ext cx="5638680" cy="4228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20070826_053707f5e939e6061d031SHoNY5Ly17d"/>
          <p:cNvPicPr/>
          <p:nvPr/>
        </p:nvPicPr>
        <p:blipFill>
          <a:blip r:embed="rId3"/>
          <a:stretch/>
        </p:blipFill>
        <p:spPr>
          <a:xfrm>
            <a:off x="4038480" y="0"/>
            <a:ext cx="5105520" cy="2438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0" descr=""/>
          <p:cNvPicPr/>
          <p:nvPr/>
        </p:nvPicPr>
        <p:blipFill>
          <a:blip r:embed="rId4"/>
          <a:stretch/>
        </p:blipFill>
        <p:spPr>
          <a:xfrm>
            <a:off x="5791320" y="2590920"/>
            <a:ext cx="335268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WordArt 4"/>
          <p:cNvSpPr txBox="1"/>
          <p:nvPr/>
        </p:nvSpPr>
        <p:spPr>
          <a:xfrm>
            <a:off x="2133720" y="838080"/>
            <a:ext cx="2057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比赛前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0" name="WordArt 5"/>
          <p:cNvSpPr txBox="1"/>
          <p:nvPr/>
        </p:nvSpPr>
        <p:spPr>
          <a:xfrm>
            <a:off x="2133720" y="2819520"/>
            <a:ext cx="2057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比赛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1" name="WordArt 6"/>
          <p:cNvSpPr txBox="1"/>
          <p:nvPr/>
        </p:nvSpPr>
        <p:spPr>
          <a:xfrm>
            <a:off x="2286000" y="4800600"/>
            <a:ext cx="19051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比赛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4648320" y="1676520"/>
            <a:ext cx="75960" cy="3124080"/>
          </a:xfrm>
          <a:custGeom>
            <a:avLst/>
            <a:gdLst>
              <a:gd name="textAreaLeft" fmla="*/ 48600 w 75960"/>
              <a:gd name="textAreaRight" fmla="*/ 76320 w 7596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4800600" y="19051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热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4724280" y="40384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揪心、惊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4495680" y="990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壮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4495680" y="51055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高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1295280" y="1066680"/>
            <a:ext cx="459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-316800" y="1905120"/>
            <a:ext cx="2009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别开生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6"/>
          <p:cNvSpPr/>
          <p:nvPr/>
        </p:nvSpPr>
        <p:spPr>
          <a:xfrm>
            <a:off x="1676520" y="1066680"/>
            <a:ext cx="228600" cy="4876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7080 h 4876920"/>
              <a:gd name="textAreaBottom" fmla="*/ 4749840 h 48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7"/>
          <p:cNvSpPr/>
          <p:nvPr/>
        </p:nvSpPr>
        <p:spPr>
          <a:xfrm>
            <a:off x="4876920" y="2971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有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4"/>
          <p:cNvSpPr/>
          <p:nvPr/>
        </p:nvSpPr>
        <p:spPr>
          <a:xfrm>
            <a:off x="533520" y="1295280"/>
            <a:ext cx="86104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比赛前的场面怎么样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比赛中哪些情景最有趣？哪些情景最让人揪心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赛后选手们的心情怎么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5"/>
          <p:cNvSpPr txBox="1"/>
          <p:nvPr/>
        </p:nvSpPr>
        <p:spPr>
          <a:xfrm>
            <a:off x="304920" y="0"/>
            <a:ext cx="41148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学习提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cover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4"/>
          <p:cNvSpPr/>
          <p:nvPr/>
        </p:nvSpPr>
        <p:spPr>
          <a:xfrm>
            <a:off x="990720" y="7621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赛时间到了，一头头膘肥体壮的牦牛在主人的牵引下，精神抖擞的走进赛场。牦牛的角上都戴上红色绸带扎成的花朵，身上披着崭新的坐垫，长毛也被主人精心梳理过，浑身上下干干净净。牦牛的主人身着节日盛装，个个像即将出征的勇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W020070824593471710689"/>
          <p:cNvPicPr/>
          <p:nvPr/>
        </p:nvPicPr>
        <p:blipFill>
          <a:blip r:embed="rId1"/>
          <a:stretch/>
        </p:blipFill>
        <p:spPr>
          <a:xfrm>
            <a:off x="0" y="0"/>
            <a:ext cx="4800600" cy="3048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1302260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W020070820487679376492"/>
          <p:cNvPicPr/>
          <p:nvPr/>
        </p:nvPicPr>
        <p:blipFill>
          <a:blip r:embed="rId3"/>
          <a:stretch/>
        </p:blipFill>
        <p:spPr>
          <a:xfrm>
            <a:off x="4876920" y="320040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4"/>
          <a:stretch/>
        </p:blipFill>
        <p:spPr>
          <a:xfrm>
            <a:off x="0" y="3276720"/>
            <a:ext cx="47973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8" descr=""/>
          <p:cNvPicPr/>
          <p:nvPr/>
        </p:nvPicPr>
        <p:blipFill>
          <a:blip r:embed="rId1"/>
          <a:stretch/>
        </p:blipFill>
        <p:spPr>
          <a:xfrm>
            <a:off x="5638680" y="2689200"/>
            <a:ext cx="3505320" cy="307332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4"/>
          <p:cNvSpPr/>
          <p:nvPr/>
        </p:nvSpPr>
        <p:spPr>
          <a:xfrm>
            <a:off x="0" y="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几十头牦牛一起奔跑，场面颇为壮观。骑手的甩鞭声、牛蹄的砸地声和观众激烈的喊叫声交织在一起，气氛热烈极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F855623634[1]"/>
          <p:cNvPicPr/>
          <p:nvPr/>
        </p:nvPicPr>
        <p:blipFill>
          <a:blip r:embed="rId2"/>
          <a:stretch/>
        </p:blipFill>
        <p:spPr>
          <a:xfrm>
            <a:off x="0" y="297180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xin_c34b9964620b43738692ed0c3754b2ee_02"/>
          <p:cNvPicPr/>
          <p:nvPr/>
        </p:nvPicPr>
        <p:blipFill>
          <a:blip r:embed="rId3"/>
          <a:stretch/>
        </p:blipFill>
        <p:spPr>
          <a:xfrm>
            <a:off x="274320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457200" y="30492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只见它开始掉转头向起点跑去，边跑边扬后腿，乱踢乱蹦。骑在牛背上的主人死死抓住缰绳，紧紧趴在牛背上，随着牛的身体上下起伏。没过多久，骑手啪的一声被甩下牛背，重重地摔到了地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6"/>
          <p:cNvSpPr/>
          <p:nvPr/>
        </p:nvSpPr>
        <p:spPr>
          <a:xfrm>
            <a:off x="6934320" y="1828800"/>
            <a:ext cx="7596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7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8"/>
          <p:cNvSpPr/>
          <p:nvPr/>
        </p:nvSpPr>
        <p:spPr>
          <a:xfrm>
            <a:off x="6858000" y="243828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9"/>
          <p:cNvSpPr/>
          <p:nvPr/>
        </p:nvSpPr>
        <p:spPr>
          <a:xfrm>
            <a:off x="7467480" y="243828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0"/>
          <p:cNvSpPr/>
          <p:nvPr/>
        </p:nvSpPr>
        <p:spPr>
          <a:xfrm>
            <a:off x="838080" y="320040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1"/>
          <p:cNvSpPr/>
          <p:nvPr/>
        </p:nvSpPr>
        <p:spPr>
          <a:xfrm>
            <a:off x="1371600" y="320040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2"/>
          <p:cNvSpPr/>
          <p:nvPr/>
        </p:nvSpPr>
        <p:spPr>
          <a:xfrm>
            <a:off x="5105520" y="3200400"/>
            <a:ext cx="7596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3"/>
          <p:cNvSpPr/>
          <p:nvPr/>
        </p:nvSpPr>
        <p:spPr>
          <a:xfrm>
            <a:off x="4495680" y="320040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4"/>
          <p:cNvSpPr/>
          <p:nvPr/>
        </p:nvSpPr>
        <p:spPr>
          <a:xfrm>
            <a:off x="3809880" y="320040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5"/>
          <p:cNvSpPr/>
          <p:nvPr/>
        </p:nvSpPr>
        <p:spPr>
          <a:xfrm>
            <a:off x="7467480" y="3962520"/>
            <a:ext cx="76320" cy="7596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6"/>
          <p:cNvSpPr/>
          <p:nvPr/>
        </p:nvSpPr>
        <p:spPr>
          <a:xfrm>
            <a:off x="6934320" y="3962520"/>
            <a:ext cx="75960" cy="7596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7"/>
          <p:cNvSpPr/>
          <p:nvPr/>
        </p:nvSpPr>
        <p:spPr>
          <a:xfrm>
            <a:off x="4495680" y="541008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8"/>
          <p:cNvSpPr/>
          <p:nvPr/>
        </p:nvSpPr>
        <p:spPr>
          <a:xfrm>
            <a:off x="3809880" y="541008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9"/>
          <p:cNvSpPr/>
          <p:nvPr/>
        </p:nvSpPr>
        <p:spPr>
          <a:xfrm>
            <a:off x="5715000" y="541008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20"/>
          <p:cNvSpPr/>
          <p:nvPr/>
        </p:nvSpPr>
        <p:spPr>
          <a:xfrm>
            <a:off x="838080" y="5410080"/>
            <a:ext cx="76320" cy="76320"/>
          </a:xfrm>
          <a:prstGeom prst="ellipse">
            <a:avLst/>
          </a:prstGeom>
          <a:solidFill>
            <a:srgbClr val="91841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01-07T07:05:4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