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BE68-4BDD-4310-B12D-FF31909D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1FEE-6A94-45D7-A6E6-5EC74622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9E45-5E80-4F10-AECC-C94BE7B2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642-FD2C-42E0-A217-5FC77E9E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CFC-EBB3-492F-BCB1-D2EC818E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F2D0-48BB-446F-A10A-C7C1834C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B10-CA98-4684-9CC4-A522EC7C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CBD1-E2D0-4BF0-854E-6FB87673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10E-56DC-478B-BF2C-79AA7354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384B-11BD-4B2D-9E6D-FD520F0D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6689-4D99-4259-9053-AB7149E6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5C6-8595-42E6-AAF1-442D0136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9C1C-B55B-4F6E-BB62-A46D000A45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565080" y="380880"/>
            <a:ext cx="20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课 野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095560" y="1295280"/>
            <a:ext cx="495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楷体_GB2312"/>
                <a:hlinkClick r:id="rId2" action="ppaction://hlinksldjump"/>
              </a:rPr>
              <a:t>●</a:t>
            </a:r>
            <a:r>
              <a:rPr b="0" lang="zh-CN" sz="1500" spc="-1" strike="noStrike" u="sng">
                <a:solidFill>
                  <a:srgbClr val="009999"/>
                </a:solidFill>
                <a:uFillTx/>
                <a:latin typeface="楷体_GB2312"/>
                <a:hlinkClick r:id="rId3" action="ppaction://hlinksldjump"/>
              </a:rPr>
              <a:t>导入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hlinkClick r:id="rId4" action="ppaction://hlinksldjump"/>
              </a:rPr>
              <a:t>●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hlinkClick r:id="rId5" action="ppaction://hlinksldjump"/>
              </a:rPr>
              <a:t>识字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hlinkClick r:id="rId6" action="ppaction://hlinksldjump"/>
              </a:rPr>
              <a:t>●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hlinkClick r:id="rId7" action="ppaction://hlinksldjump"/>
              </a:rPr>
              <a:t>课文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43080" y="838080"/>
            <a:ext cx="845820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　　爸爸的话还没说完，聪聪就迫不及待地跃进溪里，泡起清凉的溪水浴。爸爸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大鱼躲在比较深的溪潭，看我把它们捉上岸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他拿来一根削尖的木棍，潜入水里。不一会儿，爸爸冒出头来，木棍上叉了一条鱼。聪聪惊喜地问道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爸，你怎么这样厉害？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向水獭学的呀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爸爸说着，头往水里一栽，身体一伸，两脚一蹬，又潜入水底叉鱼去了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哪里有水獭呀？我怎么没看见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妹妹在一旁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爷爷听了，回答说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看不到了！你爸爸和你们一样大的时候，这里水獭很多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1066680" y="121932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2286000" y="2286000"/>
            <a:ext cx="1523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2696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野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332080" y="6858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决定野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415880" y="838080"/>
            <a:ext cx="228600" cy="5181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983120" y="16956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爷爷挖块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983120" y="25909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奶奶采蕨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5059440" y="35082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妈妈摘山刺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906800" y="44038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爸爸叉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43080" y="838080"/>
            <a:ext cx="845820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　　爸爸的话还没说完，聪聪就迫不及待地跃进溪里，泡起清凉的溪水浴。爸爸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大鱼躲在比较深的溪潭，看我把它们捉上岸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他拿来一根削尖的木棍，潜入水里。不一会儿，爸爸冒出头来，木棍上叉了一条鱼。聪聪惊喜地问道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爸，你怎么这样厉害？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向水獭学的呀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爸爸说着，头往水里一栽，身体一伸，两脚一蹬，又潜入水底叉鱼去了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哪里有水獭呀？我怎么没看见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妹妹在一旁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爷爷听了，回答说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看不到了！你爸爸和你们一样大的时候，这里水獭很多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4343400" y="4572000"/>
            <a:ext cx="3581280" cy="838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然段：我们向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然“买菜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4038480" y="3733920"/>
            <a:ext cx="4724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380880" y="4114800"/>
            <a:ext cx="2971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609480" y="4267080"/>
            <a:ext cx="3276720" cy="1447920"/>
          </a:xfrm>
          <a:prstGeom prst="cloudCallout">
            <a:avLst>
              <a:gd name="adj1" fmla="val -46171"/>
              <a:gd name="adj2" fmla="val 7401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为什么我们看不到水獭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2696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野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332080" y="6858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决定野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1415880" y="838080"/>
            <a:ext cx="228600" cy="5181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230560" y="317664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大家“买菜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4159080" y="1790640"/>
            <a:ext cx="228600" cy="3238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84240 h 3238560"/>
              <a:gd name="textAreaBottom" fmla="*/ 3154320 h 323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4983120" y="16956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爷爷挖块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983120" y="25909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奶奶采蕨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5059440" y="35082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妈妈摘山刺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906800" y="44038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爸爸叉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43080" y="15112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太阳快下山了，他们燃起了篝火，一家人围坐在篝火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爷爷唱起了山歌，爸爸和聪聪烤鱼、烤虾，奶奶、妈妈和妹妹忙着煮野菜。一会儿，一道道野味上桌了，有葛根粥、蕨叶炒山姜、野菜炒虾仁、山刺瓜姜汤，有烤鱼、烤虾，还有在火堆里焖熟的天门冬块根， 真是丰盛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2895480" y="4343400"/>
            <a:ext cx="4953240" cy="762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然段：我们全家野餐的快乐情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"/>
          <p:cNvSpPr/>
          <p:nvPr/>
        </p:nvSpPr>
        <p:spPr>
          <a:xfrm>
            <a:off x="7467480" y="190512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828800" y="2286000"/>
            <a:ext cx="1371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4191120" y="2666880"/>
            <a:ext cx="2133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42696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野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332080" y="6858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决定野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1415880" y="838080"/>
            <a:ext cx="228600" cy="5181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30560" y="317664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大家“买菜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55760" y="53881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野餐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703680" y="53881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篝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075280" y="53881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唱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6446880" y="53881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品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4159080" y="1790640"/>
            <a:ext cx="228600" cy="3238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84240 h 3238560"/>
              <a:gd name="textAreaBottom" fmla="*/ 3154320 h 323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983120" y="16956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爷爷挖块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983120" y="25909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奶奶采蕨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5059440" y="35082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妈妈摘山刺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4906800" y="44038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爸爸叉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>
            <a:off x="7283520" y="838080"/>
            <a:ext cx="228600" cy="5181840"/>
          </a:xfrm>
          <a:custGeom>
            <a:avLst/>
            <a:gdLst>
              <a:gd name="textAreaLeft" fmla="*/ 0 w 228600"/>
              <a:gd name="textAreaRight" fmla="*/ 82440 w 22860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804708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快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4"/>
          <p:cNvSpPr/>
          <p:nvPr/>
        </p:nvSpPr>
        <p:spPr>
          <a:xfrm>
            <a:off x="1657440" y="1295280"/>
            <a:ext cx="5829120" cy="3505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讨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　在生活中，你有过“捉鱼、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餐”等这样的经历吗？回想一下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说说当时的情景或自己的感受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20960" y="2362320"/>
            <a:ext cx="4524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木棒　　葛根粥　　煮汤　　野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820960" y="4038480"/>
            <a:ext cx="4524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凹入　　溪水浴　　削尖　　丰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3459600" y="53352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给带点的字选择正确读音，写在括号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272960" y="1752480"/>
            <a:ext cx="256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暑假（  ）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jiǎ ji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837680" y="1752480"/>
            <a:ext cx="3284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兴奋（  ）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xìnɡ xīn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044360" y="3154320"/>
            <a:ext cx="264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葛藤（  ）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ɡě ɡ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737960" y="3154320"/>
            <a:ext cx="348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着落（  ）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zhuó zhá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081800" y="4724280"/>
            <a:ext cx="313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削尖（  ）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xuē xiā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694400" y="4724280"/>
            <a:ext cx="3952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丰盛（  ）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chénɡ shèn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098080" y="53352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你能为下面的词语按条件寻找朋友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477880" y="173664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黑体"/>
              </a:rPr>
              <a:t>近义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741680" y="2727360"/>
            <a:ext cx="22381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独立（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兴奋（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惊喜（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6053040" y="173664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黑体"/>
              </a:rPr>
              <a:t>反义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16480" y="2727360"/>
            <a:ext cx="22381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阴湿（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凹入（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清凉（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200831785151289_2"/>
          <p:cNvPicPr/>
          <p:nvPr/>
        </p:nvPicPr>
        <p:blipFill>
          <a:blip r:embed="rId1"/>
          <a:stretch/>
        </p:blipFill>
        <p:spPr>
          <a:xfrm>
            <a:off x="857160" y="803160"/>
            <a:ext cx="7429680" cy="52516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4298760" y="624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野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001"/>
          <p:cNvPicPr/>
          <p:nvPr/>
        </p:nvPicPr>
        <p:blipFill>
          <a:blip r:embed="rId1"/>
          <a:stretch/>
        </p:blipFill>
        <p:spPr>
          <a:xfrm>
            <a:off x="304920" y="1981080"/>
            <a:ext cx="4114800" cy="2733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4724280" y="106668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水獭，哺乳纲，食肉目，鼬科。半水栖兽类。身体细长，四肢短小，勇猛而灵活。趾间有蹼。鼻孔呈瓣膜，在水中可以闭合，以便水中潜游。毛短而密，不沾水。水獭除了主食鱼类以外，也兼吃蛙、蟹、水禽和其他小型哺乳动物，有时也吃一些植物性食料。捕鱼是水獭的嗜好之一，即使在饱腹之后，仍然无休止地捕鱼，对养鱼业造成极大的危害。但它经过短期训练后，就可成为一名“服从命令，听指挥”的捕鱼能手，为渔民效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02860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水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ea4838fb7d1af334a9d3115e"/>
          <p:cNvPicPr/>
          <p:nvPr/>
        </p:nvPicPr>
        <p:blipFill>
          <a:blip r:embed="rId1"/>
          <a:stretch/>
        </p:blipFill>
        <p:spPr>
          <a:xfrm>
            <a:off x="380880" y="1600200"/>
            <a:ext cx="3810240" cy="28544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4572000" y="22096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在我国的广东、广西、湖南、云南等地，有一种十分普遍的小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葛根粉，它洁白、细嫩、入口凉滑，除含丰富的淀粉外，还含有维生素和矿物质，可以制成各种保健食品。它就是由当地的葛藤提炼出来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202860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葛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165633846310111653750"/>
          <p:cNvPicPr/>
          <p:nvPr/>
        </p:nvPicPr>
        <p:blipFill>
          <a:blip r:embed="rId1"/>
          <a:stretch/>
        </p:blipFill>
        <p:spPr>
          <a:xfrm>
            <a:off x="457200" y="1447920"/>
            <a:ext cx="3962520" cy="3303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2028600" y="4952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蕨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800600" y="22860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蕨，是一种适应性强的多年生草本植物，喜光、湿润及凉爽的气候条件，广泛分布在温带地区，常生长在稀疏的树林中或开阔的山野上，森林砍伐或经火烧过后的草地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山刺瓜1"/>
          <p:cNvPicPr/>
          <p:nvPr/>
        </p:nvPicPr>
        <p:blipFill>
          <a:blip r:embed="rId1"/>
          <a:stretch/>
        </p:blipFill>
        <p:spPr>
          <a:xfrm>
            <a:off x="228600" y="1676520"/>
            <a:ext cx="4140360" cy="2957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4572000" y="213372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山刺瓜，“蛇葡萄”的别名。藤本，果实圆球形或肾形，径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毫米，熟时蓝黑色。果熟期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。各地较常见，生于山坡、路旁或林边；分布于东北至华南。果可酿酒；根皮人药，有清热解毒、祛风活络、止痛、止血的效用；民间用作治风疹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860840" y="48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山刺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784880" y="5562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门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20100130101917929"/>
          <p:cNvPicPr/>
          <p:nvPr/>
        </p:nvPicPr>
        <p:blipFill>
          <a:blip r:embed="rId1"/>
          <a:stretch/>
        </p:blipFill>
        <p:spPr>
          <a:xfrm>
            <a:off x="304920" y="457200"/>
            <a:ext cx="3601800" cy="50292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886200" y="25909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天门冬，百合科，多年生攀缘草本。有簇生纺锥形肉质块根，块根为常用中药材，简称“天冬”，性寒，味甘苦，功能养肺、滋肾，主治阴虚咳嗽、口燥咽干等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20089322440627_2"/>
          <p:cNvPicPr/>
          <p:nvPr/>
        </p:nvPicPr>
        <p:blipFill>
          <a:blip r:embed="rId1"/>
          <a:stretch/>
        </p:blipFill>
        <p:spPr>
          <a:xfrm>
            <a:off x="800280" y="533520"/>
            <a:ext cx="7543800" cy="56577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4298760" y="632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野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28600" y="762120"/>
            <a:ext cx="86104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　　暑假到了，聪聪吵着要到溪边玩水消暑。爸爸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山里的孩子要能在野外独立生活，等一下带你们到溪边野</a:t>
            </a:r>
            <a:r>
              <a:rPr b="0" lang="zh-CN" sz="2300" spc="-1" strike="noStrike">
                <a:solidFill>
                  <a:srgbClr val="ff0000"/>
                </a:solidFill>
                <a:latin typeface="楷体_GB2312"/>
              </a:rPr>
              <a:t>餐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cān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），在山洞里过夜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太</a:t>
            </a:r>
            <a:r>
              <a:rPr b="0" lang="zh-CN" sz="2300" spc="-1" strike="noStrike">
                <a:solidFill>
                  <a:srgbClr val="ff0000"/>
                </a:solidFill>
                <a:latin typeface="楷体_GB2312"/>
              </a:rPr>
              <a:t>棒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bànɡ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）了 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妹妹兴奋地叫起来，拖着爷爷奶奶一起去。祖孙三代出发了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　　在往溪谷的路上，大人们就开始向大自然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买菜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了。爷爷挖了一大串</a:t>
            </a:r>
            <a:r>
              <a:rPr b="0" lang="zh-CN" sz="2300" spc="-1" strike="noStrike">
                <a:solidFill>
                  <a:srgbClr val="ff0000"/>
                </a:solidFill>
                <a:latin typeface="楷体_GB2312"/>
              </a:rPr>
              <a:t>葛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ɡé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）藤的块根，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这个可以当［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dànɡ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］饭吃。它喜欢长在阳光较强的地方，在山路边很容易找到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奶奶则在另一边比较阴湿的地方，采了一大把蕨（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jué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）的嫩叶，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晚上的菜有着落了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过了一会儿，妈妈从林子里摘了几个山刺瓜，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山刺瓜</a:t>
            </a:r>
            <a:r>
              <a:rPr b="0" lang="zh-CN" sz="2300" spc="-1" strike="noStrike">
                <a:solidFill>
                  <a:srgbClr val="ff0000"/>
                </a:solidFill>
                <a:latin typeface="楷体_GB2312"/>
              </a:rPr>
              <a:t>煮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zhǔ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）的汤，包你们没吃过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53040" y="76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野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571680" y="533520"/>
            <a:ext cx="80010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　　他们就这样一路采采停停，到达溪谷的时候，已经快黄昏了。爸爸指着一个</a:t>
            </a:r>
            <a:r>
              <a:rPr b="0" lang="zh-CN" sz="2300" spc="-1" strike="noStrike">
                <a:solidFill>
                  <a:srgbClr val="ff0000"/>
                </a:solidFill>
                <a:latin typeface="楷体_GB2312"/>
              </a:rPr>
              <a:t>凹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āo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）入的石壁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晚上，我们就在这里过夜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　　爸爸的话还没说完，聪聪就迫不及待地跃进溪里，泡起清凉的溪水</a:t>
            </a:r>
            <a:r>
              <a:rPr b="0" lang="zh-CN" sz="2300" spc="-1" strike="noStrike">
                <a:solidFill>
                  <a:srgbClr val="ff0000"/>
                </a:solidFill>
                <a:latin typeface="楷体_GB2312"/>
              </a:rPr>
              <a:t>浴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yù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）。爸爸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大鱼躲在比较深的溪潭，看我把它们捉上岸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他拿来一根</a:t>
            </a:r>
            <a:r>
              <a:rPr b="0" lang="zh-CN" sz="2300" spc="-1" strike="noStrike">
                <a:solidFill>
                  <a:srgbClr val="ff0000"/>
                </a:solidFill>
                <a:latin typeface="楷体_GB2312"/>
              </a:rPr>
              <a:t>削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xiāo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）尖的木棍，潜入水里。不一会儿，爸爸冒出头来，木棍上叉了一条鱼。聪聪惊喜地问道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爸，你怎么这样厉害？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向水獭（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tǎ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）学的呀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爸爸说着，头往水里一栽，身体一伸，两脚一蹬，又潜入水底叉鱼去了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04920" y="7621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哪里有水獭呀？我怎么没看见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妹妹在一旁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爷爷听了，回答说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看不到了！你爸爸和你们一样大的时候，这里水獭很多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太阳快下山了，他们燃起了篝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ɡōu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火，一家人围坐在篝火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爷爷唱起了山歌，爸爸和聪聪烤鱼、烤虾，奶奶、妈妈和妹妹忙着煮野菜。一会儿，一道道野味上桌了，有葛根粥、蕨叶炒山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jiā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、野菜炒虾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é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、山刺瓜姜汤，有烤鱼、烤虾，还有在火堆里焖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è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熟的天门冬块根， 真是丰盛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hè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］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8600" y="1430280"/>
            <a:ext cx="8610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　　暑假到了，聪聪吵着要到溪边玩水消暑。爸爸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山里的孩子要能在野外独立生活，等一下带你们到溪边野餐，在山洞里过夜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太棒了 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妹妹兴奋地叫起来，拖着爷爷奶奶一起去。祖孙三代出发了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253040" y="76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野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409760" y="3505320"/>
            <a:ext cx="6324480" cy="761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然段：暑假里爸爸决定带我们全家到溪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野餐，在山洞过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304920" y="0"/>
            <a:ext cx="3733560" cy="1600200"/>
          </a:xfrm>
          <a:prstGeom prst="cloudCallout">
            <a:avLst>
              <a:gd name="adj1" fmla="val -46638"/>
              <a:gd name="adj2" fmla="val 6220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这篇课文主要写了一件什么事？你从中体会到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42696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野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332080" y="6858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决定野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415880" y="838080"/>
            <a:ext cx="228600" cy="5181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85840" y="1139760"/>
            <a:ext cx="85723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　　在往溪谷的路上，大人们就开始向大自然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买菜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了。爷爷挖了一大串葛藤的块根，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这个可以当饭吃。它喜欢长在阳光较强的地方，在山路边很容易找到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奶奶则在另一边比较阴湿的地方，采了一大把蕨的嫩叶，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晚上的菜有着落了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过了一会儿，妈妈从林子里摘了几个山刺瓜，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山刺瓜煮的汤，包你们没吃过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　　他们就这样一路采采停停，到达溪谷的时候，已经快黄昏了。爸爸指着一个凹入的石壁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晚上，我们就在这里过夜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5486400" y="4267080"/>
            <a:ext cx="3429000" cy="1524240"/>
          </a:xfrm>
          <a:prstGeom prst="cloudCallout">
            <a:avLst>
              <a:gd name="adj1" fmla="val 48101"/>
              <a:gd name="adj2" fmla="val 7427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聪聪一家向大自然“买”了哪些菜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7620120" y="1523880"/>
            <a:ext cx="10666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1219320" y="1905120"/>
            <a:ext cx="1447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4800600" y="220968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990720" y="259092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990720" y="289548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>
            <a:off x="2811600" y="2895480"/>
            <a:ext cx="1981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4-07T15:20:53Z</dcterms:modified>
  <cp:revision>9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