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wind.wav" ContentType="audio/x-wav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4078-FFC2-4FA6-AC95-510FF919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804B-D4A6-4E63-98FC-3384BC7C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39FF-1734-4FB0-A72C-126B38082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0B5-5629-4674-9FF3-FE308988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A951-F3F8-4CA5-9508-71523262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EB9E-1D87-43A4-AC8A-DDD9B746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2AA-DD53-4CC4-A377-D5C33D6F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A589-06D1-46C3-9C01-B4A404E7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1806-463C-42D2-A1D9-E4D886BA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95B3-FA37-425D-9593-65EB361D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F1B-8E23-4398-8142-183EEA0F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059C-0A59-43AF-9222-1A3574DB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F783-222E-458F-BC56-19768B9D5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257,3,   &#38391;&#28909;    &#28902;&#38391;    &#28040;&#32791;   &#36434;&#36314;        &#35270;&#32447;    &#33392;&#38590;    &#39037;&#24378;   &#22362;&#24378;          &#38670;&#26102;    &#35268;&#21017;   &#25104;&#32489;&#20876;          &#27492;&#26102;&#27492;&#21051;  &#36965;&#36965;&#39046;&#20808;       &#25484;&#22768;&#38647;&#21160;  &#19981;&#23624;&#19981;&#25376;   &#19981;&#33003;&#32780;&#36208;        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257,3,   &#38391;&#28909;    &#28902;&#38391;    &#28040;&#32791;   &#36434;&#36314;        &#35270;&#32447;    &#33392;&#38590;    &#39037;&#24378;   &#22362;&#24378;          &#38670;&#26102;    &#35268;&#21017;   &#25104;&#32489;&#20876;          &#27492;&#26102;&#27492;&#21051;  &#36965;&#36965;&#39046;&#20808;       &#25484;&#22768;&#38647;&#21160;  &#19981;&#23624;&#19981;&#25376;   &#19981;&#33003;&#32780;&#36208;        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3"/>
          <p:cNvPicPr/>
          <p:nvPr/>
        </p:nvPicPr>
        <p:blipFill>
          <a:blip r:embed="rId1"/>
          <a:srcRect l="0" t="0" r="2060" b="16774"/>
          <a:stretch/>
        </p:blipFill>
        <p:spPr>
          <a:xfrm>
            <a:off x="179280" y="692280"/>
            <a:ext cx="4291200" cy="5394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0_71365_4a775f68cb579c9"/>
          <p:cNvPicPr/>
          <p:nvPr/>
        </p:nvPicPr>
        <p:blipFill>
          <a:blip r:embed="rId2"/>
          <a:srcRect l="-2298" t="8141" r="0" b="0"/>
          <a:stretch/>
        </p:blipFill>
        <p:spPr>
          <a:xfrm>
            <a:off x="4500720" y="549360"/>
            <a:ext cx="442116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684360" y="669960"/>
            <a:ext cx="8280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闷热    烦闷    消耗   蹒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搀着    奥运会  顽强   迈步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霎时    根据   成绩册  晕倒  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宾夕法尼亚  遥遥领先  掌声雷动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屈不挠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胫而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时间                   地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次著名的冲刺是指（       ）在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什么比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举行的（                                              ）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什么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运动员（                    ）的冲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4881240" y="2205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412440" y="32846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四届奥运会马拉松比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661120" y="4292640"/>
            <a:ext cx="130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杜伦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派特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188480" y="2138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英国伦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p_large_1UHU_0d380000db162d10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1258920" y="1052640"/>
            <a:ext cx="69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默读第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自然段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在第二小节中用直线划出描写杜伦多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  <a:ea typeface="黑体"/>
              </a:rPr>
              <a:t>·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派特利表现的句子，用波浪线划出描写工作人员和现场观众表现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_large_1UHU_0d380000db162d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324000" y="476280"/>
            <a:ext cx="864216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派特利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赛正值闷热的夏天，马拉松运动员杜伦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特利虽然一路遥遥领先，并第一个跑进体育场，但因体力消耗太大，他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晕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，一个历史性的场面出现了：派特利用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蹒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步伐顽强地向终点跑去。在这短短的最后路程中，他五次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摔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又五次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咬紧牙关爬起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步、两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·····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多么希望这位坚强的人能胜利到达终点，但是，派特利实在太累了，在离终点只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的地方，他再次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晕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工作人员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时，一位医护人员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场地，把派特利扶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时，工作人员又一次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场地，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了派特利，并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他跑过了终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现场观众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时此刻，全场观众的视线都集中在派特利那艰难的脚步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霎时，全场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掌声雷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在场的观众无不为派特利这种</a:t>
            </a:r>
            <a:r>
              <a:rPr b="1" lang="zh-CN" sz="24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不屈不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精神所感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C:\Users\Administrator\Documents\Tencent Files\693797904\Image\C2C\THFGTQ0][47805DK9CT}R{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547640" y="1916280"/>
            <a:ext cx="6264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派特利迈着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1"/>
              </a:rPr>
              <a:t>蹒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步子，顽强地向终点跑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403280" y="4076640"/>
            <a:ext cx="73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他感到头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____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眼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____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腿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___......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可他继续向终点跑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真是顽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1403280" y="1989000"/>
            <a:ext cx="691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在这最后短短的路程中，他五次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摔倒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又五次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咬紧牙关爬起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187280" y="4941720"/>
            <a:ext cx="795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*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描述一下他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916440" y="5589720"/>
            <a:ext cx="8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*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象一下，此时他心里对自己说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547640" y="191628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此时此刻，全场观众的视线都集中在派特利那艰难的脚步上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一步、两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人们多么希望这位坚强的人能胜利到达终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684360" y="52293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此时，你仿佛看到了什么？听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547640" y="1916280"/>
            <a:ext cx="69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但是，派特利实在太累了，在离终点只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米的地方，他再次晕倒。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这时工作人员又一次冲进场地，架起了派特利，并搀着他跑过了终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5570640" y="1916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实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265560" y="3141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再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547640" y="1916280"/>
            <a:ext cx="69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但是，派特利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实在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太累了，在离终点只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米的地方，他再次</a:t>
            </a:r>
            <a:r>
              <a:rPr b="1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晕倒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这时工作人员又一次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冲进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场地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架起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了派特利，并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搀着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他跑过了终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auto_xinhua_3408080520060795791"/>
          <p:cNvPicPr/>
          <p:nvPr/>
        </p:nvPicPr>
        <p:blipFill>
          <a:blip r:embed="rId1"/>
          <a:srcRect l="87" t="0" r="0" b="7037"/>
          <a:stretch/>
        </p:blipFill>
        <p:spPr>
          <a:xfrm>
            <a:off x="324000" y="333360"/>
            <a:ext cx="4173480" cy="5999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auto_xinhua_5908080520088167346"/>
          <p:cNvPicPr/>
          <p:nvPr/>
        </p:nvPicPr>
        <p:blipFill>
          <a:blip r:embed="rId2"/>
          <a:srcRect l="-1971" t="2465" r="1003" b="5910"/>
          <a:stretch/>
        </p:blipFill>
        <p:spPr>
          <a:xfrm>
            <a:off x="4637160" y="349200"/>
            <a:ext cx="4071960" cy="59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1547640" y="1916280"/>
            <a:ext cx="69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但是，派特利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实在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太累了，在离终点只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米的地方，他再次</a:t>
            </a:r>
            <a:r>
              <a:rPr b="1" lang="zh-CN" sz="4000" spc="-1" strike="noStrike">
                <a:solidFill>
                  <a:srgbClr val="009999"/>
                </a:solidFill>
                <a:latin typeface="黑体"/>
                <a:ea typeface="黑体"/>
              </a:rPr>
              <a:t>晕倒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这时工作人员又一次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冲进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场地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架起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了派特利，并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搀着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他跑过了终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C:\Users\Administrator\AppData\Roaming\Tencent\Users\693797904\QQ\WinTemp\RichOle\3V4HOANVT3$DI{FSOMPLI@P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20071016%20%20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104920" y="-1581120"/>
            <a:ext cx="11248920" cy="8439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1116000" y="1557360"/>
            <a:ext cx="588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霎时，全场掌声雷动，在场的观众无不为派特利这种不屈不挠的精神所感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20071016%20%20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104920" y="-1581120"/>
            <a:ext cx="11248920" cy="84391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6"/>
          <p:cNvSpPr/>
          <p:nvPr/>
        </p:nvSpPr>
        <p:spPr>
          <a:xfrm>
            <a:off x="1116000" y="620640"/>
            <a:ext cx="588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霎时，全场掌声雷动，在场的观众无不为派特利这种不屈不挠的精神所感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霎时，全场掌声雷动，在场的观众都为派特利这种不屈不挠的精神所感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20071016%20%20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104920" y="-1581120"/>
            <a:ext cx="11248920" cy="8439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1116000" y="620640"/>
            <a:ext cx="5886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霎时，全场掌声雷动，在场的观众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不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派特利这种不屈不挠的精神所感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霎时，全场掌声雷动，在场的观众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都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派特利这种不屈不挠的精神所感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天鹅（圣桑）伤.mp3" descr=""/>
          <p:cNvPicPr/>
          <p:nvPr/>
        </p:nvPicPr>
        <p:blipFill>
          <a:blip r:embed="rId2"/>
          <a:stretch/>
        </p:blipFill>
        <p:spPr>
          <a:xfrm>
            <a:off x="8172360" y="564192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169274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250920" y="2247480"/>
            <a:ext cx="8893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派特利的名字虽然没能写进奥运会成绩册，但却伴随着奥运会的发展而流传至今。那一天，美国宾夕法尼亚的大主教说：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在奥运会上获胜并不比参加奥运会更重要。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从此，那句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重要的不是胜利，而是参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的名言从此不胫而走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天鹅（圣桑）伤.mp3" descr=""/>
          <p:cNvPicPr/>
          <p:nvPr/>
        </p:nvPicPr>
        <p:blipFill>
          <a:blip r:embed="rId1"/>
          <a:stretch/>
        </p:blipFill>
        <p:spPr>
          <a:xfrm>
            <a:off x="7740720" y="6021360"/>
            <a:ext cx="88092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69274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派特利的名字没能写进奥运会成绩册，却伴随着奥运会的发展而流传至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Arial"/>
              </a:rPr>
              <a:t>从此，那句“重要的不是胜利，而是参与”的名言不胫而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042920" y="5445000"/>
            <a:ext cx="7058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不胫而走： 胫，小腿，从膝盖到脚跟的一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没有腿却能跑，形容传布迅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  <p:sndAc>
      <p:stSnd>
        <p:snd r:embed="rId1" name="wind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20071016%20%20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2104920" y="-1581120"/>
            <a:ext cx="11248920" cy="84391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826920" y="1773360"/>
            <a:ext cx="73263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虽然重要，但更重要的是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奥运会得到金牌固然可贵，但更可贵的是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468360" y="544500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坚忍、顽强、乐观、向上、拼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684360" y="2601720"/>
            <a:ext cx="7343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开展没有任何形式的歧视并按照（奥林匹克）精神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互相理解、友谊、 （团结）和公平比赛的精神的体育活动来教育青年，从而为建立一个和平而更美好的 （世界）做出贡献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1403280" y="1279440"/>
            <a:ext cx="860436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冲刺的结果和影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个冲进终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没有获得金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名字流传至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产生了一句名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4PELLIBE0AIA0078"/>
          <p:cNvPicPr/>
          <p:nvPr/>
        </p:nvPicPr>
        <p:blipFill>
          <a:blip r:embed="rId1"/>
          <a:srcRect l="0" t="0" r="-2046" b="30113"/>
          <a:stretch/>
        </p:blipFill>
        <p:spPr>
          <a:xfrm>
            <a:off x="324000" y="765000"/>
            <a:ext cx="4101840" cy="4308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00016c880f900bad161311"/>
          <p:cNvPicPr/>
          <p:nvPr/>
        </p:nvPicPr>
        <p:blipFill>
          <a:blip r:embed="rId2"/>
          <a:srcRect l="-4596" t="9813" r="-1250" b="22478"/>
          <a:stretch/>
        </p:blipFill>
        <p:spPr>
          <a:xfrm>
            <a:off x="4371840" y="793800"/>
            <a:ext cx="4497480" cy="43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Img263784588"/>
          <p:cNvPicPr/>
          <p:nvPr/>
        </p:nvPicPr>
        <p:blipFill>
          <a:blip r:embed="rId1"/>
          <a:srcRect l="0" t="0" r="1688" b="15660"/>
          <a:stretch/>
        </p:blipFill>
        <p:spPr>
          <a:xfrm>
            <a:off x="0" y="260280"/>
            <a:ext cx="4213080" cy="2832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42949584200806211622191338019908403_015_640"/>
          <p:cNvPicPr/>
          <p:nvPr/>
        </p:nvPicPr>
        <p:blipFill>
          <a:blip r:embed="rId2"/>
          <a:stretch/>
        </p:blipFill>
        <p:spPr>
          <a:xfrm>
            <a:off x="4356000" y="189000"/>
            <a:ext cx="4778640" cy="3284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xin_3120805200838140106892"/>
          <p:cNvPicPr/>
          <p:nvPr/>
        </p:nvPicPr>
        <p:blipFill>
          <a:blip r:embed="rId3"/>
          <a:srcRect l="0" t="0" r="30554" b="16256"/>
          <a:stretch/>
        </p:blipFill>
        <p:spPr>
          <a:xfrm>
            <a:off x="5724360" y="3789360"/>
            <a:ext cx="3373560" cy="299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110825110573731"/>
          <p:cNvPicPr/>
          <p:nvPr/>
        </p:nvPicPr>
        <p:blipFill>
          <a:blip r:embed="rId4"/>
          <a:srcRect l="0" t="0" r="-573" b="33166"/>
          <a:stretch/>
        </p:blipFill>
        <p:spPr>
          <a:xfrm>
            <a:off x="34920" y="4292640"/>
            <a:ext cx="4307040" cy="2340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1571760" y="3643200"/>
            <a:ext cx="651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从古到今，还有许多像派特利这样挑战自我、奋力拼搏的人，课后查找相关资料互相交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2089440" y="214200"/>
            <a:ext cx="167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拓展作业：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591560" y="1341360"/>
            <a:ext cx="13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拓展作业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404960" y="206064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收集体育健儿顽强拼搏的故事，与小伙伴交流一下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09032409238576"/>
          <p:cNvPicPr/>
          <p:nvPr/>
        </p:nvPicPr>
        <p:blipFill>
          <a:blip r:embed="rId1"/>
          <a:stretch/>
        </p:blipFill>
        <p:spPr>
          <a:xfrm>
            <a:off x="466560" y="117360"/>
            <a:ext cx="8352000" cy="62629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8"/>
          <p:cNvSpPr/>
          <p:nvPr/>
        </p:nvSpPr>
        <p:spPr>
          <a:xfrm>
            <a:off x="1500120" y="285840"/>
            <a:ext cx="66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练笔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描写一下，运动会接力比赛，参赛同学和场上观众的表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" descr="C:\Users\Administrator\AppData\Roaming\Tencent\Users\693797904\QQ\WinTemp\RichOle\D)`W3WZ9N%}I8[[U7ABWBG0.jpg"/>
          <p:cNvPicPr/>
          <p:nvPr/>
        </p:nvPicPr>
        <p:blipFill>
          <a:blip r:embed="rId1"/>
          <a:srcRect l="0" t="0" r="2251" b="38378"/>
          <a:stretch/>
        </p:blipFill>
        <p:spPr>
          <a:xfrm>
            <a:off x="34920" y="44280"/>
            <a:ext cx="8858160" cy="37864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" descr="C:\Users\Administrator\AppData\Roaming\Tencent\Users\693797904\QQ\WinTemp\RichOle\}B{QWHGCWQA$5$4L{7{VG2M.jpg"/>
          <p:cNvPicPr/>
          <p:nvPr/>
        </p:nvPicPr>
        <p:blipFill>
          <a:blip r:embed="rId2"/>
          <a:srcRect l="0" t="60231" r="97" b="0"/>
          <a:stretch/>
        </p:blipFill>
        <p:spPr>
          <a:xfrm>
            <a:off x="0" y="3860640"/>
            <a:ext cx="89647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" descr="C:\Users\Administrator\AppData\Roaming\Tencent\Users\693797904\QQ\WinTemp\RichOle\GIDY@WQRIIR$UC62SF[L3BA.jpg"/>
          <p:cNvPicPr/>
          <p:nvPr/>
        </p:nvPicPr>
        <p:blipFill>
          <a:blip r:embed="rId1"/>
          <a:stretch/>
        </p:blipFill>
        <p:spPr>
          <a:xfrm>
            <a:off x="179280" y="117360"/>
            <a:ext cx="914400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12866185_9331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WordArt 5" descr=""/>
          <p:cNvPicPr/>
          <p:nvPr/>
        </p:nvPicPr>
        <p:blipFill>
          <a:blip r:embed="rId2"/>
          <a:stretch/>
        </p:blipFill>
        <p:spPr>
          <a:xfrm>
            <a:off x="1279440" y="3352680"/>
            <a:ext cx="688356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1763640" y="1413000"/>
            <a:ext cx="59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什么叫“冲刺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一次著名的冲刺具体是指哪一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这次冲刺为什么著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冲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5146200" y="1628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育竞赛中临近终点时全力向前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u=33235492,493777805&amp;fm=0&amp;gp=0"/>
          <p:cNvPicPr/>
          <p:nvPr/>
        </p:nvPicPr>
        <p:blipFill>
          <a:blip r:embed="rId1"/>
          <a:stretch/>
        </p:blipFill>
        <p:spPr>
          <a:xfrm>
            <a:off x="2340000" y="314172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" descr="C:\Users\Administrator\AppData\Roaming\Tencent\Users\693797904\QQ\WinTemp\RichOle\~O8{97T`RX}JJJ~CG2YE4VG.jpg"/>
          <p:cNvPicPr/>
          <p:nvPr/>
        </p:nvPicPr>
        <p:blipFill>
          <a:blip r:embed="rId1"/>
          <a:srcRect l="1149" t="4976" r="41974" b="28576"/>
          <a:stretch/>
        </p:blipFill>
        <p:spPr>
          <a:xfrm>
            <a:off x="1601640" y="1562040"/>
            <a:ext cx="626616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C:\Users\Administrator\AppData\Roaming\Tencent\Users\693797904\QQ\WinTemp\RichOle\KNQLJ[~`7M551QSK539HQQM.jpg"/>
          <p:cNvPicPr/>
          <p:nvPr/>
        </p:nvPicPr>
        <p:blipFill>
          <a:blip r:embed="rId1"/>
          <a:stretch/>
        </p:blipFill>
        <p:spPr>
          <a:xfrm>
            <a:off x="0" y="0"/>
            <a:ext cx="92232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C:\Users\Administrator\AppData\Roaming\Tencent\Users\693797904\QQ\WinTemp\RichOle\O`6YIB)_C~C`A`[9{Z]MN%9.jpg"/>
          <p:cNvPicPr/>
          <p:nvPr/>
        </p:nvPicPr>
        <p:blipFill>
          <a:blip r:embed="rId1"/>
          <a:stretch/>
        </p:blipFill>
        <p:spPr>
          <a:xfrm>
            <a:off x="0" y="0"/>
            <a:ext cx="908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02:59:29Z</dcterms:created>
  <dc:creator>User</dc:creator>
  <dc:description/>
  <dc:language>en-US</dc:language>
  <cp:lastModifiedBy>dbc</cp:lastModifiedBy>
  <dcterms:modified xsi:type="dcterms:W3CDTF">2015-07-01T03:24:33Z</dcterms:modified>
  <cp:revision>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