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.jpeg" ContentType="image/jpeg"/>
  <Override PartName="/ppt/media/image7.png" ContentType="image/png"/>
  <Override PartName="/ppt/media/image27.gif" ContentType="image/gif"/>
  <Override PartName="/ppt/media/image28.png" ContentType="image/png"/>
  <Override PartName="/ppt/media/image8.jpeg" ContentType="image/jpeg"/>
  <Override PartName="/ppt/media/image29.jpeg" ContentType="image/jpeg"/>
  <Override PartName="/ppt/media/image2.gif" ContentType="image/gif"/>
  <Override PartName="/ppt/media/image12.png" ContentType="image/png"/>
  <Override PartName="/ppt/media/image9.gif" ContentType="image/gif"/>
  <Override PartName="/ppt/media/image35.wmf" ContentType="image/x-wmf"/>
  <Override PartName="/ppt/media/image30.jpeg" ContentType="image/jpeg"/>
  <Override PartName="/ppt/media/image13.png" ContentType="image/png"/>
  <Override PartName="/ppt/media/image31.png" ContentType="image/png"/>
  <Override PartName="/ppt/media/image6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01B-B48B-438E-8575-C67205DA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A59-CF8E-4E15-BBE4-4BF70BB3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169-E6B5-4318-9622-BCE1204C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805-A225-4ECF-A630-B0FFB8F9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7E59-BF49-4966-9BDA-3BBB7C28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1D6C-B851-4BAF-92B5-CAF57F2E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A05A-86A6-42B0-A70C-47353970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C80A-3389-4066-BE15-578A3C45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AB2F-81D0-4CE7-8239-3A9B9A3D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40C7-4DEB-4BF8-8601-CFEFD39B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FF42-111F-40B7-997D-5E1D943B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BDA-58D7-4C4A-BD77-6867F0E6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D516-3DAC-4BE9-BAB4-1066F4D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5318-7C9B-405B-820F-69531B4C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9C9F-1457-4EA5-9EB2-F57B9690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26B4-3457-40EA-AD1C-A34D72EC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F2B4-2A62-4D1F-96B1-AD79839F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C4FED-796E-43FE-A73B-61C964AD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4D9E-C71A-4815-B548-48C033FF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B6F1-9469-491B-89D0-BB1B2F4C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468F9-AF8B-4440-8F69-292996AE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13AE-E6FF-4C05-8321-F9673B96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1E7-08F8-4F1E-A9B0-5F391573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1C91-4D96-41BC-8BB6-52B29D7E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B25E-4737-463E-AFC0-4DD508F8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8454-C04B-4C9D-80E4-CD5A7CA9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4455-E9F2-4C63-BDCF-2CE608CE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B865-C795-44E6-8145-6BEF89F2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1D3A1-0296-49CF-BCC8-70402015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4A30-BE57-4607-9BC9-FD269FFA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D85B-D063-4D96-9985-D788A0A5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FBC1-E2EA-4083-945D-9D1BB096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7C527-645C-4351-A060-8C1D275E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AC1-8BF4-473D-90E2-C9DD97D8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F85A-91EE-4234-8ED1-35B492DE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41A1-7656-4EF1-BFB9-DA2DE7EE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80054-E068-4E93-8144-D5488481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36EB-C353-4938-8609-0B518E0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757E-29F8-4A67-9ED5-0B7BE882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AE2B-4029-49A9-BDB0-3E66B5AC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465B-A035-430D-8D15-4A150F88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834DB-13D2-406F-9220-23E3F0B0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29BE-328C-4FDC-A4A4-C49CBEC1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13F-FBCA-4DF2-A63C-B0217008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9A4-A2E6-47A6-931E-8D38988F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301-F80D-4592-BAE8-2555EEEF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88F-C301-48DE-ADFF-7EEB09EB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3E1-1BEB-4D24-BE55-23506D78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2181-F1D2-4050-B456-F57371B80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532B-E23C-4AAB-811B-3F5E4669A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6E9E-DB6D-4CE4-ABF9-3D9F58649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430E-A0AA-4AD4-B2B4-9575F8BB70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2152800" cy="6410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1905120" y="1752480"/>
            <a:ext cx="67816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面五星红旗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492360" y="3789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张苹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77440" y="3433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张苹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528720" cy="316836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299280" y="6548400"/>
            <a:ext cx="2880720" cy="336600"/>
            <a:chOff x="6299280" y="6548400"/>
            <a:chExt cx="2880720" cy="336600"/>
          </a:xfrm>
        </p:grpSpPr>
        <p:pic>
          <p:nvPicPr>
            <p:cNvPr id="214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0800" y="6548400"/>
              <a:ext cx="680760" cy="33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"/>
            <p:cNvGrpSpPr/>
            <p:nvPr/>
          </p:nvGrpSpPr>
          <p:grpSpPr>
            <a:xfrm>
              <a:off x="6299280" y="6548400"/>
              <a:ext cx="2880720" cy="336600"/>
              <a:chOff x="6299280" y="6548400"/>
              <a:chExt cx="2880720" cy="336600"/>
            </a:xfrm>
          </p:grpSpPr>
          <p:pic>
            <p:nvPicPr>
              <p:cNvPr id="2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9928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>
                <a:hlinkClick r:id="" action="ppaction://hlinkshowjump?jump=nextslide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776880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>
                <a:hlinkClick r:id="" action="ppaction://hlinkshowjump?jump=endshow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849924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9" name=""/>
          <p:cNvSpPr/>
          <p:nvPr/>
        </p:nvSpPr>
        <p:spPr>
          <a:xfrm>
            <a:off x="3962880" y="765000"/>
            <a:ext cx="158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课文写了一件什么事</a:t>
            </a:r>
            <a:r>
              <a:rPr b="0" lang="en-US" sz="60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?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60948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在一次（       ）中遇到（       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）的“我”向（           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助，可是（                  ）要求（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“我”拒绝了这个要求。最后，“我”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得到了（                       ）的帮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78960" y="609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漂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114800" y="5562720"/>
            <a:ext cx="3200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课文大意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0" y="609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危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1600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身无分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13400" y="1676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面包店老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2590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面包店老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25909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”用国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505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换面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956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面包店老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248520" y="4952880"/>
            <a:ext cx="2916000" cy="16401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919160" y="107460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9933ff"/>
                </a:solidFill>
                <a:latin typeface="宋体"/>
              </a:rPr>
              <a:t>“</a:t>
            </a:r>
            <a:r>
              <a:rPr b="0" lang="zh-CN" sz="3600" spc="-1" strike="noStrike">
                <a:solidFill>
                  <a:srgbClr val="9933ff"/>
                </a:solidFill>
                <a:latin typeface="宋体"/>
              </a:rPr>
              <a:t>我”遇到了什么危险？</a:t>
            </a:r>
            <a:r>
              <a:rPr b="0" lang="zh-CN" sz="3600" spc="-1" strike="noStrike">
                <a:solidFill>
                  <a:srgbClr val="9933ff"/>
                </a:solidFill>
                <a:latin typeface="Times New Roman"/>
                <a:ea typeface="仿宋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63640" y="205416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9999"/>
                </a:solidFill>
                <a:latin typeface="宋体"/>
              </a:rPr>
              <a:t>为什么“我”要拒绝用五星红旗换面包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3500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9933ff"/>
                </a:solidFill>
                <a:latin typeface="宋体"/>
              </a:rPr>
              <a:t>后来面包店老板为什么又帮助了“我”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299280" y="6548400"/>
            <a:ext cx="2880720" cy="336600"/>
            <a:chOff x="6299280" y="6548400"/>
            <a:chExt cx="2880720" cy="336600"/>
          </a:xfrm>
        </p:grpSpPr>
        <p:pic>
          <p:nvPicPr>
            <p:cNvPr id="235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0800" y="6548400"/>
              <a:ext cx="680760" cy="33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"/>
            <p:cNvGrpSpPr/>
            <p:nvPr/>
          </p:nvGrpSpPr>
          <p:grpSpPr>
            <a:xfrm>
              <a:off x="6299280" y="6548400"/>
              <a:ext cx="2880720" cy="336600"/>
              <a:chOff x="6299280" y="6548400"/>
              <a:chExt cx="2880720" cy="336600"/>
            </a:xfrm>
          </p:grpSpPr>
          <p:pic>
            <p:nvPicPr>
              <p:cNvPr id="2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9928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" descr="">
                <a:hlinkClick r:id="" action="ppaction://hlinkshowjump?jump=nextslide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776880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>
                <a:hlinkClick r:id="" action="ppaction://hlinkshowjump?jump=endshow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849924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431080" y="771480"/>
            <a:ext cx="34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9933ff"/>
                </a:solidFill>
                <a:latin typeface="宋体"/>
              </a:rPr>
              <a:t>“</a:t>
            </a:r>
            <a:r>
              <a:rPr b="0" lang="zh-CN" sz="3600" spc="-1" strike="noStrike">
                <a:solidFill>
                  <a:srgbClr val="9933ff"/>
                </a:solidFill>
                <a:latin typeface="宋体"/>
              </a:rPr>
              <a:t>我”遇到了什么危险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1773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不久，筏子漂到了水势最急的一段河面，周围一片漆黑，我想大声呼喊，给自己壮胆鼓劲。还没等喊出口，只觉眼前一黑，便落入激流之中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9280" y="6548400"/>
            <a:ext cx="2880720" cy="336600"/>
            <a:chOff x="6299280" y="6548400"/>
            <a:chExt cx="2880720" cy="336600"/>
          </a:xfrm>
        </p:grpSpPr>
        <p:pic>
          <p:nvPicPr>
            <p:cNvPr id="243" name="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030800" y="6548400"/>
              <a:ext cx="680760" cy="33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"/>
            <p:cNvGrpSpPr/>
            <p:nvPr/>
          </p:nvGrpSpPr>
          <p:grpSpPr>
            <a:xfrm>
              <a:off x="6299280" y="6548400"/>
              <a:ext cx="2880720" cy="336600"/>
              <a:chOff x="6299280" y="6548400"/>
              <a:chExt cx="2880720" cy="336600"/>
            </a:xfrm>
          </p:grpSpPr>
          <p:pic>
            <p:nvPicPr>
              <p:cNvPr id="2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9928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>
                <a:hlinkClick r:id="" action="ppaction://hlinkshowjump?jump=nextslide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776880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>
                <a:hlinkClick r:id="" action="ppaction://hlinkshowjump?jump=endshow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849924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139480" y="411120"/>
            <a:ext cx="51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漂流失事后</a:t>
            </a:r>
            <a:r>
              <a:rPr b="0" lang="en-US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我的处境是怎么样的</a:t>
            </a:r>
            <a:r>
              <a:rPr b="0" lang="en-US" sz="36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71640" y="14130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醒来的时候，发现自己被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块巨石挡住了，头和身子被撞伤了好几处，筏子和背包都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影无踪</a:t>
            </a:r>
            <a:r>
              <a:rPr b="0" lang="zh-CN" sz="3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迷路了，在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荒无人烟</a:t>
            </a: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的大山里转来转去。直到第三天中午，我才来到一座小镇，走进一家面包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299280" y="6548400"/>
            <a:ext cx="2880720" cy="336600"/>
            <a:chOff x="6299280" y="6548400"/>
            <a:chExt cx="2880720" cy="336600"/>
          </a:xfrm>
        </p:grpSpPr>
        <p:pic>
          <p:nvPicPr>
            <p:cNvPr id="251" name="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030800" y="6548400"/>
              <a:ext cx="680760" cy="33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"/>
            <p:cNvGrpSpPr/>
            <p:nvPr/>
          </p:nvGrpSpPr>
          <p:grpSpPr>
            <a:xfrm>
              <a:off x="6299280" y="6548400"/>
              <a:ext cx="2880720" cy="336600"/>
              <a:chOff x="6299280" y="6548400"/>
              <a:chExt cx="2880720" cy="336600"/>
            </a:xfrm>
          </p:grpSpPr>
          <p:pic>
            <p:nvPicPr>
              <p:cNvPr id="2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9928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>
                <a:hlinkClick r:id="" action="ppaction://hlinkshowjump?jump=nextslide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776880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>
                <a:hlinkClick r:id="" action="ppaction://hlinkshowjump?jump=endshow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849924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荒无人烟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烟：指住户、居民，因有炊烟的地方就有人居住。形容地方偏僻荒凉，见不到人家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4648320" cy="3657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066680" y="5715000"/>
            <a:ext cx="2590920" cy="762120"/>
          </a:xfrm>
          <a:prstGeom prst="cloudCallout">
            <a:avLst>
              <a:gd name="adj1" fmla="val -50120"/>
              <a:gd name="adj2" fmla="val 3729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</a:rPr>
              <a:t>返回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醒来的时候，发现自己被一块巨石挡住了，头和身子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撞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好几处，筏子和背包都无影无踪。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迷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，在</a:t>
            </a: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</a:rPr>
              <a:t>荒无人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大山里转来转去 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105520" y="42670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伤痕累累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324480" y="533412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饥饿难耐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581280" y="533412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精疲力尽</a:t>
            </a:r>
            <a:endParaRPr b="0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53352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9900ff"/>
                </a:solidFill>
                <a:latin typeface="Arial"/>
              </a:rPr>
              <a:t>我”的处境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438280" y="1295280"/>
            <a:ext cx="6019920" cy="4496040"/>
          </a:xfrm>
          <a:prstGeom prst="cloudCallout">
            <a:avLst>
              <a:gd name="adj1" fmla="val -52611"/>
              <a:gd name="adj2" fmla="val 54694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仔细阅读课文，找出描写面包店老板态度变化的句子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380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981080" y="228600"/>
            <a:ext cx="426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会比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71320" y="333360"/>
            <a:ext cx="31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老板的态度有什么变化呢</a:t>
            </a: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10760" y="1125360"/>
            <a:ext cx="496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老板听懂了我的话，却把</a:t>
            </a:r>
            <a:r>
              <a:rPr b="0" lang="zh-CN" sz="28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双手一摊，表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一脸的无奈，</a:t>
            </a:r>
            <a:r>
              <a:rPr b="0" lang="zh-CN" sz="28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说：“我讲究平等交易，我给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面包，你能给我什么呢？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1a19"/>
                </a:solidFill>
                <a:latin typeface="楷体_GB2312"/>
                <a:ea typeface="楷体_GB2312"/>
              </a:rPr>
              <a:t>他见我醒了，冲我竖起拇指，说：“</a:t>
            </a:r>
            <a:r>
              <a:rPr b="0" lang="zh-CN" sz="28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安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养一养，费用由我来付。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55120" y="357336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双手一摊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表示一脸的无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64280" y="4149720"/>
            <a:ext cx="6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9933ff"/>
                </a:solidFill>
                <a:latin typeface="宋体"/>
              </a:rPr>
              <a:t>提出用五星红旗交换面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59400" y="486900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给了”我”更多的帮助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299280" y="6548400"/>
            <a:ext cx="2880720" cy="336600"/>
            <a:chOff x="6299280" y="6548400"/>
            <a:chExt cx="2880720" cy="336600"/>
          </a:xfrm>
        </p:grpSpPr>
        <p:pic>
          <p:nvPicPr>
            <p:cNvPr id="273" name="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030800" y="6548400"/>
              <a:ext cx="680760" cy="33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"/>
            <p:cNvGrpSpPr/>
            <p:nvPr/>
          </p:nvGrpSpPr>
          <p:grpSpPr>
            <a:xfrm>
              <a:off x="6299280" y="6548400"/>
              <a:ext cx="2880720" cy="336600"/>
              <a:chOff x="6299280" y="6548400"/>
              <a:chExt cx="2880720" cy="336600"/>
            </a:xfrm>
          </p:grpSpPr>
          <p:pic>
            <p:nvPicPr>
              <p:cNvPr id="2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9928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" descr="">
                <a:hlinkClick r:id="" action="ppaction://hlinkshowjump?jump=nextslide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776880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>
                <a:hlinkClick r:id="" action="ppaction://hlinkshowjump?jump=endshow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849924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762120"/>
            <a:ext cx="8001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板听懂了我的话，却把双手一摊，表示一脸的无奈，说：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“我讲究平等交易，我给你面包，你能给我什么呢？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895480"/>
            <a:ext cx="7905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醒来的时候，发现自己躺在医院的病房里，身边站着的就是面包店的老板。他见我醒了，冲我竖起大拇指，说：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“安心养一养，费用由我来付。”</a:t>
            </a:r>
            <a:r>
              <a:rPr b="1" lang="en-US" sz="3200" spc="-1" strike="noStrike">
                <a:solidFill>
                  <a:srgbClr val="9900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990720" cy="904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9903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7216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 rot="181800">
            <a:off x="3047760" y="1294920"/>
            <a:ext cx="472428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441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读到这里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259092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你觉得面包店老板是怎样的人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5867280"/>
            <a:ext cx="2514600" cy="457200"/>
          </a:xfrm>
          <a:prstGeom prst="wedgeRoundRectCallout">
            <a:avLst>
              <a:gd name="adj1" fmla="val -72601"/>
              <a:gd name="adj2" fmla="val -40625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</a:rPr>
              <a:t>返回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68360" y="189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0" lang="en-US" sz="3600" spc="-1" strike="noStrike">
                <a:solidFill>
                  <a:srgbClr val="007a77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</a:rPr>
              <a:t>我为什么拒绝了面包店老板用五星红旗换面包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7280" y="1413000"/>
            <a:ext cx="70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用“</a:t>
            </a:r>
            <a:r>
              <a:rPr b="0" lang="zh-CN" sz="2800" spc="-1" strike="noStrike" u="sng">
                <a:solidFill>
                  <a:srgbClr val="9933ff"/>
                </a:solidFill>
                <a:uFillTx/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9933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画出“我”拒绝面包店老板的句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66720" y="213372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我摇摇头，吃力地穿上大衣，拿着鲜艳的国旗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趔趔趄趄地向外走去。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47640" y="2629080"/>
            <a:ext cx="152640" cy="152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35280" y="2629080"/>
            <a:ext cx="152280" cy="152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95640" y="2629080"/>
            <a:ext cx="152280" cy="152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26370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26370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87280" y="3448080"/>
            <a:ext cx="152640" cy="152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3448080"/>
            <a:ext cx="152640" cy="152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08000" y="3448080"/>
            <a:ext cx="152640" cy="152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3448080"/>
            <a:ext cx="152640" cy="152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2992320"/>
            <a:ext cx="769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突然，我摔倒在地上，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什 么也不知道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99400" y="4727520"/>
            <a:ext cx="290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心中有祖国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299280" y="6548400"/>
            <a:ext cx="2880720" cy="336600"/>
            <a:chOff x="6299280" y="6548400"/>
            <a:chExt cx="2880720" cy="336600"/>
          </a:xfrm>
        </p:grpSpPr>
        <p:pic>
          <p:nvPicPr>
            <p:cNvPr id="300" name="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7030800" y="6548400"/>
              <a:ext cx="680760" cy="33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1" name=""/>
            <p:cNvGrpSpPr/>
            <p:nvPr/>
          </p:nvGrpSpPr>
          <p:grpSpPr>
            <a:xfrm>
              <a:off x="6299280" y="6548400"/>
              <a:ext cx="2880720" cy="336600"/>
              <a:chOff x="6299280" y="6548400"/>
              <a:chExt cx="2880720" cy="336600"/>
            </a:xfrm>
          </p:grpSpPr>
          <p:pic>
            <p:nvPicPr>
              <p:cNvPr id="3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9928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3" name="" descr="">
                <a:hlinkClick r:id="" action="ppaction://hlinkshowjump?jump=nextslide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776880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>
                <a:hlinkClick r:id="" action="ppaction://hlinkshowjump?jump=endshow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849924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826920" y="39337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体会到作者的体力已经消耗的太多，身体极度疲惫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51280" y="134136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从“吃力地”、“趔趔趄趄”、“摔倒在地”“、什么也不知道了”，你体会到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3059280" cy="28065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332000" y="981000"/>
            <a:ext cx="64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就在“我”极度饥饿、疲劳，非常需要帮助的时候，依然断然拒绝了面包店老板提出的用面包换五星红旗的要求，大家从中体会到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2879640" cy="338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657600" y="380880"/>
            <a:ext cx="2743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凝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1" name=""/>
          <p:cNvSpPr/>
          <p:nvPr/>
        </p:nvSpPr>
        <p:spPr>
          <a:xfrm>
            <a:off x="3809880" y="1295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íng shì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2286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眨眼地看； 神情专注地看； 从高往低看；专注地看、注视着某样东西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5486400" y="3809880"/>
            <a:ext cx="3067200" cy="2743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23529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愣了一下，然后久久地</a:t>
            </a:r>
            <a:r>
              <a:rPr b="0" lang="zh-CN" sz="4400" spc="-1" strike="noStrike" u="sng">
                <a:solidFill>
                  <a:srgbClr val="dc5900"/>
                </a:solidFill>
                <a:uFillTx/>
                <a:latin typeface="Arial"/>
              </a:rPr>
              <a:t>凝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着手中的五星红旗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95480" y="2666880"/>
            <a:ext cx="5791320" cy="26672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这时“我”可能在想什么呢？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摇摇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吃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穿上大衣，拿着鲜艳的国旗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趔趔趄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向外走去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31240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假如你是面包店老板，你会怎么想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796000" y="31417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76720" y="388296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感  动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765000"/>
            <a:ext cx="8686800" cy="228852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7a77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面包店老板是个怎样的人</a:t>
            </a:r>
            <a:r>
              <a:rPr b="0" lang="en-US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你能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      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价一下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0" lang="en-US" sz="3600" spc="-1" strike="noStrike">
                <a:solidFill>
                  <a:srgbClr val="007a77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你觉得是什么让面包店老板的态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      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发生了巨大的转变</a:t>
            </a:r>
            <a:r>
              <a:rPr b="0" lang="zh-CN" sz="3600" spc="-1" strike="noStrike">
                <a:solidFill>
                  <a:srgbClr val="9933ff"/>
                </a:solidFill>
                <a:latin typeface="宋体"/>
              </a:rPr>
              <a:t>又帮助了我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299280" y="6548400"/>
            <a:ext cx="2880720" cy="336600"/>
            <a:chOff x="6299280" y="6548400"/>
            <a:chExt cx="2880720" cy="336600"/>
          </a:xfrm>
        </p:grpSpPr>
        <p:pic>
          <p:nvPicPr>
            <p:cNvPr id="324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0800" y="6548400"/>
              <a:ext cx="680760" cy="33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5" name=""/>
            <p:cNvGrpSpPr/>
            <p:nvPr/>
          </p:nvGrpSpPr>
          <p:grpSpPr>
            <a:xfrm>
              <a:off x="6299280" y="6548400"/>
              <a:ext cx="2880720" cy="336600"/>
              <a:chOff x="6299280" y="6548400"/>
              <a:chExt cx="2880720" cy="336600"/>
            </a:xfrm>
          </p:grpSpPr>
          <p:pic>
            <p:nvPicPr>
              <p:cNvPr id="32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9928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>
                <a:hlinkClick r:id="" action="ppaction://hlinkshowjump?jump=nextslide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776880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>
                <a:hlinkClick r:id="" action="ppaction://hlinkshowjump?jump=endshow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849924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143000" y="121932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Arial"/>
              </a:rPr>
              <a:t>我想对面包店老板说……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657600" y="5334120"/>
            <a:ext cx="838080" cy="76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4724280" y="4419720"/>
            <a:ext cx="1067040" cy="9745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6629400" y="403848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533520"/>
            <a:ext cx="2209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114800" y="-988920"/>
            <a:ext cx="3610080" cy="43416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914400" y="2057400"/>
            <a:ext cx="6324480" cy="2666880"/>
          </a:xfrm>
          <a:prstGeom prst="wedgeRoundRectCallout">
            <a:avLst>
              <a:gd name="adj1" fmla="val 41388"/>
              <a:gd name="adj2" fmla="val 83870"/>
              <a:gd name="adj3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同学们，请你们找出出现五星红旗的句子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641520"/>
            <a:ext cx="153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读文感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62120" y="83808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结合《资料袋》内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1828800"/>
            <a:ext cx="601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说一说你对我国国旗的认识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86200" y="4038480"/>
            <a:ext cx="396252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-76320" y="-76320"/>
            <a:ext cx="9286200" cy="6858000"/>
            <a:chOff x="-76320" y="-76320"/>
            <a:chExt cx="9286200" cy="685800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-76320" y="-76320"/>
              <a:ext cx="9142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858240" y="571320"/>
              <a:ext cx="784728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30000"/>
                </a:lnSpc>
                <a:buClr>
                  <a:srgbClr val="006666"/>
                </a:buClr>
                <a:buFont typeface="宋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宋体"/>
                </a:rPr>
                <a:t>收拾好背包，我把它系在筏子上，举一面鲜艳的五星红 旗，便出发了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6666"/>
                </a:buClr>
                <a:buFont typeface="宋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宋体"/>
                </a:rPr>
                <a:t>为了防止丢失，也为了行动方便，我把国旗从旗杆上抽下来，系在脖子上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buClr>
                  <a:srgbClr val="006666"/>
                </a:buClr>
                <a:buFont typeface="宋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宋体"/>
                </a:rPr>
                <a:t>我愣了一下，然后久久地凝视着手中的五星红旗。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02600" y="1147680"/>
              <a:ext cx="144000" cy="144360"/>
            </a:xfrm>
            <a:prstGeom prst="octagon">
              <a:avLst>
                <a:gd name="adj" fmla="val 29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2240" y="2803320"/>
              <a:ext cx="151920" cy="152640"/>
            </a:xfrm>
            <a:prstGeom prst="octagon">
              <a:avLst>
                <a:gd name="adj" fmla="val 29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15680" y="33796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46960" y="337968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34240" y="337968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94600" y="337968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1880" y="337968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42240" y="3595680"/>
              <a:ext cx="880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6666"/>
                  </a:solidFill>
                  <a:latin typeface="Times New Roman"/>
                </a:rPr>
                <a:t>？</a:t>
              </a:r>
              <a:endParaRPr b="0" lang="en-US" sz="6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47040" y="4676760"/>
              <a:ext cx="871200" cy="228600"/>
            </a:xfrm>
            <a:custGeom>
              <a:avLst/>
              <a:gdLst>
                <a:gd name="textAreaLeft" fmla="*/ 248760 w 871200"/>
                <a:gd name="textAreaRight" fmla="*/ 747000 w 871200"/>
                <a:gd name="textAreaTop" fmla="*/ 130680 h 228600"/>
                <a:gd name="textAreaBottom" fmla="*/ 1962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29"/>
                  </a:moveTo>
                  <a:lnTo>
                    <a:pt x="6171" y="9257"/>
                  </a:lnTo>
                  <a:lnTo>
                    <a:pt x="6171" y="12343"/>
                  </a:lnTo>
                  <a:lnTo>
                    <a:pt x="12343" y="12343"/>
                  </a:lnTo>
                  <a:lnTo>
                    <a:pt x="12343" y="6171"/>
                  </a:lnTo>
                  <a:lnTo>
                    <a:pt x="9257" y="6171"/>
                  </a:lnTo>
                  <a:lnTo>
                    <a:pt x="15429" y="0"/>
                  </a:lnTo>
                  <a:lnTo>
                    <a:pt x="21600" y="6171"/>
                  </a:lnTo>
                  <a:lnTo>
                    <a:pt x="18514" y="6171"/>
                  </a:lnTo>
                  <a:lnTo>
                    <a:pt x="18514" y="18514"/>
                  </a:lnTo>
                  <a:lnTo>
                    <a:pt x="6171" y="18514"/>
                  </a:lnTo>
                  <a:lnTo>
                    <a:pt x="6171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98560" y="4171680"/>
              <a:ext cx="274104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这面做工精致的五星红旗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经过河水的冲洗，依然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那么鲜艳</a:t>
              </a:r>
              <a:r>
                <a:rPr b="1" lang="zh-CN" sz="2800" spc="-1" strike="noStrike">
                  <a:solidFill>
                    <a:srgbClr val="9933ff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5320" y="47480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47320" y="47480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94960" y="589284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26960" y="590076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6653520" y="3884400"/>
              <a:ext cx="2520360" cy="285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6" name=""/>
            <p:cNvGrpSpPr/>
            <p:nvPr/>
          </p:nvGrpSpPr>
          <p:grpSpPr>
            <a:xfrm>
              <a:off x="6329880" y="6427800"/>
              <a:ext cx="2880000" cy="336240"/>
              <a:chOff x="6329880" y="6427800"/>
              <a:chExt cx="2880000" cy="336240"/>
            </a:xfrm>
          </p:grpSpPr>
          <p:pic>
            <p:nvPicPr>
              <p:cNvPr id="357" name="" descr="">
                <a:hlinkClick r:id="" action="ppaction://hlinkshowjump?jump=previousslide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7061400" y="6427800"/>
                <a:ext cx="680760" cy="336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8" name=""/>
              <p:cNvGrpSpPr/>
              <p:nvPr/>
            </p:nvGrpSpPr>
            <p:grpSpPr>
              <a:xfrm>
                <a:off x="6329880" y="6427800"/>
                <a:ext cx="2880000" cy="336240"/>
                <a:chOff x="6329880" y="6427800"/>
                <a:chExt cx="2880000" cy="336240"/>
              </a:xfrm>
            </p:grpSpPr>
            <p:pic>
              <p:nvPicPr>
                <p:cNvPr id="3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29880" y="6427800"/>
                  <a:ext cx="680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>
                  <a:hlinkClick r:id="" action="ppaction://hlinkshowjump?jump=nextslide"/>
                </p:cNvPr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799040" y="6427800"/>
                  <a:ext cx="680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>
                  <a:hlinkClick r:id="" action="ppaction://hlinkshowjump?jump=endshow"/>
                </p:cNvPr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29120" y="6427800"/>
                  <a:ext cx="680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3520" y="380880"/>
            <a:ext cx="1828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438280" y="533520"/>
            <a:ext cx="2895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我会提炼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1828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举例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190512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收拾好背包，我把它系在筏子上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举一面鲜艳的五星红旗，便出发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57800" y="3733920"/>
            <a:ext cx="914400" cy="6094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419720" y="4648320"/>
            <a:ext cx="2666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手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8" name=""/>
          <p:cNvSpPr/>
          <p:nvPr/>
        </p:nvSpPr>
        <p:spPr>
          <a:xfrm>
            <a:off x="2057400" y="304920"/>
            <a:ext cx="6705720" cy="4952880"/>
          </a:xfrm>
          <a:prstGeom prst="wedgeRoundRectCallout">
            <a:avLst>
              <a:gd name="adj1" fmla="val -39986"/>
              <a:gd name="adj2" fmla="val 56504"/>
              <a:gd name="adj3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小朋友，你会仿照例句，找出和五星红旗搭配的动词吗？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8290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收拾好背包，我把它系在筏子上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举一面鲜艳的五星红旗，便出发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342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防止丢失，也为了行动方便，我把国旗从旗杆上抽下来，系在脖子上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28954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18148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40384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048120" y="23623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手举五星红旗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200400" y="510552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系五星红旗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391520" y="1295280"/>
            <a:ext cx="1600200" cy="14623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162920" y="358128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09480" y="1600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手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00800" y="3886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突然，老板的眼里闪出亮光，他用手指着我脖子上的五星红旗，惊奇地问：“那是什么？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我犹豫了一下，把国旗慢慢接来，再展开。这面做工精致的五星红旗，经过河水的冲洗，依然是那么鲜艳。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我愣了一下，然后久久地凝视着手中的五星红旗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摇摇头，吃力地穿上大一，拿着鲜艳的国旗，趔趔趄趄地向外走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828800" y="4724280"/>
            <a:ext cx="3657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拒换五星红旗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029200" y="1066680"/>
            <a:ext cx="762120" cy="6969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238880" y="2209680"/>
            <a:ext cx="762120" cy="6955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7848720" y="2971800"/>
            <a:ext cx="838080" cy="765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6095880" y="4267080"/>
            <a:ext cx="6858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7.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这时我才发现，在我床头的花瓶里，有一束美丽、芬芳的鲜花，花丛里插着那面心爱的五星红旗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523880" y="3581280"/>
            <a:ext cx="4419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插五星红旗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1066680" cy="974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438280" y="22860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插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362320" y="457200"/>
            <a:ext cx="6248160" cy="3962520"/>
          </a:xfrm>
          <a:prstGeom prst="wedgeRoundRectCallout">
            <a:avLst>
              <a:gd name="adj1" fmla="val -40472"/>
              <a:gd name="adj2" fmla="val 69231"/>
              <a:gd name="adj3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青年留学生的哪些行为感动了你？找出课文中感动你的句子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200400" y="5334120"/>
            <a:ext cx="838080" cy="1295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4267080" y="5334120"/>
            <a:ext cx="838440" cy="1295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5257800" y="5334120"/>
            <a:ext cx="83808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6324480" y="5334120"/>
            <a:ext cx="838440" cy="12952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7391520" y="5334120"/>
            <a:ext cx="838080" cy="1295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352680" y="5715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5791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1008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77120" y="57913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4380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295280" y="45720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收拾好背包，我把它系在筏子上，手举一面鲜艳的五星红旗，便出发了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7772400" y="5992920"/>
            <a:ext cx="990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为了防止丢失，也为了行动方便，我把国旗从旗杆上抽下来，系在脖子上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3962520" y="4191120"/>
            <a:ext cx="4952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犹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一下，把国旗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慢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下来，再展开。这面做工精致的五星红旗，经过河水的冲洗，依然是那么鲜艳。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352680" y="3124080"/>
            <a:ext cx="4800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反复朗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7543800" y="5791320"/>
            <a:ext cx="9144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2492280"/>
            <a:ext cx="597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</a:t>
            </a:r>
            <a:r>
              <a:rPr b="1" lang="zh-CN" sz="3000" spc="-1" strike="noStrike">
                <a:solidFill>
                  <a:srgbClr val="007a77"/>
                </a:solidFill>
                <a:latin typeface="华文中宋"/>
                <a:ea typeface="华文中宋"/>
              </a:rPr>
              <a:t>本课讲述了“我”遇险后在危难的关头下也没有将红旗换面包吃。最后仍然得到救助。让我们知道：国与国之间要相互尊重，人民要友好往来。“国际理解”并不是放弃民族自尊，只有热爱自己的祖国的人才能赢得外国人的尊重。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7164360" y="1125360"/>
            <a:ext cx="1112760" cy="522936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2340000" y="549360"/>
            <a:ext cx="3960360" cy="1152000"/>
            <a:chOff x="2340000" y="549360"/>
            <a:chExt cx="3960360" cy="1152000"/>
          </a:xfrm>
        </p:grpSpPr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2340000" y="549360"/>
              <a:ext cx="3960360" cy="115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2855880" y="765360"/>
              <a:ext cx="335844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91658" dir="1281766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课堂小结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1197000"/>
            <a:ext cx="5735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中华人民共和国国旗是五星红旗。它是中华人民共和国的象征和标志。左上方缀黄色五角星五颗，四颗小星环拱在一颗大星的右面，并各有一个角尖正对大星的中心点。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颗红星对齐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颗红星对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156360" y="1197000"/>
            <a:ext cx="2454120" cy="2565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523880" y="1143000"/>
            <a:ext cx="64771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欣赏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619280" y="692280"/>
            <a:ext cx="5545080" cy="3687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332000" y="472428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1949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年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细黑"/>
              </a:rPr>
              <a:t>日，第一面中华人民共和国国旗——五星红旗由毛泽东在天安门广场首次升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8920" y="1125360"/>
            <a:ext cx="451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华文细黑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细黑"/>
              </a:rPr>
              <a:t>关于五星红旗，有很多动人的故事，这节课我们学习其中之一——《一面五星红旗》。看看作者是在怎样的情况下保护国旗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547640" y="3716280"/>
            <a:ext cx="2422800" cy="2879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0" t="22712" r="0" b="0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79280" y="115920"/>
            <a:ext cx="23338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自读提示：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1341360"/>
            <a:ext cx="6324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自由轻声读课文，读准字音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读通句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想一想，课文主要讲了一件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么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299280" y="6548400"/>
            <a:ext cx="2880720" cy="336600"/>
            <a:chOff x="6299280" y="6548400"/>
            <a:chExt cx="2880720" cy="336600"/>
          </a:xfrm>
        </p:grpSpPr>
        <p:pic>
          <p:nvPicPr>
            <p:cNvPr id="182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030800" y="6548400"/>
              <a:ext cx="680760" cy="33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"/>
            <p:cNvGrpSpPr/>
            <p:nvPr/>
          </p:nvGrpSpPr>
          <p:grpSpPr>
            <a:xfrm>
              <a:off x="6299280" y="6548400"/>
              <a:ext cx="2880720" cy="336600"/>
              <a:chOff x="6299280" y="6548400"/>
              <a:chExt cx="2880720" cy="336600"/>
            </a:xfrm>
          </p:grpSpPr>
          <p:pic>
            <p:nvPicPr>
              <p:cNvPr id="1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9928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>
                <a:hlinkClick r:id="" action="ppaction://hlinkshowjump?jump=nextslide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776880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>
                <a:hlinkClick r:id="" action="ppaction://hlinkshowjump?jump=endshow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8499240" y="6548400"/>
                <a:ext cx="680760" cy="33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53352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学词语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828800"/>
            <a:ext cx="6705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0000"/>
                </a:solidFill>
                <a:latin typeface="Arial"/>
              </a:rPr>
              <a:t>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   </a:t>
            </a:r>
            <a:r>
              <a:rPr b="1" lang="zh-CN" sz="4000" spc="-1" strike="noStrike">
                <a:solidFill>
                  <a:srgbClr val="e20000"/>
                </a:solidFill>
                <a:latin typeface="Arial"/>
              </a:rPr>
              <a:t>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e20000"/>
                </a:solidFill>
                <a:latin typeface="Arial"/>
              </a:rPr>
              <a:t>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起    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3048120"/>
            <a:ext cx="654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壮</a:t>
            </a:r>
            <a:r>
              <a:rPr b="1" lang="zh-CN" sz="4000" spc="-1" strike="noStrike">
                <a:solidFill>
                  <a:srgbClr val="e20000"/>
                </a:solidFill>
                <a:latin typeface="Arial"/>
              </a:rPr>
              <a:t>胆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   </a:t>
            </a:r>
            <a:r>
              <a:rPr b="1" lang="zh-CN" sz="4000" spc="-1" strike="noStrike">
                <a:solidFill>
                  <a:srgbClr val="e20000"/>
                </a:solidFill>
                <a:latin typeface="Arial"/>
              </a:rPr>
              <a:t>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　小</a:t>
            </a:r>
            <a:r>
              <a:rPr b="1" lang="zh-CN" sz="4000" spc="-1" strike="noStrike">
                <a:solidFill>
                  <a:srgbClr val="e20000"/>
                </a:solidFill>
                <a:latin typeface="Arial"/>
              </a:rPr>
              <a:t>镇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 </a:t>
            </a:r>
            <a:r>
              <a:rPr b="1" lang="zh-CN" sz="4000" spc="-1" strike="noStrike">
                <a:solidFill>
                  <a:srgbClr val="e20000"/>
                </a:solidFill>
                <a:latin typeface="Arial"/>
              </a:rPr>
              <a:t>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434340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影无</a:t>
            </a:r>
            <a:r>
              <a:rPr b="1" lang="zh-CN" sz="4000" spc="-1" strike="noStrike">
                <a:solidFill>
                  <a:srgbClr val="e20000"/>
                </a:solidFill>
                <a:latin typeface="Arial"/>
              </a:rPr>
              <a:t>踪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2952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境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包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    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47242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荒无人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6386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趔趔趄趄    身无分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971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20574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8862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倒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914400" y="533520"/>
            <a:ext cx="2590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我会组词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1828800"/>
            <a:ext cx="309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漆（      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膝（      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1828800"/>
            <a:ext cx="280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滩（       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摊（       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4114800"/>
            <a:ext cx="352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犹（       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优（       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962520" y="838080"/>
            <a:ext cx="685800" cy="627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800600" y="533520"/>
            <a:ext cx="990720" cy="904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6095880" y="533520"/>
            <a:ext cx="685800" cy="627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743200" y="18288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0000"/>
                </a:solidFill>
                <a:latin typeface="Times New Roman"/>
                <a:ea typeface="黑体"/>
              </a:rPr>
              <a:t>漆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27432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0000"/>
                </a:solidFill>
                <a:latin typeface="Times New Roman"/>
                <a:ea typeface="黑体"/>
              </a:rPr>
              <a:t>膝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18288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0000"/>
                </a:solidFill>
                <a:latin typeface="Times New Roman"/>
                <a:ea typeface="黑体"/>
              </a:rPr>
              <a:t>海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28195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0000"/>
                </a:solidFill>
                <a:latin typeface="Times New Roman"/>
                <a:ea typeface="黑体"/>
              </a:rPr>
              <a:t>小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41911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0000"/>
                </a:solidFill>
                <a:latin typeface="Times New Roman"/>
                <a:ea typeface="黑体"/>
              </a:rPr>
              <a:t>犹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51055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0000"/>
                </a:solidFill>
                <a:latin typeface="Times New Roman"/>
                <a:ea typeface="黑体"/>
              </a:rPr>
              <a:t>优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9T05:43:18Z</dcterms:created>
  <dc:creator>Administrator</dc:creator>
  <dc:description/>
  <dc:language>en-US</dc:language>
  <cp:lastModifiedBy/>
  <dcterms:modified xsi:type="dcterms:W3CDTF">2015-08-19T05:46:39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