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suction.wav" ContentType="audio/x-wav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7596-0424-428A-9376-2EFD3BF57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3FDE-EF55-496F-9AFA-CC5BC898F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听录音，想想课文讲了一件什么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E08-70B9-4CB7-ADDE-141F97D4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81B-1057-4F13-AED4-8CB31CA0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40F-4FA3-4256-9072-36961EFA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D4F-96AD-4338-A5C3-DF2AB4F4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2C1-CA74-4AD5-9C37-602C57D5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9AA-343D-47A8-9415-C335B0BC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31A-0EE3-4306-8EF0-A79E9CD5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201-2A11-464A-882B-AB856740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FD0-6A8F-41F2-AECE-41CE912A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7A5-2DC9-4A21-83CC-7D12F87C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9C4-63C1-47F6-9506-3A31913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9D2-5804-43FC-BDE7-5F5CF703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B4F7-87F3-4267-BBA1-E2AB3F6072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一条新裙子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2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整体感知回应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条新裙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盖茨大街    旧貌   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——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新貌   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——1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90080" y="2878200"/>
            <a:ext cx="458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4452180000[1]"/>
          <p:cNvPicPr/>
          <p:nvPr/>
        </p:nvPicPr>
        <p:blipFill>
          <a:blip r:embed="rId1"/>
          <a:stretch/>
        </p:blipFill>
        <p:spPr>
          <a:xfrm>
            <a:off x="5599080" y="1484280"/>
            <a:ext cx="3294000" cy="4032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346040" y="4175280"/>
            <a:ext cx="4590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MCj04452060000[1]"/>
          <p:cNvPicPr/>
          <p:nvPr/>
        </p:nvPicPr>
        <p:blipFill>
          <a:blip r:embed="rId2"/>
          <a:stretch/>
        </p:blipFill>
        <p:spPr>
          <a:xfrm>
            <a:off x="826920" y="3141720"/>
            <a:ext cx="2016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学习第一自然段。联系上下文思考以下问题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盖茨大街原来是什么样子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你愿意生活在这样的城市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0" y="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MCj04452180000[1]"/>
          <p:cNvPicPr/>
          <p:nvPr/>
        </p:nvPicPr>
        <p:blipFill>
          <a:blip r:embed="rId1"/>
          <a:stretch/>
        </p:blipFill>
        <p:spPr>
          <a:xfrm>
            <a:off x="6012000" y="2205000"/>
            <a:ext cx="220644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1332000" y="2637000"/>
            <a:ext cx="417672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盖茨大街旧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脏、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路面坑坑洼洼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没有路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噪音、尘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183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“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学校里，小姑娘们大都穿着整洁的衣衫，而来自盖茨 大街的一个小女孩，却</a:t>
            </a:r>
            <a:r>
              <a:rPr b="0" lang="zh-CN" sz="2500" spc="-1" strike="noStrike" u="sng">
                <a:solidFill>
                  <a:srgbClr val="ff0000"/>
                </a:solidFill>
                <a:uFillTx/>
                <a:latin typeface="Calibri"/>
              </a:rPr>
              <a:t>每天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穿着睛件脏兮兮的衣服，脸上</a:t>
            </a:r>
            <a:r>
              <a:rPr b="0" lang="zh-CN" sz="2500" spc="-1" strike="noStrike" u="sng">
                <a:solidFill>
                  <a:srgbClr val="ff0000"/>
                </a:solidFill>
                <a:uFillTx/>
                <a:latin typeface="Calibri"/>
              </a:rPr>
              <a:t>总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那么脏，头发也</a:t>
            </a:r>
            <a:r>
              <a:rPr b="0" lang="zh-CN" sz="2500" spc="-1" strike="noStrike" u="sng">
                <a:solidFill>
                  <a:srgbClr val="ff0000"/>
                </a:solidFill>
                <a:uFillTx/>
                <a:latin typeface="Calibri"/>
              </a:rPr>
              <a:t>老是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那么凌乱。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400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楷体_GB2312"/>
              </a:rPr>
              <a:t>读以上句子你能体会到什么？加点词语说明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993040" y="3500280"/>
            <a:ext cx="33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盖茨大街人们的生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穿着极不讲究，不讲究卫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942280" y="4724280"/>
            <a:ext cx="371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加点词的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小女孩一直以来都是这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0" y="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9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读第二自然段理解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读第三至五自然段。思考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1916280"/>
            <a:ext cx="8540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97d"/>
                </a:solidFill>
                <a:latin typeface="Calibri"/>
              </a:rPr>
              <a:t>老师对这个小女孩提出了什么要求？给予什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97d"/>
                </a:solidFill>
                <a:latin typeface="Calibri"/>
              </a:rPr>
              <a:t>帮助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老师要小女孩把头发梳理好，把衣服洗干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当小女孩仍穿脏衣服上学时，老师给小姑娘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了一条新裙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97d"/>
                </a:solidFill>
                <a:latin typeface="Calibri"/>
              </a:rPr>
              <a:t>新裙子给小女孩家庭带来什么变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饭桌铺桌布、洗刷地板、修理篱笆、清除杂草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栽一花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97d"/>
                </a:solidFill>
                <a:latin typeface="Calibri"/>
              </a:rPr>
              <a:t>小女孩家给邻居们带来什么变化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粉刷房子、打扫房子、整理院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97d"/>
                </a:solidFill>
                <a:latin typeface="Calibri"/>
              </a:rPr>
              <a:t>居民们的行动给盖茨大街带来什么变化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路面铺得王平平整整，大街小巷装上路灯，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家户户都用上自来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684360" y="1557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11280" y="3141720"/>
            <a:ext cx="799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447840" y="4292640"/>
            <a:ext cx="8156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84360" y="5445000"/>
            <a:ext cx="7920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0" y="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8074080" y="1844640"/>
            <a:ext cx="4586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MCj04452060000[1]"/>
          <p:cNvPicPr/>
          <p:nvPr/>
        </p:nvPicPr>
        <p:blipFill>
          <a:blip r:embed="rId1"/>
          <a:stretch/>
        </p:blipFill>
        <p:spPr>
          <a:xfrm>
            <a:off x="6084720" y="1989000"/>
            <a:ext cx="288000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、读最后一自然段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227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读出一条新裙子带来的面貌的惊喜之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0"/>
            <a:ext cx="85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MCj04451600000[1]"/>
          <p:cNvPicPr/>
          <p:nvPr/>
        </p:nvPicPr>
        <p:blipFill>
          <a:blip r:embed="rId1"/>
          <a:stretch/>
        </p:blipFill>
        <p:spPr>
          <a:xfrm>
            <a:off x="900000" y="2781360"/>
            <a:ext cx="604836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23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细读回应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一条新裙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盖茨大街          旧貌       脏、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1—5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）   路面坑坑洼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 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没有路灯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                              噪音、尘埃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                                 ↑                 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                              盖茨大街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                                     ↓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新貌        路面整整齐齐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6—14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）  装上路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   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人们用上自来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0" y="0"/>
            <a:ext cx="8821800" cy="82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整体感悟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感情地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条新裙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盖茨大街          旧貌       脏、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—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   路面坑坑洼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没有路灯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               噪音、尘埃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                 ↑                 变化原因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 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              盖茨大街         小女孩穿上 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↓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新裙子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新貌        路面整整齐齐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—1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    装上路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们用上自来水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月亮代表我的心.mp3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31776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6" descr="u=3875634675,3358295563&amp;fm=2&amp;gp=0"/>
          <p:cNvPicPr/>
          <p:nvPr/>
        </p:nvPicPr>
        <p:blipFill>
          <a:blip r:embed="rId1"/>
          <a:stretch/>
        </p:blipFill>
        <p:spPr>
          <a:xfrm>
            <a:off x="395280" y="765000"/>
            <a:ext cx="8496360" cy="5832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ff00"/>
                </a:solidFill>
                <a:latin typeface="Calibri"/>
              </a:rPr>
              <a:t>、深入理解，请联系上下文的内容回答以下问题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1773000"/>
            <a:ext cx="74912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、盖茨大街为什么能旧貌换新颜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0"/>
            <a:ext cx="845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延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50920" y="2565360"/>
            <a:ext cx="779616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人们从小姑娘穿上新衣服而变得漂亮受到启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从这里你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只要人人都有爱美之心，都愿意为创建美好家园而各尽所能，人们生活的环境就会越来越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23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拓展延伸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——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读了这篇课文后得到什么收获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谈谈肩负的环保责任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谈谈在生态环境和卫生环境等方面的做法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谈谈对环保的决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116000" y="444168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MCj04451600000[1]"/>
          <p:cNvPicPr/>
          <p:nvPr/>
        </p:nvPicPr>
        <p:blipFill>
          <a:blip r:embed="rId1"/>
          <a:stretch/>
        </p:blipFill>
        <p:spPr>
          <a:xfrm>
            <a:off x="900000" y="3500280"/>
            <a:ext cx="7344000" cy="275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2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拓展延伸回应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通过对这篇课文的学习，我们应该感到自己肩负的环保责任无论是生态环境还是卫生环境，我们都要好好保护，从自己身边的小事做起，为创建美好家园，构建和谐社会而努力奋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116000" y="47307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u=1138294747,1715155331&amp;fm=0&amp;gp=0"/>
          <p:cNvPicPr/>
          <p:nvPr/>
        </p:nvPicPr>
        <p:blipFill>
          <a:blip r:embed="rId1"/>
          <a:stretch/>
        </p:blipFill>
        <p:spPr>
          <a:xfrm>
            <a:off x="3132000" y="3284640"/>
            <a:ext cx="51850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图片1"/>
          <p:cNvPicPr/>
          <p:nvPr/>
        </p:nvPicPr>
        <p:blipFill>
          <a:blip r:embed="rId1">
            <a:lum bright="12000"/>
          </a:blip>
          <a:srcRect l="0" t="0" r="0" b="-5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2050920" y="2209680"/>
            <a:ext cx="626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同学们真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前准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美丽苗乡.mp3" descr=""/>
          <p:cNvPicPr/>
          <p:nvPr/>
        </p:nvPicPr>
        <p:blipFill>
          <a:blip r:embed="rId2"/>
          <a:stretch/>
        </p:blipFill>
        <p:spPr>
          <a:xfrm>
            <a:off x="7236000" y="465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美丽苗乡.mp3" descr=""/>
          <p:cNvPicPr/>
          <p:nvPr/>
        </p:nvPicPr>
        <p:blipFill>
          <a:blip r:embed="rId3"/>
          <a:stretch/>
        </p:blipFill>
        <p:spPr>
          <a:xfrm>
            <a:off x="745164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861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4861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、读拼音，写词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ào  yī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ǐ  mà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ín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à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ū  l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          ）（          ）（              ）（ 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ǔ fu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ǐ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í  b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īn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ā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       ）（            ）（         ）（   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843280" y="2492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礼   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877080" y="2492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梳   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84360" y="3645000"/>
            <a:ext cx="12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嘱   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2556000" y="3645000"/>
            <a:ext cx="13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洗    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643280" y="3645000"/>
            <a:ext cx="13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篱  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588000" y="36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     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59120" y="501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826920" y="24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噪   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442764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493236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凌     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5003640" y="256536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4859280" y="37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0" y="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练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二、比一比，读一读，再组词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噪（    ）（      ）、嘱（    ）（      ）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操（    ）（      ）、属（    ）（      ）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咐（    ）（      ）、铺（    ）（      ）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付（    ）（      ）、捕（    ）（      ）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600200" y="1811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895480" y="184464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噪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600200" y="23875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131280" y="2387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672560" y="18352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590480" y="24112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200560" y="1844640"/>
            <a:ext cx="81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496200" y="184464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嘱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219640" y="2421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6496200" y="24210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属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765080" y="3068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967120" y="306864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托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671480" y="364500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2967120" y="36450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吩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5283360" y="2997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651672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铺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5292720" y="3645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6443640" y="364500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捕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0" y="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练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三、给多音字注音组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157400" y="1763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527120" y="177336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168200" y="2195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547640" y="220500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1157400" y="2987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907280" y="296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铺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1116000" y="3429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743120" y="335772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铺子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2751120" y="3357720"/>
            <a:ext cx="15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铺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3903840" y="328464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店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1086120" y="421164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887480" y="42210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漂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095480" y="4724280"/>
            <a:ext cx="10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031840" y="472428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漂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1095480" y="5229360"/>
            <a:ext cx="9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2123280" y="519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漂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0" y="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练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6602400" y="3814920"/>
            <a:ext cx="45864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5" descr="MCj04451540000[1]"/>
          <p:cNvPicPr/>
          <p:nvPr/>
        </p:nvPicPr>
        <p:blipFill>
          <a:blip r:embed="rId1"/>
          <a:stretch/>
        </p:blipFill>
        <p:spPr>
          <a:xfrm>
            <a:off x="5076720" y="3789360"/>
            <a:ext cx="3743280" cy="2303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6"/>
          <p:cNvSpPr/>
          <p:nvPr/>
        </p:nvSpPr>
        <p:spPr>
          <a:xfrm>
            <a:off x="6208560" y="76500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7" descr="MCj04451540000[1]"/>
          <p:cNvPicPr/>
          <p:nvPr/>
        </p:nvPicPr>
        <p:blipFill>
          <a:blip r:embed="rId2"/>
          <a:stretch/>
        </p:blipFill>
        <p:spPr>
          <a:xfrm>
            <a:off x="5076720" y="1004760"/>
            <a:ext cx="359892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suction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四、给课文对话打上标点符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老师嘱咐孩子     亲爱的宝贝   回家让妈妈给你洗洗衣服吧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  这是干什么用的       爸爸指着桌布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0"/>
            <a:ext cx="73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练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MCj04451540000[1]"/>
          <p:cNvPicPr/>
          <p:nvPr/>
        </p:nvPicPr>
        <p:blipFill>
          <a:blip r:embed="rId1"/>
          <a:stretch/>
        </p:blipFill>
        <p:spPr>
          <a:xfrm>
            <a:off x="1116000" y="3789360"/>
            <a:ext cx="1577880" cy="1347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MCj04451540000[1]"/>
          <p:cNvPicPr/>
          <p:nvPr/>
        </p:nvPicPr>
        <p:blipFill>
          <a:blip r:embed="rId2"/>
          <a:stretch/>
        </p:blipFill>
        <p:spPr>
          <a:xfrm>
            <a:off x="3419640" y="4292640"/>
            <a:ext cx="1577880" cy="1347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MCj04451540000[1]"/>
          <p:cNvPicPr/>
          <p:nvPr/>
        </p:nvPicPr>
        <p:blipFill>
          <a:blip r:embed="rId3"/>
          <a:stretch/>
        </p:blipFill>
        <p:spPr>
          <a:xfrm>
            <a:off x="5724360" y="4149720"/>
            <a:ext cx="1578240" cy="13478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8"/>
          <p:cNvSpPr/>
          <p:nvPr/>
        </p:nvSpPr>
        <p:spPr>
          <a:xfrm>
            <a:off x="304020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722760" y="1844640"/>
            <a:ext cx="9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208560" y="191628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4001400" y="2421000"/>
            <a:ext cx="5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1258920" y="2924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427640" y="299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Calibri"/>
              </a:rPr>
              <a:t>谢谢同学们的精彩表现！</a:t>
            </a:r>
            <a:br>
              <a:rPr sz="4900"/>
            </a:br>
            <a:br>
              <a:rPr sz="4900"/>
            </a:br>
            <a:br>
              <a:rPr sz="4900"/>
            </a:br>
            <a:r>
              <a:rPr b="0" lang="zh-CN" sz="4900" spc="-1" strike="noStrike">
                <a:solidFill>
                  <a:srgbClr val="000000"/>
                </a:solidFill>
                <a:latin typeface="Calibri"/>
              </a:rPr>
              <a:t>下课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859280" y="3722760"/>
            <a:ext cx="34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311120" y="3362400"/>
            <a:ext cx="196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u=1138294747,1715155331&amp;fm=0&amp;gp=0"/>
          <p:cNvPicPr/>
          <p:nvPr/>
        </p:nvPicPr>
        <p:blipFill>
          <a:blip r:embed="rId1"/>
          <a:stretch/>
        </p:blipFill>
        <p:spPr>
          <a:xfrm>
            <a:off x="684360" y="1628640"/>
            <a:ext cx="2735280" cy="459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u=541366857,1635306696&amp;fm=3&amp;gp=0"/>
          <p:cNvPicPr/>
          <p:nvPr/>
        </p:nvPicPr>
        <p:blipFill>
          <a:blip r:embed="rId1"/>
          <a:stretch/>
        </p:blipFill>
        <p:spPr>
          <a:xfrm>
            <a:off x="611280" y="765000"/>
            <a:ext cx="7921440" cy="5510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900" spc="-1" strike="noStrike">
                <a:solidFill>
                  <a:srgbClr val="ff0000"/>
                </a:solidFill>
                <a:latin typeface="Calibri"/>
              </a:rPr>
              <a:t>谁都想听到鸟儿的欢歌，谁都想闻到花木的芬芳，谁都想生活在空气清新、阳光明媚、风景优美的环境中，在我们享受大自然的时候，我们可曾想过：我们为赖以生存的环境做了此什么呢？只要人人都伸出一双手，世界就会变成美好的人间。</a:t>
            </a:r>
            <a:br>
              <a:rPr sz="2900"/>
            </a:br>
            <a:r>
              <a:rPr b="0" lang="zh-CN" sz="2900" spc="-1" strike="noStrike">
                <a:solidFill>
                  <a:srgbClr val="ff0000"/>
                </a:solidFill>
                <a:latin typeface="Calibri"/>
              </a:rPr>
              <a:t>      今天，我们就来看看一条新裙子的感召作用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369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0" y="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课导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66304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u=1138294747,1715155331&amp;fm=0&amp;gp=0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673600"/>
          </a:xfrm>
          <a:prstGeom prst="rect">
            <a:avLst/>
          </a:prstGeom>
          <a:ln w="0">
            <a:noFill/>
          </a:ln>
        </p:spPr>
      </p:pic>
      <p:pic>
        <p:nvPicPr>
          <p:cNvPr id="60" name="美丽的苗乡.mp3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0" y="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示课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39640" y="2852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f497d"/>
                </a:solidFill>
                <a:latin typeface="Arial"/>
              </a:rPr>
              <a:t>13 </a:t>
            </a:r>
            <a:r>
              <a:rPr b="0" lang="zh-CN" sz="9600" spc="-1" strike="noStrike">
                <a:solidFill>
                  <a:srgbClr val="1f497d"/>
                </a:solidFill>
                <a:latin typeface="Arial"/>
              </a:rPr>
              <a:t>一条新裙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157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</a:rPr>
              <a:t>按要求自学课文</a:t>
            </a:r>
            <a:br>
              <a:rPr sz="2900"/>
            </a:br>
            <a:r>
              <a:rPr b="0" lang="zh-CN" sz="29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2900"/>
            </a:br>
            <a:r>
              <a:rPr b="0" lang="zh-CN" sz="2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给不认识字作记，并查字典注上拼音、识记生字。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课文读正确、读流利。    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边读边想课文讲了一件什么事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步感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Cj04452040000[1]"/>
          <p:cNvPicPr/>
          <p:nvPr/>
        </p:nvPicPr>
        <p:blipFill>
          <a:blip r:embed="rId1"/>
          <a:stretch/>
        </p:blipFill>
        <p:spPr>
          <a:xfrm>
            <a:off x="1763640" y="3789360"/>
            <a:ext cx="6264360" cy="188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6"/>
          <p:cNvPicPr/>
          <p:nvPr/>
        </p:nvPicPr>
        <p:blipFill>
          <a:blip r:embed="rId1"/>
          <a:stretch/>
        </p:blipFill>
        <p:spPr>
          <a:xfrm>
            <a:off x="324000" y="2060640"/>
            <a:ext cx="8424720" cy="4284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6880" y="285480"/>
            <a:ext cx="5340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、认一认，读一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3360" y="1557000"/>
            <a:ext cx="8540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ā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d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ān         zào             lí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脏 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脏乱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端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一端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噪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噪音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凌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凌乱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ào          </a:t>
            </a: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ū            pū</a:t>
            </a: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              sh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貌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礼貌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梳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梳理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铺（铺床） 刷（洗刷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í                bā              xiū             n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篱（篱笆） 笆（篱笆）修（修理）努（努力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95640" y="26028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39640" y="5229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端、脏乱、噪音、尘埃、凌乱、礼貌、梳理、洗刷、修理、篱笆、努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0" y="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自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3" descr="MCj04452040000[1]"/>
          <p:cNvPicPr/>
          <p:nvPr/>
        </p:nvPicPr>
        <p:blipFill>
          <a:blip r:embed="rId1"/>
          <a:stretch/>
        </p:blipFill>
        <p:spPr>
          <a:xfrm>
            <a:off x="2916360" y="3645000"/>
            <a:ext cx="5616360" cy="2577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理解不懂的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凌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梳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嘱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修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努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692360" y="1916280"/>
            <a:ext cx="21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不整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692360" y="2421000"/>
            <a:ext cx="47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用梳子整理头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816200" y="3578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692360" y="292428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告诉对方雇应该怎样，不应该怎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692360" y="3429000"/>
            <a:ext cx="68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损坏的东西恢复原来的形状或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4005360"/>
            <a:ext cx="48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把力量尽量使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0" y="0"/>
            <a:ext cx="54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自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848200" y="13460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23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—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检查自学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1f497d"/>
                </a:solidFill>
                <a:latin typeface="Calibri"/>
              </a:rPr>
              <a:t>、说说课文讲了一件什么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90000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条新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 flipH="1">
            <a:off x="6732720" y="270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的故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103480" y="2714760"/>
            <a:ext cx="47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带给盖茨大街居民们生活习惯和生活环境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356000" y="3357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</a:rPr>
              <a:t>送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条新裙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14400" y="33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455840" y="335772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了改变一位女孩脏的面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084720" y="33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孩子的父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50920" y="400536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发现自己有一个漂亮的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36400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父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084720" y="40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始打扫屋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2916360" y="4005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了干净漂亮的女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250920" y="465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他们的带动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42764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居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493236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都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5435640" y="465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努力地打扫房子，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231840" y="530064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理院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042920" y="5300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很多人的帮助下，盖茨大街变得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4500720" y="530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面貌一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4" descr="MCj04452060000[1]"/>
          <p:cNvPicPr/>
          <p:nvPr/>
        </p:nvPicPr>
        <p:blipFill>
          <a:blip r:embed="rId1"/>
          <a:stretch/>
        </p:blipFill>
        <p:spPr>
          <a:xfrm>
            <a:off x="5651640" y="5229360"/>
            <a:ext cx="3241440" cy="1152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5"/>
          <p:cNvSpPr/>
          <p:nvPr/>
        </p:nvSpPr>
        <p:spPr>
          <a:xfrm>
            <a:off x="6372360" y="692280"/>
            <a:ext cx="23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6" descr="MCj04452180000[1]"/>
          <p:cNvPicPr/>
          <p:nvPr/>
        </p:nvPicPr>
        <p:blipFill>
          <a:blip r:embed="rId2"/>
          <a:stretch/>
        </p:blipFill>
        <p:spPr>
          <a:xfrm>
            <a:off x="6300720" y="765000"/>
            <a:ext cx="2303640" cy="1943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7"/>
          <p:cNvSpPr/>
          <p:nvPr/>
        </p:nvSpPr>
        <p:spPr>
          <a:xfrm>
            <a:off x="2050920" y="479736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 flipV="1" rot="10797000">
            <a:off x="1907640" y="4646160"/>
            <a:ext cx="29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脏乱有名的盖茨大街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836280"/>
            <a:ext cx="85406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快速阅读课文，思考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001960"/>
            <a:ext cx="82296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哪些自然段写小姑娘穿新裙子前盖茨大街的旧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哪些自然段写小姑娘穿新裙子后盖茨大街的新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258920" y="4941720"/>
            <a:ext cx="289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0" y="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体感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0:30:48Z</dcterms:created>
  <dc:creator/>
  <dc:description/>
  <cp:keywords/>
  <dc:language>en-US</dc:language>
  <cp:lastModifiedBy>Administrator</cp:lastModifiedBy>
  <dcterms:modified xsi:type="dcterms:W3CDTF">2015-04-08T10:23:47Z</dcterms:modified>
  <cp:revision>266</cp:revision>
  <dc:subject/>
  <dc:title>幻灯片 1</dc:title>
</cp:coreProperties>
</file>