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B4A5-D7EC-4BB0-8A33-0EDF7B03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56A-C1FB-4A6F-A6DA-2E58CA07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569C-21ED-449B-8F0D-212ACD30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50F-50C7-4E49-BF6D-A379843B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1884-9E0C-4850-A626-40E067EED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C313-F6BF-4217-BF6D-26EF6D65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E4A2-E37E-42B5-9409-CBCED978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C2184-3433-42DC-852C-022227F0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89EF-A5EE-46F1-8153-70E030EC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A889-1C08-440E-A9BA-D6C2FB74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A35F-BDE3-4552-B2E0-316151F1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8129-E039-4C2A-BC14-EBE01B1B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20D49-F4CC-4FD6-BF04-BA70B4D9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6B53-8811-4431-861C-2821181A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6A6B-9406-4E5A-A29F-BC6B2D43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31C9-FC1E-4AAB-A071-C2B065A3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608B-12E9-4E89-A11E-BBDAC86F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931-C9B8-4BC5-B2D8-C4481614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60B-18C6-4769-9078-FEDA70C9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DD2-8A4B-4C0F-B8A9-9DB24E01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CB1-2E7B-40C0-AC8E-2D178DB0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EA3-4A6C-4C99-89DF-E061E13D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F08-2FB8-4E0D-BDC6-6057E759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26B-FDE8-4355-B5E0-B42AEFFA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FBB8-875A-402E-94AB-0A7A76C265C0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A56B-BAFA-44E3-8341-E2F659A6831D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35280" y="1917720"/>
            <a:ext cx="63244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7a77"/>
                </a:solidFill>
                <a:latin typeface="Times New Roman"/>
                <a:ea typeface="隶书"/>
              </a:rPr>
              <a:t>颐 和 园</a:t>
            </a:r>
            <a:endParaRPr b="0" lang="en-US" sz="129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5268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800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632280" y="457200"/>
            <a:ext cx="1521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佛香阁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4000" y="76500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981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080" y="114156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抬头一看，一座八角宝塔形的三层建筑耸立在半山腰上，黄色的琉璃瓦闪闪发光。那就是佛香阁。 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4000" y="76500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98100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080" y="114156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抬头一看，一座八角宝塔形的三层建筑</a:t>
            </a: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耸立</a:t>
            </a:r>
            <a:r>
              <a:rPr b="1" lang="zh-CN" sz="6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在半山腰上，黄色的琉璃瓦闪闪发光。那就是佛香阁。 </a:t>
            </a:r>
            <a:endParaRPr b="0" lang="en-US" sz="6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4675" t="3793" r="2729" b="3793"/>
          <a:stretch/>
        </p:blipFill>
        <p:spPr>
          <a:xfrm>
            <a:off x="252360" y="260280"/>
            <a:ext cx="6227640" cy="6211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456320" y="765000"/>
            <a:ext cx="9115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排云殿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4920" y="4765680"/>
            <a:ext cx="9145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正前面，昆明湖静得像一面镜子，绿得像一块碧玉。游船、画舫在湖面慢慢地滑过，几乎不留一点儿痕迹。</a:t>
            </a: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0" t="0" r="590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5661000"/>
            <a:ext cx="19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6922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画舫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4920" y="4765680"/>
            <a:ext cx="9145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正前面，昆明湖静得像一面镜子，绿得像一块碧玉。游船、画舫在湖面慢慢地滑过，几乎不留一点儿痕迹。</a:t>
            </a: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97080" y="5516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滑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4920" y="4765680"/>
            <a:ext cx="91454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正前面，昆明湖静得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绿得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游船、画舫在湖面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几乎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4920" y="4765680"/>
            <a:ext cx="91454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正前面，昆明湖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游船、画舫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4920" y="4765680"/>
            <a:ext cx="91454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正前面，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5280" y="1346040"/>
            <a:ext cx="813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颐和园原是清朝帝王的行宫和花园，前身清漪园，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6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时，被英法联军焚毁了，直到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86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慈禧太后挪用海军经费才重新修建，可是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0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它又遭到八国联军野蛮地抢掠和破坏，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02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再次修复。到现在经过百年修复，如今的颐和园是个拥山抱水景色秀美的地方，它以无与伦比的园林艺术的魅丽，倾倒了无数的中外游客，被人们赞誉为人间天堂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8360" y="692280"/>
            <a:ext cx="1871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小资料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4920" y="4765680"/>
            <a:ext cx="914544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正前面，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             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。</a:t>
            </a: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24000" y="907920"/>
            <a:ext cx="8388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这座石桥有十七个桥洞，叫十七孔桥；桥栏杆上有上百根石柱，柱子上都雕刻着小狮子。这么多的狮子，姿态不一，没有哪两只是相同的。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476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座石桥有十七个桥洞，叫十七孔桥，远远望去像（      ）。桥栏杆上有（   ）根石柱，柱子上都雕刻着（   ）的小狮子。（   ）只狮子大小不一，姿态不一，有的（   ）有的（   ）有的（   ）还有的（   ）没有哪两只是相同的。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1280" y="549360"/>
            <a:ext cx="896472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476280"/>
            <a:ext cx="87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这座石桥有十七个桥洞，叫十七孔桥，远远望去像（      ）。桥栏杆上有（   ）根石柱，柱子上都雕刻着（   ）的小狮子。（   ）只狮子大小不一，姿态不一，有的（   ）有的（   ）有的（   ）还有的（   ）没有哪两只是相同的。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7840" y="4673520"/>
            <a:ext cx="80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桥两边的白栏杆上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8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根望柱，每根望柱上雕刻着三四只、五六只不等的狮子，共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4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907920"/>
            <a:ext cx="817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必做：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继续有感情地朗读课文，把自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喜欢的部分背下来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通过网络等各种途径了解颐和园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其他美景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选做：做一次小导游向父母介绍颐和园的美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景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76500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549360"/>
            <a:ext cx="7880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Gungsuh"/>
                <a:ea typeface="Gungsuh"/>
              </a:rPr>
              <a:t>  </a:t>
            </a:r>
            <a:r>
              <a:rPr b="1" lang="en-US" sz="4800" spc="-1" strike="noStrike">
                <a:solidFill>
                  <a:srgbClr val="007a77"/>
                </a:solidFill>
                <a:latin typeface="Gungsuh"/>
                <a:ea typeface="Gungsuh"/>
              </a:rPr>
              <a:t>diàn  láng   zāi   zhù</a:t>
            </a:r>
            <a:r>
              <a:rPr b="1" lang="en-US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宫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殿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 长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廊 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栽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种 　建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筑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Gungsuh"/>
                <a:ea typeface="Gungsuh"/>
              </a:rPr>
              <a:t>s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ǒ</a:t>
            </a:r>
            <a:r>
              <a:rPr b="1" lang="en-US" sz="4800" spc="-1" strike="noStrike">
                <a:solidFill>
                  <a:srgbClr val="007a77"/>
                </a:solidFill>
                <a:latin typeface="Gungsuh"/>
                <a:ea typeface="Gungsuh"/>
              </a:rPr>
              <a:t>ng    fǎng   tiào  dī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耸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立　 画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舫 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远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眺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堤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岸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Gungsuh"/>
                <a:ea typeface="Gungsuh"/>
              </a:rPr>
              <a:t>diāo   shī     gé  yí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雕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刻　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狮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子　楼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阁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颐</a:t>
            </a:r>
            <a:r>
              <a:rPr b="1" lang="zh-CN" sz="4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和园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76500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35040"/>
            <a:ext cx="856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宫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殿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长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廊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栽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种　建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筑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耸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立　画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舫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远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眺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堤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岸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雕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刻　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狮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子　楼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阁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颐</a:t>
            </a:r>
            <a:r>
              <a:rPr b="1" lang="zh-CN" sz="5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和园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765000"/>
            <a:ext cx="799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13000" y="743040"/>
            <a:ext cx="62830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殿</a:t>
            </a:r>
            <a:r>
              <a:rPr b="1" lang="zh-CN" sz="6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廊</a:t>
            </a:r>
            <a:r>
              <a:rPr b="1" lang="zh-CN" sz="6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栽</a:t>
            </a:r>
            <a:r>
              <a:rPr b="1" lang="en-US" sz="6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筑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耸</a:t>
            </a:r>
            <a:r>
              <a:rPr b="1" lang="zh-CN" sz="6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舫</a:t>
            </a:r>
            <a:r>
              <a:rPr b="1" lang="zh-CN" sz="6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眺</a:t>
            </a:r>
            <a:r>
              <a:rPr b="1" lang="zh-CN" sz="6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堤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雕</a:t>
            </a:r>
            <a:r>
              <a:rPr b="1" lang="zh-CN" sz="6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狮</a:t>
            </a:r>
            <a:r>
              <a:rPr b="1" lang="zh-CN" sz="6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阁</a:t>
            </a:r>
            <a:r>
              <a:rPr b="1" lang="zh-CN" sz="6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颐</a:t>
            </a:r>
            <a:endParaRPr b="0" lang="en-US" sz="6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0" t="50902" r="63807" b="0"/>
          <a:stretch/>
        </p:blipFill>
        <p:spPr>
          <a:xfrm>
            <a:off x="2484360" y="404640"/>
            <a:ext cx="489600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549360"/>
            <a:ext cx="8280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绿漆的柱子，红漆的栏杆，一眼望不到头。这条长廊有七百多米长，分成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73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间。每一间的横槛上都有五彩的画，画着人物、花草、风景，几千幅画没有哪两幅是相同的。长廊两旁栽满了花木，这一种花还没谢，那一种花又开了。微风从左边的昆明湖上吹来，使人神清气爽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0" t="0" r="1527" b="9865"/>
          <a:stretch/>
        </p:blipFill>
        <p:spPr>
          <a:xfrm>
            <a:off x="108000" y="692280"/>
            <a:ext cx="9004320" cy="5364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60436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549360"/>
            <a:ext cx="82803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绿漆的柱子，红漆的栏杆，一眼望不到头。这条长廊有七百多米长，分成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73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间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每一间的横槛上都有五彩的画，画着人物、花草、风景，几千幅画没有哪两幅是相同的。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长廊两旁栽满了花木，这一种花还没谢，那一种花又开了。微风从左边的昆明湖上吹来，使人神清气爽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03:27:07Z</dcterms:created>
  <dc:creator>Administrator</dc:creator>
  <dc:description/>
  <dc:language>en-US</dc:language>
  <cp:lastModifiedBy/>
  <dcterms:modified xsi:type="dcterms:W3CDTF">2015-08-19T06:10:44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