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projctor.wav" ContentType="audio/x-wav"/>
  <Override PartName="/ppt/media/image5.jpeg" ContentType="image/jpeg"/>
  <Override PartName="/ppt/media/laser.wav" ContentType="audio/x-wav"/>
  <Override PartName="/ppt/media/chimes.wav" ContentType="audio/x-wav"/>
  <Override PartName="/ppt/media/image6.png" ContentType="image/png"/>
  <Override PartName="/ppt/media/image7.jpeg" ContentType="image/jpe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7D5-0767-4617-9180-D2570E14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C1C-B18F-408B-BCF1-BD88035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7D8-5BA2-4E1E-9EE2-0387D3F0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607-A220-41A2-B023-4A55FDDC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8E19-3A23-4FEA-BB5F-75228120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0154-2A78-4BA0-A19E-BDA26FA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70F9-597A-4106-8118-D0E9C0F3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AD66-67F7-444A-B4FC-C18717FB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68FF-3B68-48DF-8874-3C6CFB91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ECF9-D83F-41FE-9260-33596D9B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B87-7FE2-4825-A471-9088494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1FD-122B-465B-A5E2-FD66B096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977A-4D57-4986-B05B-55D5323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9A21-37D9-4863-97AF-B8CA275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143-F168-4B4B-ABC1-89600B0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A822-D8F6-4B57-98C5-55C4DECD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2B6F-1EE9-416F-ABDD-59ADBD5D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BC9-8A70-4C44-A004-6A5D754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082-23FE-4C8F-9106-9AE220E2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553-8741-4212-9CF4-E935F1B9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F9B-5B14-44A6-AB21-EB8A2144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075-208F-4E34-BD2A-3A1ED28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1DB-53BB-4B73-86E5-6654FC8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C8D-7190-44DA-956B-474B1D2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EB0-1F36-473F-99B3-2412D59D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4C6-E7F9-4F0E-A528-F024EB16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九年义务教育六年制小学语文第十册</a:t>
            </a:r>
            <a:br>
              <a:rPr sz="2000"/>
            </a:br>
            <a:br>
              <a:rPr sz="2800"/>
            </a:b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《忆江南》教学设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838080" y="1354320"/>
            <a:ext cx="4419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欢迎进入语文快乐课堂</a:t>
            </a:r>
            <a:r>
              <a:rPr b="1" lang="zh-CN" sz="21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-------</a:t>
            </a:r>
            <a:endParaRPr b="1" i="1" lang="en-US" sz="21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19320" y="114264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忆江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          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----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白居易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江南好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风景旧曾谙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日出江花红胜火，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春来江水绿如蓝。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  </a:t>
            </a:r>
            <a:r>
              <a:rPr b="0" lang="zh-CN" sz="23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能不忆江南？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13"/>
          <p:cNvPicPr/>
          <p:nvPr/>
        </p:nvPicPr>
        <p:blipFill>
          <a:blip r:embed="rId1"/>
          <a:stretch/>
        </p:blipFill>
        <p:spPr>
          <a:xfrm>
            <a:off x="3809880" y="1600200"/>
            <a:ext cx="46483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ee1841"/>
                </a:solidFill>
                <a:latin typeface="Times New Roman"/>
                <a:ea typeface="楷体_GB2312"/>
              </a:rPr>
              <a:t>自读提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声朗读《忆江南》，图文对照，说说词中描述了江南怎样的美景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•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和我们以前学过的古诗有什么区别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</a:t>
            </a:r>
            <a:r>
              <a:rPr b="0" lang="zh-CN" sz="4600" spc="-1" strike="noStrike">
                <a:solidFill>
                  <a:srgbClr val="006600"/>
                </a:solidFill>
                <a:latin typeface="Times New Roman"/>
                <a:ea typeface="黑体"/>
              </a:rPr>
              <a:t>小结：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2285640"/>
            <a:ext cx="6172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词</a:t>
            </a:r>
            <a:r>
              <a:rPr b="0" lang="zh-CN" sz="3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我国古代诗歌的一种，可以配上乐曲歌唱。词的句子有长有短，因此又叫长短句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悟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你认为词中哪句写的最美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日出江花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 红胜火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春来江水</a:t>
            </a:r>
            <a:r>
              <a:rPr b="1" lang="zh-CN" sz="3400" spc="-1" strike="noStrike">
                <a:solidFill>
                  <a:srgbClr val="3333cc"/>
                </a:solidFill>
                <a:latin typeface="Times New Roman"/>
              </a:rPr>
              <a:t> 绿如蓝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情感升华：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师生入情入境共读</a:t>
            </a:r>
            <a:r>
              <a:rPr b="1" lang="zh-CN" sz="3400" spc="-1" strike="noStrike">
                <a:solidFill>
                  <a:srgbClr val="ee1841"/>
                </a:solidFill>
                <a:latin typeface="Times New Roman"/>
              </a:rPr>
              <a:t>《忆江南》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一词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6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</a:rPr>
              <a:t>课后拓展</a:t>
            </a:r>
            <a:br>
              <a:rPr sz="30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拿起五彩的笔，用图画的形式展现江南美景。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查找白居易《忆江南》其二､其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忆江南</a:t>
            </a:r>
            <a:br>
              <a:rPr sz="4000"/>
            </a:b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  其二                          其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江南忆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最忆是杭州：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山寺月中寻桂子，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郡亭枕上看潮头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何日更重游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956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936320" y="2286000"/>
            <a:ext cx="2487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江南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其次忆吴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美酒一杯春竹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吴性双舞醉芙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早晚复相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1" i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谢谢观看！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i="1" lang="zh-CN" sz="4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再见！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gu35"/>
          <p:cNvPicPr/>
          <p:nvPr/>
        </p:nvPicPr>
        <p:blipFill>
          <a:blip r:embed="rId1"/>
          <a:stretch/>
        </p:blipFill>
        <p:spPr>
          <a:xfrm>
            <a:off x="4419720" y="2819520"/>
            <a:ext cx="4038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1:56:07Z</dcterms:created>
  <dc:creator/>
  <dc:description/>
  <cp:keywords/>
  <dc:language>en-US</dc:language>
  <cp:lastModifiedBy>Administrator</cp:lastModifiedBy>
  <dcterms:modified xsi:type="dcterms:W3CDTF">2015-04-08T07:34:11Z</dcterms:modified>
  <cp:revision>20</cp:revision>
  <dc:subject/>
  <dc:title>《忆江南》教学设计</dc:title>
</cp:coreProperties>
</file>