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5.jpeg" ContentType="image/jpeg"/>
  <Override PartName="/ppt/media/image6.jpeg" ContentType="image/jpeg"/>
  <Override PartName="/ppt/media/image22.png" ContentType="image/png"/>
  <Override PartName="/ppt/media/image1.gif" ContentType="image/gif"/>
  <Override PartName="/ppt/media/image20.jpeg" ContentType="image/jpeg"/>
  <Override PartName="/ppt/media/image18.jpeg" ContentType="image/jpeg"/>
  <Override PartName="/ppt/media/image19.gif" ContentType="image/gif"/>
  <Override PartName="/ppt/media/image24.png" ContentType="image/png"/>
  <Override PartName="/ppt/media/image21.gif" ContentType="image/gif"/>
  <Override PartName="/ppt/media/image4.gif" ContentType="image/gif"/>
  <Override PartName="/ppt/media/image23.gif" ContentType="image/gif"/>
  <Override PartName="/ppt/media/image17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5C0-6AD0-488D-8FE6-B908BC4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F22-8A2D-4308-8439-9085175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876-FBDA-4E3B-8EA3-EFFEC7E7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AD8-53B9-4B72-A1D8-3581ADC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0D3-6A9E-4948-93EB-D4D6451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FBCD-6C85-4785-B82C-A0F3BC0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E4D-7AF7-4717-8DB5-FCFB284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944-A55D-42A9-B2C4-6C6E8B7E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778A-F3A8-48E6-B11B-46C743FA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4764-EF13-4545-95D7-CB0AD3B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97C5-3AED-46B0-805E-8753A50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6D4-A0A8-4104-A66E-A86E6FB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C631-0535-4CA0-B293-8B2C2DA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7BE-099B-44E6-93F8-5A82569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AB2-D848-4955-8363-B366C86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87C-2FF5-4DD9-BDE2-6442F076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41C6-384A-4297-A2D9-CA2677DC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AE34-6450-47B1-BBBF-FA02C1E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BBAF-D1CF-43DF-A2D7-BE85EFE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CE0E-5918-4D2A-AFB1-FB24036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248B-1297-498B-9243-76AB34D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A6A7-984E-4C26-9AEB-6898A90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F8A-2F03-44A9-9C55-F88F11BD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DDFA-787D-4C14-8D6C-19BA9CC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C820-1A89-4B27-94D6-61CD326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1ED5-B739-410E-B9AD-183B1AD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2A1F-60AB-4D4F-A523-EE8D1E2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957F-5BBD-42BE-A333-54A1BF9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448B-5D71-478F-BEF5-B8A3FC69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075E-8F0F-4013-BF93-679A57C3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ECB-189C-4F44-BC29-E3E4B13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505-1223-433F-99D4-B421B07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F79-2D08-4876-8E8A-9013AC62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DC8-60A7-44BD-BECB-EBEF3665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C19-3F91-44DF-97E7-FA1CFA26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72C-F877-4B66-8782-18DFD1E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6F6-259B-43FD-B7FB-EABA68A2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478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687-3ACE-479C-866C-A3A2783BD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49e9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52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EFC5-F893-4B7E-87E7-1E9AB53AF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434547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434547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34547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434547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08221.htm" TargetMode="External"/><Relationship Id="rId2" Type="http://schemas.openxmlformats.org/officeDocument/2006/relationships/hyperlink" Target="http://baike.baidu.com/view/3468.htm" TargetMode="External"/><Relationship Id="rId3" Type="http://schemas.openxmlformats.org/officeDocument/2006/relationships/hyperlink" Target="http://baike.baidu.com/view/24009.htm" TargetMode="External"/><Relationship Id="rId4" Type="http://schemas.openxmlformats.org/officeDocument/2006/relationships/hyperlink" Target="http://baike.baidu.com/view/39167.htm" TargetMode="External"/><Relationship Id="rId5" Type="http://schemas.openxmlformats.org/officeDocument/2006/relationships/hyperlink" Target="http://baike.baidu.com/view/4261.htm" TargetMode="External"/><Relationship Id="rId6" Type="http://schemas.openxmlformats.org/officeDocument/2006/relationships/hyperlink" Target="http://baike.baidu.com/view/19993.htm" TargetMode="External"/><Relationship Id="rId7" Type="http://schemas.openxmlformats.org/officeDocument/2006/relationships/hyperlink" Target="256,10,&#24187;&#28783;&#29255; 10" TargetMode="Externa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6,12,&#24187;&#28783;&#29255; 12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/../../Owner/&#26700;&#38754;/123.gsp" TargetMode="External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56,10,&#24187;&#28783;&#29255; 10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中宋"/>
                <a:ea typeface="华文中宋"/>
              </a:rPr>
              <a:t>月亮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3299400" y="2492280"/>
            <a:ext cx="24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估计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gūjì∶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对事物做大致的推断。</a:t>
            </a:r>
            <a:r>
              <a:rPr b="0" lang="en-US" sz="2400" spc="-1" strike="noStrike">
                <a:solidFill>
                  <a:srgbClr val="43454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432200" y="5516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4822560" y="2498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古往今来：从古代到现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98804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940040" y="2708280"/>
            <a:ext cx="51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悬挂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xuánguà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：吊挂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挂念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988040" y="5805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71640" y="1989000"/>
            <a:ext cx="770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水藻是最简单的水生植物，它含有叶绿素。是水中的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隐花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同陆地上的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2"/>
              </a:rPr>
              <a:t>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样，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3"/>
              </a:rPr>
              <a:t>氮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4"/>
              </a:rPr>
              <a:t>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5"/>
              </a:rPr>
              <a:t>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是它们生长所需的基本</a:t>
            </a:r>
            <a:r>
              <a:rPr b="0" lang="zh-CN" sz="4000" spc="-1" strike="noStrike" u="sng">
                <a:solidFill>
                  <a:srgbClr val="00b0f0"/>
                </a:solidFill>
                <a:uFillTx/>
                <a:latin typeface="Times New Roman"/>
                <a:hlinkClick r:id="rId6"/>
              </a:rPr>
              <a:t>元素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。</a:t>
            </a:r>
            <a:r>
              <a:rPr b="0" lang="en-US" sz="2400" spc="-1" strike="noStrike">
                <a:solidFill>
                  <a:srgbClr val="43454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203680" y="5805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7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042920" y="2708280"/>
            <a:ext cx="68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任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 rèn  hé)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随便什么，无论什么。例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们遭遇任何困难都不要放弃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772040" y="6021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3" descr="20041130110948948"/>
          <p:cNvPicPr/>
          <p:nvPr/>
        </p:nvPicPr>
        <p:blipFill>
          <a:blip r:embed="rId1">
            <a:lum bright="10000"/>
          </a:blip>
          <a:srcRect l="1633" t="1209" r="1814" b="8698"/>
          <a:stretch/>
        </p:blipFill>
        <p:spPr>
          <a:xfrm>
            <a:off x="179280" y="404640"/>
            <a:ext cx="8790120" cy="6048720"/>
          </a:xfrm>
          <a:prstGeom prst="rect">
            <a:avLst/>
          </a:prstGeom>
          <a:ln w="0">
            <a:noFill/>
          </a:ln>
        </p:spPr>
      </p:pic>
      <p:sp>
        <p:nvSpPr>
          <p:cNvPr id="157" name="Oval 2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图片9"/>
          <p:cNvPicPr/>
          <p:nvPr/>
        </p:nvPicPr>
        <p:blipFill>
          <a:blip r:embed="rId3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图片9"/>
          <p:cNvPicPr/>
          <p:nvPr/>
        </p:nvPicPr>
        <p:blipFill>
          <a:blip r:embed="rId4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图片9"/>
          <p:cNvPicPr/>
          <p:nvPr/>
        </p:nvPicPr>
        <p:blipFill>
          <a:blip r:embed="rId6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76000" y="177300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494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幼圆"/>
              </a:rPr>
              <a:t>幕     临     悬     曾     奥</a:t>
            </a:r>
            <a:endParaRPr b="1" lang="en-US" sz="48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172" name="Picture 17" descr="图片9"/>
          <p:cNvPicPr/>
          <p:nvPr/>
        </p:nvPicPr>
        <p:blipFill>
          <a:blip r:embed="rId14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8"/>
          <p:cNvSpPr/>
          <p:nvPr/>
        </p:nvSpPr>
        <p:spPr>
          <a:xfrm>
            <a:off x="1476360" y="4910040"/>
            <a:ext cx="518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旦     项     估     龄</a:t>
            </a: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图片9"/>
          <p:cNvPicPr/>
          <p:nvPr/>
        </p:nvPicPr>
        <p:blipFill>
          <a:blip r:embed="rId15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努     登     任     撒     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626160" cy="529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124000" y="1197000"/>
            <a:ext cx="451476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汉仪秀英体简"/>
              </a:rPr>
              <a:t>月球之谜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汉仪秀英体简"/>
              <a:ea typeface="汉仪秀英体简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71640" y="2565000"/>
            <a:ext cx="5905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黑体"/>
                <a:ea typeface="黑体"/>
              </a:rPr>
              <a:t>    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95640" y="549360"/>
            <a:ext cx="4098960" cy="1218960"/>
            <a:chOff x="2195640" y="549360"/>
            <a:chExt cx="4098960" cy="1218960"/>
          </a:xfrm>
        </p:grpSpPr>
        <p:sp>
          <p:nvSpPr>
            <p:cNvPr id="180" name=""/>
            <p:cNvSpPr/>
            <p:nvPr/>
          </p:nvSpPr>
          <p:spPr>
            <a:xfrm>
              <a:off x="3270240" y="549360"/>
              <a:ext cx="295128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45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195640" y="54936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486240" y="54936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内容解析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786120" cy="388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00000" y="2349360"/>
            <a:ext cx="309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夜幕降临，一轮明月悬挂在高高的夜空。那皎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(jiǎo)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洁的月光曾引起人们多少美好的遐想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0" r="0" b="5488"/>
          <a:stretch/>
        </p:blipFill>
        <p:spPr>
          <a:xfrm>
            <a:off x="1476360" y="692280"/>
            <a:ext cx="5975280" cy="564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3357720"/>
            <a:ext cx="6335640" cy="1921320"/>
          </a:xfrm>
          <a:prstGeom prst="rect">
            <a:avLst/>
          </a:prstGeom>
          <a:solidFill>
            <a:srgbClr val="f9f3a5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、床前明月光，疑是地上霜。　　李白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、举头望明月，低头思故乡。　　李白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、深林人不知，明月来相照。　　王维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、明月松间照，清泉石上流。　　王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981000"/>
            <a:ext cx="745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月亮自古以来，就于人们结下了不解之缘，它尤其受诗人们的钟爱。那皎洁的月光，富有变化的月形，激起了诗人们多少怀念与感慨，同学们知道哪些关于月亮的诗歌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763640" y="765000"/>
            <a:ext cx="4098960" cy="1219320"/>
            <a:chOff x="1763640" y="765000"/>
            <a:chExt cx="4098960" cy="1219320"/>
          </a:xfrm>
        </p:grpSpPr>
        <p:sp>
          <p:nvSpPr>
            <p:cNvPr id="127" name=""/>
            <p:cNvSpPr/>
            <p:nvPr/>
          </p:nvSpPr>
          <p:spPr>
            <a:xfrm>
              <a:off x="2838240" y="765000"/>
              <a:ext cx="2951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45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763640" y="765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054240" y="76500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34547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导入新课</a:t>
              </a:r>
              <a:r>
                <a:rPr b="1" lang="en-US" sz="4000" spc="-1" strike="noStrike">
                  <a:solidFill>
                    <a:srgbClr val="434547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24360" y="2060640"/>
            <a:ext cx="44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华文中宋"/>
              </a:rPr>
              <a:t>月亮，是柔弱温柔的象征，与太阳是刚与柔的对立，自古以来，月亮都是温馨、感动、飘渺的美丽的象征，对着月亮可以吐出你藏在内心深处的话，但是你了解月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409920" cy="3409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42920" y="1341360"/>
            <a:ext cx="655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月球是从哪里来的？上面有些什么东西？它跟地球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708280"/>
            <a:ext cx="5272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作者提出的问题大家想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你能在课文中找到答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27640" y="21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67788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1700280"/>
            <a:ext cx="644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557360"/>
            <a:ext cx="78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古往今来，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1969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年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日，两名美国宇航员首次登上月球，第一眼看到的就是十分奇异的景色：这里的天空黑沉沉的，表面却洒满灿烂的阳光，月球上满是尘土、岩石和环形山，没有水，没有任何生命。月球是一片荒漠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203280" cy="3203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476360" y="981000"/>
            <a:ext cx="568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月球的表面情况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2060640"/>
            <a:ext cx="468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里的天空黑沉沉的，表面却洒满灿烂的阳光，月球上满是尘土、岩石和环形山，没有水，没有任何生命。月球是一片荒漠的世界。那月球真的是没有任何生命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2492280"/>
            <a:ext cx="67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菌都被月球上的尘土杀死了，那么植物能不能在这些尘土里面生长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620640"/>
            <a:ext cx="6492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把细菌撒在从月球带回来的尘土上，细菌一下子都死了，难道这些尘土有杀菌的本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0" t="0" r="0" b="11169"/>
          <a:stretch/>
        </p:blipFill>
        <p:spPr>
          <a:xfrm>
            <a:off x="1835280" y="3716280"/>
            <a:ext cx="4886280" cy="270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836640"/>
            <a:ext cx="6840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再看看用植物做试验的结果：把玉米种在月球的尘土里，和在地球土壤里生长没有明显不同。可是，水藻一旦放进月球尘土，就长得特别鲜嫩青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这一连串试验结果是多么令人费解啊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87640" y="3718080"/>
            <a:ext cx="4394160" cy="2722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8920" y="1052640"/>
            <a:ext cx="6913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些问题是怎么样的令人费解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把玉米种在月球的尘土里，和在地球土壤里生长没有明显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是，水藻一旦放进月球尘土，就长得特别鲜嫩青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356000" y="3429000"/>
            <a:ext cx="388800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87280" y="836640"/>
            <a:ext cx="6409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一项研究结果说，月球曾经有过火山活动。从月球采回的一块岩石，据估计它的年龄已有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46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亿年了，而在地球上，只能找到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40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亿年前的石块。难道月球比地球的年龄还大？或者是月球的火山活动比地球还早？这又是一个谜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11280" y="3933720"/>
            <a:ext cx="2268720" cy="2924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981000"/>
            <a:ext cx="6626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为什么文中会有这么多的问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2133720"/>
            <a:ext cx="598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人们对却球的迷还没有解开，可能许多年后回首人类登月的历史，我们会觉得我们现在所取得的成绩很微薄，但是对人类进步却产生了深远的影响，正如一位踏上月球的人所讲：“虽然这只是我的一小步，却是人类的一大步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284640"/>
            <a:ext cx="3645000" cy="3024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1984320" cy="1997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9640" y="1125360"/>
            <a:ext cx="7921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……</a:t>
            </a:r>
            <a:br>
              <a:rPr sz="2800"/>
            </a:b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仿宋_GB2312"/>
              </a:rPr>
              <a:t>　　对神秘的月球，人类还将继续探索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2565360"/>
            <a:ext cx="60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文中这个“……”是什么意思呢？自己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73400" y="1201680"/>
            <a:ext cx="4098960" cy="1219320"/>
            <a:chOff x="2273400" y="1201680"/>
            <a:chExt cx="4098960" cy="1219320"/>
          </a:xfrm>
        </p:grpSpPr>
        <p:sp>
          <p:nvSpPr>
            <p:cNvPr id="217" name=""/>
            <p:cNvSpPr/>
            <p:nvPr/>
          </p:nvSpPr>
          <p:spPr>
            <a:xfrm>
              <a:off x="3348000" y="1201680"/>
              <a:ext cx="2951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45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2273400" y="1201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564000" y="120168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巩固练习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636360" y="33577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中宋"/>
              </a:rPr>
              <a:t>夜幕降临、悬挂、曾经、奥秘、探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205000"/>
            <a:ext cx="2314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华文行楷"/>
              </a:rPr>
              <a:t>认识字词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95640" y="1341360"/>
            <a:ext cx="48960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亮，也称月球，，是环绕地球运行的一颗卫星。年龄大约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亿年。它是地球唯一的一颗卫星和离地球最近的天体，与地球之间的平均距离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84,4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千米。月球是地球唯一的天然卫星，是距离我们最近的天体，月球的质量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73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亿亿吨，相当于地球质量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/8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月面重力则差不多相当于地球重力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/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。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124000" y="1052640"/>
            <a:ext cx="5611680" cy="1505880"/>
            <a:chOff x="2124000" y="1052640"/>
            <a:chExt cx="5611680" cy="1505880"/>
          </a:xfrm>
        </p:grpSpPr>
        <p:sp>
          <p:nvSpPr>
            <p:cNvPr id="223" name=""/>
            <p:cNvSpPr/>
            <p:nvPr/>
          </p:nvSpPr>
          <p:spPr>
            <a:xfrm>
              <a:off x="3594960" y="1052640"/>
              <a:ext cx="4040280" cy="978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45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124000" y="1052640"/>
              <a:ext cx="1669320" cy="150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890880" y="1052640"/>
              <a:ext cx="384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教材练习答案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79120" y="29973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假如</a:t>
            </a:r>
            <a:r>
              <a:rPr b="1" lang="en-US" sz="2800" spc="-1" strike="noStrike">
                <a:solidFill>
                  <a:srgbClr val="434547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</a:rPr>
              <a:t>年后你登上了月球，你准备去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4437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发挥想象，互相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044720" y="3789360"/>
            <a:ext cx="6889680" cy="2563920"/>
            <a:chOff x="1044720" y="3789360"/>
            <a:chExt cx="6889680" cy="25639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562608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6156360" y="386064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1044720" y="386064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3132360" y="386064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183672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486108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"/>
            <a:stretch/>
          </p:blipFill>
          <p:spPr>
            <a:xfrm>
              <a:off x="399600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1403280" y="2565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方正姚体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例：月是故乡明、举杯邀明月，对影成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37880" y="148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华文中宋"/>
              </a:rPr>
              <a:t>收集描写月亮的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50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197000"/>
            <a:ext cx="405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我们以前学过——“太阳大，地球人小，地球跟着太阳跑、地球大，月球小，月球跟着地球跑。” 这首儿歌，从中知道了它们之间的关系。今天具体学习月亮——《月球之谜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75248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雨幕降临   悬挂     遐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奥秘      努力     曾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登上      任何     细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撒在      水藻     一旦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一项      估计     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00" y="162864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夜幕降临　　悬挂　　曾经　　奥秘　　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登上　　        任何        荒漠        细菌         撒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水藻　　        估计      黑沉沉　年龄    古往今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Times New Roman"/>
              </a:rPr>
              <a:t>一旦                一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346560" y="1074600"/>
            <a:ext cx="23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把这些词语认认真真写一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谁写得好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643480" y="2781360"/>
            <a:ext cx="37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夜幕降临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指夜晚已经来临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8203680" y="6308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60020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1120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奥秘：奥妙神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59320" y="60930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487400" y="321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荒漠：月球荒凉而又无边无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132400" y="60930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6:48:51Z</dcterms:created>
  <dc:creator>Administrator</dc:creator>
  <dc:description/>
  <dc:language>en-US</dc:language>
  <cp:lastModifiedBy/>
  <dcterms:modified xsi:type="dcterms:W3CDTF">2015-08-19T06:08:41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