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3.gif" ContentType="image/gif"/>
  <Override PartName="/ppt/media/image6.gif" ContentType="image/gif"/>
  <Override PartName="/ppt/media/image7.jpeg" ContentType="image/jpeg"/>
  <Override PartName="/ppt/media/image5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4EF-B105-4503-8808-44C06E4A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340-5C35-4B44-B8ED-4F4BDF4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3BD-F658-482B-AE28-040D416C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A80-7C0D-4F22-9B36-41511F3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1D1-0F83-4CC8-A3C5-B7BB3615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E12-2FF3-4509-9056-7CF681A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5CD-374D-44C3-870E-BEB6951F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2C0-C330-4F76-9918-D0F71703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D4F-6199-421E-9876-12A8CA8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043-1B9C-440E-A2BC-BE4F377D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CA7-42C4-4770-BF08-1246E4C4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94F-B58F-44CF-8C4E-5FB8DE2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C6EF-84A6-4907-9E08-284E5CC5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23880" y="6858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在金色的沙滩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33720" y="2209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生字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81080" y="3048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朗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5120" y="3962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答疑解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52480" y="4800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述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99072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下列生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38080" y="196524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夹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ji1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ji1o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石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沁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q@n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傻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3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子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搁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g5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置   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l0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捅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%ng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破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漏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l^u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出   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腾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6ng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DOORIN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10440" y="5854680"/>
            <a:ext cx="103356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43000" y="12794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一想，文章主要写了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在金色的沙滩上.MP3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76320" y="26668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姑娘为画家看衣服；画家送贝壳给小姑娘，小姑娘不收；在回家的路上，画家故意把贝壳丢在地上要小姑娘捡，小姑娘捡起后，又还给了画家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0064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486640" y="5386320"/>
            <a:ext cx="65736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04920" y="3049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思   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0880" y="15080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家让小姑娘帮他看衣服时，她是怎么做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3718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姑娘点点头，把衣服和画夹放在身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9907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爷爷劝告小姑娘时，她又是怎么做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30686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姑娘摇了摇头，说：“我答应了叔叔，一定得等他回来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57200" y="685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画家叔叔终于回来了，当他送给小姑娘贝壳时，小姑娘是怎么做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57200" y="28195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姑娘摇摇头，对画家说：“我不要，老师说了，不能随便要别人的东西。我要回家吃饭了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画家故意把贝壳丢在沙滩上，让小姑娘捡时，她捡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29718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姑娘把他喊住了：“叔叔，你的贝壳掉了！”她弯下腰，把一颗颗贝壳捡了起来，还给了画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242244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姑娘都有哪些方面值得我们学习？我们平时又是怎么做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xyx2"/>
          <p:cNvPicPr/>
          <p:nvPr/>
        </p:nvPicPr>
        <p:blipFill>
          <a:blip r:embed="rId2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0063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385120" y="5157720"/>
            <a:ext cx="75888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3520" y="3048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小姑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"/>
          <p:cNvSpPr/>
          <p:nvPr/>
        </p:nvSpPr>
        <p:spPr>
          <a:xfrm flipV="1">
            <a:off x="2057400" y="25905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05740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057400" y="3505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2004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看衣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00400" y="3048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不收贝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200400" y="3886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还贝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5181480" y="2286000"/>
            <a:ext cx="76320" cy="2209680"/>
          </a:xfrm>
          <a:custGeom>
            <a:avLst/>
            <a:gdLst>
              <a:gd name="textAreaLeft" fmla="*/ 0 w 76320"/>
              <a:gd name="textAreaRight" fmla="*/ 27360 w 76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410080" y="26668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助人为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诚实纯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02:29:36Z</dcterms:created>
  <dc:creator/>
  <dc:description/>
  <dc:language>en-US</dc:language>
  <cp:lastModifiedBy>dreamsummit</cp:lastModifiedBy>
  <dcterms:modified xsi:type="dcterms:W3CDTF">2015-01-07T07:02:00Z</dcterms:modified>
  <cp:revision>5</cp:revision>
  <dc:subject/>
  <dc:title>PowerPoint 演示文稿</dc:title>
</cp:coreProperties>
</file>