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92A-D03E-48EA-A8DA-A010024B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290-5109-40F8-AC2F-D0FD3211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C42-10D3-4D8C-963B-294A8A04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0F0-D99A-432B-83D8-A33FDFBF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327-1978-4E98-978F-D618F499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C15-007C-4D4D-8CFC-917704AA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B44-36C0-4033-953D-5A82C94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445-4233-4717-B944-4E871D04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B3F-6805-4A23-81A7-667BFF39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79A-278C-4E69-9398-E3854C6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A72-41C1-4723-B1F2-A1D130FA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B85-6FF0-4D53-9D18-DD2AA985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8095-25F0-4746-BA2A-F81185C774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无标题"/>
          <p:cNvPicPr/>
          <p:nvPr/>
        </p:nvPicPr>
        <p:blipFill>
          <a:blip r:embed="rId1"/>
          <a:stretch/>
        </p:blipFill>
        <p:spPr>
          <a:xfrm>
            <a:off x="2819520" y="1066680"/>
            <a:ext cx="3821040" cy="4838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2880" y="2971440"/>
            <a:ext cx="4191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造字大王一家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3623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三年级语文下册第八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28600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9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木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286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400800" y="22860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324480" y="35053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37160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48320" y="35053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895480" y="3505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144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探究解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个儿子创造了这么多的汉字，回到“象形爷爷”身边汇报自己的成绩。你们能想像他们当时的心情吗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角色朗读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-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位哥哥不想当造字大王吗？为什么说三弟当选当之无愧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你能结合上下文，说说“异口同声”当之无愧”的意思吗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之无愧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当得起某种称号或荣誉，无须感到惭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异口同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同的人说同样的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老三一下子写了一百多个新字。象形爷爷连连点头，啧啧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称赞。他转过头来，问老大老二：“你们说，谁可以当造字大王？”两位哥哥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异口同声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说：“三弟可以当造字大王，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当之无愧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！”象形爷爷点点头，并把老三创造的字叫做“形声字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984807"/>
                </a:solidFill>
                <a:latin typeface="Calibri"/>
              </a:rPr>
              <a:t>结合字例体会形声字的构字规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807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984807"/>
                </a:solidFill>
                <a:latin typeface="Calibri"/>
              </a:rPr>
              <a:t>）从本册中找出学过的形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807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984807"/>
                </a:solidFill>
                <a:latin typeface="Calibri"/>
              </a:rPr>
              <a:t>）你们能发现它们的构字规律吗</a:t>
            </a: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807"/>
                </a:solidFill>
                <a:latin typeface="Calibri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声字，真好记。音形义，有联系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旁帮着读字音，形旁帮着表字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习形声字，辨认要仔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总结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你能运用今天的新知识记住生字栏中的</a:t>
            </a:r>
            <a:r>
              <a:rPr b="1" lang="en-US" sz="3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个生字吗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注意观察生活中所见的汉字，试着运用今天学到的方法自主识字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描   创   章   刃    叠   涝   妨   愧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作业：认真完成课文后的练习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Calibri"/>
                <a:ea typeface="黑体"/>
              </a:rPr>
              <a:t>再见！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由读第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然段，说说：这一部分主要讲了造字大王一家中谁的造字方法？他是怎样造字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方正楷体_GBK"/>
              </a:rPr>
              <a:t>读了课题，你想到些什么？大家都想了解造字大王一家到底有哪些人？造字大王是谁？我们一起去课文中寻找答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初读感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由读课文，初步了解课文的主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默读课文，边读边画出生字词语，并在课后生字表上给生字注上拼音，多读几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image030[1]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描画   创造  文章  刀刃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洪涝   妨碍   叠起来   当之无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你怎么知道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象形爷爷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造的是哪些字？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象形爷爷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这个名字的来历你知道吗？从课文中画出有关句子读一读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0502451x-0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由读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思考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大家对“象形爷爷”造出的字有什么反映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人们用这些字来记事，多方便啊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人们用这些字来记事，很方便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“象形爷爷”有什么难处？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981080" y="4495680"/>
            <a:ext cx="472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可不是件容易的事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不是件容易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áo  chuàng  zhāng   rè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描        创          章        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é      láo       fáng     ku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叠       涝         妨         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由朗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，同桌交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互相说说你怎么给“象形爷爷”的三个儿子取名的。请说出名字的由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方正楷体_GBK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方正楷体_GBK"/>
              </a:rPr>
              <a:t>指事字、会意字、形声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请同学们学生画出课文写老大、老二、老三创造汉字方法的句子，再读一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方正楷体_GBK"/>
              </a:rPr>
              <a:t>初步了解指事字、会意字、形声字的构字规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封底四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仓颉造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仓颉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āng jié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），原姓侯冈，名颉，号史皇氏，是传说为黄帝的史官，汉字的创造者，被后人尊为中华文字始祖。仓颉的功绩就在于，他广泛搜集民间的图画文字加以整理，创造了有系统的象形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33520" y="3124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传说他为了造字而日思夜想，到处观察，看尽了天上星宿的分布情况、地上山川脉络的样子、鸟兽虫鱼的痕迹、草木器具的形状，描摹绘写，造出种种不同的符号，并且定下了每个符号所代表的意义。他按自己的心意用符号拼凑成几段，拿给人看，经他解说，倒也看得明白。仓颉把这种符号叫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590920" y="3049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知识链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4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你们想看看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象形爷爷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造的字吗？你能认识几个呢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ic_278261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580920"/>
            <a:ext cx="5943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鸟   龙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鸟"/>
          <p:cNvPicPr/>
          <p:nvPr/>
        </p:nvPicPr>
        <p:blipFill>
          <a:blip r:embed="rId1"/>
          <a:stretch/>
        </p:blipFill>
        <p:spPr>
          <a:xfrm>
            <a:off x="1600200" y="1066680"/>
            <a:ext cx="199548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龙"/>
          <p:cNvPicPr/>
          <p:nvPr/>
        </p:nvPicPr>
        <p:blipFill>
          <a:blip r:embed="rId2"/>
          <a:stretch/>
        </p:blipFill>
        <p:spPr>
          <a:xfrm>
            <a:off x="4876920" y="9144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复件 (2) 2011051707485427"/>
          <p:cNvPicPr/>
          <p:nvPr/>
        </p:nvPicPr>
        <p:blipFill>
          <a:blip r:embed="rId1"/>
          <a:stretch/>
        </p:blipFill>
        <p:spPr>
          <a:xfrm>
            <a:off x="-4680" y="-100080"/>
            <a:ext cx="9153360" cy="705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114440"/>
            <a:ext cx="66294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马    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马"/>
          <p:cNvPicPr/>
          <p:nvPr/>
        </p:nvPicPr>
        <p:blipFill>
          <a:blip r:embed="rId2"/>
          <a:stretch/>
        </p:blipFill>
        <p:spPr>
          <a:xfrm>
            <a:off x="1143000" y="990720"/>
            <a:ext cx="245736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水"/>
          <p:cNvPicPr/>
          <p:nvPr/>
        </p:nvPicPr>
        <p:blipFill>
          <a:blip r:embed="rId3"/>
          <a:stretch/>
        </p:blipFill>
        <p:spPr>
          <a:xfrm>
            <a:off x="4495680" y="990720"/>
            <a:ext cx="25146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大家对“象形爷爷”造出的字有什么反映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们用这些字来记事，多方便啊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212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用这些字来记事，很方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由读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然段。思考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5800" y="17524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“象形爷爷”有什么难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286000" y="243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可不是件容易的事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286000" y="3124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不是件容易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由朗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，同桌交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互相说说你怎么给“象形爷爷”的三个儿子造的字取名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方正楷体_GBK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方正楷体_GBK"/>
              </a:rPr>
              <a:t>指事字、会意字、形声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请同学们画出课文写老大、老二、老三创造汉字方法的句子，再读一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方正楷体_GBK"/>
              </a:rPr>
              <a:t>初步了解指事字、会意字、形声字的构字规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07:48:20Z</dcterms:modified>
  <cp:revision>40</cp:revision>
  <dc:subject/>
  <dc:title>造字大王一家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