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116-6AE3-4B80-B691-06B0394E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129-651A-43FB-B85A-975F77F7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78B-2F81-4EE7-BF61-DCEA1246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C83-E06B-4BB8-9B11-549420C9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0786-226E-47D9-AAE0-7C81E8D4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5FC6-48DB-4540-BB37-A523444C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A58-F373-4801-B628-7FAF7211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F0BF-5B82-4BEA-8348-4E328559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9EC-C27F-42EE-A859-95457F29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8D1-BC8B-4D92-8B1B-634148DD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229-F6D0-47D1-B831-E2E1CDB7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034-6013-4D19-8E06-B2F00197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4C86-EC0B-4FBD-8FF0-B84B26F57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4572000"/>
            <a:ext cx="9144000" cy="1523880"/>
          </a:xfrm>
          <a:prstGeom prst="rect">
            <a:avLst/>
          </a:prstGeom>
          <a:solidFill>
            <a:srgbClr val="ffff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2209680" y="44956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课  张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2"/>
          <p:cNvSpPr/>
          <p:nvPr/>
        </p:nvSpPr>
        <p:spPr>
          <a:xfrm>
            <a:off x="2286000" y="5410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581280" y="54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 三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3429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8120" y="1066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会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1343160" cy="1885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886200" y="2133720"/>
            <a:ext cx="1352520" cy="1876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019920" y="2133720"/>
            <a:ext cx="1342800" cy="187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828800" y="4343400"/>
            <a:ext cx="1333440" cy="1886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951360" y="4343400"/>
            <a:ext cx="1333440" cy="1876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6058080" y="4343400"/>
            <a:ext cx="1333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47920" y="1523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读课文，交流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2590920"/>
            <a:ext cx="754380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张衡是什么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写他做了一件什么重要事情？</a:t>
            </a:r>
            <a:r>
              <a:rPr b="1" lang="en-US" sz="1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27564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他是我国古代著名的天文学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47235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发明地动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5"/>
          <p:cNvSpPr/>
          <p:nvPr/>
        </p:nvSpPr>
        <p:spPr>
          <a:xfrm>
            <a:off x="304920" y="380880"/>
            <a:ext cx="3047760" cy="762120"/>
          </a:xfrm>
          <a:custGeom>
            <a:avLst/>
            <a:gdLst>
              <a:gd name="textAreaLeft" fmla="*/ 89640 w 3047760"/>
              <a:gd name="textAreaRight" fmla="*/ 2958120 w 30477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课文解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066680" y="2209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复读课文：理清层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200400"/>
            <a:ext cx="74170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研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课文从几个方面来介绍张衡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09480" y="3962160"/>
            <a:ext cx="8305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．张衡的地动仪是世界上最早的地震预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仪器，他的发明创造为我国的科学事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做出了卓越的贡献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1346040"/>
            <a:ext cx="70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张衡发明了地动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209680"/>
            <a:ext cx="71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地动仪构造精巧，能预测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3124080"/>
            <a:ext cx="8280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地动仪对地震做出了准确的预测和报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8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2514600"/>
            <a:ext cx="82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东汉时期，有一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杰出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科学家名叫张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7638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如何体会“杰出”的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48308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你能用一个词替换“杰出”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680" y="12571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品读第一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066680" y="125712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品读第二、三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570040"/>
            <a:ext cx="7772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两千年前的东汉时期，人们是怎样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地震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4170240"/>
            <a:ext cx="793584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哪些地方看出张衡是一名杰出的科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33520" y="1828800"/>
            <a:ext cx="8153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震使房屋大量倒塌，许多人畜死伤，当时人们把地震看作不吉利的征兆，认为是得罪了上天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1440" y="3962520"/>
            <a:ext cx="799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张衡不相信鬼神，他细心考察和认真研究地震，发明了测量地震的地动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520" y="2361960"/>
            <a:ext cx="7705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动仪的构造是怎样的？它运用了怎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科学原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0666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品读第四自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4927680"/>
            <a:ext cx="72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整体到部分，从上到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8200" y="3933720"/>
            <a:ext cx="76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作者如何观察描写地动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0872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形状：像大酒坛。顶上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凸起的盖。四周：八条龙（含着小铜球）下面：八只蛤蟆（对准龙嘴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34290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120" y="1752480"/>
            <a:ext cx="6999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动仪是怎样测定地震的呢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30481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地震发生时，朝那个方向的龙嘴里的小铜球就会吐出来，落在下面蛤蟆的嘴里，人们就知道是哪里发生地震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45"/>
          <p:cNvSpPr/>
          <p:nvPr/>
        </p:nvSpPr>
        <p:spPr>
          <a:xfrm>
            <a:off x="304920" y="380880"/>
            <a:ext cx="3047760" cy="762120"/>
          </a:xfrm>
          <a:custGeom>
            <a:avLst/>
            <a:gdLst>
              <a:gd name="textAreaLeft" fmla="*/ 89640 w 3047760"/>
              <a:gd name="textAreaRight" fmla="*/ 2958120 w 30477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新课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133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震是地球上经常发生的一种自然灾害，给人们的生命和财产安全都带来了严重的威胁，人们为了预测地震的发生花费了巨大的努力和精力。其实，早在东汉时期，伟大的天文学家张衡就发明了一种测定地震的仪器，赶快去文中看看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99840" y="1295280"/>
            <a:ext cx="59770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品读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5-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）段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1337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“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议论纷纷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124080"/>
            <a:ext cx="86104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们都在议论些什么呢？从这儿你知道了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们对张衡的地动仪能否测定地震方位这件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什么样的态度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5105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相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09320" y="1294920"/>
            <a:ext cx="403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朗读第八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26668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卓越”是什么意思？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08000" y="389088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你觉得张衡是个什么样的科学家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2590920"/>
            <a:ext cx="78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从哪里看出张衡是一位杰出的科学家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88620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请你对张衡说一、两句话，说出你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解和体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5"/>
          <p:cNvSpPr/>
          <p:nvPr/>
        </p:nvSpPr>
        <p:spPr>
          <a:xfrm>
            <a:off x="304920" y="380880"/>
            <a:ext cx="3047760" cy="762120"/>
          </a:xfrm>
          <a:custGeom>
            <a:avLst/>
            <a:gdLst>
              <a:gd name="textAreaLeft" fmla="*/ 89640 w 3047760"/>
              <a:gd name="textAreaRight" fmla="*/ 2958120 w 30477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总结回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5"/>
          <p:cNvSpPr/>
          <p:nvPr/>
        </p:nvSpPr>
        <p:spPr>
          <a:xfrm>
            <a:off x="304920" y="380880"/>
            <a:ext cx="3047760" cy="762120"/>
          </a:xfrm>
          <a:custGeom>
            <a:avLst/>
            <a:gdLst>
              <a:gd name="textAreaLeft" fmla="*/ 89640 w 3047760"/>
              <a:gd name="textAreaRight" fmla="*/ 2958120 w 30477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人物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1828800"/>
            <a:ext cx="3124080" cy="409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371320" y="2361600"/>
            <a:ext cx="11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黑体"/>
                <a:ea typeface="黑体"/>
              </a:rPr>
              <a:t>张  衡</a:t>
            </a:r>
            <a:r>
              <a:rPr b="0" lang="en-US" sz="4000" spc="-1" strike="noStrike">
                <a:solidFill>
                  <a:srgbClr val="ff3399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8390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是我国古代著名的天文学家，从小爱科学，后来有许多重大发明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5"/>
          <p:cNvSpPr/>
          <p:nvPr/>
        </p:nvSpPr>
        <p:spPr>
          <a:xfrm>
            <a:off x="304920" y="380880"/>
            <a:ext cx="3047760" cy="762120"/>
          </a:xfrm>
          <a:custGeom>
            <a:avLst/>
            <a:gdLst>
              <a:gd name="textAreaLeft" fmla="*/ 89640 w 3047760"/>
              <a:gd name="textAreaRight" fmla="*/ 2958120 w 30477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生字全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447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会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988920" cy="1212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3809880"/>
            <a:ext cx="1001520" cy="1200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973080" y="5257800"/>
            <a:ext cx="1008000" cy="120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2666880" y="2438280"/>
            <a:ext cx="43531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895480" y="2971800"/>
            <a:ext cx="388620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847960" y="3809880"/>
            <a:ext cx="3629160" cy="4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2724120" y="4343400"/>
            <a:ext cx="3828960" cy="419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2505240" y="5257800"/>
            <a:ext cx="450504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2743200" y="5867280"/>
            <a:ext cx="3933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7480" y="1552680"/>
            <a:ext cx="981000" cy="1181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000240" y="1657440"/>
            <a:ext cx="3724560" cy="466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47960" y="2181240"/>
            <a:ext cx="403848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305160" y="3152880"/>
            <a:ext cx="3467160" cy="571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rcRect l="887" t="7722" r="0" b="0"/>
          <a:stretch/>
        </p:blipFill>
        <p:spPr>
          <a:xfrm>
            <a:off x="2924280" y="3724200"/>
            <a:ext cx="40212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847960" y="4943520"/>
            <a:ext cx="439092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152880" y="5457960"/>
            <a:ext cx="397188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257480" y="3114720"/>
            <a:ext cx="981000" cy="1162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1247760" y="4867200"/>
            <a:ext cx="9716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971640" cy="11811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43000" y="3124080"/>
            <a:ext cx="981000" cy="1171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71640" cy="1171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2666880" y="4800600"/>
            <a:ext cx="4438800" cy="533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rcRect l="0" t="7559" r="0" b="0"/>
          <a:stretch/>
        </p:blipFill>
        <p:spPr>
          <a:xfrm>
            <a:off x="3048120" y="5334120"/>
            <a:ext cx="3867120" cy="439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2895480" y="3152880"/>
            <a:ext cx="4010040" cy="48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2971800" y="3686040"/>
            <a:ext cx="4000680" cy="428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2362320" y="1600200"/>
            <a:ext cx="4952880" cy="561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9"/>
          <a:stretch/>
        </p:blipFill>
        <p:spPr>
          <a:xfrm>
            <a:off x="2971800" y="2286000"/>
            <a:ext cx="3971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0" t="7559" r="0" b="0"/>
          <a:stretch/>
        </p:blipFill>
        <p:spPr>
          <a:xfrm>
            <a:off x="3076560" y="1636560"/>
            <a:ext cx="2819520" cy="439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590920" y="2209680"/>
            <a:ext cx="3990960" cy="438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2924280" y="3236760"/>
            <a:ext cx="3524040" cy="543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0" t="9001" r="0" b="0"/>
          <a:stretch/>
        </p:blipFill>
        <p:spPr>
          <a:xfrm>
            <a:off x="2695680" y="3882960"/>
            <a:ext cx="3962160" cy="363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2390760" y="4836960"/>
            <a:ext cx="5514840" cy="53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3228840" y="5446800"/>
            <a:ext cx="3905280" cy="3808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1171440" y="1560600"/>
            <a:ext cx="99072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1171440" y="3160800"/>
            <a:ext cx="1009800" cy="1171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1171440" y="4761000"/>
            <a:ext cx="990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000080" cy="1190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19320" y="3124080"/>
            <a:ext cx="971280" cy="1200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219320" y="4724280"/>
            <a:ext cx="971280" cy="1181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743200" y="1523880"/>
            <a:ext cx="4105440" cy="561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2895480" y="2133720"/>
            <a:ext cx="3924360" cy="438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2743200" y="3200400"/>
            <a:ext cx="4086360" cy="5810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rcRect l="0" t="8591" r="0" b="0"/>
          <a:stretch/>
        </p:blipFill>
        <p:spPr>
          <a:xfrm>
            <a:off x="2743200" y="3886200"/>
            <a:ext cx="3857760" cy="38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2362320" y="4743360"/>
            <a:ext cx="6067440" cy="542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3581280" y="5276880"/>
            <a:ext cx="402912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5"/>
          <p:cNvSpPr/>
          <p:nvPr/>
        </p:nvSpPr>
        <p:spPr>
          <a:xfrm>
            <a:off x="304920" y="380880"/>
            <a:ext cx="3047760" cy="762120"/>
          </a:xfrm>
          <a:custGeom>
            <a:avLst/>
            <a:gdLst>
              <a:gd name="textAreaLeft" fmla="*/ 89640 w 3047760"/>
              <a:gd name="textAreaRight" fmla="*/ 2958120 w 304776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8634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2749" y="21600"/>
                </a:lnTo>
                <a:arcTo wR="3600" hR="3600" stAng="10800000" swAng="5400000"/>
                <a:lnTo>
                  <a:pt x="8634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黑体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05120"/>
            <a:ext cx="79246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公元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国际上公认的纪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议论纷纷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许多人在一起各说各的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造谣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了达到某种目地而捏造消息，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惑群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山崩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山上大量的岩石和土壤塌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卓越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非常优秀，超出一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22:48Z</dcterms:created>
  <dc:creator>Administrator</dc:creator>
  <dc:description/>
  <dc:language>en-US</dc:language>
  <cp:lastModifiedBy/>
  <dcterms:modified xsi:type="dcterms:W3CDTF">2016-04-25T08:23:0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