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F7D6-E57B-4140-9F9C-80A7C7AC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ACE-C873-43EF-B010-BA6D1B1F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D29-5714-4F45-B35B-A1E747F5F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982B-D17B-45FF-8160-306409CE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3FB-5E31-4952-B17C-02EF50C7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1E0A-DACF-490A-AE18-E68D7B1B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A88-856D-4681-A699-AAB06056D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2DA-DE21-420C-8F32-81DDE446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52A-6597-4E36-873C-AF32EBD9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101F-5ECC-44A9-8911-CDA38FBD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F83-95C3-4F90-87FD-E5AFF1AB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910-2FC7-4854-9B3C-6855D94E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F9C5-40BC-431C-B711-DA11679F5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33560"/>
            <a:ext cx="9144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骆驼有双峰驼和单峰驼两种。双峰驼曾在我国北方广泛驯养，至今在内蒙古和西北地区仍然能够见到。素有“京华之舟”的美誉。单峰驼有人认为也曾分布于我国的新疆一带，但现在仅见于阿拉伯半岛、印度和非洲北部等地。它的体毛较短，寿命可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骆驼的胃里有水囊，能贮存很多水；驼峰里储存有一百多千克脂肪，必要时可以转变成水的能量，维持骆驼的生命活动。因此，在沙漠里，可以一连三四十天不吃不喝，适于长途跋涉。家骆驼成为人类在沙漠中的主要交通工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059280" y="0"/>
            <a:ext cx="295272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骆 驼</a:t>
            </a:r>
            <a:endParaRPr b="1" lang="en-US" sz="96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258560" y="1557360"/>
            <a:ext cx="788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是不是左脚有点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是不是左边驮着蜜，右边驮着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是不是缺了一颗牙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94788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你问的那只骆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116000" y="155736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是不是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脚有点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是不是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边驮着蜜，右边驮着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是不是</a:t>
            </a:r>
            <a:r>
              <a:rPr b="1" lang="zh-CN" sz="40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缺了一颗牙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052640"/>
            <a:ext cx="43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你问的那只骆驼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9720" y="1066680"/>
            <a:ext cx="5685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老人说：“你丢的那只骆驼，是不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左脚有点跛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不是左边驼着蜜，右边驼着米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不错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是不是缺了一颗牙齿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极了！您看见它往哪儿去了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老人说：“那我可不知道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484280"/>
            <a:ext cx="73915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商人忿忿地说：“别哄我了，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是你把我的骆驼藏起来了。要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怎么知道得这样详细！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108000" y="836640"/>
            <a:ext cx="90360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老人不紧不慢地说：“干吗生气呢，听我说吧。刚才我看见路上有骆驼的脚印，右边深，左边浅，就知道骆驼的左脚有点跛。我又看见路的左边有一些蜜，右边有一点米，我想骆驼驮的一定是这两样东西。我还看见骆驼啃过的树叶，上面留下了牙齿印，所以知道它缺了一颗牙齿。至于骆驼究竟往哪儿去了，应该顺着它的脚印去找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243000"/>
            <a:ext cx="70200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根据课文内容完成表格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836640"/>
          <a:ext cx="8713800" cy="5327640"/>
        </p:xfrm>
        <a:graphic>
          <a:graphicData uri="http://schemas.openxmlformats.org/drawingml/2006/table">
            <a:tbl>
              <a:tblPr/>
              <a:tblGrid>
                <a:gridCol w="3871800"/>
                <a:gridCol w="4842000"/>
              </a:tblGrid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　老人看到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　推测出骆驼的特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25909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98560" y="7254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80880" y="620640"/>
          <a:ext cx="8305920" cy="4587840"/>
        </p:xfrm>
        <a:graphic>
          <a:graphicData uri="http://schemas.openxmlformats.org/drawingml/2006/table">
            <a:tbl>
              <a:tblPr/>
              <a:tblGrid>
                <a:gridCol w="4262400"/>
                <a:gridCol w="40435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老人看到的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推测出骆驼的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395280" y="2852640"/>
            <a:ext cx="43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又看见路的左边有一些蜜，右边有一些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4005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我还看见骆驼啃过的树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面留下了牙齿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184464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刚才我看见路上有骆驼的脚印，右边深，左边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88000" y="2997360"/>
            <a:ext cx="3889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左边驮蜜，右边驮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859280" y="198900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左脚有点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284640"/>
            <a:ext cx="29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59280" y="4149720"/>
            <a:ext cx="352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缺了一颗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95560" y="-460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根据课文内容完成表格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000" y="198900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    </a:t>
            </a:r>
            <a:r>
              <a:rPr b="1" lang="zh-CN" sz="4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你能用“因为……所以……”</a:t>
            </a:r>
            <a:r>
              <a:rPr b="1" lang="zh-CN" sz="4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</a:t>
            </a:r>
            <a:r>
              <a:rPr b="1" lang="en-US" sz="4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 “……是因为……” 的句式说说老人的判断过程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1" descr="C:\My Documents\My Pictures\骆驼脚印.tif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2"/>
          <p:cNvSpPr/>
          <p:nvPr/>
        </p:nvSpPr>
        <p:spPr>
          <a:xfrm>
            <a:off x="3882960" y="304920"/>
            <a:ext cx="4021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刚才我看见路上有骆驼的脚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右边深，左边浅，就知道骆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220d0"/>
                </a:solidFill>
                <a:latin typeface="Times New Roman"/>
              </a:rPr>
              <a:t>的左脚有点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5049720" y="362592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老人看见路上有骆驼的脚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右边深，左边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2689200" y="3581280"/>
            <a:ext cx="6663600" cy="2362680"/>
            <a:chOff x="2689200" y="3581280"/>
            <a:chExt cx="6663600" cy="2362680"/>
          </a:xfrm>
        </p:grpSpPr>
        <p:sp>
          <p:nvSpPr>
            <p:cNvPr id="94" name="Text Box 23"/>
            <p:cNvSpPr/>
            <p:nvPr/>
          </p:nvSpPr>
          <p:spPr>
            <a:xfrm>
              <a:off x="2689200" y="3581280"/>
              <a:ext cx="66636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因为（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                </a:t>
              </a: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3348720" y="4752720"/>
              <a:ext cx="534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2b232"/>
                  </a:solidFill>
                  <a:latin typeface="Times New Roman"/>
                </a:rPr>
                <a:t>所以（                                     ）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32b232"/>
                  </a:solidFill>
                  <a:latin typeface="Times New Roman"/>
                </a:rPr>
                <a:t>   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 Box 33"/>
          <p:cNvSpPr/>
          <p:nvPr/>
        </p:nvSpPr>
        <p:spPr>
          <a:xfrm>
            <a:off x="6102720" y="4748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220d0"/>
                </a:solidFill>
                <a:latin typeface="Times New Roman"/>
              </a:rPr>
              <a:t>知道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5" descr="C:\My Documents\My Pictures\米和蜜.tif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457200" y="30492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又看见路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左边有一些蜜，右边有一些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我想骆驼驮的一定是这两样东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6"/>
          <p:cNvSpPr/>
          <p:nvPr/>
        </p:nvSpPr>
        <p:spPr>
          <a:xfrm>
            <a:off x="8309880" y="176832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7"/>
          <p:cNvSpPr/>
          <p:nvPr/>
        </p:nvSpPr>
        <p:spPr>
          <a:xfrm>
            <a:off x="5236200" y="132480"/>
            <a:ext cx="7898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</a:rPr>
              <a:t>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1"/>
          <p:cNvSpPr/>
          <p:nvPr/>
        </p:nvSpPr>
        <p:spPr>
          <a:xfrm>
            <a:off x="441360" y="3657600"/>
            <a:ext cx="816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因为（ </a:t>
            </a:r>
            <a:r>
              <a:rPr b="1" lang="en-US" sz="3600" spc="-1" strike="noStrike">
                <a:solidFill>
                  <a:srgbClr val="32b232"/>
                </a:solidFill>
                <a:latin typeface="宋体"/>
              </a:rPr>
              <a:t>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b232"/>
                </a:solidFill>
                <a:latin typeface="宋体"/>
              </a:rPr>
              <a:t>                          </a:t>
            </a: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2b232"/>
                </a:solidFill>
                <a:latin typeface="Times New Roman"/>
              </a:rPr>
              <a:t>所以（ </a:t>
            </a:r>
            <a:r>
              <a:rPr b="1" lang="en-US" sz="3600" spc="-1" strike="noStrike">
                <a:solidFill>
                  <a:srgbClr val="32b232"/>
                </a:solidFill>
                <a:latin typeface="宋体"/>
              </a:rPr>
              <a:t>                        </a:t>
            </a:r>
            <a:r>
              <a:rPr b="1" lang="en-US" sz="3600" spc="-1" strike="noStrike">
                <a:solidFill>
                  <a:srgbClr val="32b232"/>
                </a:solidFill>
                <a:latin typeface="Times New Roman"/>
              </a:rPr>
              <a:t>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4"/>
          <p:cNvSpPr/>
          <p:nvPr/>
        </p:nvSpPr>
        <p:spPr>
          <a:xfrm>
            <a:off x="2886120" y="3581280"/>
            <a:ext cx="2649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老人看见路的左边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一些蜜，右边有一些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5"/>
          <p:cNvSpPr/>
          <p:nvPr/>
        </p:nvSpPr>
        <p:spPr>
          <a:xfrm>
            <a:off x="4433760" y="522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84ed9"/>
                </a:solidFill>
                <a:latin typeface="Times New Roman"/>
              </a:rPr>
              <a:t>骆驼驮的一定是这两样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7740720" cy="580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126080" y="357120"/>
            <a:ext cx="310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我还看见骆驼啃过的树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上面留下了牙齿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所以知道它缺了一颗牙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8600" y="3124080"/>
            <a:ext cx="743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因为（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d447"/>
                </a:solidFill>
                <a:latin typeface="Tahoma"/>
              </a:rPr>
              <a:t>                                        </a:t>
            </a: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）</a:t>
            </a:r>
            <a:r>
              <a:rPr b="1" lang="zh-CN" sz="1800" spc="-1" strike="noStrike">
                <a:solidFill>
                  <a:srgbClr val="00d447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d447"/>
                </a:solidFill>
                <a:latin typeface="Tahoma"/>
              </a:rPr>
              <a:t>所以（                     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270000" y="3094200"/>
            <a:ext cx="651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zh-CN" sz="3200" spc="-1" strike="noStrike">
                <a:solidFill>
                  <a:srgbClr val="f157d7"/>
                </a:solidFill>
                <a:latin typeface="Tahoma"/>
              </a:rPr>
              <a:t>老人</a:t>
            </a: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看见骆驼啃过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57d7"/>
                </a:solidFill>
                <a:latin typeface="Times New Roman"/>
              </a:rPr>
              <a:t>树叶，上面留下了</a:t>
            </a: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牙齿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110400" y="45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4ed9"/>
                </a:solidFill>
                <a:latin typeface="Times New Roman"/>
              </a:rPr>
              <a:t>知道它缺了一颗牙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的脚印右边深左边浅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的左脚有点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路的左边有一些蜜，右边有一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米，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    骆驼左边驮着蜜，右边驮着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啃过的树叶上留下的牙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印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骆驼缺了一颗牙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6920" y="162864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6920" y="2060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29973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又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03280" y="350028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522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所以老人知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4797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老人还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根据老人这一连串的推测，我们知道了：应该顺着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___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去找，才能找到骆驼。后来，商人果然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____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4876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句式比较</a:t>
            </a: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58920" y="1773360"/>
            <a:ext cx="78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4149720"/>
            <a:ext cx="7777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商人听了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按照老人的指点一路找去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800" spc="-1" strike="noStrike">
                <a:solidFill>
                  <a:srgbClr val="ff6600"/>
                </a:solidFill>
                <a:latin typeface="Times New Roman"/>
              </a:rPr>
              <a:t>果然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找到了骆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26" descr="A:\asd.JPG"/>
          <p:cNvPicPr/>
          <p:nvPr/>
        </p:nvPicPr>
        <p:blipFill>
          <a:blip r:embed="rId1"/>
          <a:stretch/>
        </p:blipFill>
        <p:spPr>
          <a:xfrm>
            <a:off x="0" y="4081320"/>
            <a:ext cx="3714840" cy="27766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"/>
          <p:cNvSpPr/>
          <p:nvPr/>
        </p:nvSpPr>
        <p:spPr>
          <a:xfrm>
            <a:off x="1066680" y="1460520"/>
            <a:ext cx="76201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老人能详细知道走失骆驼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</a:rPr>
              <a:t>特点，那是</a:t>
            </a:r>
            <a:r>
              <a:rPr b="1" lang="zh-CN" sz="3600" spc="-1" strike="noStrike">
                <a:solidFill>
                  <a:srgbClr val="00d447"/>
                </a:solidFill>
                <a:latin typeface="Times New Roman"/>
              </a:rPr>
              <a:t>因为﹙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           </a:t>
            </a:r>
            <a:r>
              <a:rPr b="1" lang="en-US" sz="4800" spc="-1" strike="noStrike">
                <a:solidFill>
                  <a:srgbClr val="00cc00"/>
                </a:solidFill>
                <a:latin typeface="Times New Roman"/>
              </a:rPr>
              <a:t>﹚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42920" y="2276640"/>
            <a:ext cx="754380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他仔细看，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</a:rPr>
              <a:t>真想，才得出正确结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说一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00000" y="2349360"/>
            <a:ext cx="712800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你想对商人说点什么…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你想对自己说些什么……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2060640"/>
            <a:ext cx="8820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遇到问题，不能光着急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要冷静，要动脑筋思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04000" y="4508640"/>
            <a:ext cx="1778040" cy="1765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00000" y="1700280"/>
            <a:ext cx="727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我们要向老人那样，遇到问题要仔细观察，认真思考，才得出正确的结论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-243000"/>
            <a:ext cx="8748720" cy="7398000"/>
          </a:xfrm>
          <a:prstGeom prst="horizontalScroll">
            <a:avLst>
              <a:gd name="adj" fmla="val 12500"/>
            </a:avLst>
          </a:prstGeom>
          <a:solidFill>
            <a:srgbClr val="edfcf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6920" y="1125000"/>
            <a:ext cx="295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5050"/>
                </a:solidFill>
                <a:latin typeface="隶书"/>
                <a:ea typeface="隶书"/>
              </a:rPr>
              <a:t>作 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今天学的这个故事讲给父母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身边的事物，你会有哪些新的发现？把你的新发现，准备在口语交际课上与大家共同分享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24360" y="6237360"/>
            <a:ext cx="3024360" cy="366480"/>
          </a:xfrm>
          <a:prstGeom prst="rect">
            <a:avLst/>
          </a:prstGeom>
          <a:solidFill>
            <a:srgbClr val="303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332000" y="2133720"/>
            <a:ext cx="6227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9000"/>
                    </a:srgbClr>
                  </a:outerShdw>
                </a:effectLst>
                <a:latin typeface="宋体"/>
              </a:rPr>
              <a:t>找骆驼</a:t>
            </a:r>
            <a:endParaRPr b="1" i="1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8000" y="981000"/>
            <a:ext cx="9036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自由朗读课文，把课文读通顺、读正确、读流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边读边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隶书"/>
              </a:rPr>
              <a:t>，课文主要讲了一件什么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651640" y="6237360"/>
            <a:ext cx="30970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33336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初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620640"/>
            <a:ext cx="9144000" cy="50472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08400" y="569880"/>
            <a:ext cx="62157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驮米 缺少 哄骗 跛脚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脚印 究竟 至于 指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顺着 商人 详细 好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果然 牙齿印 忿忿不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啃树叶 不紧不慢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447920" y="1066680"/>
            <a:ext cx="754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  <a:ea typeface="隶书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Times New Roman"/>
                <a:ea typeface="隶书"/>
              </a:rPr>
              <a:t>《找骆驼》这个故事讲了商人（               ）一只骆驼，向老人（          ），经老人（          ），（          ）骆驼的事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506480" y="180648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080040" y="527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617800" y="2568600"/>
            <a:ext cx="12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打 听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3590640" y="328464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指 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6975000" y="335772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d85ec7"/>
                </a:solidFill>
                <a:latin typeface="Times New Roman"/>
              </a:rPr>
              <a:t>找 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267080" y="1828800"/>
            <a:ext cx="275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</a:rPr>
              <a:t>走  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再读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      </a:t>
            </a:r>
            <a:r>
              <a:rPr b="1" lang="zh-CN" sz="44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认真读课文，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①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丢失的骆驼有哪些特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②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老人是怎么知道骆驼的这些特点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③</a:t>
            </a:r>
            <a:r>
              <a:rPr b="1" lang="zh-CN" sz="4400" spc="-1" strike="noStrike" u="sng">
                <a:solidFill>
                  <a:srgbClr val="ff3300"/>
                </a:solidFill>
                <a:uFillTx/>
                <a:latin typeface="仿宋_GB2312"/>
                <a:ea typeface="仿宋_GB2312"/>
              </a:rPr>
              <a:t>商人怎么找到骆驼的？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02920" y="1557360"/>
            <a:ext cx="66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脚有点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左边驮着蜜，右边驮着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缺了一颗牙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仿宋_GB2312"/>
              </a:rPr>
              <a:t>特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156204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3502080"/>
            <a:ext cx="7812000" cy="3013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24000" y="0"/>
            <a:ext cx="6769080" cy="2421000"/>
          </a:xfrm>
          <a:prstGeom prst="cloudCallout">
            <a:avLst>
              <a:gd name="adj1" fmla="val 24810"/>
              <a:gd name="adj2" fmla="val 80884"/>
            </a:avLst>
          </a:prstGeom>
          <a:solidFill>
            <a:srgbClr val="fffff7"/>
          </a:solidFill>
          <a:ln w="9360">
            <a:solidFill>
              <a:srgbClr val="140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老 人 与 商人</a:t>
            </a:r>
            <a:br>
              <a:rPr sz="5400"/>
            </a:br>
            <a:r>
              <a:rPr b="1" lang="zh-CN" sz="5400" spc="-1" strike="noStrike">
                <a:solidFill>
                  <a:srgbClr val="cc3300"/>
                </a:solidFill>
                <a:latin typeface="Arial"/>
                <a:ea typeface="楷体_GB2312"/>
              </a:rPr>
              <a:t>的对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1:18:22Z</dcterms:created>
  <dc:creator>Administrator</dc:creator>
  <dc:description/>
  <dc:language>en-US</dc:language>
  <cp:lastModifiedBy/>
  <dcterms:modified xsi:type="dcterms:W3CDTF">2015-08-19T05:43:01Z</dcterms:modified>
  <cp:revision>2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