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8C2-6E55-427C-8AC3-6D70CF0D9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B8FF-1C05-497B-B5B6-1F2DDF9D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182-9AB9-4923-94BA-BB3DF499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CB4A-8B33-4BCF-8381-AA839DC1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07D-237B-4833-A723-534C7B53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EF2-6385-49D6-B498-07F33D1B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C51-DFE3-4F81-81CA-73ACB291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63F-B880-4747-AAC8-479039A5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4074-6980-4A5D-A87D-7F68CC38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CB28-42CB-46FF-824F-F55C5951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2486-8280-43D2-9106-C2FEFEF0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DB91-1487-4196-A602-4B88F400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8CBA-C87D-482D-9649-CAD32528F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3356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有双峰驼和单峰驼两种。双峰驼曾在我国北方广泛驯养，至今在内蒙古和西北地区仍然能够见到。素有“京华之舟”的美誉。单峰驼有人认为也曾分布于我国的新疆一带，但现在仅见于阿拉伯半岛、印度和非洲北部等地。它的体毛较短，寿命可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骆驼的胃里有水囊，能贮存很多水；驼峰里储存有一百多千克脂肪，必要时可以转变成水的能量，维持骆驼的生命活动。因此，在沙漠里，可以一连三四十天不吃不喝，适于长途跋涉。家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0"/>
            <a:ext cx="2952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骆 驼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58560" y="155736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左脚有点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左边驮着蜜，右边驮着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缺了一颗牙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94788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你问的那只骆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05264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你问的那只骆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9720" y="1066680"/>
            <a:ext cx="568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老人说：“你丢的那只骆驼，是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脚有点跛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不是左边驼着蜜，右边驼着米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不是缺了一颗牙齿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极了！您看见它往哪儿去了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老人说：“那我可不知道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484280"/>
            <a:ext cx="7391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人忿忿地说：“别哄我了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是你把我的骆驼藏起来了。要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怎么知道得这样详细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人不紧不慢地说：“干吗生气呢，听我说吧。刚才我看见路上有骆驼的脚印，右边深，左边浅，就知道骆驼的左脚有点跛。我又看见路的左边有一些蜜，右边有一点米，我想骆驼驮的一定是这两样东西。我还看见骆驼啃过的树叶，上面留下了牙齿印，所以知道它缺了一颗牙齿。至于骆驼究竟往哪儿去了，应该顺着它的脚印去找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243000"/>
            <a:ext cx="70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根据课文内容完成表格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836640"/>
          <a:ext cx="8713800" cy="5327640"/>
        </p:xfrm>
        <a:graphic>
          <a:graphicData uri="http://schemas.openxmlformats.org/drawingml/2006/table">
            <a:tbl>
              <a:tblPr/>
              <a:tblGrid>
                <a:gridCol w="3871800"/>
                <a:gridCol w="48420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　老人看到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　推测出骆驼的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620640"/>
          <a:ext cx="8305920" cy="4587840"/>
        </p:xfrm>
        <a:graphic>
          <a:graphicData uri="http://schemas.openxmlformats.org/drawingml/2006/table">
            <a:tbl>
              <a:tblPr/>
              <a:tblGrid>
                <a:gridCol w="4262400"/>
                <a:gridCol w="4043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老人看到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推测出骆驼的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95280" y="2852640"/>
            <a:ext cx="43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又看见路的左边有一些蜜，右边有一些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0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还看见骆驼啃过的树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留下了牙齿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44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刚才我看见路上有骆驼的脚印，右边深，左边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2997360"/>
            <a:ext cx="388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左边驮蜜，右边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989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28464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4149720"/>
            <a:ext cx="352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5560" y="-460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根据课文内容完成表格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989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你能用“因为……所以……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</a:t>
            </a:r>
            <a:r>
              <a:rPr b="1" lang="en-US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 “……是因为……” 的句式说说老人的判断过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1" descr="C:\My Documents\My Pictures\骆驼脚印.tif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3882960" y="304920"/>
            <a:ext cx="40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504972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689200" y="3581280"/>
            <a:ext cx="6663600" cy="2362680"/>
            <a:chOff x="2689200" y="3581280"/>
            <a:chExt cx="6663600" cy="2362680"/>
          </a:xfrm>
        </p:grpSpPr>
        <p:sp>
          <p:nvSpPr>
            <p:cNvPr id="94" name="Text Box 23"/>
            <p:cNvSpPr/>
            <p:nvPr/>
          </p:nvSpPr>
          <p:spPr>
            <a:xfrm>
              <a:off x="2689200" y="358128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348720" y="475272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33"/>
          <p:cNvSpPr/>
          <p:nvPr/>
        </p:nvSpPr>
        <p:spPr>
          <a:xfrm>
            <a:off x="6102720" y="4748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知道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5" descr="C:\My Documents\My Pictures\米和蜜.tif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457200" y="304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441360" y="365760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en-US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2886120" y="358128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老人看见路的左边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一些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4433760" y="522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126080" y="35712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" y="3124080"/>
            <a:ext cx="74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</a:t>
            </a:r>
            <a:r>
              <a:rPr b="1" lang="zh-CN" sz="1800" spc="-1" strike="noStrike">
                <a:solidFill>
                  <a:srgbClr val="00d447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157d7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树叶，上面留下了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110400" y="45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脚印右边深左边浅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路的左边有一些蜜，右边有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，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骆驼左边驮着蜜，右边驮着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啃过的树叶上留下的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印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缺了一颗牙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62864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060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又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35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522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47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还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根据老人这一连串的推测，我们知道了：应该顺着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去找，才能找到骆驼。后来，商人果然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句式比较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177336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4149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果然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26" descr="A:\asd.JPG"/>
          <p:cNvPicPr/>
          <p:nvPr/>
        </p:nvPicPr>
        <p:blipFill>
          <a:blip r:embed="rId1"/>
          <a:stretch/>
        </p:blipFill>
        <p:spPr>
          <a:xfrm>
            <a:off x="0" y="4081320"/>
            <a:ext cx="3714840" cy="2776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1066680" y="1460520"/>
            <a:ext cx="7620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老人能详细知道走失骆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特点，那是</a:t>
            </a:r>
            <a:r>
              <a:rPr b="1" lang="zh-CN" sz="3600" spc="-1" strike="noStrike">
                <a:solidFill>
                  <a:srgbClr val="00d447"/>
                </a:solidFill>
                <a:latin typeface="Times New Roman"/>
              </a:rPr>
              <a:t>因为﹙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     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</a:rPr>
              <a:t>﹚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42920" y="2276640"/>
            <a:ext cx="7543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他仔细看，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真想，才得出正确结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2349360"/>
            <a:ext cx="71280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你想对商人说点什么…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你想对自己说些什么…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206064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遇到问题，不能光着急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要冷静，要动脑筋思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70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我们要向老人那样，遇到问题要仔细观察，认真思考，才得出正确的结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-243000"/>
            <a:ext cx="8748720" cy="7398000"/>
          </a:xfrm>
          <a:prstGeom prst="horizontalScroll">
            <a:avLst>
              <a:gd name="adj" fmla="val 12500"/>
            </a:avLst>
          </a:prstGeom>
          <a:solidFill>
            <a:srgbClr val="edfcf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29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隶书"/>
                <a:ea typeface="隶书"/>
              </a:rPr>
              <a:t>作 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今天学的这个故事讲给父母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身边的事物，你会有哪些新的发现？把你的新发现，准备在口语交际课上与大家共同分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6237360"/>
            <a:ext cx="3024360" cy="366480"/>
          </a:xfrm>
          <a:prstGeom prst="rect">
            <a:avLst/>
          </a:prstGeom>
          <a:solidFill>
            <a:srgbClr val="303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32000" y="2133720"/>
            <a:ext cx="62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找骆驼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981000"/>
            <a:ext cx="90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自由朗读课文，把课文读通顺、读正确、读流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边读边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课文主要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6237360"/>
            <a:ext cx="309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33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初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8400" y="569880"/>
            <a:ext cx="6215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驮米 缺少 哄骗 跛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脚印 究竟 至于 指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顺着 商人 详细 好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果然 牙齿印 忿忿不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啃树叶 不紧不慢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447920" y="10666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找骆驼》这个故事讲了商人（               ）一只骆驼，向老人（          ），经老人（          ），（   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06480" y="18064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617800" y="25686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 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590640" y="328464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 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975000" y="3357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 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67080" y="1828800"/>
            <a:ext cx="275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认真读课文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丢失的骆驼有哪些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②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老人是怎么知道骆驼的这些特点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③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怎么找到骆驼的？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0292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3502080"/>
            <a:ext cx="7812000" cy="301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0"/>
            <a:ext cx="6769080" cy="2421000"/>
          </a:xfrm>
          <a:prstGeom prst="cloudCallout">
            <a:avLst>
              <a:gd name="adj1" fmla="val 24810"/>
              <a:gd name="adj2" fmla="val 80884"/>
            </a:avLst>
          </a:prstGeom>
          <a:solidFill>
            <a:srgbClr val="fffff7"/>
          </a:solidFill>
          <a:ln w="9360">
            <a:solidFill>
              <a:srgbClr val="140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老 人 与 商人</a:t>
            </a:r>
            <a:br>
              <a:rPr sz="54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的对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1:18:22Z</dcterms:created>
  <dc:creator>Administrator</dc:creator>
  <dc:description/>
  <dc:language>en-US</dc:language>
  <cp:lastModifiedBy/>
  <dcterms:modified xsi:type="dcterms:W3CDTF">2015-08-19T05:43:01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