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0E0-03F8-4A64-9CCE-7FA68CB3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3D1A-049C-42F3-83E1-420D6F14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1C4-8AFE-4BAB-9F35-889A3926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80A7-354D-4348-85EC-EA46FBB0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D4A3-DAF0-40B0-BAC0-BE1FAD3A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5879-9586-4D47-B42B-71ED0913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B87-C834-4595-B901-F54D2656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BE3F-E883-497F-B04F-97834F73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530B-CEC1-4E15-88E7-FD8AE26C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05F-ED51-4F90-AC81-AF65F24D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363-45CF-4D39-A057-B18FA0AB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7644-5BE6-4B62-A025-03DD7217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E66D-855C-4B6B-B8D3-433B408963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95c3997cc582c7c54fb964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8"/>
          <p:cNvSpPr txBox="1"/>
          <p:nvPr/>
        </p:nvSpPr>
        <p:spPr>
          <a:xfrm>
            <a:off x="1835280" y="907920"/>
            <a:ext cx="561636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一串快乐的音符 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  <p:transition spd="slow" advTm="4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草丛"/>
          <p:cNvPicPr/>
          <p:nvPr/>
        </p:nvPicPr>
        <p:blipFill>
          <a:blip r:embed="rId2"/>
          <a:stretch/>
        </p:blipFill>
        <p:spPr>
          <a:xfrm>
            <a:off x="-304920" y="-128520"/>
            <a:ext cx="9753840" cy="71150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2050920" y="4508640"/>
            <a:ext cx="62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小音符们不愿停留下来，他们到处飞跑，多么高兴！”从这句话中你能体会到什么？在后文中找出与这句话相对应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b_6476_EPS_2010031512230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468360" y="0"/>
            <a:ext cx="842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讨论交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、开始小音符们愿意到处飞跑，可后来为什么不想跑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、老奶奶开始时的心情怎样？后来为什么快乐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b_62524_PSD_2009102513404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2050920" y="119700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外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你认为文中的老奶奶是一个怎样的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你想对小音符说点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73b4c5b501ea04da31add1c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835280" y="1197000"/>
            <a:ext cx="511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讨论交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知道小音符们的来历吗？他们快乐吗？画出表现小音符快乐的语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OOPIC_753875475_20081213aa2510a5a2ccecac"/>
          <p:cNvPicPr/>
          <p:nvPr/>
        </p:nvPicPr>
        <p:blipFill>
          <a:blip r:embed="rId1"/>
          <a:stretch/>
        </p:blipFill>
        <p:spPr>
          <a:xfrm>
            <a:off x="0" y="0"/>
            <a:ext cx="52387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5580000" y="1484280"/>
            <a:ext cx="3384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读下列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弹琴  深情  闪烁  寂寞      悉心  思念  陪伴  轻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晶莹  串联  音符  盘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音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á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弹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弹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à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子弹）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JPG_cd6860_00727"/>
          <p:cNvPicPr/>
          <p:nvPr/>
        </p:nvPicPr>
        <p:blipFill>
          <a:blip r:embed="rId2"/>
          <a:stretch/>
        </p:blipFill>
        <p:spPr>
          <a:xfrm>
            <a:off x="95400" y="76320"/>
            <a:ext cx="8953200" cy="6705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1042920" y="4005360"/>
            <a:ext cx="7058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也许是一位音乐家用提琴奏出了他们；也许是个初学钢琴的女孩子在琴键上弹出了他们；也许是骑在牛背上的小牧童用短笛吹出了他们；也可能是小男孩走在田埂上，用轻快的口哨吹出了他们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段话用了什么修辞方法？练习用“也许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也许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也许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也许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.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造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PSD_cd0289_001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2771640" y="1628640"/>
            <a:ext cx="48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042920" y="907920"/>
            <a:ext cx="6624720" cy="50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奔过田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遇到小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串快乐的音符    跑过小溪         助人为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跑过森林         充满爱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跑过草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跑过峡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20091019090504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195640" y="11970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们一个拉着一个的手，像清风一样在田野上跑着、唱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6777076"/>
          <p:cNvPicPr/>
          <p:nvPr/>
        </p:nvPicPr>
        <p:blipFill>
          <a:blip r:embed="rId1"/>
          <a:stretch/>
        </p:blipFill>
        <p:spPr>
          <a:xfrm>
            <a:off x="755640" y="0"/>
            <a:ext cx="7620120" cy="5076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50920" y="5661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们从快乐的小鸟身边跑过，小鸟没有他们唱得好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2006713113069549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2124000" y="5013360"/>
            <a:ext cx="70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0" y="515772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他们从奔流的小溪身边跑过，小溪没有他们唱得好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2007824102040516_2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68360" y="515772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他们跑过森林，跑过草丛，跑过群山间的峡谷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21T08:18:1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