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6.png" ContentType="image/pn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EA5A-9894-4605-8E1E-404584BD8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635D-FB93-4D0F-B9F5-591162BB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1C28-3DFD-4AA0-B69A-99A66548C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135F-B074-4E9A-9A5E-1FC50D640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765A-7E29-4292-9EC5-200D566C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9826-5838-43E8-9BD8-BFFA119D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C815-1355-4D72-B38E-5C78729A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3112-61A6-48CC-88E0-8699F5BF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451B-3096-4661-B48F-C0658D67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E00E-7665-4EB0-9BBC-A502AB74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D117-B8B5-427A-8978-A72DBF56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2887-9138-40D4-AB6F-ADF74EE6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4F75-E2AB-4D52-B22F-020160A931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3249" t="0" r="826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76360" y="189000"/>
            <a:ext cx="54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33cc"/>
                </a:solidFill>
                <a:latin typeface="Arial"/>
                <a:ea typeface="黑体"/>
              </a:rPr>
              <a:t>田园诗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24000" y="1773360"/>
            <a:ext cx="518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田园”让你想到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诗情”又是什么意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58920" y="5157720"/>
            <a:ext cx="6985080" cy="52056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让我们乘着语言文字这辆高速列车，去国外的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荷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走一趟，去感受那里浓浓的田园诗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516720" y="90792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荷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4710240"/>
            <a:ext cx="9144000" cy="21477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39640" y="404640"/>
            <a:ext cx="8136000" cy="23490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黑体"/>
              </a:rPr>
              <a:t>回忆课文，填一填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白天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草原上，奶牛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骏马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绵羊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猪群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小鸡、山羊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它们是这自由王国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2781360"/>
            <a:ext cx="8136000" cy="180036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傍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偶尔传来汽笛声，听不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也听不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挤奶人更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这里一片寂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4653000"/>
            <a:ext cx="8136000" cy="52056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夜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满载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车船过后，一切又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41520" y="5734080"/>
            <a:ext cx="354600" cy="520560"/>
          </a:xfrm>
          <a:prstGeom prst="rect">
            <a:avLst/>
          </a:prstGeom>
          <a:solidFill>
            <a:srgbClr val="cc0000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这就是真正的荷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1838" t="0" r="1448" b="4668"/>
          <a:stretch/>
        </p:blipFill>
        <p:spPr>
          <a:xfrm>
            <a:off x="1547640" y="4005360"/>
            <a:ext cx="6156360" cy="2852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00000" y="1628640"/>
            <a:ext cx="755964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荷兰，是水之国，花之国，也是牧场之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00000" y="2421000"/>
            <a:ext cx="741708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荷兰，是牧场之国，水之国，也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花之国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0360" y="16286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牧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42920" y="40464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读读句子，想想：课文重点写的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49520" y="765000"/>
            <a:ext cx="7306920" cy="222696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学习要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轻声读第二自然段，说说哪些地方让你感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到了诗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步骤：找句子   想画面    说感受    读动情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92360" y="2781360"/>
            <a:ext cx="4320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32360" y="2781360"/>
            <a:ext cx="43164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72360" y="2781360"/>
            <a:ext cx="43164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2572" t="4739" r="2929" b="4323"/>
          <a:stretch/>
        </p:blipFill>
        <p:spPr>
          <a:xfrm>
            <a:off x="2843280" y="3068640"/>
            <a:ext cx="630072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230000" y="333360"/>
            <a:ext cx="528120" cy="520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绿意盎然的村野乡间，是大片大片鲜艳的郁金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1834920" y="1051920"/>
            <a:ext cx="5832360" cy="1152360"/>
          </a:xfrm>
          <a:prstGeom prst="wedgeRoundRectCallout">
            <a:avLst>
              <a:gd name="adj1" fmla="val -14754"/>
              <a:gd name="adj2" fmla="val 69972"/>
              <a:gd name="adj3" fmla="val 16667"/>
            </a:avLst>
          </a:prstGeom>
          <a:solidFill>
            <a:srgbClr val="ffffff"/>
          </a:solidFill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8000" y="1125360"/>
            <a:ext cx="56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我从“大片大片”、“鲜艳”感受到了：在荷兰，色彩艳丽的郁金香到处都是。绿意盎然的村野与姹紫嫣红的郁金香交织在一起，真是太美了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403280" y="2492280"/>
            <a:ext cx="626580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53440" y="404640"/>
            <a:ext cx="7306920" cy="26535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学习要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轻声读第二自然段，说说哪些地方让你感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到了诗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步骤：找句子   想画面    说感受    读动情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 时间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35080" y="3429000"/>
            <a:ext cx="5276880" cy="9471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极目远眺，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碧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如丝绒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草地上，是一头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黑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两色的奶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0" r="0" b="12174"/>
          <a:stretch/>
        </p:blipFill>
        <p:spPr>
          <a:xfrm>
            <a:off x="0" y="4724280"/>
            <a:ext cx="9144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55840" y="120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48000" y="189000"/>
            <a:ext cx="5111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荷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水之国，花之国，牧场之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极目远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碧绿如丝绒般草原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牛犊跑前跑后，活像顽皮孩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老牛仪态端庄，好似牛群家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么温馨，其乐融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3313080" cy="22161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03640" cy="2135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4705200"/>
            <a:ext cx="327672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68360" y="765000"/>
            <a:ext cx="7991280" cy="30801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学习要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默读第三、四自然段，从课文中找出相关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词组，模仿《秋天》、《老师，您好！》诗歌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格式，写成一首小短诗，读一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步骤：读文划词     模仿写诗     诵读交流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时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35640" y="3213000"/>
            <a:ext cx="43164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92360" y="3213000"/>
            <a:ext cx="4320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00720" y="3933720"/>
            <a:ext cx="4033800" cy="2702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rcRect l="1251" t="1905" r="2972" b="5972"/>
          <a:stretch/>
        </p:blipFill>
        <p:spPr>
          <a:xfrm>
            <a:off x="179280" y="3959280"/>
            <a:ext cx="403236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0" t="0" r="0" b="27128"/>
          <a:stretch/>
        </p:blipFill>
        <p:spPr>
          <a:xfrm>
            <a:off x="0" y="4946760"/>
            <a:ext cx="3995640" cy="1911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340000" y="425520"/>
            <a:ext cx="475308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荷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水之国，花之国，牧场之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84360" y="2421000"/>
            <a:ext cx="43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56000" y="2997360"/>
            <a:ext cx="43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56000" y="3573360"/>
            <a:ext cx="43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56000" y="4149720"/>
            <a:ext cx="42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56000" y="4724280"/>
            <a:ext cx="43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43120" y="4745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191628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骏马骠悍强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24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绵羊悠然自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3068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猪群不停呼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56000" y="3645000"/>
            <a:ext cx="232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山羊小鸡安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56000" y="4221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56000" y="5300640"/>
            <a:ext cx="43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56000" y="4869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么自由 ，多么快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rcRect l="16359" t="0" r="9279" b="0"/>
          <a:stretch/>
        </p:blipFill>
        <p:spPr>
          <a:xfrm>
            <a:off x="0" y="1557360"/>
            <a:ext cx="2411280" cy="2124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372360" y="1844640"/>
            <a:ext cx="2771640" cy="2079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rcRect l="35424" t="0" r="0" b="0"/>
          <a:stretch/>
        </p:blipFill>
        <p:spPr>
          <a:xfrm>
            <a:off x="6924600" y="4581360"/>
            <a:ext cx="22194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716360" y="1844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32000" y="692280"/>
            <a:ext cx="5400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荷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水之国，花之国，牧场之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晚霞铺在西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到处充满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夜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牲畜开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低地变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灯塔闪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切，是那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87640" y="2492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16360" y="3284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43280" y="3716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16360" y="4149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64000" y="4724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19890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寂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000" y="2852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沉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87640" y="3284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无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37162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微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64000" y="41497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祥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5119" r="0" b="0"/>
          <a:stretch/>
        </p:blipFill>
        <p:spPr>
          <a:xfrm>
            <a:off x="1547640" y="4897440"/>
            <a:ext cx="3097440" cy="1960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148360" y="4925880"/>
            <a:ext cx="3419280" cy="19321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rcRect l="0" t="0" r="0" b="11158"/>
          <a:stretch/>
        </p:blipFill>
        <p:spPr>
          <a:xfrm>
            <a:off x="6624720" y="0"/>
            <a:ext cx="2519280" cy="22384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rcRect l="0" t="0" r="0" b="4262"/>
          <a:stretch/>
        </p:blipFill>
        <p:spPr>
          <a:xfrm>
            <a:off x="5759280" y="2565360"/>
            <a:ext cx="3384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060360" y="260280"/>
            <a:ext cx="35946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田园诗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荷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水之国，花之国，牧场之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碧绿如绒的草原，艳丽如绸的郁金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千姿百态的奶牛，强壮自由的骏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悠然自得的绵羊，不停呼噜的猪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这就是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田园诗情的荷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晚霞铺在西天，一切归于平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沉睡的牲畜，无声的低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漆黑的夜晚，闪烁的灯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这就是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田园诗情的荷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45240" y="6093000"/>
            <a:ext cx="354600" cy="520560"/>
          </a:xfrm>
          <a:prstGeom prst="rect">
            <a:avLst/>
          </a:prstGeom>
          <a:solidFill>
            <a:srgbClr val="cc0000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这就是真正的荷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400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35280" y="692280"/>
            <a:ext cx="2303640" cy="15112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68360" y="18900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欧洲位于东半球的西北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360" y="3068640"/>
            <a:ext cx="576360" cy="5032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16000" y="333360"/>
            <a:ext cx="7704000" cy="52056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荷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位于欧洲西偏北部，是世界有名的“低地之国”（低洼之国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76360" y="1484280"/>
            <a:ext cx="61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真正的荷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64000" y="191628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32000" y="2781360"/>
            <a:ext cx="60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0" t="0" r="0" b="6810"/>
          <a:stretch/>
        </p:blipFill>
        <p:spPr>
          <a:xfrm>
            <a:off x="0" y="3068640"/>
            <a:ext cx="4572000" cy="26877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rcRect l="0" t="0" r="0" b="3986"/>
          <a:stretch/>
        </p:blipFill>
        <p:spPr>
          <a:xfrm>
            <a:off x="4572000" y="3932280"/>
            <a:ext cx="457200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95280" y="9079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田园诗情》的作者卡雷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恰佩克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Karel Capek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890—1938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捷克著名的剧作家和科幻文学家、童话寓言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3815" t="5232" r="1957" b="8422"/>
          <a:stretch/>
        </p:blipFill>
        <p:spPr>
          <a:xfrm>
            <a:off x="0" y="4705200"/>
            <a:ext cx="5003640" cy="21528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940360" y="4726080"/>
            <a:ext cx="3203640" cy="213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11280" y="2060640"/>
            <a:ext cx="763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为什么作者没有写“水之国”与“花之国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这与作者恰佩克当时写作的背景有关，当时恰佩克的祖国正处于战乱时期，突然身处这样一个宁静悠闲的国度，心中掀起了感情狂澜。对于作者而言，他所渴望的，他所追求的不是水之柔顺，花之灿烂，而是牧场的那种宁静，是荷兰人对马牛羊等各种生物的尊重啊！而这种看似平常的尊重却是作者心中渴望的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189000"/>
            <a:ext cx="1584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链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116000" y="404640"/>
            <a:ext cx="6624720" cy="58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诵读小诗，读出宁静之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荷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水之国，花之国，牧场之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碧绿如丝绒般草原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牛犊跑前跑后，老牛仪态端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骏马自由驰骋，鬃毛随风飘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晚霞铺在西天，一切归于平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狗不叫，牛不哞，马不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沉睡的牲畜，无声的低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漆黑的夜晚，闪烁的灯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这就是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田园诗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荷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0" t="0" r="0" b="7371"/>
          <a:stretch/>
        </p:blipFill>
        <p:spPr>
          <a:xfrm>
            <a:off x="5219640" y="4859280"/>
            <a:ext cx="3924360" cy="1998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012000" y="2565360"/>
            <a:ext cx="3132000" cy="2070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6478560" y="0"/>
            <a:ext cx="266544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00000" y="1413000"/>
            <a:ext cx="65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选择你喜欢的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自然段进行背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荷兰还被称为“风车之国”“低地之国”，有兴趣的同学上网找一找这方面的资料，与同学进行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333360"/>
            <a:ext cx="1368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作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643280" y="4076640"/>
            <a:ext cx="3843360" cy="2575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rcRect l="2498" t="1863" r="3000" b="7880"/>
          <a:stretch/>
        </p:blipFill>
        <p:spPr>
          <a:xfrm>
            <a:off x="250920" y="4076640"/>
            <a:ext cx="410508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42920" y="1773360"/>
            <a:ext cx="684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自由读课文，读准字音，读通句子，用序号标出自然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想一想，课文是围绕哪一句话写的？请用笔划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333360"/>
            <a:ext cx="1800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自学要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29999" r="0" b="0"/>
          <a:stretch/>
        </p:blipFill>
        <p:spPr>
          <a:xfrm>
            <a:off x="0" y="4297320"/>
            <a:ext cx="914400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300720" y="4941720"/>
            <a:ext cx="2160720" cy="1679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0920" y="333360"/>
            <a:ext cx="1800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识记生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907920"/>
            <a:ext cx="748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黑体"/>
              </a:rPr>
              <a:t>顽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皮     严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黑体"/>
              </a:rPr>
              <a:t>肃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黑体"/>
              </a:rPr>
              <a:t>偶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尔     汽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黑体"/>
              </a:rPr>
              <a:t>笛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平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黑体"/>
              </a:rPr>
              <a:t>稳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        一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黑体"/>
              </a:rPr>
              <a:t>抹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晚霞       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黑体"/>
              </a:rPr>
              <a:t>牲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2637000"/>
            <a:ext cx="748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毛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毡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     剽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悍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     木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桩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     板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凳吆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喝     铃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铛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     满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19280" y="4365720"/>
            <a:ext cx="66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黑体"/>
              </a:rPr>
              <a:t>模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样    装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黑体"/>
              </a:rPr>
              <a:t>载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黑体"/>
              </a:rPr>
              <a:t>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里    吆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黑体"/>
              </a:rPr>
              <a:t>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4508640"/>
            <a:ext cx="1223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多音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411280" y="5300640"/>
            <a:ext cx="2160720" cy="1197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rcRect l="0" t="38852" r="0" b="14633"/>
          <a:stretch/>
        </p:blipFill>
        <p:spPr>
          <a:xfrm>
            <a:off x="0" y="5805360"/>
            <a:ext cx="4643280" cy="1052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rcRect l="0" t="38852" r="0" b="14633"/>
          <a:stretch/>
        </p:blipFill>
        <p:spPr>
          <a:xfrm>
            <a:off x="4643280" y="5805360"/>
            <a:ext cx="4500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0920" y="333360"/>
            <a:ext cx="1800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读出味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58920" y="1125360"/>
            <a:ext cx="662472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极目远眺        仪态端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绿意盎然        剽悍强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辽阔无垠        悠然自得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默默无言        舒缓平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38909" r="0" b="29139"/>
          <a:stretch/>
        </p:blipFill>
        <p:spPr>
          <a:xfrm>
            <a:off x="0" y="5108400"/>
            <a:ext cx="914400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2572" t="4739" r="2929" b="4323"/>
          <a:stretch/>
        </p:blipFill>
        <p:spPr>
          <a:xfrm>
            <a:off x="3780000" y="3632040"/>
            <a:ext cx="5364000" cy="32259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55640" y="404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再读课文，想一想：课文是围绕那句话写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162864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黑体"/>
              </a:rPr>
              <a:t>        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黑体"/>
              </a:rPr>
              <a:t>荷兰，是水之国，花之国，也是牧场之国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1052640"/>
            <a:ext cx="1150920" cy="4316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水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1052640"/>
            <a:ext cx="1150920" cy="4316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花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16720" y="2637000"/>
            <a:ext cx="1150920" cy="431640"/>
          </a:xfrm>
          <a:prstGeom prst="wedgeRoundRectCallout">
            <a:avLst>
              <a:gd name="adj1" fmla="val -123379"/>
              <a:gd name="adj2" fmla="val -3823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牧场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00000" y="1628640"/>
            <a:ext cx="727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黑体"/>
              </a:rPr>
              <a:t>        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黑体"/>
              </a:rPr>
              <a:t>荷兰，是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水之国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花之国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黑体"/>
              </a:rPr>
              <a:t>，也是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牧场之国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黑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58920" y="4581360"/>
            <a:ext cx="611964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中心句放在文章开头，也叫“总起句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58920" y="5661000"/>
            <a:ext cx="611964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找一找总结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342900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黑体"/>
              </a:rPr>
              <a:t>        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黑体"/>
              </a:rPr>
              <a:t>这就是真正的荷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79280" y="1413000"/>
            <a:ext cx="755640" cy="3115440"/>
            <a:chOff x="179280" y="1413000"/>
            <a:chExt cx="755640" cy="3115440"/>
          </a:xfrm>
        </p:grpSpPr>
        <p:sp>
          <p:nvSpPr>
            <p:cNvPr id="78" name=""/>
            <p:cNvSpPr/>
            <p:nvPr/>
          </p:nvSpPr>
          <p:spPr>
            <a:xfrm>
              <a:off x="179280" y="1413000"/>
              <a:ext cx="755640" cy="31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6560" y="3284640"/>
              <a:ext cx="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6560" y="1987920"/>
              <a:ext cx="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11054" t="12171" r="11784" b="17875"/>
          <a:stretch/>
        </p:blipFill>
        <p:spPr>
          <a:xfrm>
            <a:off x="3132000" y="4213080"/>
            <a:ext cx="6012000" cy="2644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187280" y="18900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边读边想象，你看到了哪些田园风光图，给你留下了怎样的印象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3068640"/>
            <a:ext cx="136836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骏马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56000" y="2205000"/>
            <a:ext cx="136836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奶牛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95640" y="3213000"/>
            <a:ext cx="136836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绵羊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40000" y="4076640"/>
            <a:ext cx="136836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鸡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12000" y="3213000"/>
            <a:ext cx="201600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长毛山羊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92720" y="2276640"/>
            <a:ext cx="136836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傍晚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92720" y="4149720"/>
            <a:ext cx="136836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夜晚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03280" y="134136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按照时间顺序来分一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3640" y="32846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白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36000" y="34290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夜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9704E-006 L -0.19288 1.9704E-006 E">
                                      <p:cBhvr>
                                        <p:cTn id="138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79371E-006 L -0.34254 0.09436 E">
                                      <p:cBhvr>
                                        <p:cTn id="142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79371E-006 L -0.59844 0.23081 E">
                                      <p:cBhvr>
                                        <p:cTn id="146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22942E-006 L -0.15365 0.24121 E">
                                      <p:cBhvr>
                                        <p:cTn id="150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2572" t="4739" r="2929" b="4323"/>
          <a:stretch/>
        </p:blipFill>
        <p:spPr>
          <a:xfrm>
            <a:off x="4930920" y="4324320"/>
            <a:ext cx="4213080" cy="2533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50920" y="333360"/>
            <a:ext cx="1800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课堂练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907920"/>
            <a:ext cx="756144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、仿写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荷兰，是水之国，花之国，也是牧场之国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也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只有到了傍晚，才看见有人驾着小船过来。只有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才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有感情地朗读课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示：诵读时边读边想象画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书写生字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示：“肃”的第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笔横长一些，第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笔丿，第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笔丨，第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笔短撇，第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笔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332000" y="189000"/>
            <a:ext cx="54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33cc"/>
                </a:solidFill>
                <a:latin typeface="Arial"/>
                <a:ea typeface="黑体"/>
              </a:rPr>
              <a:t>田园诗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32720" y="119700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第二课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9T10:22:47Z</dcterms:created>
  <dc:creator>微软用户; sun</dc:creator>
  <dc:description/>
  <dc:language>en-US</dc:language>
  <cp:lastModifiedBy>微软用户</cp:lastModifiedBy>
  <dcterms:modified xsi:type="dcterms:W3CDTF">2015-07-29T14:26:25Z</dcterms:modified>
  <cp:revision>5</cp:revision>
  <dc:subject/>
  <dc:title>幻灯片 1</dc:title>
</cp:coreProperties>
</file>