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4.png" ContentType="image/png"/>
  <Override PartName="/ppt/media/image11.jpeg" ContentType="image/jpeg"/>
  <Override PartName="/ppt/media/DAYCHIRP.WAV" ContentType="audio/x-wav"/>
  <Override PartName="/ppt/media/image16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CLICK.WAV" ContentType="audio/x-wav"/>
  <Override PartName="/ppt/media/image15.jpeg" ContentType="image/jpeg"/>
  <Override PartName="/ppt/media/APPLAU22.WAV" ContentType="audio/x-wav"/>
  <Override PartName="/ppt/media/image19.jpeg" ContentType="image/jpeg"/>
  <Override PartName="/ppt/media/image42.jpeg" ContentType="image/jpeg"/>
  <Override PartName="/ppt/media/image17.jpeg" ContentType="image/jpeg"/>
  <Override PartName="/ppt/media/image12.gif" ContentType="image/gif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33.jpeg" ContentType="image/jpeg"/>
  <Override PartName="/ppt/media/FALLOW.WAV" ContentType="audio/x-wav"/>
  <Override PartName="/ppt/media/image39.wmf" ContentType="image/x-wmf"/>
  <Override PartName="/ppt/media/image26.jpeg" ContentType="image/jpeg"/>
  <Override PartName="/ppt/media/image32.jpeg" ContentType="image/jpeg"/>
  <Override PartName="/ppt/media/image5.jpeg" ContentType="image/jpeg"/>
  <Override PartName="/ppt/media/image2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13.wmf" ContentType="image/x-wmf"/>
  <Override PartName="/ppt/media/image29.jpeg" ContentType="image/jpeg"/>
  <Override PartName="/ppt/media/image41.wmf" ContentType="image/x-wmf"/>
  <Override PartName="/ppt/media/image8.jpeg" ContentType="image/jpeg"/>
  <Override PartName="/ppt/media/image10.jpeg" ContentType="image/jpeg"/>
  <Override PartName="/ppt/media/image34.wmf" ContentType="image/x-wmf"/>
  <Override PartName="/ppt/media/image36.wmf" ContentType="image/x-wmf"/>
  <Override PartName="/ppt/media/image40.jpeg" ContentType="image/jpeg"/>
  <Override PartName="/ppt/media/image7.jpeg" ContentType="image/jpeg"/>
  <Override PartName="/ppt/media/image38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6.jpeg" ContentType="image/jpeg"/>
  <Override PartName="/ppt/media/image18.png" ContentType="image/png"/>
  <Override PartName="/ppt/media/type.wav" ContentType="audio/x-wav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6DE-B4FC-4653-A90C-D4FEA341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E2EE-A356-4AC7-B9D7-59618A2F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20337-2F98-40F8-8422-B178A628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EC9E7-8F38-4CC9-A3F0-EE31512A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9D977-9B7D-43FF-92EA-9312B513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44BCA-4D7C-45CD-82E0-9AF54073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0FCC3-0A33-4244-9425-591F7FEA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007D6-2C2A-4218-B11D-B43587CE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A8B73-0CE0-4D8A-8BCA-11AF7309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D6E72-5AAB-40B7-8736-FFD5A21E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70944-6CB5-4251-BA02-4BCC481F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F6AEC-447D-4070-BD07-A8D14553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6EDD-108C-415E-854A-A761F6BF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345F3-EA6D-4C90-94AD-EE6EDF87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9A7CB-86E7-485A-87A0-7B42AF08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A4632-02F6-43D8-987C-9E36B95B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9AD40-7554-4E87-9CB8-37EFFE1F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A4BEE-0086-4616-92B5-40F0F361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4D8E3-457A-4BD4-9662-6D5FADFC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D4478-5955-4AAE-A5F2-5EE4B55C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44DA1-014D-4804-9407-17F9835A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F2553-8EBD-4FE9-A0EF-D7ABFDDC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D8FB7-0100-48B4-B62B-D0C5C350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002-A46C-4F76-9B35-E805B731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1250E-E6C0-4001-9B64-A017881F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43291-EDE2-4034-A342-45480A1D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78674-D490-490C-94EA-C1FD57E5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58198-4569-49A1-AE74-5ABC4B60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86E12-96C2-4DC0-A3DE-0A3077E4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B7ED3-AA96-41AE-868C-3B164270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F8E99-9DA2-42D6-A04D-29B16BFF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527FC-07C4-4A5A-BB09-25500DA6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8CAD2-FA47-486B-AB32-65C19EC2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ABC13-7BA3-43CE-8400-F22814C2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E3F8-DAE5-4089-B1A0-5DAB0883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569A6-338D-482E-9E91-C726CAFB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308B3-F7DB-4241-9D32-82249769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9A586-A765-413F-A172-D2F35227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DC32-1597-4E5D-8564-F014EFF0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A83A-AF6D-42D9-96E6-04521A83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18BA-5663-4650-B9F8-CBA4CBC6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A47F-FB2E-4576-A574-9D165782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6D63-EA4D-4D7C-BDA8-E11CFE5A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95A9-4004-4C47-A089-8351DE45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DE3-43E9-4A7C-A5BD-FCC0300F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EF26-2B8F-42AF-914F-C422CA4B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61EE-2553-4852-8877-AF1A81E2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2A54-62E4-4322-83CD-01CD688D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F23E-D6B7-47C8-87FD-7FD8DBDC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208D-75A4-42D7-ACDE-0126A752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A9CA1-F2B2-4AB2-84CC-305CAF1B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A859-A36E-498F-8232-E85C8A21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18F66-0CBD-46B0-A7EA-FE57B66B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8E35E-6FC4-4061-99A1-46AB204F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7FDE1-5A2C-45D4-ABED-75C80996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03D-E8EE-4060-A3CE-1002E1FA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55C23-1438-4947-84D5-7F6318DC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B3D96-9C26-4629-A2E2-D207BBFF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3482F-26B2-4D5F-81A7-8B9B8794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BBA95-42FA-402A-94FF-FCC1D2DE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57CB0-9DBD-4BC2-A0F1-A35DF5AE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6E466-153F-4569-BE95-E064FBE7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3049B-C4B6-450C-806B-09075324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F232C-07BD-4DEC-AAD0-F18D3BF7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40666-0A7A-452E-957B-8D4562AF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315E0-9C1F-411C-8534-90534327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C62-5E19-4A4F-824D-A742793C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9E2AE-FADC-47E7-847E-1FAB30D6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81890-8EE3-48BC-B3C3-3B787040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91F68-B80A-4154-A2CB-5467CD3F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9A6BD-772F-437B-AA5B-49842A98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D1B77-3DC0-4994-BF9E-DAF1EB42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D21D3-4E9A-4116-8CDC-B96EBD58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3D7CD-65BC-4A5A-B4BD-435050CC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431E8-879E-4AD1-A933-AFEE5E58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6A397-C30B-4CA2-AB8E-A09A04D4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F6B76-70C1-4881-82C3-E03ED81A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D353-68A5-42FA-83A0-E7756B96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359CE-8180-4AD4-AE20-CE939BF1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728E2-943C-4AA3-BEF1-CF234BA3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3160A-6497-424F-8568-D91685F5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B46EB-951C-411C-9008-791F2291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FB2C7-97CD-46CE-AFCA-59B030E0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5F232-806A-4236-A7F1-4D1B57A2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A373A-5933-4A97-9B87-0555FB84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C133A-A602-4637-8DA3-C0EAA4A3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A55EE-98CF-44DB-B0BF-03B2986F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BCB54-AFAA-417A-82A6-88405F7F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9C85-808A-4EFF-A507-E6E39966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14A0D-0802-4AAD-9611-86F705EB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8F1E1-9EE9-4D61-934E-A73CC18F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B036E-D14F-4A3F-8FF8-B4A4BA51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CFF65-D015-430E-9A1E-95EF3435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3E8D7-05A6-4BB9-91F1-4F510097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14D85-C2E0-4AC2-A9EF-6B8D33E4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40F4D-BC8C-47AA-A6CD-7E497703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B6E9B-A6EB-4AEF-B300-AC4C5B36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E80C2-9D7B-45A3-91AB-287E4554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08681-C892-4636-9D1D-AF1A2568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15A4-72B7-4035-A7A6-3A5D6A0F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3EE02-6F58-4DF8-8F66-6F85AD56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88E55-F138-4E53-A2D6-32766DD1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D53CA-88E3-4276-8C44-FC8D5E35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10017-6553-4186-980F-67FA5034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73FEA-CB42-49EB-8752-9A4DEB7F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E2839-551B-45B9-8857-CDF9E2EA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05B3D-ADEE-4105-8B2A-6B111AB6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2086D-3867-4A0D-8984-00853EEB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A5783-3F5E-41AA-9E42-A45E9723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9EB44-B435-4F6E-B577-D1B882EB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B22-BCB9-4457-B585-04C02CF0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86EF2-F51A-4EA4-95FC-81A4CC12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3C840-65AA-46D8-8C65-B9FA70D5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E6987-2ADF-410C-A4D4-EE43CF49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CC2D0-C853-4E53-B442-9F4D55F1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E5D66-2281-49C5-BEFA-65ECA4B8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7C758-DB15-46B8-AB41-B477DFA3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80B5E-976D-4908-8E06-207F610C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9E989-923A-4A75-9EED-1849C505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CDDA1-6DE0-4CCF-BE66-8EB3F767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B6A28-94C3-441E-8C7E-37B2F737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B772-CE10-485D-ACA9-240E6069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CE1C8-2ADF-4A03-9577-ECE96448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5DE35-8466-4FA9-A448-AA7DB3EE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06761-6AA3-47F3-BE53-05B80A58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62569-1C7A-4840-AADD-0E27C870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C6324-5BEF-4FAF-9152-0E67CFE1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A1762-E2D1-49EE-894A-D1748F5F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DF7BB-2BDD-4C46-ABE0-C75717F0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FFC05-FC58-4509-925A-02C1B883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BE641-F461-4331-B8CA-E5EFCE6A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33138-7C6A-44FE-AB84-9FE3348E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44A9-7488-4972-9F06-00E892721E8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54EC-769F-4505-9C63-59E695345A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7BD2-EE72-439F-A778-320298EF84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5C16-D522-4F81-8EBB-EAD15F787E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576C-E559-4E38-841C-9C5BDB62A6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2549-2031-42A8-A2F8-2B6A83ED31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1C47-E81C-4619-BE2F-93B3402D27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072A-0FFB-4A6A-8D05-D1C11CDB9F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2BDB-FA2D-4AA6-85F3-5171711D94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0833-6ECF-4145-B4BF-8B337F62CA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DEB0-E44E-47C4-B802-039B19B314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4099-C063-49ED-9323-0C93AF9104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313,28,&#24187;&#28783;&#29255; 28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audio" Target="../media/APPLAU22.WAV"/><Relationship Id="rId7" Type="http://schemas.openxmlformats.org/officeDocument/2006/relationships/audio" Target="../media/CLICK.WAV"/><Relationship Id="rId8" Type="http://schemas.openxmlformats.org/officeDocument/2006/relationships/audio" Target="../media/FALLOW.WAV"/><Relationship Id="rId9" Type="http://schemas.openxmlformats.org/officeDocument/2006/relationships/audio" Target="../media/FALLOW.WAV"/><Relationship Id="rId10" Type="http://schemas.openxmlformats.org/officeDocument/2006/relationships/audio" Target="../media/FALLOW.WAV"/><Relationship Id="rId11" Type="http://schemas.openxmlformats.org/officeDocument/2006/relationships/audio" Target="../media/FALLOW.WAV"/><Relationship Id="rId12" Type="http://schemas.openxmlformats.org/officeDocument/2006/relationships/audio" Target="../media/DAYCHIRP.WAV"/><Relationship Id="rId13" Type="http://schemas.openxmlformats.org/officeDocument/2006/relationships/audio" Target="../media/DAYCHIRP.WAV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9.jpeg"/><Relationship Id="rId3" Type="http://schemas.openxmlformats.org/officeDocument/2006/relationships/image" Target="../media/image32.jpeg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image" Target="../media/image33.jpeg"/><Relationship Id="rId7" Type="http://schemas.openxmlformats.org/officeDocument/2006/relationships/image" Target="../media/image34.wmf"/><Relationship Id="rId8" Type="http://schemas.openxmlformats.org/officeDocument/2006/relationships/image" Target="../media/image35.jpeg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46081" descr="z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图片 68609" descr="3450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图片 69633" descr="790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图片 70657" descr="790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图片 16385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16393" descr="1"/>
          <p:cNvPicPr/>
          <p:nvPr/>
        </p:nvPicPr>
        <p:blipFill>
          <a:blip r:embed="rId2"/>
          <a:stretch/>
        </p:blipFill>
        <p:spPr>
          <a:xfrm>
            <a:off x="1547640" y="1268280"/>
            <a:ext cx="640080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什么是火烧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清晨，太阳刚刚出来的时候，或者傍晚太阳快要落山的时候，天边的云彩常常是通红的一片，像火烧的一样。人们把这种通红的云，叫做火烧云，又叫朝霞和晚霞。有时候，没有云，天边也会出现火红的颜色，这叫火烧天。 火烧云是日出或日落时出现的赤色云霞。火烧云属于低云类，是大气变化的现象之一。它常出现在夏 季，特别是在雷雨之后的日落前后，在天空的西部。由于地面蒸发旺盛，大气中上升气流的作用较大，使火烧 云的形状千变万化。火烧云的色彩一般是红通通的。火烧云的出现，预示着天气暖热、雨量丰沛、生物生长繁 茂的时期即将到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ShockwaveFlash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图片 54273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540720" cy="7601040"/>
          </a:xfrm>
          <a:prstGeom prst="rect">
            <a:avLst/>
          </a:prstGeom>
          <a:ln w="0">
            <a:noFill/>
          </a:ln>
        </p:spPr>
      </p:pic>
      <p:sp>
        <p:nvSpPr>
          <p:cNvPr id="468" name="文本框 54274"/>
          <p:cNvSpPr/>
          <p:nvPr/>
        </p:nvSpPr>
        <p:spPr>
          <a:xfrm>
            <a:off x="1847160" y="1144440"/>
            <a:ext cx="5179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自学要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自由朗读课文，读准生字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词，把你认为难读或难写的生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新词就做个记号，读不通的句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多读几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想一想每个自然段都写了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文本框 60417"/>
          <p:cNvSpPr/>
          <p:nvPr/>
        </p:nvSpPr>
        <p:spPr>
          <a:xfrm>
            <a:off x="1523880" y="36504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字学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文本框 60418"/>
          <p:cNvSpPr/>
          <p:nvPr/>
        </p:nvSpPr>
        <p:spPr>
          <a:xfrm>
            <a:off x="0" y="147312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火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sh</a:t>
            </a:r>
            <a:r>
              <a:rPr b="1" lang="en-US" sz="3600" spc="-1" strike="noStrike">
                <a:solidFill>
                  <a:srgbClr val="ff0000"/>
                </a:solidFill>
                <a:latin typeface="zypyyb"/>
                <a:ea typeface="Microsoft Sans Serif"/>
              </a:rPr>
              <a:t>ā</a:t>
            </a:r>
            <a:r>
              <a:rPr b="1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云   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w</a:t>
            </a:r>
            <a:r>
              <a:rPr b="1" lang="en-US" sz="3600" spc="-1" strike="noStrike">
                <a:solidFill>
                  <a:srgbClr val="ff0000"/>
                </a:solidFill>
                <a:latin typeface="zypyyb"/>
                <a:ea typeface="Microsoft Sans Serif"/>
              </a:rPr>
              <a:t>è</a:t>
            </a:r>
            <a:r>
              <a:rPr b="1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猪     笑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y</a:t>
            </a:r>
            <a:r>
              <a:rPr b="1" lang="en-US" sz="3600" spc="-1" strike="noStrike">
                <a:solidFill>
                  <a:srgbClr val="ff0000"/>
                </a:solidFill>
                <a:latin typeface="zypyyb"/>
                <a:ea typeface="Microsoft Sans Serif"/>
              </a:rPr>
              <a:t>í</a:t>
            </a:r>
            <a:r>
              <a:rPr b="1" lang="en-US" sz="3600" spc="-1" strike="noStrike">
                <a:solidFill>
                  <a:srgbClr val="ff0000"/>
                </a:solidFill>
                <a:latin typeface="zypyyb"/>
                <a:ea typeface="zypyyb"/>
              </a:rPr>
              <a:t>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高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zypyyb"/>
                <a:ea typeface="zypyyb"/>
              </a:rPr>
              <a:t>sh</a:t>
            </a:r>
            <a:r>
              <a:rPr b="1" lang="en-US" sz="3600" spc="-1" strike="noStrike">
                <a:solidFill>
                  <a:srgbClr val="ff3300"/>
                </a:solidFill>
                <a:latin typeface="zypyyb"/>
                <a:ea typeface="Microsoft Sans Serif"/>
              </a:rPr>
              <a:t>ò</a:t>
            </a:r>
            <a:r>
              <a:rPr b="1" lang="en-US" sz="3600" spc="-1" strike="noStrike">
                <a:solidFill>
                  <a:srgbClr val="ff3300"/>
                </a:solidFill>
                <a:latin typeface="zypyyb"/>
                <a:ea typeface="zypyyb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百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zypyyb"/>
                <a:ea typeface="zypyyb"/>
              </a:rPr>
              <a:t>h</a:t>
            </a:r>
            <a:r>
              <a:rPr b="1" lang="en-US" sz="3600" spc="-1" strike="noStrike">
                <a:solidFill>
                  <a:srgbClr val="ff3300"/>
                </a:solidFill>
                <a:latin typeface="zypyyb"/>
                <a:ea typeface="Microsoft Sans Serif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    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zypyyb"/>
                <a:ea typeface="zypyyb"/>
              </a:rPr>
              <a:t>qi</a:t>
            </a:r>
            <a:r>
              <a:rPr b="1" lang="en-US" sz="3600" spc="-1" strike="noStrike">
                <a:solidFill>
                  <a:srgbClr val="ff3300"/>
                </a:solidFill>
                <a:latin typeface="zypyyb"/>
                <a:ea typeface="Microsoft Sans Serif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zypyyb"/>
                <a:ea typeface="zypyyb"/>
              </a:rPr>
              <a:t>g</a:t>
            </a:r>
            <a:r>
              <a:rPr b="1" lang="en-US" sz="3600" spc="-1" strike="noStrike">
                <a:solidFill>
                  <a:srgbClr val="0033cc"/>
                </a:solidFill>
                <a:latin typeface="zypyyb"/>
                <a:ea typeface="Microsoft Sans Serif"/>
              </a:rPr>
              <a:t>uì</a:t>
            </a:r>
            <a:r>
              <a:rPr b="1" lang="en-US" sz="3600" spc="-1" strike="noStrike">
                <a:solidFill>
                  <a:srgbClr val="bbe0e3"/>
                </a:solidFill>
                <a:latin typeface="zypyyb"/>
                <a:ea typeface="Microsoft Sans Serif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跪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着   凶</a:t>
            </a:r>
            <a:r>
              <a:rPr b="1" lang="en-US" sz="3600" spc="-1" strike="noStrike">
                <a:solidFill>
                  <a:srgbClr val="0033cc"/>
                </a:solidFill>
                <a:latin typeface="zypyyb"/>
                <a:ea typeface="zypyyb"/>
              </a:rPr>
              <a:t>m</a:t>
            </a:r>
            <a:r>
              <a:rPr b="1" lang="en-US" sz="3600" spc="-1" strike="noStrike">
                <a:solidFill>
                  <a:srgbClr val="0033cc"/>
                </a:solidFill>
                <a:latin typeface="zypyyb"/>
                <a:ea typeface="Microsoft Sans Serif"/>
              </a:rPr>
              <a:t>ĕ</a:t>
            </a:r>
            <a:r>
              <a:rPr b="1" lang="en-US" sz="3600" spc="-1" strike="noStrike">
                <a:solidFill>
                  <a:srgbClr val="0033cc"/>
                </a:solidFill>
                <a:latin typeface="zypyyb"/>
                <a:ea typeface="zypyyb"/>
              </a:rPr>
              <a:t>ng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猛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   </a:t>
            </a:r>
            <a:r>
              <a:rPr b="1" lang="en-US" sz="3600" spc="-1" strike="noStrike">
                <a:solidFill>
                  <a:srgbClr val="0033cc"/>
                </a:solidFill>
                <a:latin typeface="zypyyb"/>
                <a:ea typeface="zypyyb"/>
              </a:rPr>
              <a:t>mi</a:t>
            </a:r>
            <a:r>
              <a:rPr b="1" lang="en-US" sz="3600" spc="-1" strike="noStrike">
                <a:solidFill>
                  <a:srgbClr val="0033cc"/>
                </a:solidFill>
                <a:latin typeface="zypyyb"/>
                <a:ea typeface="Microsoft Sans Serif"/>
              </a:rPr>
              <a:t>à</a:t>
            </a:r>
            <a:r>
              <a:rPr b="1" lang="en-US" sz="3600" spc="-1" strike="noStrike">
                <a:solidFill>
                  <a:srgbClr val="0033cc"/>
                </a:solidFill>
                <a:latin typeface="zypyyb"/>
                <a:ea typeface="zypyyb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庙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zypyyb"/>
                <a:ea typeface="zypyyb"/>
              </a:rPr>
              <a:t>d</a:t>
            </a:r>
            <a:r>
              <a:rPr b="1" lang="en-US" sz="3600" spc="-1" strike="noStrike">
                <a:solidFill>
                  <a:srgbClr val="0033cc"/>
                </a:solidFill>
                <a:latin typeface="zypyyb"/>
                <a:ea typeface="Microsoft Sans Serif"/>
              </a:rPr>
              <a:t>ū</a:t>
            </a:r>
            <a:r>
              <a:rPr b="1" lang="en-US" sz="3600" spc="-1" strike="noStrike">
                <a:solidFill>
                  <a:srgbClr val="0033cc"/>
                </a:solidFill>
                <a:latin typeface="zypyyb"/>
                <a:ea typeface="zypyyb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zypyyb"/>
                <a:ea typeface="zypyyb"/>
              </a:rPr>
              <a:t>蹲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zypyyb"/>
                <a:ea typeface="zypyyb"/>
              </a:rPr>
              <a:t>着   </a:t>
            </a:r>
            <a:r>
              <a:rPr b="1" lang="en-US" sz="3600" spc="-1" strike="noStrike">
                <a:solidFill>
                  <a:srgbClr val="0033cc"/>
                </a:solidFill>
                <a:latin typeface="zypyyb"/>
                <a:ea typeface="zypyyb"/>
              </a:rPr>
              <a:t>zh</a:t>
            </a:r>
            <a:r>
              <a:rPr b="1" lang="en-US" sz="3600" spc="-1" strike="noStrike">
                <a:solidFill>
                  <a:srgbClr val="0033cc"/>
                </a:solidFill>
                <a:latin typeface="zypyyb"/>
                <a:ea typeface="Microsoft Sans Serif"/>
              </a:rPr>
              <a:t>è</a:t>
            </a:r>
            <a:r>
              <a:rPr b="1" lang="en-US" sz="3600" spc="-1" strike="noStrike">
                <a:solidFill>
                  <a:srgbClr val="0033cc"/>
                </a:solidFill>
                <a:latin typeface="zypyyb"/>
                <a:ea typeface="zypyyb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静    必</a:t>
            </a:r>
            <a:r>
              <a:rPr b="1" lang="en-US" sz="3600" spc="-1" strike="noStrike">
                <a:solidFill>
                  <a:srgbClr val="0033cc"/>
                </a:solidFill>
                <a:latin typeface="zypyyb"/>
                <a:ea typeface="zypyyb"/>
              </a:rPr>
              <a:t>x</a:t>
            </a:r>
            <a:r>
              <a:rPr b="1" lang="en-US" sz="3600" spc="-1" strike="noStrike">
                <a:solidFill>
                  <a:srgbClr val="0033cc"/>
                </a:solidFill>
                <a:latin typeface="zypyyb"/>
                <a:ea typeface="Microsoft Sans Serif"/>
              </a:rPr>
              <a:t>ū</a:t>
            </a:r>
            <a:r>
              <a:rPr b="1" lang="en-US" sz="3600" spc="-1" strike="noStrike">
                <a:solidFill>
                  <a:srgbClr val="bbe0e3"/>
                </a:solidFill>
                <a:latin typeface="zypyyb"/>
                <a:ea typeface="zypyyb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zypyyb"/>
                <a:ea typeface="zypyyb"/>
              </a:rPr>
              <a:t>ru</a:t>
            </a:r>
            <a:r>
              <a:rPr b="1" lang="en-US" sz="3600" spc="-1" strike="noStrike">
                <a:solidFill>
                  <a:srgbClr val="0033cc"/>
                </a:solidFill>
                <a:latin typeface="zypyyb"/>
                <a:ea typeface="Microsoft Sans Serif"/>
              </a:rPr>
              <a:t>ό</a:t>
            </a:r>
            <a:r>
              <a:rPr b="1" lang="en-US" sz="3600" spc="-1" strike="noStrike">
                <a:solidFill>
                  <a:srgbClr val="bbe0e3"/>
                </a:solidFill>
                <a:latin typeface="zypyyb"/>
                <a:ea typeface="zypyyb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眼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文本框 28675"/>
          <p:cNvSpPr/>
          <p:nvPr/>
        </p:nvSpPr>
        <p:spPr>
          <a:xfrm>
            <a:off x="1835280" y="18432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左大括号 28677"/>
          <p:cNvSpPr/>
          <p:nvPr/>
        </p:nvSpPr>
        <p:spPr>
          <a:xfrm>
            <a:off x="2627280" y="1411200"/>
            <a:ext cx="657360" cy="1656000"/>
          </a:xfrm>
          <a:custGeom>
            <a:avLst/>
            <a:gdLst>
              <a:gd name="textAreaLeft" fmla="*/ 420120 w 657360"/>
              <a:gd name="textAreaRight" fmla="*/ 657720 w 657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文本框 28678"/>
          <p:cNvSpPr/>
          <p:nvPr/>
        </p:nvSpPr>
        <p:spPr>
          <a:xfrm>
            <a:off x="3419640" y="26352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m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文本框 28679"/>
          <p:cNvSpPr/>
          <p:nvPr/>
        </p:nvSpPr>
        <p:spPr>
          <a:xfrm>
            <a:off x="3203640" y="90792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m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文本框 28680"/>
          <p:cNvSpPr/>
          <p:nvPr/>
        </p:nvSpPr>
        <p:spPr>
          <a:xfrm>
            <a:off x="4859280" y="263520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模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文本框 28681"/>
          <p:cNvSpPr/>
          <p:nvPr/>
        </p:nvSpPr>
        <p:spPr>
          <a:xfrm>
            <a:off x="4714920" y="9079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模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文本框 28682"/>
          <p:cNvSpPr/>
          <p:nvPr/>
        </p:nvSpPr>
        <p:spPr>
          <a:xfrm>
            <a:off x="1908000" y="4292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左大括号 28683"/>
          <p:cNvSpPr/>
          <p:nvPr/>
        </p:nvSpPr>
        <p:spPr>
          <a:xfrm>
            <a:off x="2771640" y="3860640"/>
            <a:ext cx="657360" cy="1656000"/>
          </a:xfrm>
          <a:custGeom>
            <a:avLst/>
            <a:gdLst>
              <a:gd name="textAreaLeft" fmla="*/ 420120 w 657360"/>
              <a:gd name="textAreaRight" fmla="*/ 657720 w 657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文本框 28684"/>
          <p:cNvSpPr/>
          <p:nvPr/>
        </p:nvSpPr>
        <p:spPr>
          <a:xfrm>
            <a:off x="3564000" y="508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s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文本框 28685"/>
          <p:cNvSpPr/>
          <p:nvPr/>
        </p:nvSpPr>
        <p:spPr>
          <a:xfrm>
            <a:off x="3348000" y="335772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sh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文本框 28686"/>
          <p:cNvSpPr/>
          <p:nvPr/>
        </p:nvSpPr>
        <p:spPr>
          <a:xfrm>
            <a:off x="5003640" y="508464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相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文本框 28687"/>
          <p:cNvSpPr/>
          <p:nvPr/>
        </p:nvSpPr>
        <p:spPr>
          <a:xfrm>
            <a:off x="4859280" y="335772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似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文本框 56321"/>
          <p:cNvSpPr/>
          <p:nvPr/>
        </p:nvSpPr>
        <p:spPr>
          <a:xfrm>
            <a:off x="226800" y="520560"/>
            <a:ext cx="6442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难读的生字和新词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彤彤（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ō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子（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i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模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mú)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样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半灰半百合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图片 47105" descr="z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文本框 111617"/>
          <p:cNvSpPr/>
          <p:nvPr/>
        </p:nvSpPr>
        <p:spPr>
          <a:xfrm>
            <a:off x="324000" y="476280"/>
            <a:ext cx="8591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随作者的目光，你都看到了什么？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文本框 111618"/>
          <p:cNvSpPr/>
          <p:nvPr/>
        </p:nvSpPr>
        <p:spPr>
          <a:xfrm>
            <a:off x="517680" y="2992320"/>
            <a:ext cx="474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文本框 111619"/>
          <p:cNvSpPr/>
          <p:nvPr/>
        </p:nvSpPr>
        <p:spPr>
          <a:xfrm>
            <a:off x="685800" y="36576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重点讲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文本框 111620"/>
          <p:cNvSpPr/>
          <p:nvPr/>
        </p:nvSpPr>
        <p:spPr>
          <a:xfrm>
            <a:off x="2417040" y="1995480"/>
            <a:ext cx="47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火烧去上来后地面和天空的变化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火烧云颜色变化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火烧云形状的变化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矩形 111621"/>
          <p:cNvSpPr/>
          <p:nvPr/>
        </p:nvSpPr>
        <p:spPr>
          <a:xfrm>
            <a:off x="2057400" y="479736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火烧云形状的变化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地面景物发生了哪些变化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图片 33793" descr="395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2" name="矩形 33794" descr=""/>
          <p:cNvPicPr/>
          <p:nvPr/>
        </p:nvPicPr>
        <p:blipFill>
          <a:blip r:embed="rId2"/>
          <a:stretch/>
        </p:blipFill>
        <p:spPr>
          <a:xfrm>
            <a:off x="1209600" y="752400"/>
            <a:ext cx="6902640" cy="4997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文本框 113665"/>
          <p:cNvSpPr/>
          <p:nvPr/>
        </p:nvSpPr>
        <p:spPr>
          <a:xfrm>
            <a:off x="4259520" y="37296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一边背诵一边填空，看看谁最厉害，都能填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文本框 113666"/>
          <p:cNvSpPr/>
          <p:nvPr/>
        </p:nvSpPr>
        <p:spPr>
          <a:xfrm>
            <a:off x="0" y="1211400"/>
            <a:ext cx="92851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晚饭过后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霞光照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大白狗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红公鸡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黑母鸡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喂猪的老爷爷在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笑盈盈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他刚想说“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”，旁边走来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他说：“您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您老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直接连接符 113667"/>
          <p:cNvSpPr/>
          <p:nvPr/>
        </p:nvSpPr>
        <p:spPr>
          <a:xfrm>
            <a:off x="76320" y="426708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图片 72705" descr="４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文本框 72706"/>
          <p:cNvSpPr/>
          <p:nvPr/>
        </p:nvSpPr>
        <p:spPr>
          <a:xfrm>
            <a:off x="900000" y="3213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99f7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矩形 72707"/>
          <p:cNvSpPr/>
          <p:nvPr/>
        </p:nvSpPr>
        <p:spPr>
          <a:xfrm>
            <a:off x="457200" y="1523880"/>
            <a:ext cx="7924680" cy="31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f0e616"/>
                </a:solidFill>
                <a:latin typeface="Times New Roman"/>
              </a:rPr>
              <a:t>天空的云从西边一直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0e616"/>
                </a:solidFill>
                <a:latin typeface="Times New Roman"/>
              </a:rPr>
              <a:t>到东边，红彤彤的，好像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0e616"/>
                </a:solidFill>
                <a:latin typeface="Times New Roman"/>
              </a:rPr>
              <a:t>天空着了火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等腰三角形 72708"/>
          <p:cNvSpPr/>
          <p:nvPr/>
        </p:nvSpPr>
        <p:spPr>
          <a:xfrm>
            <a:off x="7391520" y="228600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341b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用得十分精妙，具有多方面的表达功效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描绘色彩　火烧云刚出现在天空时的颜色是红的，但作者不用“红”字，而用“烧”字。这样既表现了晚霞如火焰般的红艳，又避免了与后面的“红通通”一词相重复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描摹动态　“红”只表示色彩，是静态的；“烧”表示动作，给我们一种动态的感觉。“烧”突出云色彩的变化。后文所写的火烧云的五颜六色、千姿百态，都与“烧”相关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渲染气势　“烧”得“红通通”的，天空像“着了火”。这个比喻，写出火烧云的恢宏气势。这是天地间的奇观，是大自然的杰作，也是一幅无比壮丽的图画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照应全文　用“烧”字，不仅在这一段里跟末句的“着了火”照应，而且对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火烧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文题起了点题的作用，同时，还与后文所写火烧云色彩和形态的变化相呼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73730"/>
          <p:cNvSpPr txBox="1"/>
          <p:nvPr/>
        </p:nvSpPr>
        <p:spPr>
          <a:xfrm>
            <a:off x="0" y="1197000"/>
            <a:ext cx="79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991f00"/>
                  </a:outerShdw>
                </a:effectLst>
                <a:latin typeface="宋体"/>
              </a:rPr>
              <a:t>烧</a:t>
            </a:r>
            <a:r>
              <a:rPr b="1" lang="en-US" sz="4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991f00"/>
                  </a:outerShdw>
                </a:effectLst>
                <a:latin typeface="宋体"/>
              </a:rPr>
              <a:t>:</a:t>
            </a:r>
            <a:endParaRPr b="1" lang="en-US" sz="4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991f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图片 10241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503" name="矩形 10242"/>
          <p:cNvSpPr/>
          <p:nvPr/>
        </p:nvSpPr>
        <p:spPr>
          <a:xfrm>
            <a:off x="0" y="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天上的云从西边一直烧到东边，红彤彤的，好象是天空着了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这地方的火烧云变化极多，一会儿红彤彤的，一会儿金灿灿的，一会儿半紫半黄，一会儿半灰半百合色。葡萄灰，梨黄，茄子紫，这些颜色天空都有，还有些说也说不出来、见也没见过的颜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文本框 10243"/>
          <p:cNvSpPr/>
          <p:nvPr/>
        </p:nvSpPr>
        <p:spPr>
          <a:xfrm>
            <a:off x="1653840" y="5335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好象是天空着了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文本框 10244"/>
          <p:cNvSpPr/>
          <p:nvPr/>
        </p:nvSpPr>
        <p:spPr>
          <a:xfrm>
            <a:off x="4485240" y="1371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变化极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文本框 10245"/>
          <p:cNvSpPr/>
          <p:nvPr/>
        </p:nvSpPr>
        <p:spPr>
          <a:xfrm>
            <a:off x="6861960" y="1371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会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文本框 10246"/>
          <p:cNvSpPr/>
          <p:nvPr/>
        </p:nvSpPr>
        <p:spPr>
          <a:xfrm>
            <a:off x="1832760" y="19051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会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文本框 10247"/>
          <p:cNvSpPr/>
          <p:nvPr/>
        </p:nvSpPr>
        <p:spPr>
          <a:xfrm>
            <a:off x="5490360" y="19051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会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文本框 10248"/>
          <p:cNvSpPr/>
          <p:nvPr/>
        </p:nvSpPr>
        <p:spPr>
          <a:xfrm>
            <a:off x="461160" y="251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会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文本框 10249"/>
          <p:cNvSpPr/>
          <p:nvPr/>
        </p:nvSpPr>
        <p:spPr>
          <a:xfrm>
            <a:off x="0" y="1371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                         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红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文本框 10250"/>
          <p:cNvSpPr/>
          <p:nvPr/>
        </p:nvSpPr>
        <p:spPr>
          <a:xfrm>
            <a:off x="2896560" y="1219320"/>
            <a:ext cx="129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Times New Roman"/>
              </a:rPr>
              <a:t>__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文本框 10251"/>
          <p:cNvSpPr/>
          <p:nvPr/>
        </p:nvSpPr>
        <p:spPr>
          <a:xfrm>
            <a:off x="6477840" y="1219320"/>
            <a:ext cx="185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Times New Roman"/>
              </a:rPr>
              <a:t>___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文本框 10252"/>
          <p:cNvSpPr/>
          <p:nvPr/>
        </p:nvSpPr>
        <p:spPr>
          <a:xfrm>
            <a:off x="1448280" y="1752480"/>
            <a:ext cx="241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Times New Roman"/>
              </a:rPr>
              <a:t>____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文本框 10253"/>
          <p:cNvSpPr/>
          <p:nvPr/>
        </p:nvSpPr>
        <p:spPr>
          <a:xfrm>
            <a:off x="6462000" y="2782800"/>
            <a:ext cx="246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en-US" sz="8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文本框 10254"/>
          <p:cNvSpPr/>
          <p:nvPr/>
        </p:nvSpPr>
        <p:spPr>
          <a:xfrm>
            <a:off x="136440" y="3392640"/>
            <a:ext cx="450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Times New Roman"/>
              </a:rPr>
              <a:t>………</a:t>
            </a:r>
            <a:r>
              <a:rPr b="1" lang="en-US" sz="8000" spc="-1" strike="noStrike">
                <a:solidFill>
                  <a:srgbClr val="0000ff"/>
                </a:solidFill>
                <a:latin typeface="Times New Roman"/>
              </a:rPr>
              <a:t>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图片 10255" descr="Sunset"/>
          <p:cNvPicPr/>
          <p:nvPr/>
        </p:nvPicPr>
        <p:blipFill>
          <a:blip r:embed="rId2"/>
          <a:stretch/>
        </p:blipFill>
        <p:spPr>
          <a:xfrm>
            <a:off x="0" y="4648320"/>
            <a:ext cx="4572000" cy="236196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10256" descr="火烧云21"/>
          <p:cNvPicPr/>
          <p:nvPr/>
        </p:nvPicPr>
        <p:blipFill>
          <a:blip r:embed="rId3"/>
          <a:stretch/>
        </p:blipFill>
        <p:spPr>
          <a:xfrm>
            <a:off x="4572000" y="4648320"/>
            <a:ext cx="4724280" cy="2361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10257" descr="火烧云13"/>
          <p:cNvPicPr/>
          <p:nvPr/>
        </p:nvPicPr>
        <p:blipFill>
          <a:blip r:embed="rId4"/>
          <a:stretch/>
        </p:blipFill>
        <p:spPr>
          <a:xfrm>
            <a:off x="0" y="4648320"/>
            <a:ext cx="4572000" cy="2361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10258" descr="火烧云16"/>
          <p:cNvPicPr/>
          <p:nvPr/>
        </p:nvPicPr>
        <p:blipFill>
          <a:blip r:embed="rId5"/>
          <a:stretch/>
        </p:blipFill>
        <p:spPr>
          <a:xfrm>
            <a:off x="4572000" y="4648320"/>
            <a:ext cx="4724280" cy="23619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FALL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FALL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FALL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FALL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AYCHIR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AYCHIR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图片 74753" descr="3450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1" name="矩形 74754"/>
          <p:cNvSpPr/>
          <p:nvPr/>
        </p:nvSpPr>
        <p:spPr>
          <a:xfrm>
            <a:off x="609480" y="990720"/>
            <a:ext cx="7848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616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地方的火烧云变化极多，一会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红彤彤的，一会儿金灿灿的，一会儿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紫半黄，一会儿半灰半百合色。葡萄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梨黄，茄子紫，这些颜色天空都有，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些说也说不出来、见也没见过的颜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文本框 74755"/>
          <p:cNvSpPr/>
          <p:nvPr/>
        </p:nvSpPr>
        <p:spPr>
          <a:xfrm>
            <a:off x="838080" y="49528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0e616"/>
                </a:solidFill>
                <a:latin typeface="Times New Roman"/>
              </a:rPr>
              <a:t>红彤彤      金灿灿     半紫半黄    半灰半百合色       葡萄灰     梨黄       茄子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9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图片 75777" descr="395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4" name="组合 75778"/>
          <p:cNvGrpSpPr/>
          <p:nvPr/>
        </p:nvGrpSpPr>
        <p:grpSpPr>
          <a:xfrm>
            <a:off x="914400" y="990720"/>
            <a:ext cx="7314840" cy="4419000"/>
            <a:chOff x="914400" y="990720"/>
            <a:chExt cx="7314840" cy="4419000"/>
          </a:xfrm>
        </p:grpSpPr>
        <p:sp>
          <p:nvSpPr>
            <p:cNvPr id="525" name="矩形 75779"/>
            <p:cNvSpPr txBox="1"/>
            <p:nvPr/>
          </p:nvSpPr>
          <p:spPr>
            <a:xfrm>
              <a:off x="914400" y="2021040"/>
              <a:ext cx="1541520" cy="204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ffff00"/>
                    </a:solidFill>
                    <a:round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颜色</a:t>
              </a:r>
              <a:endParaRPr b="0" lang="en-US" sz="18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526" name="矩形 75780" descr=""/>
            <p:cNvPicPr/>
            <p:nvPr/>
          </p:nvPicPr>
          <p:blipFill>
            <a:blip r:embed="rId2"/>
            <a:stretch/>
          </p:blipFill>
          <p:spPr>
            <a:xfrm>
              <a:off x="2284560" y="990720"/>
              <a:ext cx="5944680" cy="44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矩形 75781"/>
            <p:cNvSpPr txBox="1"/>
            <p:nvPr/>
          </p:nvSpPr>
          <p:spPr>
            <a:xfrm>
              <a:off x="2712600" y="1874880"/>
              <a:ext cx="171000" cy="262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ffff00"/>
                    </a:solidFill>
                    <a:round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｛</a:t>
              </a:r>
              <a:endParaRPr b="0" lang="en-US" sz="18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28" name="文本框 75782"/>
          <p:cNvSpPr/>
          <p:nvPr/>
        </p:nvSpPr>
        <p:spPr>
          <a:xfrm>
            <a:off x="1024200" y="4387680"/>
            <a:ext cx="1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0e616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f0e61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0e616"/>
                </a:solidFill>
                <a:latin typeface="Times New Roman"/>
              </a:rPr>
              <a:t>自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图片 78849" descr="0010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矩形 78850"/>
          <p:cNvSpPr/>
          <p:nvPr/>
        </p:nvSpPr>
        <p:spPr>
          <a:xfrm>
            <a:off x="6097680" y="419112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隶书"/>
              </a:rPr>
              <a:t>红彤彤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图片 50177" descr="510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79873" descr="93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文本框 79874"/>
          <p:cNvSpPr/>
          <p:nvPr/>
        </p:nvSpPr>
        <p:spPr>
          <a:xfrm>
            <a:off x="457200" y="15238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金灿灿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80897" descr="79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文本框 80898"/>
          <p:cNvSpPr/>
          <p:nvPr/>
        </p:nvSpPr>
        <p:spPr>
          <a:xfrm>
            <a:off x="5638680" y="320040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半紫半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图片 81921" descr="144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文本框 81922"/>
          <p:cNvSpPr/>
          <p:nvPr/>
        </p:nvSpPr>
        <p:spPr>
          <a:xfrm>
            <a:off x="4648320" y="31240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半灰半百合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文本框 81923"/>
          <p:cNvSpPr/>
          <p:nvPr/>
        </p:nvSpPr>
        <p:spPr>
          <a:xfrm>
            <a:off x="5257800" y="54864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梨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8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图片 82945" descr="14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文本框 82946"/>
          <p:cNvSpPr/>
          <p:nvPr/>
        </p:nvSpPr>
        <p:spPr>
          <a:xfrm>
            <a:off x="838080" y="152388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茄子紫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83969" descr="118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文本框 83970"/>
          <p:cNvSpPr/>
          <p:nvPr/>
        </p:nvSpPr>
        <p:spPr>
          <a:xfrm>
            <a:off x="609480" y="106668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00"/>
                </a:solidFill>
                <a:latin typeface="Times New Roman"/>
              </a:rPr>
              <a:t>葡萄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图片 84993" descr="395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矩形 84994"/>
          <p:cNvSpPr/>
          <p:nvPr/>
        </p:nvSpPr>
        <p:spPr>
          <a:xfrm>
            <a:off x="380880" y="914400"/>
            <a:ext cx="800100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0e616"/>
                </a:solidFill>
                <a:latin typeface="黑体"/>
                <a:ea typeface="黑体"/>
              </a:rPr>
              <a:t>红彤彤      金灿灿     半紫半黄   半灰半百合色         葡萄灰      茄子紫       梨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0e616"/>
                </a:solidFill>
                <a:latin typeface="黑体"/>
                <a:ea typeface="黑体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矩形 84995"/>
          <p:cNvSpPr/>
          <p:nvPr/>
        </p:nvSpPr>
        <p:spPr>
          <a:xfrm>
            <a:off x="3217680" y="274320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红彤彤           金灿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矩形 84996"/>
          <p:cNvSpPr/>
          <p:nvPr/>
        </p:nvSpPr>
        <p:spPr>
          <a:xfrm>
            <a:off x="3475080" y="3657600"/>
            <a:ext cx="346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半紫半黄        半灰半百合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矩形 84997"/>
          <p:cNvSpPr/>
          <p:nvPr/>
        </p:nvSpPr>
        <p:spPr>
          <a:xfrm>
            <a:off x="3305520" y="4419720"/>
            <a:ext cx="32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葡萄灰      茄子紫     梨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矩形 84998"/>
          <p:cNvSpPr/>
          <p:nvPr/>
        </p:nvSpPr>
        <p:spPr>
          <a:xfrm>
            <a:off x="809640" y="2743200"/>
            <a:ext cx="148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BB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矩形 84999"/>
          <p:cNvSpPr/>
          <p:nvPr/>
        </p:nvSpPr>
        <p:spPr>
          <a:xfrm>
            <a:off x="1015920" y="358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并列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矩形 85000"/>
          <p:cNvSpPr/>
          <p:nvPr/>
        </p:nvSpPr>
        <p:spPr>
          <a:xfrm>
            <a:off x="1015920" y="4343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比喻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矩形 85001"/>
          <p:cNvSpPr/>
          <p:nvPr/>
        </p:nvSpPr>
        <p:spPr>
          <a:xfrm>
            <a:off x="914400" y="55627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e616"/>
                </a:solidFill>
                <a:latin typeface="Times New Roman"/>
              </a:rPr>
              <a:t>像（         ）一样的（     ）色是（    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8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3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文本框 89089"/>
          <p:cNvSpPr/>
          <p:nvPr/>
        </p:nvSpPr>
        <p:spPr>
          <a:xfrm>
            <a:off x="4420080" y="765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照样子说说描写色彩的词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文本框 89090"/>
          <p:cNvSpPr/>
          <p:nvPr/>
        </p:nvSpPr>
        <p:spPr>
          <a:xfrm>
            <a:off x="880200" y="1341360"/>
            <a:ext cx="1400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红彤彤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葡萄灰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百合色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半紫半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组合 89091"/>
          <p:cNvGrpSpPr/>
          <p:nvPr/>
        </p:nvGrpSpPr>
        <p:grpSpPr>
          <a:xfrm>
            <a:off x="1979640" y="2349360"/>
            <a:ext cx="6477120" cy="0"/>
            <a:chOff x="1979640" y="2349360"/>
            <a:chExt cx="6477120" cy="0"/>
          </a:xfrm>
        </p:grpSpPr>
        <p:sp>
          <p:nvSpPr>
            <p:cNvPr id="554" name="直接连接符 89092"/>
            <p:cNvSpPr/>
            <p:nvPr/>
          </p:nvSpPr>
          <p:spPr>
            <a:xfrm>
              <a:off x="1979640" y="234936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直接连接符 89093"/>
            <p:cNvSpPr/>
            <p:nvPr/>
          </p:nvSpPr>
          <p:spPr>
            <a:xfrm>
              <a:off x="3656160" y="234936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直接连接符 89094"/>
            <p:cNvSpPr/>
            <p:nvPr/>
          </p:nvSpPr>
          <p:spPr>
            <a:xfrm>
              <a:off x="5332320" y="234936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直接连接符 89095"/>
            <p:cNvSpPr/>
            <p:nvPr/>
          </p:nvSpPr>
          <p:spPr>
            <a:xfrm>
              <a:off x="7008840" y="234936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组合 89096"/>
          <p:cNvGrpSpPr/>
          <p:nvPr/>
        </p:nvGrpSpPr>
        <p:grpSpPr>
          <a:xfrm>
            <a:off x="2131920" y="3340080"/>
            <a:ext cx="6477120" cy="0"/>
            <a:chOff x="2131920" y="3340080"/>
            <a:chExt cx="6477120" cy="0"/>
          </a:xfrm>
        </p:grpSpPr>
        <p:sp>
          <p:nvSpPr>
            <p:cNvPr id="559" name="直接连接符 89097"/>
            <p:cNvSpPr/>
            <p:nvPr/>
          </p:nvSpPr>
          <p:spPr>
            <a:xfrm>
              <a:off x="2131920" y="334008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直接连接符 89098"/>
            <p:cNvSpPr/>
            <p:nvPr/>
          </p:nvSpPr>
          <p:spPr>
            <a:xfrm>
              <a:off x="3808440" y="334008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直接连接符 89099"/>
            <p:cNvSpPr/>
            <p:nvPr/>
          </p:nvSpPr>
          <p:spPr>
            <a:xfrm>
              <a:off x="5484600" y="334008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直接连接符 89100"/>
            <p:cNvSpPr/>
            <p:nvPr/>
          </p:nvSpPr>
          <p:spPr>
            <a:xfrm>
              <a:off x="7161120" y="334008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组合 89101"/>
          <p:cNvGrpSpPr/>
          <p:nvPr/>
        </p:nvGrpSpPr>
        <p:grpSpPr>
          <a:xfrm>
            <a:off x="2131920" y="4254480"/>
            <a:ext cx="6477120" cy="0"/>
            <a:chOff x="2131920" y="4254480"/>
            <a:chExt cx="6477120" cy="0"/>
          </a:xfrm>
        </p:grpSpPr>
        <p:sp>
          <p:nvSpPr>
            <p:cNvPr id="564" name="直接连接符 89102"/>
            <p:cNvSpPr/>
            <p:nvPr/>
          </p:nvSpPr>
          <p:spPr>
            <a:xfrm>
              <a:off x="2131920" y="425448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直接连接符 89103"/>
            <p:cNvSpPr/>
            <p:nvPr/>
          </p:nvSpPr>
          <p:spPr>
            <a:xfrm>
              <a:off x="3808440" y="425448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直接连接符 89104"/>
            <p:cNvSpPr/>
            <p:nvPr/>
          </p:nvSpPr>
          <p:spPr>
            <a:xfrm>
              <a:off x="5484600" y="425448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直接连接符 89105"/>
            <p:cNvSpPr/>
            <p:nvPr/>
          </p:nvSpPr>
          <p:spPr>
            <a:xfrm>
              <a:off x="7161120" y="425448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组合 89106"/>
          <p:cNvGrpSpPr/>
          <p:nvPr/>
        </p:nvGrpSpPr>
        <p:grpSpPr>
          <a:xfrm>
            <a:off x="2411280" y="5229360"/>
            <a:ext cx="6477120" cy="0"/>
            <a:chOff x="2411280" y="5229360"/>
            <a:chExt cx="6477120" cy="0"/>
          </a:xfrm>
        </p:grpSpPr>
        <p:sp>
          <p:nvSpPr>
            <p:cNvPr id="569" name="直接连接符 89107"/>
            <p:cNvSpPr/>
            <p:nvPr/>
          </p:nvSpPr>
          <p:spPr>
            <a:xfrm>
              <a:off x="2411280" y="522936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直接连接符 89108"/>
            <p:cNvSpPr/>
            <p:nvPr/>
          </p:nvSpPr>
          <p:spPr>
            <a:xfrm>
              <a:off x="4087800" y="522936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直接连接符 89109"/>
            <p:cNvSpPr/>
            <p:nvPr/>
          </p:nvSpPr>
          <p:spPr>
            <a:xfrm>
              <a:off x="5763960" y="522936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直接连接符 89110"/>
            <p:cNvSpPr/>
            <p:nvPr/>
          </p:nvSpPr>
          <p:spPr>
            <a:xfrm>
              <a:off x="7440480" y="522936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文本框 89111"/>
          <p:cNvSpPr/>
          <p:nvPr/>
        </p:nvSpPr>
        <p:spPr>
          <a:xfrm>
            <a:off x="2341440" y="1685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绿油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文本框 89112"/>
          <p:cNvSpPr/>
          <p:nvPr/>
        </p:nvSpPr>
        <p:spPr>
          <a:xfrm>
            <a:off x="3852720" y="1647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白华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文本框 89113"/>
          <p:cNvSpPr/>
          <p:nvPr/>
        </p:nvSpPr>
        <p:spPr>
          <a:xfrm>
            <a:off x="5705280" y="1792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黑乎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文本框 89114"/>
          <p:cNvSpPr/>
          <p:nvPr/>
        </p:nvSpPr>
        <p:spPr>
          <a:xfrm>
            <a:off x="7361280" y="1647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7fc1e"/>
                </a:solidFill>
                <a:latin typeface="Arial"/>
              </a:rPr>
              <a:t>黄澄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文本框 89119"/>
          <p:cNvSpPr/>
          <p:nvPr/>
        </p:nvSpPr>
        <p:spPr>
          <a:xfrm>
            <a:off x="2485800" y="270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茄子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文本框 89120"/>
          <p:cNvSpPr/>
          <p:nvPr/>
        </p:nvSpPr>
        <p:spPr>
          <a:xfrm>
            <a:off x="4284720" y="2781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玫瑰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文本框 89121"/>
          <p:cNvSpPr/>
          <p:nvPr/>
        </p:nvSpPr>
        <p:spPr>
          <a:xfrm>
            <a:off x="6013440" y="256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苹果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文本框 89123"/>
          <p:cNvSpPr/>
          <p:nvPr/>
        </p:nvSpPr>
        <p:spPr>
          <a:xfrm>
            <a:off x="2485800" y="378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银灰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文本框 89124"/>
          <p:cNvSpPr/>
          <p:nvPr/>
        </p:nvSpPr>
        <p:spPr>
          <a:xfrm>
            <a:off x="4141800" y="3645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桃红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文本框 89125"/>
          <p:cNvSpPr/>
          <p:nvPr/>
        </p:nvSpPr>
        <p:spPr>
          <a:xfrm>
            <a:off x="5726160" y="3573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枣红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文本框 89126"/>
          <p:cNvSpPr/>
          <p:nvPr/>
        </p:nvSpPr>
        <p:spPr>
          <a:xfrm>
            <a:off x="7310520" y="3500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黄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文本框 89127"/>
          <p:cNvSpPr/>
          <p:nvPr/>
        </p:nvSpPr>
        <p:spPr>
          <a:xfrm>
            <a:off x="2700720" y="465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半紫半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文本框 89128"/>
          <p:cNvSpPr/>
          <p:nvPr/>
        </p:nvSpPr>
        <p:spPr>
          <a:xfrm>
            <a:off x="4213440" y="4581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半黄半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文本框 89129"/>
          <p:cNvSpPr/>
          <p:nvPr/>
        </p:nvSpPr>
        <p:spPr>
          <a:xfrm>
            <a:off x="5940720" y="4508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半灰半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文本框 89130"/>
          <p:cNvSpPr/>
          <p:nvPr/>
        </p:nvSpPr>
        <p:spPr>
          <a:xfrm>
            <a:off x="7453440" y="4508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半青半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文本框 89131"/>
          <p:cNvSpPr/>
          <p:nvPr/>
        </p:nvSpPr>
        <p:spPr>
          <a:xfrm>
            <a:off x="7597800" y="263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葡萄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图片 86017" descr="3450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矩形 86018"/>
          <p:cNvSpPr/>
          <p:nvPr/>
        </p:nvSpPr>
        <p:spPr>
          <a:xfrm>
            <a:off x="609480" y="1219320"/>
            <a:ext cx="7848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616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地方的火烧云变化极多，一会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红彤彤的，一会儿金灿灿的，一会儿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紫半黄，一会儿半灰半百合色。葡萄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梨黄，茄子紫，这些颜色天空都有，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些说也说不出来、见也没见过的颜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文本框 86019"/>
          <p:cNvSpPr/>
          <p:nvPr/>
        </p:nvSpPr>
        <p:spPr>
          <a:xfrm>
            <a:off x="838080" y="4952880"/>
            <a:ext cx="716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5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图片 91137" descr="680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文本框 91138"/>
          <p:cNvSpPr/>
          <p:nvPr/>
        </p:nvSpPr>
        <p:spPr>
          <a:xfrm>
            <a:off x="2167920" y="90792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火烧云的形状有哪些变化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图片 87041" descr="huoshao yun 副本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矩形 87042"/>
          <p:cNvSpPr/>
          <p:nvPr/>
        </p:nvSpPr>
        <p:spPr>
          <a:xfrm>
            <a:off x="4500720" y="0"/>
            <a:ext cx="4643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会儿，天空出现一匹马，马头向南，马尾向西。马是跪着的，像等人骑上它的背，它才站起来似的。过了两三秒钟，那匹马大起来了，腿伸开了，脖子也长了，尾巴可不见了。看的人正在寻找马尾巴，那匹马变模糊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忽然又来了一条大狗。那狗十分凶猛，在向前跑，后边似乎还跟着好几条小狗。跑着跑着，小狗不知哪里去了，大狗也不见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接着又来了一头大狮子，跟庙门前的石头狮子一模一样，也那么大，也那样蹲着，很威武很镇静地蹲着。可是一转眼就变了，再也找不着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图片 87043" descr="345083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87044" descr="火烧云图片1"/>
          <p:cNvPicPr/>
          <p:nvPr/>
        </p:nvPicPr>
        <p:blipFill>
          <a:blip r:embed="rId3"/>
          <a:srcRect l="13036" t="9243" r="4362" b="17478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87045" descr="93070"/>
          <p:cNvPicPr/>
          <p:nvPr/>
        </p:nvPicPr>
        <p:blipFill>
          <a:blip r:embed="rId4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87046" descr="460017"/>
          <p:cNvPicPr/>
          <p:nvPr/>
        </p:nvPicPr>
        <p:blipFill>
          <a:blip r:embed="rId5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87047" descr="347017"/>
          <p:cNvPicPr/>
          <p:nvPr/>
        </p:nvPicPr>
        <p:blipFill>
          <a:blip r:embed="rId6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601" name="对象 87048" descr=""/>
          <p:cNvPicPr/>
          <p:nvPr/>
        </p:nvPicPr>
        <p:blipFill>
          <a:blip r:embed="rId7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87049" descr="58010"/>
          <p:cNvPicPr/>
          <p:nvPr/>
        </p:nvPicPr>
        <p:blipFill>
          <a:blip r:embed="rId8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603" name="对象 87050" descr=""/>
          <p:cNvPicPr/>
          <p:nvPr/>
        </p:nvPicPr>
        <p:blipFill>
          <a:blip r:embed="rId9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dur="indefinite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000"/>
                            </p:stCondLst>
                            <p:childTnLst>
                              <p:par>
                                <p:cTn id="419" dur="indefinite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7500"/>
                            </p:stCondLst>
                            <p:childTnLst>
                              <p:par>
                                <p:cTn id="423" dur="indefinite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7" dur="indefinite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4500"/>
                            </p:stCondLst>
                            <p:childTnLst>
                              <p:par>
                                <p:cTn id="431" dur="indefinite" nodeType="afterEffect" fill="hold" presetClass="entr" presetID="16" presetSubtype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35" dur="indefinite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1500"/>
                            </p:stCondLst>
                            <p:childTnLst>
                              <p:par>
                                <p:cTn id="439" dur="indefinite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5000"/>
                            </p:stCondLst>
                            <p:childTnLst>
                              <p:par>
                                <p:cTn id="4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图片 51201" descr="460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图片 103425" descr="Suns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文本框 103426"/>
          <p:cNvSpPr/>
          <p:nvPr/>
        </p:nvSpPr>
        <p:spPr>
          <a:xfrm>
            <a:off x="5335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文本框 103427"/>
          <p:cNvSpPr/>
          <p:nvPr/>
        </p:nvSpPr>
        <p:spPr>
          <a:xfrm>
            <a:off x="5029200" y="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</a:rPr>
              <a:t>一会儿，天空出现一匹马，马头向南，马尾向西。马是跪着的，像等人骑上它的背，它才站起来似的。过了两三秒钟，那匹马大起来了，腿伸开了，脖子也长了，尾巴可不见了。看的人正在寻找马尾巴，那匹马变模糊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文本框 103428"/>
          <p:cNvSpPr/>
          <p:nvPr/>
        </p:nvSpPr>
        <p:spPr>
          <a:xfrm>
            <a:off x="6332040" y="457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图片 103429" descr="火烧云25"/>
          <p:cNvPicPr/>
          <p:nvPr/>
        </p:nvPicPr>
        <p:blipFill>
          <a:blip r:embed="rId2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图片 104449" descr="火烧云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文本框 104450"/>
          <p:cNvSpPr/>
          <p:nvPr/>
        </p:nvSpPr>
        <p:spPr>
          <a:xfrm>
            <a:off x="365040" y="270000"/>
            <a:ext cx="847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忽然又来了一条大狗。那狗十分凶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向前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边似乎还跟着好几条小狗。跑着跑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狗不知哪里去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狗也不见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接着又来了一头大狮子，跟庙门前的石头狮子一模一样，也那么大，也那样蹲着，很威武很镇静地蹲着。可是一转眼就变了，再也找不着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时恍恍惚惚的，天空里又像这个又像那个，其实什么也不像，什么也看不清了。必须低下头，揉揉眼睛，沉静一会儿再看。可是天空偏偏不等待那些爱好它的孩子。一会儿工夫，火烧云下去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文本框 104451"/>
          <p:cNvSpPr/>
          <p:nvPr/>
        </p:nvSpPr>
        <p:spPr>
          <a:xfrm>
            <a:off x="4579560" y="228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文本框 104452"/>
          <p:cNvSpPr/>
          <p:nvPr/>
        </p:nvSpPr>
        <p:spPr>
          <a:xfrm>
            <a:off x="4585320" y="1676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狮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文本框 104453"/>
          <p:cNvSpPr/>
          <p:nvPr/>
        </p:nvSpPr>
        <p:spPr>
          <a:xfrm>
            <a:off x="5715000" y="396252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文本框 104454"/>
          <p:cNvSpPr/>
          <p:nvPr/>
        </p:nvSpPr>
        <p:spPr>
          <a:xfrm>
            <a:off x="7315200" y="396252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文本框 104455"/>
          <p:cNvSpPr/>
          <p:nvPr/>
        </p:nvSpPr>
        <p:spPr>
          <a:xfrm>
            <a:off x="2098080" y="449568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文本框 104456"/>
          <p:cNvSpPr/>
          <p:nvPr/>
        </p:nvSpPr>
        <p:spPr>
          <a:xfrm>
            <a:off x="4824720" y="495288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文本框 104457"/>
          <p:cNvSpPr/>
          <p:nvPr/>
        </p:nvSpPr>
        <p:spPr>
          <a:xfrm>
            <a:off x="6399360" y="548640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图片 105473" descr="狗-3"/>
          <p:cNvPicPr/>
          <p:nvPr/>
        </p:nvPicPr>
        <p:blipFill>
          <a:blip r:embed="rId1"/>
          <a:stretch/>
        </p:blipFill>
        <p:spPr>
          <a:xfrm>
            <a:off x="1042920" y="1125360"/>
            <a:ext cx="2881440" cy="424836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105474"/>
          <p:cNvSpPr/>
          <p:nvPr/>
        </p:nvSpPr>
        <p:spPr>
          <a:xfrm>
            <a:off x="3492360" y="544500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小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图片 105475" descr="AN01060_"/>
          <p:cNvPicPr/>
          <p:nvPr/>
        </p:nvPicPr>
        <p:blipFill>
          <a:blip r:embed="rId2"/>
          <a:stretch/>
        </p:blipFill>
        <p:spPr>
          <a:xfrm>
            <a:off x="4140360" y="1341360"/>
            <a:ext cx="4211640" cy="3457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图片 106497" descr="狮-1"/>
          <p:cNvPicPr/>
          <p:nvPr/>
        </p:nvPicPr>
        <p:blipFill>
          <a:blip r:embed="rId1"/>
          <a:stretch/>
        </p:blipFill>
        <p:spPr>
          <a:xfrm>
            <a:off x="1042920" y="1052640"/>
            <a:ext cx="2735280" cy="424656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106498" descr="J0086432"/>
          <p:cNvPicPr/>
          <p:nvPr/>
        </p:nvPicPr>
        <p:blipFill>
          <a:blip r:embed="rId2"/>
          <a:stretch/>
        </p:blipFill>
        <p:spPr>
          <a:xfrm>
            <a:off x="4211640" y="1341360"/>
            <a:ext cx="4500720" cy="3456000"/>
          </a:xfrm>
          <a:prstGeom prst="rect">
            <a:avLst/>
          </a:prstGeom>
          <a:ln w="0">
            <a:noFill/>
          </a:ln>
        </p:spPr>
      </p:pic>
      <p:sp>
        <p:nvSpPr>
          <p:cNvPr id="623" name="文本框 106499"/>
          <p:cNvSpPr/>
          <p:nvPr/>
        </p:nvSpPr>
        <p:spPr>
          <a:xfrm>
            <a:off x="3492360" y="544500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小狮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图片 114689" descr="118099"/>
          <p:cNvPicPr/>
          <p:nvPr/>
        </p:nvPicPr>
        <p:blipFill>
          <a:blip r:embed="rId1"/>
          <a:stretch/>
        </p:blipFill>
        <p:spPr>
          <a:xfrm>
            <a:off x="-17640" y="9360"/>
            <a:ext cx="9142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5" name="组合 114690"/>
          <p:cNvGrpSpPr/>
          <p:nvPr/>
        </p:nvGrpSpPr>
        <p:grpSpPr>
          <a:xfrm>
            <a:off x="914400" y="1295280"/>
            <a:ext cx="6808680" cy="3733560"/>
            <a:chOff x="914400" y="1295280"/>
            <a:chExt cx="6808680" cy="3733560"/>
          </a:xfrm>
        </p:grpSpPr>
        <p:sp>
          <p:nvSpPr>
            <p:cNvPr id="626" name="矩形 114691"/>
            <p:cNvSpPr txBox="1"/>
            <p:nvPr/>
          </p:nvSpPr>
          <p:spPr>
            <a:xfrm>
              <a:off x="914400" y="2666880"/>
              <a:ext cx="13716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ff00"/>
                    </a:solidFill>
                    <a:round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黑体"/>
                </a:rPr>
                <a:t>形状</a:t>
              </a:r>
              <a:endParaRPr b="0" lang="en-US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627" name="矩形 114692"/>
            <p:cNvSpPr txBox="1"/>
            <p:nvPr/>
          </p:nvSpPr>
          <p:spPr>
            <a:xfrm>
              <a:off x="2514600" y="1676160"/>
              <a:ext cx="228600" cy="281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ff00"/>
                    </a:solidFill>
                    <a:round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｛</a:t>
              </a:r>
              <a:endParaRPr b="0" lang="en-US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628" name="组合 114693"/>
            <p:cNvGrpSpPr/>
            <p:nvPr/>
          </p:nvGrpSpPr>
          <p:grpSpPr>
            <a:xfrm>
              <a:off x="2971800" y="1295280"/>
              <a:ext cx="4751280" cy="3733560"/>
              <a:chOff x="2971800" y="1295280"/>
              <a:chExt cx="4751280" cy="3733560"/>
            </a:xfrm>
          </p:grpSpPr>
          <p:sp>
            <p:nvSpPr>
              <p:cNvPr id="629" name="矩形 114694"/>
              <p:cNvSpPr txBox="1"/>
              <p:nvPr/>
            </p:nvSpPr>
            <p:spPr>
              <a:xfrm>
                <a:off x="2971800" y="1295280"/>
                <a:ext cx="4675320" cy="941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1" strike="noStrike">
                    <a:ln w="9360">
                      <a:solidFill>
                        <a:srgbClr val="ffff00"/>
                      </a:solidFill>
                      <a:round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黑体"/>
                  </a:rPr>
                  <a:t>快：一会儿、两三秒、</a:t>
                </a:r>
                <a:endParaRPr b="0" lang="en-US" sz="2800" spc="1" strike="noStrike">
                  <a:ln w="9360">
                    <a:solidFill>
                      <a:srgbClr val="ffff00"/>
                    </a:solidFill>
                    <a:round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黑体"/>
                  <a:ea typeface="黑体"/>
                </a:endParaRPr>
              </a:p>
            </p:txBody>
          </p:sp>
          <p:sp>
            <p:nvSpPr>
              <p:cNvPr id="630" name="矩形 114695"/>
              <p:cNvSpPr txBox="1"/>
              <p:nvPr/>
            </p:nvSpPr>
            <p:spPr>
              <a:xfrm>
                <a:off x="3048120" y="4087080"/>
                <a:ext cx="4674960" cy="941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1" strike="noStrike">
                    <a:ln w="9360">
                      <a:solidFill>
                        <a:srgbClr val="ffff00"/>
                      </a:solidFill>
                      <a:round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黑体"/>
                  </a:rPr>
                  <a:t>多：马、狗、狮子……</a:t>
                </a:r>
                <a:endParaRPr b="0" lang="en-US" sz="2800" spc="1" strike="noStrike">
                  <a:ln w="9360">
                    <a:solidFill>
                      <a:srgbClr val="ffff00"/>
                    </a:solidFill>
                    <a:round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黑体"/>
                  <a:ea typeface="黑体"/>
                </a:endParaRPr>
              </a:p>
            </p:txBody>
          </p:sp>
          <p:sp>
            <p:nvSpPr>
              <p:cNvPr id="631" name="矩形 114696"/>
              <p:cNvSpPr txBox="1"/>
              <p:nvPr/>
            </p:nvSpPr>
            <p:spPr>
              <a:xfrm>
                <a:off x="4038480" y="2495520"/>
                <a:ext cx="2336760" cy="941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1" strike="noStrike">
                    <a:ln w="9360">
                      <a:solidFill>
                        <a:srgbClr val="ffff00"/>
                      </a:solidFill>
                      <a:round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黑体"/>
                  </a:rPr>
                  <a:t>一转眼……</a:t>
                </a:r>
                <a:endParaRPr b="0" lang="en-US" sz="2800" spc="1" strike="noStrike">
                  <a:ln w="9360">
                    <a:solidFill>
                      <a:srgbClr val="ffff00"/>
                    </a:solidFill>
                    <a:round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黑体"/>
                  <a:ea typeface="黑体"/>
                </a:endParaRPr>
              </a:p>
            </p:txBody>
          </p:sp>
        </p:grpSp>
      </p:grpSp>
      <p:sp>
        <p:nvSpPr>
          <p:cNvPr id="632" name="文本框 114697"/>
          <p:cNvSpPr/>
          <p:nvPr/>
        </p:nvSpPr>
        <p:spPr>
          <a:xfrm>
            <a:off x="999720" y="3887640"/>
            <a:ext cx="14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616"/>
                </a:solidFill>
                <a:latin typeface="Times New Roman"/>
              </a:rPr>
              <a:t>4—6</a:t>
            </a:r>
            <a:r>
              <a:rPr b="1" lang="zh-CN" sz="2400" spc="-1" strike="noStrike">
                <a:solidFill>
                  <a:srgbClr val="f0e616"/>
                </a:solidFill>
                <a:latin typeface="Times New Roman"/>
              </a:rPr>
              <a:t>自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矩形 88065"/>
          <p:cNvSpPr/>
          <p:nvPr/>
        </p:nvSpPr>
        <p:spPr>
          <a:xfrm>
            <a:off x="0" y="1628640"/>
            <a:ext cx="874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火烧云有</a:t>
            </a: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(                      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）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（                    </a:t>
            </a: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)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和（                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的特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文本框 88066"/>
          <p:cNvSpPr/>
          <p:nvPr/>
        </p:nvSpPr>
        <p:spPr>
          <a:xfrm>
            <a:off x="5849280" y="2852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变化极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文本框 88067"/>
          <p:cNvSpPr/>
          <p:nvPr/>
        </p:nvSpPr>
        <p:spPr>
          <a:xfrm>
            <a:off x="8380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组合 88068"/>
          <p:cNvGrpSpPr/>
          <p:nvPr/>
        </p:nvGrpSpPr>
        <p:grpSpPr>
          <a:xfrm>
            <a:off x="-237240" y="1557360"/>
            <a:ext cx="6203160" cy="2256840"/>
            <a:chOff x="-237240" y="1557360"/>
            <a:chExt cx="6203160" cy="2256840"/>
          </a:xfrm>
        </p:grpSpPr>
        <p:sp>
          <p:nvSpPr>
            <p:cNvPr id="637" name="文本框 88069"/>
            <p:cNvSpPr/>
            <p:nvPr/>
          </p:nvSpPr>
          <p:spPr>
            <a:xfrm>
              <a:off x="4139280" y="1557360"/>
              <a:ext cx="182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Times New Roman"/>
                </a:rPr>
                <a:t>颜色极多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文本框 88070"/>
            <p:cNvSpPr/>
            <p:nvPr/>
          </p:nvSpPr>
          <p:spPr>
            <a:xfrm>
              <a:off x="-237240" y="2897280"/>
              <a:ext cx="341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        </a:t>
              </a:r>
              <a:r>
                <a:rPr b="1" lang="zh-CN" sz="5400" spc="-1" strike="noStrike">
                  <a:solidFill>
                    <a:srgbClr val="ff0000"/>
                  </a:solidFill>
                  <a:latin typeface="Times New Roman"/>
                </a:rPr>
                <a:t>形状丰富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chimes.wav"/>
      </p:stSnd>
    </p:sndAc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文本框 30723"/>
          <p:cNvSpPr/>
          <p:nvPr/>
        </p:nvSpPr>
        <p:spPr>
          <a:xfrm>
            <a:off x="1116000" y="1989000"/>
            <a:ext cx="698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用“又像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，又像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。”和“一会儿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，一会儿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。”造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图片 108545" descr="510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1" name="文本框 108546"/>
          <p:cNvSpPr/>
          <p:nvPr/>
        </p:nvSpPr>
        <p:spPr>
          <a:xfrm>
            <a:off x="304920" y="28195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仔细观察   大胆想象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成因简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我们已经知道太阳光是由红、橙、黄、绿、青、蓝、紫七色光混合成的。这些颜色的光的波长不一样，红色光波最长，橙色光波其次，紫色光波最短。空气的分子和空气里飘浮着无数细小的灰尘和水滴，它们都能够把太阳的各色光线分散开来，这叫作散射作用。太阳光中的光波波长越短的，像紫色、蓝色光就很容易被散射开来；波长越长的，像红色、橙色光就不容易散射。早晨或傍晚，太阳光是斜射的，它通过空气层的路程比较长，受到散射就减弱得很厉害。减弱得最多的是紫色光，减弱得最少的是红色或橙色光。这些减弱后的彩色阳光，照射在天空中、云层上，就形成鲜艳夺目的彩霞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文本框 107521"/>
          <p:cNvSpPr/>
          <p:nvPr/>
        </p:nvSpPr>
        <p:spPr>
          <a:xfrm>
            <a:off x="609480" y="365040"/>
            <a:ext cx="7925040" cy="9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以“礼花”为内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想象它的形状，按“出现、样子、变化、消失”的顺序写一段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图片 52225" descr="790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1536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矩形 15364"/>
          <p:cNvSpPr txBox="1"/>
          <p:nvPr/>
        </p:nvSpPr>
        <p:spPr>
          <a:xfrm rot="5400000">
            <a:off x="-38160" y="952200"/>
            <a:ext cx="4114800" cy="297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4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00"/>
                </a:solidFill>
                <a:latin typeface="华文行楷"/>
              </a:rPr>
              <a:t>再见</a:t>
            </a:r>
            <a:endParaRPr b="1" lang="en-US" sz="1800" spc="-1" strike="noStrike">
              <a:ln w="0">
                <a:noFill/>
              </a:ln>
              <a:solidFill>
                <a:srgbClr val="ffff00"/>
              </a:solidFill>
              <a:latin typeface="华文行楷"/>
              <a:ea typeface="华文行楷"/>
            </a:endParaRPr>
          </a:p>
        </p:txBody>
      </p:sp>
    </p:spTree>
  </p:cSld>
  <p:transition>
    <p:zoom dir="in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图片 53249" descr="93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图片 65537" descr="34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图片 66561" descr="510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图片 67585" descr="19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1T12:43:24Z</dcterms:created>
  <dc:creator/>
  <dc:description/>
  <dc:language>en-US</dc:language>
  <cp:lastModifiedBy>Administrator</cp:lastModifiedBy>
  <dcterms:modified xsi:type="dcterms:W3CDTF">2016-12-28T03:37:38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NXTAG2">
    <vt:lpwstr>000800da0b000000000001024120</vt:lpwstr>
  </property>
</Properties>
</file>