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8B1-390A-4601-9CAD-F3C76702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851-37D1-46B9-B30E-3BD9BBDB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A7E-7440-4B8A-9AD9-8FE749F4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E05-C706-47D0-B2DE-9AE3E78B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6149-562D-4649-9E47-4C0D8456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BC4C-D8E9-40F4-A718-68458BCE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E6A8-5EA1-45D2-8F25-E6FF2637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05CE-4971-47BD-BE6C-A6E20901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FD91-1F35-4431-8E5E-6E470B44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E258-B8AE-4DD4-A8F6-2FFCDE2B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4E01-0E26-4447-80F5-61767DF7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796-CDA0-499C-8D92-D7BD53D3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74C2-C264-4A7C-B02A-C9373F87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DD74-9DC7-434A-8BEA-5FBE3C9E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A2FC-EC2F-438D-8734-34BBE745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CEB6-0CA2-47A8-962C-038EC46A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A7EF-7E69-4CD6-9525-E637967B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8A8-5484-4AD1-9DEC-5EB1255A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771-096D-40FF-B7F8-AC315354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5EC-CDBD-4CF9-A150-764B0274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D67-7E01-468E-A412-185E0396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BF6-761E-43A4-9CAB-BFBDAAF1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2B8-D4F0-481B-BC8A-9D7D71E4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535-5569-4F6D-B6F5-DA827F9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049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组合 2050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任意多边形 2051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组合 2052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任意多边形 2053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任意多边形 2054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组合 2055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矩形 2056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矩形 2057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矩形 2058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椭圆 2059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椭圆 2060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任意多边形 2061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椭圆 2062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椭圆 2063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任意多边形 2064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任意多边形 2065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任意多边形 2066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任意多边形 2067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任意多边形 2068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任意多边形 2074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组合 3073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任意多边形 3074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组合 3075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矩形 3076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矩形 3077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矩形 3078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椭圆 3079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椭圆 3080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任意多边形 3081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椭圆 3082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椭圆 3083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任意多边形 3084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任意多边形 3085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任意多边形 3086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任意多边形 3087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任意多边形 3088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任意多边形 3089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任意多边形 3090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组合 46085"/>
          <p:cNvGrpSpPr/>
          <p:nvPr/>
        </p:nvGrpSpPr>
        <p:grpSpPr>
          <a:xfrm>
            <a:off x="755640" y="981000"/>
            <a:ext cx="7632720" cy="5472360"/>
            <a:chOff x="755640" y="981000"/>
            <a:chExt cx="7632720" cy="5472360"/>
          </a:xfrm>
        </p:grpSpPr>
        <p:grpSp>
          <p:nvGrpSpPr>
            <p:cNvPr id="122" name="组合 46086"/>
            <p:cNvGrpSpPr/>
            <p:nvPr/>
          </p:nvGrpSpPr>
          <p:grpSpPr>
            <a:xfrm>
              <a:off x="755640" y="981000"/>
              <a:ext cx="7632720" cy="5472360"/>
              <a:chOff x="755640" y="981000"/>
              <a:chExt cx="7632720" cy="5472360"/>
            </a:xfrm>
          </p:grpSpPr>
          <p:grpSp>
            <p:nvGrpSpPr>
              <p:cNvPr id="123" name="组合 46087"/>
              <p:cNvGrpSpPr/>
              <p:nvPr/>
            </p:nvGrpSpPr>
            <p:grpSpPr>
              <a:xfrm>
                <a:off x="755640" y="981000"/>
                <a:ext cx="7632720" cy="5472360"/>
                <a:chOff x="755640" y="981000"/>
                <a:chExt cx="7632720" cy="5472360"/>
              </a:xfrm>
            </p:grpSpPr>
            <p:sp>
              <p:nvSpPr>
                <p:cNvPr id="124" name="椭圆 46088"/>
                <p:cNvSpPr/>
                <p:nvPr/>
              </p:nvSpPr>
              <p:spPr>
                <a:xfrm>
                  <a:off x="755640" y="981000"/>
                  <a:ext cx="7632720" cy="5472360"/>
                </a:xfrm>
                <a:prstGeom prst="ellips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矩形 46089"/>
                <p:cNvSpPr/>
                <p:nvPr/>
              </p:nvSpPr>
              <p:spPr>
                <a:xfrm>
                  <a:off x="1474560" y="2208960"/>
                  <a:ext cx="6265800" cy="856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矩形 46090"/>
                <p:cNvSpPr/>
                <p:nvPr/>
              </p:nvSpPr>
              <p:spPr>
                <a:xfrm>
                  <a:off x="1834920" y="1878840"/>
                  <a:ext cx="532944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椭圆 46091"/>
                <p:cNvSpPr/>
                <p:nvPr/>
              </p:nvSpPr>
              <p:spPr>
                <a:xfrm>
                  <a:off x="1420560" y="2076840"/>
                  <a:ext cx="468360" cy="26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椭圆 46092"/>
                <p:cNvSpPr/>
                <p:nvPr/>
              </p:nvSpPr>
              <p:spPr>
                <a:xfrm>
                  <a:off x="6875280" y="2011320"/>
                  <a:ext cx="792360" cy="26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椭圆 46093"/>
                <p:cNvSpPr/>
                <p:nvPr/>
              </p:nvSpPr>
              <p:spPr>
                <a:xfrm>
                  <a:off x="7596000" y="2142000"/>
                  <a:ext cx="73080" cy="66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椭圆 46094"/>
                <p:cNvSpPr/>
                <p:nvPr/>
              </p:nvSpPr>
              <p:spPr>
                <a:xfrm>
                  <a:off x="7524720" y="2140560"/>
                  <a:ext cx="215640" cy="198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椭圆 46095"/>
                <p:cNvSpPr/>
                <p:nvPr/>
              </p:nvSpPr>
              <p:spPr>
                <a:xfrm>
                  <a:off x="7451640" y="2011320"/>
                  <a:ext cx="142920" cy="66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矩形 46096"/>
              <p:cNvSpPr/>
              <p:nvPr/>
            </p:nvSpPr>
            <p:spPr>
              <a:xfrm>
                <a:off x="4068720" y="1639440"/>
                <a:ext cx="1368360" cy="19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文本框 46097"/>
            <p:cNvSpPr/>
            <p:nvPr/>
          </p:nvSpPr>
          <p:spPr>
            <a:xfrm>
              <a:off x="2319480" y="1623240"/>
              <a:ext cx="4700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</a:rPr>
                <a:t>孔子和学生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95000" y="1844640"/>
            <a:ext cx="8064360" cy="40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文中哪些段落体现了孔子因材施教的思想？勾画句子，体会批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70657"/>
          <p:cNvSpPr/>
          <p:nvPr/>
        </p:nvSpPr>
        <p:spPr>
          <a:xfrm>
            <a:off x="0" y="1197000"/>
            <a:ext cx="87850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次，学生子夏问孔子：“颜回这个人怎么样？”孔子回答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“颜回的信用好极了，我不及他。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夏又问：“那么，子贡这个人又怎么样呢？”孔子回答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“子贡嘛，挺聪明的，我不及他。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夏接着问：“那么子路又怎么样？”孔子回答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“子路的勇敢，远近驰名，我不及他。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夏再问：“那么子张又怎么样？”孔子回答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“子张严谨庄重，我不及他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73729"/>
          <p:cNvSpPr/>
          <p:nvPr/>
        </p:nvSpPr>
        <p:spPr>
          <a:xfrm>
            <a:off x="468360" y="10936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颜回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守信用，但不懂得变通；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子贡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明，但他不够谦虚；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子路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勇敢，但谦厚、忍让方面仍待学习；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子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事谨慎，为人严肃，可是旁人却不容易亲近他。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们虽然各有优点，但都还要不断学习啊！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71681"/>
          <p:cNvSpPr/>
          <p:nvPr/>
        </p:nvSpPr>
        <p:spPr>
          <a:xfrm>
            <a:off x="971640" y="424224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矩形 71682"/>
          <p:cNvSpPr/>
          <p:nvPr/>
        </p:nvSpPr>
        <p:spPr>
          <a:xfrm>
            <a:off x="755640" y="2421000"/>
            <a:ext cx="770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子夏点头称是，他明白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也是老师对自己的教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矩形 71683"/>
          <p:cNvSpPr/>
          <p:nvPr/>
        </p:nvSpPr>
        <p:spPr>
          <a:xfrm>
            <a:off x="324000" y="386064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1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2715"/>
          <p:cNvGrpSpPr/>
          <p:nvPr/>
        </p:nvGrpSpPr>
        <p:grpSpPr>
          <a:xfrm>
            <a:off x="179280" y="1197000"/>
            <a:ext cx="8496360" cy="1487520"/>
            <a:chOff x="179280" y="1197000"/>
            <a:chExt cx="8496360" cy="1487520"/>
          </a:xfrm>
        </p:grpSpPr>
        <p:sp>
          <p:nvSpPr>
            <p:cNvPr id="174" name="矩形 72707"/>
            <p:cNvSpPr/>
            <p:nvPr/>
          </p:nvSpPr>
          <p:spPr>
            <a:xfrm>
              <a:off x="179280" y="1197000"/>
              <a:ext cx="84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3300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子曰：“三人行，必有我师焉。择其善者而从之，其不善者而改之。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椭圆 72708"/>
            <p:cNvSpPr/>
            <p:nvPr/>
          </p:nvSpPr>
          <p:spPr>
            <a:xfrm>
              <a:off x="882000" y="1452240"/>
              <a:ext cx="140760" cy="144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矩形 72709"/>
            <p:cNvSpPr/>
            <p:nvPr/>
          </p:nvSpPr>
          <p:spPr>
            <a:xfrm>
              <a:off x="5761080" y="2103120"/>
              <a:ext cx="284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3300"/>
                  </a:solidFill>
                  <a:latin typeface="Times New Roman"/>
                </a:rPr>
                <a:t>   </a:t>
              </a:r>
              <a:r>
                <a:rPr b="1" lang="en-US" sz="32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en-US" sz="32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《</a:t>
              </a:r>
              <a:r>
                <a:rPr b="1" lang="zh-CN" sz="32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论语</a:t>
              </a:r>
              <a:r>
                <a:rPr b="1" lang="en-US" sz="32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组合 72720"/>
          <p:cNvGrpSpPr/>
          <p:nvPr/>
        </p:nvGrpSpPr>
        <p:grpSpPr>
          <a:xfrm>
            <a:off x="108000" y="3068640"/>
            <a:ext cx="8640720" cy="1730880"/>
            <a:chOff x="108000" y="3068640"/>
            <a:chExt cx="8640720" cy="1730880"/>
          </a:xfrm>
        </p:grpSpPr>
        <p:sp>
          <p:nvSpPr>
            <p:cNvPr id="178" name="矩形 72711"/>
            <p:cNvSpPr/>
            <p:nvPr/>
          </p:nvSpPr>
          <p:spPr>
            <a:xfrm>
              <a:off x="108000" y="3068640"/>
              <a:ext cx="864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36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弟子不必不如师，师不必贤于弟子，闻道有先后，术业有专攻，如是而已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椭圆 72713"/>
            <p:cNvSpPr/>
            <p:nvPr/>
          </p:nvSpPr>
          <p:spPr>
            <a:xfrm>
              <a:off x="808200" y="3284640"/>
              <a:ext cx="140400" cy="144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矩形 72717"/>
            <p:cNvSpPr/>
            <p:nvPr/>
          </p:nvSpPr>
          <p:spPr>
            <a:xfrm>
              <a:off x="6215040" y="4218120"/>
              <a:ext cx="198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32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（唐）韩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组合 72721"/>
          <p:cNvGrpSpPr/>
          <p:nvPr/>
        </p:nvGrpSpPr>
        <p:grpSpPr>
          <a:xfrm>
            <a:off x="806400" y="4947840"/>
            <a:ext cx="6176880" cy="1367640"/>
            <a:chOff x="806400" y="4947840"/>
            <a:chExt cx="6176880" cy="1367640"/>
          </a:xfrm>
        </p:grpSpPr>
        <p:sp>
          <p:nvSpPr>
            <p:cNvPr id="182" name="矩形 72705"/>
            <p:cNvSpPr/>
            <p:nvPr/>
          </p:nvSpPr>
          <p:spPr>
            <a:xfrm>
              <a:off x="3392280" y="494784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吾爱吾师，吾更爱真理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椭圆 72714"/>
            <p:cNvSpPr/>
            <p:nvPr/>
          </p:nvSpPr>
          <p:spPr>
            <a:xfrm>
              <a:off x="806400" y="5229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矩形 72719"/>
            <p:cNvSpPr/>
            <p:nvPr/>
          </p:nvSpPr>
          <p:spPr>
            <a:xfrm>
              <a:off x="5742000" y="5734080"/>
              <a:ext cx="124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3200" spc="-1" strike="noStrike">
                  <a:solidFill>
                    <a:srgbClr val="663300"/>
                  </a:solidFill>
                  <a:latin typeface="Times New Roman"/>
                  <a:ea typeface="楷体_GB2312"/>
                </a:rPr>
                <a:t>〔古希腊〕亚里士多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内容占位符 2" descr=""/>
          <p:cNvPicPr/>
          <p:nvPr/>
        </p:nvPicPr>
        <p:blipFill>
          <a:blip r:embed="rId1"/>
          <a:stretch/>
        </p:blipFill>
        <p:spPr>
          <a:xfrm>
            <a:off x="565200" y="1568520"/>
            <a:ext cx="85629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96880" y="1039320"/>
            <a:ext cx="8531280" cy="58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四海之内皆兄弟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学而不厌，诲人不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知之者不如好之者，好之者不如乐之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学而时习之，不亦说乎！有朋自远方来，不亦乐乎！人不知而不愠，不亦君子乎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知之为知之，不知为不知，是知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47105" descr="无标题"/>
          <p:cNvPicPr/>
          <p:nvPr/>
        </p:nvPicPr>
        <p:blipFill>
          <a:blip r:embed="rId1"/>
          <a:stretch/>
        </p:blipFill>
        <p:spPr>
          <a:xfrm>
            <a:off x="250920" y="1557360"/>
            <a:ext cx="3913200" cy="475128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47106"/>
          <p:cNvSpPr/>
          <p:nvPr/>
        </p:nvSpPr>
        <p:spPr>
          <a:xfrm>
            <a:off x="4067280" y="836640"/>
            <a:ext cx="4968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996600"/>
                </a:solidFill>
                <a:latin typeface="黑体"/>
                <a:ea typeface="黑体"/>
              </a:rPr>
              <a:t>孔子（公元前</a:t>
            </a:r>
            <a:r>
              <a:rPr b="0" lang="en-US" sz="3200" spc="-1" strike="noStrike">
                <a:solidFill>
                  <a:srgbClr val="996600"/>
                </a:solidFill>
                <a:latin typeface="黑体"/>
                <a:ea typeface="黑体"/>
              </a:rPr>
              <a:t>551</a:t>
            </a:r>
            <a:r>
              <a:rPr b="0" lang="zh-CN" sz="3200" spc="-1" strike="noStrike">
                <a:solidFill>
                  <a:srgbClr val="996600"/>
                </a:solidFill>
                <a:latin typeface="黑体"/>
                <a:ea typeface="黑体"/>
              </a:rPr>
              <a:t>－公元前</a:t>
            </a:r>
            <a:r>
              <a:rPr b="0" lang="en-US" sz="3200" spc="-1" strike="noStrike">
                <a:solidFill>
                  <a:srgbClr val="996600"/>
                </a:solidFill>
                <a:latin typeface="黑体"/>
                <a:ea typeface="黑体"/>
              </a:rPr>
              <a:t>479</a:t>
            </a:r>
            <a:r>
              <a:rPr b="0" lang="zh-CN" sz="3200" spc="-1" strike="noStrike">
                <a:solidFill>
                  <a:srgbClr val="996600"/>
                </a:solidFill>
                <a:latin typeface="黑体"/>
                <a:ea typeface="黑体"/>
              </a:rPr>
              <a:t>年），名丘，字仲尼，生于鲁国，是我国古代伟大的思想家、政治家、教育家。他学而不厌、诲人不倦，相传弟子三千，贤者七十二人。他“有教无类”、“因材施教”的教学思想受到学生敬重，被尊奉为“万世先师”，对中国教育事业产生深远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49156"/>
          <p:cNvSpPr/>
          <p:nvPr/>
        </p:nvSpPr>
        <p:spPr>
          <a:xfrm>
            <a:off x="395280" y="141300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家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矩形 49157"/>
          <p:cNvSpPr/>
          <p:nvPr/>
        </p:nvSpPr>
        <p:spPr>
          <a:xfrm>
            <a:off x="2700360" y="2852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包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矩形 49158"/>
          <p:cNvSpPr/>
          <p:nvPr/>
        </p:nvSpPr>
        <p:spPr>
          <a:xfrm>
            <a:off x="6804000" y="2852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谨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49159"/>
          <p:cNvSpPr/>
          <p:nvPr/>
        </p:nvSpPr>
        <p:spPr>
          <a:xfrm>
            <a:off x="539640" y="2852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谦</a:t>
            </a: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矩形 49160"/>
          <p:cNvSpPr/>
          <p:nvPr/>
        </p:nvSpPr>
        <p:spPr>
          <a:xfrm>
            <a:off x="4602240" y="1413000"/>
            <a:ext cx="198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49161"/>
          <p:cNvSpPr/>
          <p:nvPr/>
        </p:nvSpPr>
        <p:spPr>
          <a:xfrm>
            <a:off x="6762600" y="1413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愚</a:t>
            </a: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矩形 49162"/>
          <p:cNvSpPr/>
          <p:nvPr/>
        </p:nvSpPr>
        <p:spPr>
          <a:xfrm>
            <a:off x="4716360" y="2852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矩形 49163"/>
          <p:cNvSpPr/>
          <p:nvPr/>
        </p:nvSpPr>
        <p:spPr>
          <a:xfrm>
            <a:off x="2627280" y="141300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敬</a:t>
            </a: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矩形 49164"/>
          <p:cNvSpPr/>
          <p:nvPr/>
        </p:nvSpPr>
        <p:spPr>
          <a:xfrm>
            <a:off x="684360" y="558972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远近驰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矩形 49165"/>
          <p:cNvSpPr/>
          <p:nvPr/>
        </p:nvSpPr>
        <p:spPr>
          <a:xfrm>
            <a:off x="3597120" y="5589720"/>
            <a:ext cx="443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和颜悦色   严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矩形 49166"/>
          <p:cNvSpPr/>
          <p:nvPr/>
        </p:nvSpPr>
        <p:spPr>
          <a:xfrm>
            <a:off x="3597120" y="4221000"/>
            <a:ext cx="500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因材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施</a:t>
            </a: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教   谨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矩形 49167"/>
          <p:cNvSpPr/>
          <p:nvPr/>
        </p:nvSpPr>
        <p:spPr>
          <a:xfrm>
            <a:off x="611280" y="422100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有教无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68609"/>
          <p:cNvSpPr/>
          <p:nvPr/>
        </p:nvSpPr>
        <p:spPr>
          <a:xfrm>
            <a:off x="971640" y="3691440"/>
            <a:ext cx="66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阅读时，在有问题的地方做记号，比如画问号或直线</a:t>
            </a:r>
            <a:r>
              <a:rPr b="1" lang="en-US" sz="44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快速默读课文 。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矩形 68610"/>
          <p:cNvSpPr/>
          <p:nvPr/>
        </p:nvSpPr>
        <p:spPr>
          <a:xfrm>
            <a:off x="900000" y="1866960"/>
            <a:ext cx="313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阅读要求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95000" y="1125360"/>
            <a:ext cx="806436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通过读课文，你觉得孔子是一个什么样人？你从哪些句子体会的？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默读课文，用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划出孔子受到学生敬重的原因的句子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48138"/>
          <p:cNvGrpSpPr/>
          <p:nvPr/>
        </p:nvGrpSpPr>
        <p:grpSpPr>
          <a:xfrm>
            <a:off x="900000" y="1557360"/>
            <a:ext cx="8244000" cy="3633480"/>
            <a:chOff x="900000" y="1557360"/>
            <a:chExt cx="8244000" cy="3633480"/>
          </a:xfrm>
        </p:grpSpPr>
        <p:sp>
          <p:nvSpPr>
            <p:cNvPr id="153" name="文本框 48131"/>
            <p:cNvSpPr/>
            <p:nvPr/>
          </p:nvSpPr>
          <p:spPr>
            <a:xfrm>
              <a:off x="900000" y="4365720"/>
              <a:ext cx="82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00"/>
                  </a:solidFill>
                  <a:latin typeface="楷体_GB2312"/>
                  <a:ea typeface="楷体_GB2312"/>
                </a:rPr>
                <a:t>子也会乐意收作学生。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组合 48137"/>
            <p:cNvGrpSpPr/>
            <p:nvPr/>
          </p:nvGrpSpPr>
          <p:grpSpPr>
            <a:xfrm>
              <a:off x="2320560" y="1557360"/>
              <a:ext cx="4389120" cy="2696760"/>
              <a:chOff x="2320560" y="1557360"/>
              <a:chExt cx="4389120" cy="2696760"/>
            </a:xfrm>
          </p:grpSpPr>
          <p:sp>
            <p:nvSpPr>
              <p:cNvPr id="155" name="矩形 48132"/>
              <p:cNvSpPr/>
              <p:nvPr/>
            </p:nvSpPr>
            <p:spPr>
              <a:xfrm>
                <a:off x="3237120" y="1557360"/>
                <a:ext cx="3472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996600"/>
                    </a:solidFill>
                    <a:latin typeface="Times New Roman"/>
                    <a:ea typeface="楷体_GB2312"/>
                  </a:rPr>
                  <a:t>当时，只要你想跟孔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矩形 48133"/>
              <p:cNvSpPr/>
              <p:nvPr/>
            </p:nvSpPr>
            <p:spPr>
              <a:xfrm>
                <a:off x="3967200" y="2492280"/>
                <a:ext cx="79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996600"/>
                    </a:solidFill>
                    <a:latin typeface="Times New Roman"/>
                    <a:ea typeface="楷体_GB2312"/>
                  </a:rPr>
                  <a:t>子学习，哪怕是带上一束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矩形 48134"/>
              <p:cNvSpPr/>
              <p:nvPr/>
            </p:nvSpPr>
            <p:spPr>
              <a:xfrm>
                <a:off x="2320560" y="3429000"/>
                <a:ext cx="4204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996600"/>
                    </a:solidFill>
                    <a:latin typeface="Times New Roman"/>
                    <a:ea typeface="楷体_GB2312"/>
                  </a:rPr>
                  <a:t>肉干做见面礼或学费，孔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69637"/>
          <p:cNvSpPr/>
          <p:nvPr/>
        </p:nvSpPr>
        <p:spPr>
          <a:xfrm>
            <a:off x="971640" y="2536920"/>
            <a:ext cx="734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孔子从不以家境贫穷或富裕、天资聪明或愚笨来选择学生，所以他门下的学生，包罗各种各样的人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5780"/>
          <p:cNvGrpSpPr/>
          <p:nvPr/>
        </p:nvGrpSpPr>
        <p:grpSpPr>
          <a:xfrm>
            <a:off x="250920" y="2176560"/>
            <a:ext cx="8424720" cy="2708640"/>
            <a:chOff x="250920" y="2176560"/>
            <a:chExt cx="8424720" cy="2708640"/>
          </a:xfrm>
        </p:grpSpPr>
        <p:sp>
          <p:nvSpPr>
            <p:cNvPr id="160" name="矩形 75781"/>
            <p:cNvSpPr/>
            <p:nvPr/>
          </p:nvSpPr>
          <p:spPr>
            <a:xfrm>
              <a:off x="250920" y="3276720"/>
              <a:ext cx="842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他受到学生敬重的重要原因是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___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矩形 75782"/>
            <p:cNvSpPr/>
            <p:nvPr/>
          </p:nvSpPr>
          <p:spPr>
            <a:xfrm>
              <a:off x="2233800" y="2176560"/>
              <a:ext cx="5709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孔子是春秋时期的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________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文本框 75783"/>
            <p:cNvSpPr/>
            <p:nvPr/>
          </p:nvSpPr>
          <p:spPr>
            <a:xfrm>
              <a:off x="395280" y="4120920"/>
              <a:ext cx="734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________________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文本框 75784"/>
          <p:cNvSpPr/>
          <p:nvPr/>
        </p:nvSpPr>
        <p:spPr>
          <a:xfrm>
            <a:off x="6319080" y="2133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大教育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组合 75785"/>
          <p:cNvGrpSpPr/>
          <p:nvPr/>
        </p:nvGrpSpPr>
        <p:grpSpPr>
          <a:xfrm>
            <a:off x="1297080" y="3213000"/>
            <a:ext cx="7000560" cy="1657800"/>
            <a:chOff x="1297080" y="3213000"/>
            <a:chExt cx="7000560" cy="1657800"/>
          </a:xfrm>
        </p:grpSpPr>
        <p:sp>
          <p:nvSpPr>
            <p:cNvPr id="165" name="文本框 75786"/>
            <p:cNvSpPr/>
            <p:nvPr/>
          </p:nvSpPr>
          <p:spPr>
            <a:xfrm>
              <a:off x="1297080" y="4106520"/>
              <a:ext cx="286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教无类，因材施教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矩形 75787"/>
            <p:cNvSpPr/>
            <p:nvPr/>
          </p:nvSpPr>
          <p:spPr>
            <a:xfrm>
              <a:off x="7781760" y="321300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6:53:45Z</dcterms:created>
  <dc:creator>*</dc:creator>
  <dc:description/>
  <dc:language>en-US</dc:language>
  <cp:lastModifiedBy>Administrator</cp:lastModifiedBy>
  <dcterms:modified xsi:type="dcterms:W3CDTF">2017-09-05T11:12:27Z</dcterms:modified>
  <cp:revision>16</cp:revision>
  <dc:subject/>
  <dc:title>孔子和学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  <property fmtid="{D5CDD505-2E9C-101B-9397-08002B2CF9AE}" pid="3" name="Version">
    <vt:r8>1</vt:r8>
  </property>
</Properties>
</file>