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D79-9AF4-4FD5-957F-50ABF5F5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544-3FD4-4E99-81F4-71DD50BA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A96-2E09-4B77-AF3C-CDCB4D03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652-BD08-4F91-AE2E-036D503D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910-E456-48C2-9E22-13CBF3A8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F45-3857-48E2-9CEF-FBECC017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841-F09C-4010-8256-7BEA26FC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0FB-4F2E-423B-BA28-47585B51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9DF-8BD3-45D0-AB02-6D46C7D9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FEC-597E-4E0C-8F28-B17355BF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EEE-AE1C-413D-8C57-C4B20B63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115-904B-4D94-8CBE-F0A614A0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1BC7-6543-4669-8775-DC7838CDF7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771640" y="105264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18</a:t>
            </a:r>
            <a:r>
              <a:rPr b="0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山和海的书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线连接符 21"/>
          <p:cNvSpPr/>
          <p:nvPr/>
        </p:nvSpPr>
        <p:spPr>
          <a:xfrm>
            <a:off x="3059280" y="1989000"/>
            <a:ext cx="4537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198388b34d62ecbd"/>
          <p:cNvPicPr/>
          <p:nvPr/>
        </p:nvPicPr>
        <p:blipFill>
          <a:blip r:embed="rId1"/>
          <a:stretch/>
        </p:blipFill>
        <p:spPr>
          <a:xfrm>
            <a:off x="250920" y="836640"/>
            <a:ext cx="8497800" cy="5400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47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晴空万里时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穿着蓝色的礼服，上面织着朵朵的白云，这时的你，看起来真温柔；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大风吹来时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你好像挥舞着大旗，激起千层浪，这时的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看起来真神气；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太阳西下时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夕阳为你洒下闪光的金粉，这时的你看起来真美丽；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月亮升起时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星空为你穿上银色的舞衣，这时的你看起来真神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516720" y="836640"/>
            <a:ext cx="1800360" cy="1444680"/>
          </a:xfrm>
          <a:prstGeom prst="rect">
            <a:avLst/>
          </a:prstGeom>
          <a:ln w="0">
            <a:noFill/>
          </a:ln>
        </p:spPr>
      </p:pic>
      <p:sp>
        <p:nvSpPr>
          <p:cNvPr id="80" name="同侧圆角矩形 4"/>
          <p:cNvSpPr/>
          <p:nvPr/>
        </p:nvSpPr>
        <p:spPr>
          <a:xfrm>
            <a:off x="468360" y="13413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971640" y="2492280"/>
            <a:ext cx="62658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山和海的书信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山眼中的海　海眼中的山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文雅安静　　青春翠绿　　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青年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平易亲切　　巍然屹立　　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勇士 变化多端　千变万化　　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魔法师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令人喜爱　　　穿上　　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武士</a:t>
            </a:r>
            <a:br>
              <a:rPr sz="2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 　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59640" y="450864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55640" y="21528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《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山和海的书信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》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以书信的形式，写出了山和海互相景仰的事实，山仰慕海，海仰慕山，惺惺相惜，表达了朋友之间的正常情感。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82224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619280" y="2852640"/>
            <a:ext cx="690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384200" y="2224080"/>
            <a:ext cx="67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这篇文章，作者用上优美的词语，采用排比、拟人的修辞手法，写出了大山在晴空万里时显得生机勃勃，就像个年富力强的青年，活力四射呀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16720" y="4437000"/>
            <a:ext cx="2368440" cy="1656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042920" y="213372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我们应该多看别人的优点，真心的欣赏与赞美会让我们结交到更多的朋友。你们也有自己的好朋友，课下你们也可以给他写一封信，表达自己对他的友情吧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F:\七彩课堂插图板式封面\排版用图标、页眉页脚\标题图（终-排版用）共29个\我会说.jpg"/>
          <p:cNvPicPr/>
          <p:nvPr/>
        </p:nvPicPr>
        <p:blipFill>
          <a:blip r:embed="rId1"/>
          <a:stretch/>
        </p:blipFill>
        <p:spPr>
          <a:xfrm>
            <a:off x="485640" y="4508640"/>
            <a:ext cx="2232000" cy="1657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547640" y="2276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本文以独特的书信形式，写出了山和海互相景仰的事实，告诉我们：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应该多看别人的优点，真心地喜欢对方，欣赏对方，这样才能成为朋友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同侧圆角矩形 2"/>
          <p:cNvSpPr/>
          <p:nvPr/>
        </p:nvSpPr>
        <p:spPr>
          <a:xfrm>
            <a:off x="39528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59920" y="1679400"/>
            <a:ext cx="7203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一、给生字加拼音并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缤（      ）（      ）    纷（           ）（      ）   碧（        ）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斜（      ）（      ）    悟（           ）（      ）   绚（        ）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12040" y="2133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bī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24928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缤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923280" y="20797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fē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202000" y="212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缤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25600" y="20606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b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7929720" y="213372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碧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152000" y="2492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x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2251080" y="24922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斜线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025160" y="241920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w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5131080" y="24922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领悟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6572160" y="24289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xuà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7786800" y="253836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绚丽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156360" y="43657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9"/>
          <p:cNvSpPr/>
          <p:nvPr/>
        </p:nvSpPr>
        <p:spPr>
          <a:xfrm>
            <a:off x="611280" y="3284640"/>
            <a:ext cx="540072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二、比一比再组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牌（        ）   讨（               ）   悟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碑（        ）   衬（               ）   捂（        ）   拍（        ）    捶（              ）   恨（        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迫（        ）    睡（              ）   狠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384200" y="385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纸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1384200" y="44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石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332892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检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257280" y="44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衬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520200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醒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5202000" y="4365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捂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138420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球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138420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强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3328920" y="479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捶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330984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520200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痛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1"/>
          <p:cNvSpPr/>
          <p:nvPr/>
        </p:nvSpPr>
        <p:spPr>
          <a:xfrm>
            <a:off x="512892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alibri"/>
              </a:rPr>
              <a:t>狠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山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54364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10"/>
          <p:cNvGrpSpPr/>
          <p:nvPr/>
        </p:nvGrpSpPr>
        <p:grpSpPr>
          <a:xfrm>
            <a:off x="250920" y="907920"/>
            <a:ext cx="2255760" cy="569520"/>
            <a:chOff x="250920" y="907920"/>
            <a:chExt cx="2255760" cy="569520"/>
          </a:xfrm>
        </p:grpSpPr>
        <p:sp>
          <p:nvSpPr>
            <p:cNvPr id="46" name="直线连接符 21"/>
            <p:cNvSpPr/>
            <p:nvPr/>
          </p:nvSpPr>
          <p:spPr>
            <a:xfrm flipV="1">
              <a:off x="250920" y="14713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同侧圆角矩形 23"/>
            <p:cNvSpPr/>
            <p:nvPr/>
          </p:nvSpPr>
          <p:spPr>
            <a:xfrm>
              <a:off x="434880" y="90792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同侧圆角矩形 1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867280" y="4149720"/>
            <a:ext cx="2881440" cy="2013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95280" y="1916280"/>
            <a:ext cx="66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在你的眼中山和海是什么样的？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你觉得山眼中的海是怎样的？海眼里的山又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有感情地朗读课文，背诵自己喜欢的部分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明白朋友的第三个含义：互相景仰，惺惺相惜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1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2050920" y="4869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读一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侧圆角矩形 9"/>
          <p:cNvSpPr/>
          <p:nvPr/>
        </p:nvSpPr>
        <p:spPr>
          <a:xfrm>
            <a:off x="3240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692360" y="2276640"/>
            <a:ext cx="5904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捎   屹  影  雅  端  模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拜   泼  挠  奖  敢  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5"/>
          <p:cNvGrpSpPr/>
          <p:nvPr/>
        </p:nvGrpSpPr>
        <p:grpSpPr>
          <a:xfrm>
            <a:off x="324000" y="765000"/>
            <a:ext cx="2071440" cy="661680"/>
            <a:chOff x="324000" y="765000"/>
            <a:chExt cx="2071440" cy="661680"/>
          </a:xfrm>
        </p:grpSpPr>
        <p:sp>
          <p:nvSpPr>
            <p:cNvPr id="57" name="直线连接符 21"/>
            <p:cNvSpPr/>
            <p:nvPr/>
          </p:nvSpPr>
          <p:spPr>
            <a:xfrm flipV="1">
              <a:off x="324000" y="142056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同侧圆角矩形 7"/>
            <p:cNvSpPr/>
            <p:nvPr/>
          </p:nvSpPr>
          <p:spPr>
            <a:xfrm>
              <a:off x="324000" y="76500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同侧圆角矩形 9"/>
          <p:cNvSpPr/>
          <p:nvPr/>
        </p:nvSpPr>
        <p:spPr>
          <a:xfrm>
            <a:off x="3240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622920" y="4437000"/>
            <a:ext cx="2521080" cy="1763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611280" y="2060640"/>
            <a:ext cx="81532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变化多端   文雅  拜访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0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屈不挠    意气风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u=109746963,98935548&amp;fm=0&amp;gp=18"/>
          <p:cNvPicPr/>
          <p:nvPr/>
        </p:nvPicPr>
        <p:blipFill>
          <a:blip r:embed="rId1"/>
          <a:stretch/>
        </p:blipFill>
        <p:spPr>
          <a:xfrm>
            <a:off x="468360" y="784080"/>
            <a:ext cx="8280360" cy="5454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488360" cy="2881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晴空万里时，你穿着蓝色的礼服，上面织着朵朵的白云，这时的你，看起来真温柔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u=109746963,98935548&amp;fm=0&amp;gp=18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94920" y="1844640"/>
            <a:ext cx="8064360" cy="36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Calibri"/>
              </a:rPr>
              <a:t>大风吹来时，你好像挥舞着大旗，激起千层浪，这时的你</a:t>
            </a: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zh-CN" sz="5400" spc="-1" strike="noStrike">
                <a:solidFill>
                  <a:srgbClr val="ff0000"/>
                </a:solidFill>
                <a:latin typeface="Calibri"/>
              </a:rPr>
              <a:t>看起来真神气</a:t>
            </a: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98bb5b7205fd51cc"/>
          <p:cNvPicPr/>
          <p:nvPr/>
        </p:nvPicPr>
        <p:blipFill>
          <a:blip r:embed="rId1"/>
          <a:srcRect l="0" t="0" r="0" b="3094"/>
          <a:stretch/>
        </p:blipFill>
        <p:spPr>
          <a:xfrm>
            <a:off x="324000" y="836640"/>
            <a:ext cx="8496000" cy="5164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8305920" cy="260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4800" spc="-1" strike="noStrike">
                <a:solidFill>
                  <a:srgbClr val="990000"/>
                </a:solidFill>
                <a:latin typeface="Calibri"/>
                <a:ea typeface="楷体_GB2312"/>
              </a:rPr>
              <a:t>太阳西下时，夕阳为你洒下闪光的金粉，这时的你看起来真美丽；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u=2995534507,3659346112&amp;fm=0&amp;gp=1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324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  <a:ea typeface="楷体_GB2312"/>
              </a:rPr>
              <a:t>月亮升起时，星空为你穿上银色的舞衣，这时的你看起来真神秘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1-02T07:30:44Z</dcterms:modified>
  <cp:revision>3</cp:revision>
  <dc:subject/>
  <dc:title>幻灯片 1</dc:title>
</cp:coreProperties>
</file>