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311B-3B00-4530-8E41-6474A5530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3FD5-26A0-4FA6-B029-55B08D4D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BCFB-774E-480A-BADA-3F54D004C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5BAB-2E17-4A7B-AC9E-CF5EB5A5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3F7E-838E-4C28-BBEB-AFA6A1F2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A247-A558-424B-ACA0-D91080F5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D545-B3B4-43FB-AC1E-57313237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E8F4-5ABC-4B17-8593-859E1BC9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D965-C647-4BAE-8A69-14335296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6002-687C-438B-9AE6-F119892E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582B-5D54-43EB-9F7F-514B3511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6A3C-EEA3-48D0-8691-5661DDA5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7C44-285A-4EF7-817A-BA13C8AFF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20070226015559145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743200" y="2286000"/>
            <a:ext cx="3809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1523880" y="1600200"/>
            <a:ext cx="53341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一只贝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20070226015559145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181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343080" y="1066680"/>
            <a:ext cx="8610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那是粒十分坚硬的沙子，又带着棱角，这只贝无论如何也不能挤碎它，只好受着内在的折磨。它的壳上越来越没有了光泽，没有了图案，它失去了做贝的荣耀。但它只能默默地忍受着，说不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225Aa951-0_lit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685800" y="53172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只贝的童话，一篇人生的寓言，从这篇寓言里，你得到了什么启示？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20070226015559145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343080" y="1219320"/>
            <a:ext cx="8610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壳上曾经投映过太阳、月亮、星星，还有海上长虹的颜色，也曾经显示过浪花、漩涡和潮峰起伏的形状。现在它们的生命结束了，光洁的壳上还留着这些色彩和线条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20070226015440519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20070226015447784"/>
          <p:cNvPicPr/>
          <p:nvPr/>
        </p:nvPicPr>
        <p:blipFill>
          <a:blip r:embed="rId1"/>
          <a:stretch/>
        </p:blipFill>
        <p:spPr>
          <a:xfrm>
            <a:off x="61920" y="380880"/>
            <a:ext cx="9020160" cy="59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20070226015525373"/>
          <p:cNvPicPr/>
          <p:nvPr/>
        </p:nvPicPr>
        <p:blipFill>
          <a:blip r:embed="rId1"/>
          <a:stretch/>
        </p:blipFill>
        <p:spPr>
          <a:xfrm>
            <a:off x="-76320" y="380880"/>
            <a:ext cx="9220320" cy="59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20070226015559145"/>
          <p:cNvPicPr/>
          <p:nvPr/>
        </p:nvPicPr>
        <p:blipFill>
          <a:blip r:embed="rId1"/>
          <a:stretch/>
        </p:blipFill>
        <p:spPr>
          <a:xfrm>
            <a:off x="0" y="531720"/>
            <a:ext cx="9144000" cy="57945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343080" y="1219320"/>
            <a:ext cx="8610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壳上曾经投映过太阳、月亮、星星，还有海上长虹的颜色，也曾经显示过浪花、漩涡和潮峰起伏的形状。现在它们的生命结束了，光洁的壳上还留着这些色彩和线条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20070226015559145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343080" y="914400"/>
            <a:ext cx="861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但是，这只贝壳没有被孩子们捡起。它不漂亮，它在海里的时候，就是一只普通的贝。因为有一粒沙子钻进了它的壳内，那是粒十分坚硬的沙子，又带着棱角，这只贝无论如何也不能挤碎它，只好受着内在的折磨。它的壳上越来越没有了光泽，没有了图案，它失去了做贝的荣耀。但它只能默默地忍受着，说不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20070226015559145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168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533520" y="1600200"/>
            <a:ext cx="8610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那是粒十分坚硬的沙子，又带着棱角，这只贝无论如何也不能挤碎它，只好受着内在的折磨。它的壳上越来越没有了光泽，没有了图案，它失去了做贝的荣耀。但它只能默默地忍受着，说不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20070226015559145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52280" y="838080"/>
            <a:ext cx="87631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即使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------------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他也在不停的磨制；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即使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------------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他也在不停的磨制；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即使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------------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他也在不停的磨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……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02:59:50Z</dcterms:created>
  <dc:creator>www.edudown.net</dc:creator>
  <dc:description>www.edudown.net</dc:description>
  <cp:keywords>www.edudown.net</cp:keywords>
  <dc:language>en-US</dc:language>
  <cp:lastModifiedBy>Administrator</cp:lastModifiedBy>
  <dcterms:modified xsi:type="dcterms:W3CDTF">2015-09-20T20:43:40Z</dcterms:modified>
  <cp:revision>46</cp:revision>
  <dc:subject>www.edudown.net</dc:subject>
  <dc:title>www.edudown.n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7000000000001024120</vt:lpwstr>
  </property>
</Properties>
</file>