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799-0C3C-4A48-81CC-FDDE7D5C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B71-35A5-4911-9D8F-FC184A34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F16-EDAC-49E7-B239-5DA0EF15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65D-A2DD-45F7-9A7B-266E0D68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FAE-A71A-4D5F-B969-96FB10E4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A35-77F9-434D-BB83-DC729E6B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858-1DD9-4836-BAD8-2D89F145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7EE-7EB4-4BFA-B862-AF908948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427-004F-4C05-8554-518561A6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B11-3378-4A42-8D54-47D54F1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19E-EFF2-4940-92AA-71D5257F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839-A525-4CE4-82E1-B8A2BFE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1AED-639F-4FB0-AA5C-448BD5F4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0+"/>
          <p:cNvPicPr/>
          <p:nvPr/>
        </p:nvPicPr>
        <p:blipFill>
          <a:blip r:embed="rId1"/>
          <a:srcRect l="0" t="4664" r="0" b="0"/>
          <a:stretch/>
        </p:blipFill>
        <p:spPr>
          <a:xfrm>
            <a:off x="0" y="30492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131520" y="693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仙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5977080"/>
            <a:ext cx="91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>
            <a:hlinkClick r:id="rId1" action="ppaction://hlinksldjump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79280" y="1844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轻声朗读课文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~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节，用直线划出为什么白银这个地方会被人称为是仙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41600" y="-23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学习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167280" y="3645000"/>
            <a:ext cx="11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有感情地朗读划出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-23760" y="5977080"/>
            <a:ext cx="9167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41440" y="26028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郁郁葱葱 的 森 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山景2"/>
          <p:cNvPicPr/>
          <p:nvPr/>
        </p:nvPicPr>
        <p:blipFill>
          <a:blip r:embed="rId1"/>
          <a:srcRect l="0" t="0" r="0" b="5994"/>
          <a:stretch/>
        </p:blipFill>
        <p:spPr>
          <a:xfrm>
            <a:off x="-23760" y="907920"/>
            <a:ext cx="9167760" cy="480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山景、湖景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13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-23760" y="5977080"/>
            <a:ext cx="9167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41440" y="26028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清 澈 的 小 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248520" y="3808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Modi.mp3" descr=""/>
          <p:cNvPicPr/>
          <p:nvPr/>
        </p:nvPicPr>
        <p:blipFill>
          <a:blip r:embed="rId2"/>
          <a:stretch/>
        </p:blipFill>
        <p:spPr>
          <a:xfrm>
            <a:off x="88390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-23760" y="5977080"/>
            <a:ext cx="9167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野花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13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541440" y="26028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五 彩 缤 纷 的 野 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248520" y="3808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清澈的小河"/>
          <p:cNvPicPr/>
          <p:nvPr/>
        </p:nvPicPr>
        <p:blipFill>
          <a:blip r:embed="rId1"/>
          <a:stretch/>
        </p:blipFill>
        <p:spPr>
          <a:xfrm>
            <a:off x="2413080" y="-12600"/>
            <a:ext cx="2087640" cy="243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鸟"/>
          <p:cNvPicPr/>
          <p:nvPr/>
        </p:nvPicPr>
        <p:blipFill>
          <a:blip r:embed="rId2"/>
          <a:srcRect l="0" t="0" r="0" b="15683"/>
          <a:stretch/>
        </p:blipFill>
        <p:spPr>
          <a:xfrm>
            <a:off x="7093080" y="0"/>
            <a:ext cx="205092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山景、湖景"/>
          <p:cNvPicPr/>
          <p:nvPr/>
        </p:nvPicPr>
        <p:blipFill>
          <a:blip r:embed="rId3"/>
          <a:stretch/>
        </p:blipFill>
        <p:spPr>
          <a:xfrm>
            <a:off x="0" y="0"/>
            <a:ext cx="2378160" cy="244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野花"/>
          <p:cNvPicPr/>
          <p:nvPr/>
        </p:nvPicPr>
        <p:blipFill>
          <a:blip r:embed="rId4"/>
          <a:stretch/>
        </p:blipFill>
        <p:spPr>
          <a:xfrm>
            <a:off x="4573440" y="-12600"/>
            <a:ext cx="2448000" cy="2435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250920" y="2709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在国外，曾经有一个优美的小镇，那里有郁郁葱葱的树林，有清澈的小河，有五彩缤纷的野花，有欢乐的小鸟，空气格外清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46760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幽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 flipV="1">
            <a:off x="1332000" y="3860280"/>
            <a:ext cx="756108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755640" y="4365720"/>
            <a:ext cx="641016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24000" y="4437000"/>
            <a:ext cx="149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85440" y="4365720"/>
            <a:ext cx="769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镇上的人以打鱼狩猎为生，很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与外界交往，过着安逸、宁静的生活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喧闹的城市相比，那里简直是人间仙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5292720" y="2708280"/>
            <a:ext cx="1150920" cy="649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468360" y="242928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罗宾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情不自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里太美了，有令人神往的自然环境和吸不尽的新鲜空气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971640" y="2522160"/>
            <a:ext cx="705636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罗宾逊回到城里，找专家对白银仙境的空气样品进行了分析。白银仙境的空气中含有丰富的负氧离子。负氧离子被称为空气维生素，它可以有效地抵御空气污染对人体的危害，对小孩的智力发育有很大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971640" y="2517120"/>
            <a:ext cx="705636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罗宾逊回到城里，找专家对白银仙境的空气样品进行了分析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白银仙境的空气中含有丰富的负氧离子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负氧离子被称为空气维生素，它可以有效地抵御空气污染对人体的危害，对小孩的智力发育有很大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0039"/>
          <p:cNvPicPr/>
          <p:nvPr/>
        </p:nvPicPr>
        <p:blipFill>
          <a:blip r:embed="rId1"/>
          <a:stretch/>
        </p:blipFill>
        <p:spPr>
          <a:xfrm>
            <a:off x="1042920" y="6232680"/>
            <a:ext cx="6494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污染后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65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5977080"/>
            <a:ext cx="91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4360" y="2349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7162920" y="349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新魏"/>
              </a:rPr>
              <a:t>白银仙境的悲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76641-2"/>
          <p:cNvPicPr/>
          <p:nvPr/>
        </p:nvPicPr>
        <p:blipFill>
          <a:blip r:embed="rId2"/>
          <a:stretch/>
        </p:blipFill>
        <p:spPr>
          <a:xfrm>
            <a:off x="0" y="907920"/>
            <a:ext cx="5651640" cy="511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5724360" y="249228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样子完全不同了。形容改变得不成样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254640" y="1700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面目全非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403280" y="1341360"/>
            <a:ext cx="352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黑体"/>
              </a:rPr>
              <a:t>白银仙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148360" y="1340640"/>
            <a:ext cx="33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的悲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2384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69800" y="2708280"/>
            <a:ext cx="763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用自己的语言描述”面目全非“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垃圾泛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垃圾1"/>
          <p:cNvPicPr/>
          <p:nvPr/>
        </p:nvPicPr>
        <p:blipFill>
          <a:blip r:embed="rId1"/>
          <a:srcRect l="0" t="0" r="-169" b="9940"/>
          <a:stretch/>
        </p:blipFill>
        <p:spPr>
          <a:xfrm>
            <a:off x="900000" y="260280"/>
            <a:ext cx="7177320" cy="484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03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132000" y="549360"/>
            <a:ext cx="41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白银仙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草木枯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草木枯萎"/>
          <p:cNvPicPr/>
          <p:nvPr/>
        </p:nvPicPr>
        <p:blipFill>
          <a:blip r:embed="rId1"/>
          <a:srcRect l="0" t="0" r="332" b="6669"/>
          <a:stretch/>
        </p:blipFill>
        <p:spPr>
          <a:xfrm>
            <a:off x="900000" y="404640"/>
            <a:ext cx="7177320" cy="47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臭气熏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臭气熏天"/>
          <p:cNvPicPr/>
          <p:nvPr/>
        </p:nvPicPr>
        <p:blipFill>
          <a:blip r:embed="rId1"/>
          <a:srcRect l="0" t="0" r="340" b="6992"/>
          <a:stretch/>
        </p:blipFill>
        <p:spPr>
          <a:xfrm>
            <a:off x="1116000" y="260280"/>
            <a:ext cx="6961320" cy="49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狼藉一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垃圾泛滥"/>
          <p:cNvPicPr/>
          <p:nvPr/>
        </p:nvPicPr>
        <p:blipFill>
          <a:blip r:embed="rId1"/>
          <a:srcRect l="0" t="0" r="485" b="8787"/>
          <a:stretch/>
        </p:blipFill>
        <p:spPr>
          <a:xfrm>
            <a:off x="1403280" y="476280"/>
            <a:ext cx="6521400" cy="44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143000" y="31240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466560" y="404640"/>
            <a:ext cx="8220240" cy="6269400"/>
            <a:chOff x="466560" y="404640"/>
            <a:chExt cx="8220240" cy="6269400"/>
          </a:xfrm>
        </p:grpSpPr>
        <p:grpSp>
          <p:nvGrpSpPr>
            <p:cNvPr id="132" name="Group 5"/>
            <p:cNvGrpSpPr/>
            <p:nvPr/>
          </p:nvGrpSpPr>
          <p:grpSpPr>
            <a:xfrm>
              <a:off x="466560" y="404640"/>
              <a:ext cx="3648240" cy="3065760"/>
              <a:chOff x="466560" y="404640"/>
              <a:chExt cx="3648240" cy="3065760"/>
            </a:xfrm>
          </p:grpSpPr>
          <p:pic>
            <p:nvPicPr>
              <p:cNvPr id="133" name="Picture 6" descr="垃圾1"/>
              <p:cNvPicPr/>
              <p:nvPr/>
            </p:nvPicPr>
            <p:blipFill>
              <a:blip r:embed="rId1"/>
              <a:srcRect l="0" t="0" r="256" b="15837"/>
              <a:stretch/>
            </p:blipFill>
            <p:spPr>
              <a:xfrm>
                <a:off x="466560" y="404640"/>
                <a:ext cx="3648240" cy="21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Text Box 7"/>
              <p:cNvSpPr/>
              <p:nvPr/>
            </p:nvSpPr>
            <p:spPr>
              <a:xfrm>
                <a:off x="1936440" y="288900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垃圾泛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4956120" y="457200"/>
              <a:ext cx="3578040" cy="3065400"/>
              <a:chOff x="4956120" y="457200"/>
              <a:chExt cx="3578040" cy="3065400"/>
            </a:xfrm>
          </p:grpSpPr>
          <p:pic>
            <p:nvPicPr>
              <p:cNvPr id="136" name="Picture 9" descr="草木枯萎"/>
              <p:cNvPicPr/>
              <p:nvPr/>
            </p:nvPicPr>
            <p:blipFill>
              <a:blip r:embed="rId2"/>
              <a:srcRect l="0" t="0" r="2165" b="10728"/>
              <a:stretch/>
            </p:blipFill>
            <p:spPr>
              <a:xfrm>
                <a:off x="4956120" y="457200"/>
                <a:ext cx="3578040" cy="22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"/>
              <p:cNvSpPr/>
              <p:nvPr/>
            </p:nvSpPr>
            <p:spPr>
              <a:xfrm>
                <a:off x="6501600" y="294120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草木枯萎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1"/>
            <p:cNvGrpSpPr/>
            <p:nvPr/>
          </p:nvGrpSpPr>
          <p:grpSpPr>
            <a:xfrm>
              <a:off x="4956120" y="3657600"/>
              <a:ext cx="3730680" cy="2989800"/>
              <a:chOff x="4956120" y="3657600"/>
              <a:chExt cx="3730680" cy="2989800"/>
            </a:xfrm>
          </p:grpSpPr>
          <p:sp>
            <p:nvSpPr>
              <p:cNvPr id="139" name="Text Box 12"/>
              <p:cNvSpPr/>
              <p:nvPr/>
            </p:nvSpPr>
            <p:spPr>
              <a:xfrm>
                <a:off x="6862320" y="60660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狼藉一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Picture 13" descr="垃圾泛滥"/>
              <p:cNvPicPr/>
              <p:nvPr/>
            </p:nvPicPr>
            <p:blipFill>
              <a:blip r:embed="rId3"/>
              <a:srcRect l="0" t="0" r="83" b="11791"/>
              <a:stretch/>
            </p:blipFill>
            <p:spPr>
              <a:xfrm>
                <a:off x="4956120" y="3657600"/>
                <a:ext cx="3730680" cy="220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14"/>
            <p:cNvGrpSpPr/>
            <p:nvPr/>
          </p:nvGrpSpPr>
          <p:grpSpPr>
            <a:xfrm>
              <a:off x="537840" y="3573360"/>
              <a:ext cx="3652920" cy="3100680"/>
              <a:chOff x="537840" y="3573360"/>
              <a:chExt cx="3652920" cy="3100680"/>
            </a:xfrm>
          </p:grpSpPr>
          <p:pic>
            <p:nvPicPr>
              <p:cNvPr id="142" name="Picture 15" descr="臭气熏天"/>
              <p:cNvPicPr/>
              <p:nvPr/>
            </p:nvPicPr>
            <p:blipFill>
              <a:blip r:embed="rId4"/>
              <a:srcRect l="0" t="0" r="520" b="8573"/>
              <a:stretch/>
            </p:blipFill>
            <p:spPr>
              <a:xfrm>
                <a:off x="537840" y="3573360"/>
                <a:ext cx="365292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Text Box 16"/>
              <p:cNvSpPr/>
              <p:nvPr/>
            </p:nvSpPr>
            <p:spPr>
              <a:xfrm>
                <a:off x="1944360" y="609264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臭气熏天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0" y="907920"/>
            <a:ext cx="9144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68360" y="2492280"/>
            <a:ext cx="87850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为接待川流不息的游客，镇上从城里买回许多化工材料，搭建房屋，装修内外。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驱赶叮人的昆虫，还喷洒了大量剧毒杀虫剂。游客一多，垃圾也多了。小河和森林里丢弃了很多废纸、矿泉水瓶、泡沫塑料饭盒以及残羹剩饭，白银仙境受到了污染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" action="ppaction://hlinkshowjump?jump=nextslide"/>
          </p:cNvPr>
          <p:cNvSpPr/>
          <p:nvPr/>
        </p:nvSpPr>
        <p:spPr>
          <a:xfrm>
            <a:off x="824400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8621" y="10800"/>
                </a:moveTo>
                <a:lnTo>
                  <a:pt x="8116" y="17806"/>
                </a:lnTo>
                <a:lnTo>
                  <a:pt x="8116" y="3794"/>
                </a:lnTo>
                <a:close/>
              </a:path>
              <a:path fill="darken" w="30244" h="21600">
                <a:moveTo>
                  <a:pt x="20466" y="3794"/>
                </a:moveTo>
                <a:lnTo>
                  <a:pt x="20466" y="17806"/>
                </a:lnTo>
                <a:lnTo>
                  <a:pt x="22129" y="17806"/>
                </a:lnTo>
                <a:lnTo>
                  <a:pt x="22129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50920" y="12682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8920" y="685800"/>
            <a:ext cx="87850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为接待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川流不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的游客，镇上从城里买回许多化工材料，搭建房屋，装修内外。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驱赶叮人的昆虫，还喷洒了大量剧毒杀虫剂。游客一多，垃圾也多了。小河和森林里丢弃了很多废纸、矿泉水瓶、泡沫塑料饭盒以及残羹剩饭，白银仙境受到了污染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2320" y="62514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川流不息：川，河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5977080"/>
            <a:ext cx="91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089000" y="5769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川流不息：川，河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055400" y="5692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行人、车马）像水流一样连续不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污染后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659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24000" y="2133720"/>
            <a:ext cx="590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的白银仙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变得面目全非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昔日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今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真是白银仙境的悲哀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5977080"/>
            <a:ext cx="91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162920" y="349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新魏"/>
              </a:rPr>
              <a:t>白银仙境的悲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污染后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6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484360" y="981000"/>
            <a:ext cx="59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的白银仙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变得面目全非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昔日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真是白银仙境的悲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昔日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真是白银仙境的悲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昔日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真是白银仙境的悲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5977080"/>
            <a:ext cx="91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162920" y="349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新魏"/>
              </a:rPr>
              <a:t>白银仙境的悲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2.mp3" descr=""/>
          <p:cNvPicPr/>
          <p:nvPr/>
        </p:nvPicPr>
        <p:blipFill>
          <a:blip r:embed="rId2"/>
          <a:stretch/>
        </p:blipFill>
        <p:spPr>
          <a:xfrm>
            <a:off x="867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26706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324000" y="1563120"/>
            <a:ext cx="74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非常失望，找到镇长，说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里的清新空气已遭破坏，我不能履行合同了，你应该尽快设法拯救白银仙境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白银仙境的悲哀到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是         造成的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476360" y="242100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</a:rPr>
              <a:t>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50760" y="4226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237840" y="3933720"/>
            <a:ext cx="2244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川流不息 的游客、修建房屋、喷洒剧毒杀虫剂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意丢弃垃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149800" y="4870440"/>
            <a:ext cx="100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想对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罗宾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想对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镇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”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想对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游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”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想对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居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想对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望着面目全非的白银仙境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j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1042920" y="194364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啊，何止是白银仙境应得到保护，整个大自然都应该得到保护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7ee79a3aae2caaefd462251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阿拉善（干旱）"/>
          <p:cNvPicPr/>
          <p:nvPr/>
        </p:nvPicPr>
        <p:blipFill>
          <a:blip r:embed="rId2"/>
          <a:srcRect l="0" t="0" r="0" b="11114"/>
          <a:stretch/>
        </p:blipFill>
        <p:spPr>
          <a:xfrm>
            <a:off x="4932360" y="0"/>
            <a:ext cx="4211640" cy="6095880"/>
          </a:xfrm>
          <a:prstGeom prst="rect">
            <a:avLst/>
          </a:prstGeom>
          <a:ln w="0">
            <a:noFill/>
          </a:ln>
        </p:spPr>
      </p:pic>
      <p:pic>
        <p:nvPicPr>
          <p:cNvPr id="183" name="2.mp3" descr=""/>
          <p:cNvPicPr/>
          <p:nvPr/>
        </p:nvPicPr>
        <p:blipFill>
          <a:blip r:embed="rId3"/>
          <a:stretch/>
        </p:blipFill>
        <p:spPr>
          <a:xfrm>
            <a:off x="860436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e49e50b730e363e336d3cabb"/>
          <p:cNvPicPr/>
          <p:nvPr/>
        </p:nvPicPr>
        <p:blipFill>
          <a:blip r:embed="rId1"/>
          <a:srcRect l="0" t="0" r="0" b="12987"/>
          <a:stretch/>
        </p:blipFill>
        <p:spPr>
          <a:xfrm>
            <a:off x="304920" y="990720"/>
            <a:ext cx="4572000" cy="5105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楼兰荒漠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745640" y="174600"/>
            <a:ext cx="5846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地球环境损失状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耕地：每分钟损失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</a:rPr>
              <a:t>公顷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年损失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2100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</a:rPr>
              <a:t>万公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森林：每分钟消失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公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每年消失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1100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公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漠化：每分钟有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公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土地沙漠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年约有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600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万公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土地沙漠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污水：每分钟有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85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万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污水排入江河大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年约有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4500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亿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污水排入江河大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：每分钟有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死于环境污染，每年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50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万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境污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187000" y="1052640"/>
            <a:ext cx="497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课题中的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悲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指什么？文中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些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悲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作者想表达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悲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50920" y="285264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罗宾逊没有履行合同，小镇上的人们感到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白银仙境受到了污染，罗宾逊感到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游客没有看到仙境般的美景感到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失去赖以生存的自然环境，这是人类的最大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鸟"/>
          <p:cNvPicPr/>
          <p:nvPr/>
        </p:nvPicPr>
        <p:blipFill>
          <a:blip r:embed="rId1"/>
          <a:srcRect l="0" t="0" r="0" b="14443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山景、湖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5977080"/>
            <a:ext cx="91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52360" y="3357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的清新空气已遭破坏，我不能履行合同了，你应该尽快设法拯救白银仙境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299840" y="270972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太美了，有令人神往的自然环境和吸不尽的新鲜空气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0306"/>
          <p:cNvPicPr/>
          <p:nvPr/>
        </p:nvPicPr>
        <p:blipFill>
          <a:blip r:embed="rId1"/>
          <a:stretch/>
        </p:blipFill>
        <p:spPr>
          <a:xfrm>
            <a:off x="-95400" y="-85680"/>
            <a:ext cx="9129960" cy="6845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24000" y="2133720"/>
            <a:ext cx="87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34</a:t>
            </a: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白银仙境的</a:t>
            </a:r>
            <a:r>
              <a:rPr b="1" i="1" lang="zh-CN" sz="9600" spc="-1" strike="noStrike">
                <a:solidFill>
                  <a:srgbClr val="ff3300"/>
                </a:solidFill>
                <a:latin typeface="Arial"/>
                <a:ea typeface="华文新魏"/>
              </a:rPr>
              <a:t>悲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95280" y="189000"/>
            <a:ext cx="813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积累词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在阅读中积累四字词语；理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间仙境、情不自禁、面目全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词的意思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能默读课文，了解课文主要写了一个原本环境幽美、空气新鲜的小镇，由于人为的原因变得面目全非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了解白银仙境的今昔，懂得要保护自然，爱护自己的生存空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95280" y="4039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你会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79280" y="1437120"/>
            <a:ext cx="849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澈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清新 浓郁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弥漫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郁郁葱葱  随风摇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曳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五彩缤纷  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逸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观赏 狩猎  喧闹  情不自禁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拥而来  残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羹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剩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6T16:10:05Z</dcterms:modified>
  <cp:revision>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