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camera.wav" ContentType="audio/x-wav"/>
  <Override PartName="/ppt/media/image46.png" ContentType="image/png"/>
  <Override PartName="/ppt/media/image24.jpeg" ContentType="image/jpeg"/>
  <Override PartName="/ppt/media/drumroll.wav" ContentType="audio/x-wav"/>
  <Override PartName="/ppt/media/image4.gif" ContentType="image/gif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gif" ContentType="image/gif"/>
  <Override PartName="/ppt/media/image23.gif" ContentType="image/gif"/>
  <Override PartName="/ppt/media/image29.jpeg" ContentType="image/jpeg"/>
  <Override PartName="/ppt/media/image10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45.png" ContentType="image/png"/>
  <Override PartName="/ppt/media/image42.jpeg" ContentType="image/jpeg"/>
  <Override PartName="/ppt/media/image43.gif" ContentType="image/gif"/>
  <Override PartName="/ppt/media/image33.png" ContentType="image/png"/>
  <Override PartName="/ppt/media/image28.jpeg" ContentType="image/jpeg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5.gif" ContentType="image/gif"/>
  <Override PartName="/ppt/media/image38.jpeg" ContentType="image/jpeg"/>
  <Override PartName="/ppt/media/chimes.wav" ContentType="audio/x-wav"/>
  <Override PartName="/ppt/media/image16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C0DE-9837-4993-AC39-55474FBD6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7C14-4464-4B1D-A45F-0F1175C6F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面温度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摄氏度，就是钢铁碰到它，也会变成汽；中心温度估计是表面温度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倍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30C4-B2C3-474C-A8D0-BF9A2CAC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百三十万个地球才能抵得上一个太阳”（作比较列数字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2BBA-9A06-49F4-9790-E369964CE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百三十万个地球才能抵得上一个太阳”（作比较列数字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B709-4D86-4C9F-B521-0172F1D1F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百三十万个地球才能抵得上一个太阳”（作比较列数字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DA27-7605-4413-914F-4ED341FB3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说明方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974A-17DF-450F-857E-8908A4175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百三十万个地球才能抵得上一个太阳”（作比较列数字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C638-9050-4796-AD68-33B95D4D0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百三十万个地球才能抵得上一个太阳”（作比较列数字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960A-9B78-42AB-AEAB-275AE468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面温度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摄氏度，就是钢铁碰到它，也会变成汽；中心温度估计是表面温度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倍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6CED-5A15-411D-9667-AEB1A61DB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百三十万个地球才能抵得上一个太阳”（作比较列数字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5E54-DE97-4E7B-84C4-4A0BD5024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百三十万个地球才能抵得上一个太阳”（作比较列数字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CFCA-146B-4ABE-B813-15E19C78E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百三十万个地球才能抵得上一个太阳”（作比较列数字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097F-A6EA-4584-BC8E-B4494244D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阳会发光，会发热，是个大火球”。（打比方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7EB-9E9B-4EB7-B519-F692A1DF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739-14E5-4F08-8973-9A0FB7FA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57D-8018-4B94-A873-8C09E429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C9A-04CA-4B26-98E4-91521728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1C7-DDFF-4017-BAC0-DCBD1C4A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A4B-B8D8-4A56-BC5D-167FF350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BD8-91B5-4232-BEA0-65F1B8D6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DC7-BC81-4EC4-B169-9F37992E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315-3E47-44A8-9DA0-64E20CF6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46A-8672-4FA4-941F-CC1088D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A54-2AE1-485B-807E-D416B19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2F5-F032-4474-9C1F-8403FDD6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97FD-80F2-4FF8-8C70-0D6116E74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chinasolar.biz/products/images/hao-b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chinasolar.biz/products/images/mao-b.jpg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audio" Target="../media/drumroll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3.gi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3"/>
          <p:cNvPicPr/>
          <p:nvPr/>
        </p:nvPicPr>
        <p:blipFill>
          <a:blip r:embed="rId1"/>
          <a:srcRect l="0" t="0" r="-872" b="38036"/>
          <a:stretch/>
        </p:blipFill>
        <p:spPr>
          <a:xfrm>
            <a:off x="-324000" y="0"/>
            <a:ext cx="5810400" cy="6095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023600" y="549360"/>
            <a:ext cx="109476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后羿射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燃烧的太阳"/>
          <p:cNvPicPr/>
          <p:nvPr/>
        </p:nvPicPr>
        <p:blipFill>
          <a:blip r:embed="rId1"/>
          <a:srcRect l="0" t="0" r="-1288" b="11364"/>
          <a:stretch/>
        </p:blipFill>
        <p:spPr>
          <a:xfrm>
            <a:off x="0" y="1471680"/>
            <a:ext cx="4572000" cy="2948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24000" y="9079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面温度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摄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太阳内部"/>
          <p:cNvPicPr/>
          <p:nvPr/>
        </p:nvPicPr>
        <p:blipFill>
          <a:blip r:embed="rId2"/>
          <a:stretch/>
        </p:blipFill>
        <p:spPr>
          <a:xfrm>
            <a:off x="4643280" y="1484280"/>
            <a:ext cx="4067280" cy="33847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3492360" y="4797360"/>
            <a:ext cx="2087640" cy="230688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4014720" y="5587920"/>
            <a:ext cx="9129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热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572000" y="8841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心温度估计是表面的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468360" y="981000"/>
            <a:ext cx="86756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太阳表面温度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摄氏度，就是钢铁碰到它，也会变成汽；中心温度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估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表面温度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倍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386064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太阳表面温度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摄氏度，就是钢铁碰到它，也会变成汽；中心温度是表面温度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倍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755640" y="-219240"/>
            <a:ext cx="302436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比一比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0" y="692280"/>
            <a:ext cx="8748720" cy="39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太阳虽然离我们这么远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但是它和我们的关系非常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6676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38420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70188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735948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23600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u=3592560199,1181741657&amp;fm=0&amp;gp=-1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40720" y="2924280"/>
            <a:ext cx="971640" cy="1057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1"/>
          <p:cNvSpPr/>
          <p:nvPr/>
        </p:nvSpPr>
        <p:spPr>
          <a:xfrm>
            <a:off x="3204720" y="2514600"/>
            <a:ext cx="7290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95280" y="2276640"/>
            <a:ext cx="952488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没有了太阳，植物就不能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没有了太阳，动物就不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没有了太阳，人类就无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没有了太阳，就不能形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没有了太阳，就不利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13"/>
          <p:cNvSpPr txBox="1"/>
          <p:nvPr/>
        </p:nvSpPr>
        <p:spPr>
          <a:xfrm>
            <a:off x="1258920" y="1125360"/>
            <a:ext cx="266544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填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6985080" y="213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发芽，长叶，开花，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6350400" y="27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存，繁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6175080" y="35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175440" y="4149720"/>
            <a:ext cx="8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风、雪、雨、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148360" y="47242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防治疾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地球上的光明和温暖，都是太阳送来的。如果没有太阳，地球上将到处是黑暗，到处是寒冷，没有风、雪、雨、露，没有草、木、鸟、兽，自然也不会有人。一句话，没有太阳，就没有我们这个美丽可爱的世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116676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38420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70188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35948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723600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u=3592560199,1181741657&amp;fm=0&amp;gp=-1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96360" y="1125360"/>
            <a:ext cx="971280" cy="1057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3204720" y="2514600"/>
            <a:ext cx="7290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2"/>
          <p:cNvSpPr txBox="1"/>
          <p:nvPr/>
        </p:nvSpPr>
        <p:spPr>
          <a:xfrm>
            <a:off x="1258920" y="1484280"/>
            <a:ext cx="624852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还会用下面的句式说出太阳与人类的关系：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24000" y="2493720"/>
            <a:ext cx="820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太阳，就没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太阳，就没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太阳，就没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2924280"/>
            <a:ext cx="86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一句话，没有太阳，就没有我们这个美丽可爱的世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-324000" y="-5760"/>
            <a:ext cx="9757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元目标：静心默读  理解重点  分清主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342800"/>
            <a:ext cx="975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清文章主次的方法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篇幅的长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所要表达的思想内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题目中的关键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文章的中心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0" y="0"/>
            <a:ext cx="9540720" cy="68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文主要告诉我们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太阳离我们很远。 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太阳会发光、发热，表面温度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。（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太阳和我们的关系很密切。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太阳有哪些特点。              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101080" y="4724280"/>
            <a:ext cx="8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0" y="2602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明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9640" y="134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列数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39640" y="2637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举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9640" y="4005360"/>
            <a:ext cx="187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作比较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2843280" y="3860640"/>
            <a:ext cx="583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将两种不同的事物或现象加以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比较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来说明事物特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843280" y="907920"/>
            <a:ext cx="57610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列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具体数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说明问题，使说明内容更加直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843280" y="2421000"/>
            <a:ext cx="5832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列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具体实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直观的说明事物的特点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39640" y="5300640"/>
            <a:ext cx="187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打比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43280" y="5445000"/>
            <a:ext cx="58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比喻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来说明问题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0" y="692280"/>
            <a:ext cx="87487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古时候，天上有十个太阳，晒得地面上寸草不生。人们热得受不了了，就找一个箭法很好的人射掉九个，只留下一个， 地面上才不那么热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0" y="571680"/>
            <a:ext cx="975672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太阳与我们的关系密切。（                                                                    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总之，人类离开了太阳就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法生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116676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38420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70188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35948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723600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204720" y="2514600"/>
            <a:ext cx="7290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531240" y="106668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阳与气象的关系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2"/>
          <p:cNvGrpSpPr/>
          <p:nvPr/>
        </p:nvGrpSpPr>
        <p:grpSpPr>
          <a:xfrm>
            <a:off x="1371240" y="1447560"/>
            <a:ext cx="1371600" cy="1143360"/>
            <a:chOff x="1371240" y="1447560"/>
            <a:chExt cx="1371600" cy="1143360"/>
          </a:xfrm>
        </p:grpSpPr>
        <p:sp>
          <p:nvSpPr>
            <p:cNvPr id="160" name="Line 13"/>
            <p:cNvSpPr/>
            <p:nvPr/>
          </p:nvSpPr>
          <p:spPr>
            <a:xfrm flipV="1">
              <a:off x="2484360" y="1960560"/>
              <a:ext cx="258480" cy="46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4"/>
            <p:cNvGrpSpPr/>
            <p:nvPr/>
          </p:nvGrpSpPr>
          <p:grpSpPr>
            <a:xfrm>
              <a:off x="1371240" y="1447560"/>
              <a:ext cx="1294200" cy="1143360"/>
              <a:chOff x="1371240" y="1447560"/>
              <a:chExt cx="1294200" cy="1143360"/>
            </a:xfrm>
          </p:grpSpPr>
          <p:sp>
            <p:nvSpPr>
              <p:cNvPr id="162" name="Oval 15"/>
              <p:cNvSpPr/>
              <p:nvPr/>
            </p:nvSpPr>
            <p:spPr>
              <a:xfrm>
                <a:off x="1656360" y="1704240"/>
                <a:ext cx="750240" cy="629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6"/>
              <p:cNvSpPr/>
              <p:nvPr/>
            </p:nvSpPr>
            <p:spPr>
              <a:xfrm flipH="1" flipV="1">
                <a:off x="1707480" y="1517400"/>
                <a:ext cx="129240" cy="16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7"/>
              <p:cNvSpPr/>
              <p:nvPr/>
            </p:nvSpPr>
            <p:spPr>
              <a:xfrm flipH="1" flipV="1">
                <a:off x="1474920" y="1704240"/>
                <a:ext cx="206640" cy="116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8"/>
              <p:cNvSpPr/>
              <p:nvPr/>
            </p:nvSpPr>
            <p:spPr>
              <a:xfrm flipH="1">
                <a:off x="1371240" y="1960920"/>
                <a:ext cx="258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9"/>
              <p:cNvSpPr/>
              <p:nvPr/>
            </p:nvSpPr>
            <p:spPr>
              <a:xfrm flipH="1">
                <a:off x="1423440" y="2147760"/>
                <a:ext cx="232560" cy="93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20"/>
              <p:cNvSpPr/>
              <p:nvPr/>
            </p:nvSpPr>
            <p:spPr>
              <a:xfrm flipH="1">
                <a:off x="1552320" y="2287800"/>
                <a:ext cx="181080" cy="16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21"/>
              <p:cNvSpPr/>
              <p:nvPr/>
            </p:nvSpPr>
            <p:spPr>
              <a:xfrm flipH="1">
                <a:off x="1811160" y="2357640"/>
                <a:ext cx="7740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2"/>
              <p:cNvSpPr/>
              <p:nvPr/>
            </p:nvSpPr>
            <p:spPr>
              <a:xfrm flipH="1" flipV="1">
                <a:off x="1992600" y="1447560"/>
                <a:ext cx="2592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23"/>
              <p:cNvSpPr/>
              <p:nvPr/>
            </p:nvSpPr>
            <p:spPr>
              <a:xfrm flipV="1">
                <a:off x="2225520" y="1517400"/>
                <a:ext cx="129240" cy="16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4"/>
              <p:cNvSpPr/>
              <p:nvPr/>
            </p:nvSpPr>
            <p:spPr>
              <a:xfrm flipV="1">
                <a:off x="2380680" y="1681200"/>
                <a:ext cx="207000" cy="139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25"/>
              <p:cNvSpPr/>
              <p:nvPr/>
            </p:nvSpPr>
            <p:spPr>
              <a:xfrm>
                <a:off x="2095920" y="2381040"/>
                <a:ext cx="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26"/>
              <p:cNvSpPr/>
              <p:nvPr/>
            </p:nvSpPr>
            <p:spPr>
              <a:xfrm>
                <a:off x="2406600" y="2171160"/>
                <a:ext cx="258840" cy="93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27"/>
              <p:cNvSpPr/>
              <p:nvPr/>
            </p:nvSpPr>
            <p:spPr>
              <a:xfrm>
                <a:off x="2302920" y="2310840"/>
                <a:ext cx="12924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 Box 28"/>
          <p:cNvSpPr/>
          <p:nvPr/>
        </p:nvSpPr>
        <p:spPr>
          <a:xfrm>
            <a:off x="4073040" y="5181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热量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5978160" y="5181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热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 rot="5189400">
            <a:off x="4986000" y="2252520"/>
            <a:ext cx="312840" cy="2665440"/>
          </a:xfrm>
          <a:custGeom>
            <a:avLst/>
            <a:gdLst>
              <a:gd name="textAreaLeft" fmla="*/ 41760 w 312840"/>
              <a:gd name="textAreaRight" fmla="*/ 271080 w 312840"/>
              <a:gd name="textAreaTop" fmla="*/ 466200 h 2665440"/>
              <a:gd name="textAreaBottom" fmla="*/ 193248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1"/>
          <p:cNvSpPr/>
          <p:nvPr/>
        </p:nvSpPr>
        <p:spPr>
          <a:xfrm>
            <a:off x="410112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4191120" y="4495680"/>
            <a:ext cx="2286000" cy="45720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615852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4"/>
          <p:cNvSpPr/>
          <p:nvPr/>
        </p:nvSpPr>
        <p:spPr>
          <a:xfrm flipH="1">
            <a:off x="4419720" y="4191120"/>
            <a:ext cx="1828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5"/>
          <p:cNvSpPr/>
          <p:nvPr/>
        </p:nvSpPr>
        <p:spPr>
          <a:xfrm flipV="1">
            <a:off x="6477120" y="4267080"/>
            <a:ext cx="0" cy="990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5168160" y="365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 flipV="1">
            <a:off x="4114800" y="4267080"/>
            <a:ext cx="0" cy="990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8"/>
          <p:cNvSpPr/>
          <p:nvPr/>
        </p:nvSpPr>
        <p:spPr>
          <a:xfrm>
            <a:off x="2627280" y="2205000"/>
            <a:ext cx="1584360" cy="12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52280" y="0"/>
          <a:ext cx="89917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8991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solar01_3"/>
          <p:cNvPicPr/>
          <p:nvPr/>
        </p:nvPicPr>
        <p:blipFill>
          <a:blip r:embed="rId1"/>
          <a:stretch/>
        </p:blipFill>
        <p:spPr>
          <a:xfrm>
            <a:off x="228600" y="228600"/>
            <a:ext cx="4648320" cy="29322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380880" y="457200"/>
            <a:ext cx="3733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cc"/>
                </a:solidFill>
                <a:latin typeface="Times New Roman"/>
                <a:ea typeface="黑体"/>
              </a:rPr>
              <a:t>自然循環式太陽能熱水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hao-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228600"/>
            <a:ext cx="2057400" cy="2286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1"/>
          <p:cNvSpPr/>
          <p:nvPr/>
        </p:nvSpPr>
        <p:spPr>
          <a:xfrm>
            <a:off x="6553080" y="205740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太阳能庭院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2" descr="mao-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530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3"/>
          <p:cNvSpPr/>
          <p:nvPr/>
        </p:nvSpPr>
        <p:spPr>
          <a:xfrm>
            <a:off x="6553080" y="5257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竹编太阳能风扇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4" descr="sd1-s"/>
          <p:cNvPicPr/>
          <p:nvPr/>
        </p:nvPicPr>
        <p:blipFill>
          <a:blip r:embed="rId6"/>
          <a:stretch/>
        </p:blipFill>
        <p:spPr>
          <a:xfrm>
            <a:off x="380880" y="335268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5" descr="sd-s"/>
          <p:cNvPicPr/>
          <p:nvPr/>
        </p:nvPicPr>
        <p:blipFill>
          <a:blip r:embed="rId7"/>
          <a:stretch/>
        </p:blipFill>
        <p:spPr>
          <a:xfrm>
            <a:off x="3429000" y="3352680"/>
            <a:ext cx="2971800" cy="32767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6"/>
          <p:cNvSpPr/>
          <p:nvPr/>
        </p:nvSpPr>
        <p:spPr>
          <a:xfrm>
            <a:off x="4024440" y="32972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  <a:ea typeface="黑体"/>
              </a:rPr>
              <a:t>太阳能建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517680" y="5943600"/>
            <a:ext cx="23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太阳能广告灯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5262120" y="472320"/>
            <a:ext cx="7290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汉仪魏碑简"/>
                <a:ea typeface="汉仪魏碑简"/>
              </a:rPr>
              <a:t>拓展篇</a:t>
            </a:r>
            <a:r>
              <a:rPr b="0" lang="en-US" sz="3600" spc="-1" strike="noStrike">
                <a:solidFill>
                  <a:srgbClr val="333399"/>
                </a:solidFill>
                <a:latin typeface="汉仪魏碑简"/>
                <a:ea typeface="汉仪魏碑简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65959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0" y="0"/>
            <a:ext cx="6019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我国的太阳能利用起步于二十世纪七十年代，主要是光热、光电转换方面的利用。在光热转换方面，全国拥有太阳灶十几万台，居世界第一位，转换器的性能和使用效果居发展中国家前列。热水器超过了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50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万平方米，被动式太阳房已建成上千幢。在光电转换方面，近年来主攻方向是研制各种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太阳能电池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，通过自身开发和引进生产线，目前已开成（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.5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.0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）兆瓦的生产能力，转换效率达到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6477120" y="0"/>
            <a:ext cx="2428920" cy="327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“富美”帝豪系列太阳能热水器！"/>
          <p:cNvPicPr/>
          <p:nvPr/>
        </p:nvPicPr>
        <p:blipFill>
          <a:blip r:embed="rId3"/>
          <a:stretch/>
        </p:blipFill>
        <p:spPr>
          <a:xfrm>
            <a:off x="103320" y="4191120"/>
            <a:ext cx="1801800" cy="26668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213192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5415086"/>
          <p:cNvPicPr/>
          <p:nvPr/>
        </p:nvPicPr>
        <p:blipFill>
          <a:blip r:embed="rId4"/>
          <a:stretch/>
        </p:blipFill>
        <p:spPr>
          <a:xfrm>
            <a:off x="2133720" y="1981080"/>
            <a:ext cx="4267080" cy="48769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2417760" y="1481040"/>
            <a:ext cx="857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362320" y="5791320"/>
            <a:ext cx="41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太阳能聚热器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能烧开水能做饭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实用卫生又 方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131760" y="182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7927920" y="460692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太阳能庭院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0" y="60357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太阳能热水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7240680" y="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太阳能汽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z"/>
          <p:cNvPicPr/>
          <p:nvPr/>
        </p:nvPicPr>
        <p:blipFill>
          <a:blip r:embed="rId5"/>
          <a:stretch/>
        </p:blipFill>
        <p:spPr>
          <a:xfrm>
            <a:off x="6477120" y="3886200"/>
            <a:ext cx="1595160" cy="2590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6"/>
          <p:cNvSpPr/>
          <p:nvPr/>
        </p:nvSpPr>
        <p:spPr>
          <a:xfrm>
            <a:off x="220320" y="2835360"/>
            <a:ext cx="13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ff"/>
                </a:solidFill>
                <a:latin typeface="华文彩云"/>
                <a:ea typeface="华文彩云"/>
              </a:rPr>
              <a:t>拓展篇</a:t>
            </a:r>
            <a:r>
              <a:rPr b="0" lang="en-US" sz="3600" spc="-1" strike="noStrike">
                <a:solidFill>
                  <a:srgbClr val="66ffff"/>
                </a:solidFill>
                <a:latin typeface="华文彩云"/>
                <a:ea typeface="华文彩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50920" y="33336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阳的表面温度是怎样测出来的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不能拿温度计到太阳上去，那怎么量太阳的温度呢？我们直接接触到的是太阳光，通过太阳光就可了解太阳的温度。将一个直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的凹面镜对着太阳，逐渐调整焦点 ，当得到了一个小硬币大小的太阳像时 ，把一片金属放在焦点上 ，金属片立即弯曲熔化了。测定焦点上的温度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摄氏度。因此，太阳上的温度绝不会低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摄氏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们又通过对温度和光的辩证关系的分析，也逐渐地掌握了太阳的温度。太阳温度可以根据它的颜色估计出来，平时看到的是金黄色的，考虑到地球大气层的吸收，太阳颜色就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摄氏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温度相对应。另外，通过测量太阳的总辐量、光谱分析和射电技术等方法，也能证明 太阳上的温度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摄氏度 。当然，这是太阳的表面温度（也就是说，是我们肉眼所见的太阳光球层的温度）。至于太阳中心的的温度，据推算，大约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摄氏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5"/>
          <p:cNvSpPr/>
          <p:nvPr/>
        </p:nvSpPr>
        <p:spPr>
          <a:xfrm>
            <a:off x="250920" y="198900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联系课文内容和实际生活，说说你对“没有太阳，就没有我们这个美丽可爱的世界。”的理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5"/>
          <p:cNvSpPr/>
          <p:nvPr/>
        </p:nvSpPr>
        <p:spPr>
          <a:xfrm>
            <a:off x="116676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38420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70188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735948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23600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10"/>
          <p:cNvSpPr txBox="1"/>
          <p:nvPr/>
        </p:nvSpPr>
        <p:spPr>
          <a:xfrm>
            <a:off x="1042920" y="907920"/>
            <a:ext cx="1944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0" y="2349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阅读资料袋，了解太阳黑子，太阳寿命等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阅读语文书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155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页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〈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妙不可言的位置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背诵课文最后一个自然段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搜集有关太阳的故事，小知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m02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44"/>
          <p:cNvPicPr/>
          <p:nvPr/>
        </p:nvPicPr>
        <p:blipFill>
          <a:blip r:embed="rId1"/>
          <a:stretch/>
        </p:blipFill>
        <p:spPr>
          <a:xfrm>
            <a:off x="6324480" y="228600"/>
            <a:ext cx="2438640" cy="16542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304920" y="3049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汉仪琥珀体简"/>
              </a:rPr>
              <a:t>你会背了吗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  <a:ea typeface="汉仪琥珀体简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149400" y="29034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09480" y="1981080"/>
            <a:ext cx="769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地球上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光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温暖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，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都是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  <a:ea typeface="黑体"/>
              </a:rPr>
              <a:t>太阳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送来的。如果没有太阳，地球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上将到处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黑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到处是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寒冷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没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有</a:t>
            </a:r>
            <a:r>
              <a:rPr b="0" i="1" lang="zh-CN" sz="40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风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、</a:t>
            </a:r>
            <a:r>
              <a:rPr b="0" i="1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黑体"/>
              </a:rPr>
              <a:t>雪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、</a:t>
            </a:r>
            <a:r>
              <a:rPr b="0" i="1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黑体"/>
              </a:rPr>
              <a:t>雨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、</a:t>
            </a:r>
            <a:r>
              <a:rPr b="0" i="1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黑体"/>
              </a:rPr>
              <a:t>露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没有</a:t>
            </a:r>
            <a:r>
              <a:rPr b="0" i="1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黑体"/>
              </a:rPr>
              <a:t>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黑体"/>
              </a:rPr>
              <a:t>木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、</a:t>
            </a:r>
            <a:r>
              <a:rPr b="0" i="1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黑体"/>
              </a:rPr>
              <a:t>鸟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、</a:t>
            </a:r>
            <a:r>
              <a:rPr b="0" i="1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黑体"/>
              </a:rPr>
              <a:t>兽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自然也不会有</a:t>
            </a:r>
            <a:r>
              <a:rPr b="0" i="1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黑体"/>
              </a:rPr>
              <a:t>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句话，没有太阳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就没有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我们这个美丽可爱的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un6"/>
          <p:cNvPicPr/>
          <p:nvPr/>
        </p:nvPicPr>
        <p:blipFill>
          <a:blip r:embed="rId1"/>
          <a:stretch/>
        </p:blipFill>
        <p:spPr>
          <a:xfrm>
            <a:off x="755640" y="836640"/>
            <a:ext cx="2232000" cy="1933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843280" y="278136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、太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 flipV="1">
            <a:off x="2289240" y="251280"/>
            <a:ext cx="6454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1190520" y="2925720"/>
            <a:ext cx="6421680" cy="3932280"/>
            <a:chOff x="1190520" y="2925720"/>
            <a:chExt cx="6421680" cy="3932280"/>
          </a:xfrm>
        </p:grpSpPr>
        <p:sp>
          <p:nvSpPr>
            <p:cNvPr id="232" name="Rectangle 4"/>
            <p:cNvSpPr/>
            <p:nvPr/>
          </p:nvSpPr>
          <p:spPr>
            <a:xfrm>
              <a:off x="1190520" y="2925720"/>
              <a:ext cx="6421680" cy="39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5"/>
            <p:cNvGrpSpPr/>
            <p:nvPr/>
          </p:nvGrpSpPr>
          <p:grpSpPr>
            <a:xfrm>
              <a:off x="1190520" y="2974320"/>
              <a:ext cx="6314760" cy="3737520"/>
              <a:chOff x="1190520" y="2974320"/>
              <a:chExt cx="6314760" cy="3737520"/>
            </a:xfrm>
          </p:grpSpPr>
          <p:sp>
            <p:nvSpPr>
              <p:cNvPr id="234" name="Rectangle 6"/>
              <p:cNvSpPr/>
              <p:nvPr/>
            </p:nvSpPr>
            <p:spPr>
              <a:xfrm>
                <a:off x="1190520" y="2974320"/>
                <a:ext cx="63147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7"/>
              <p:cNvGrpSpPr/>
              <p:nvPr/>
            </p:nvGrpSpPr>
            <p:grpSpPr>
              <a:xfrm>
                <a:off x="1190520" y="2974320"/>
                <a:ext cx="1493280" cy="3737520"/>
                <a:chOff x="1190520" y="2974320"/>
                <a:chExt cx="1493280" cy="3737520"/>
              </a:xfrm>
            </p:grpSpPr>
            <p:grpSp>
              <p:nvGrpSpPr>
                <p:cNvPr id="236" name="Group 8"/>
                <p:cNvGrpSpPr/>
                <p:nvPr/>
              </p:nvGrpSpPr>
              <p:grpSpPr>
                <a:xfrm>
                  <a:off x="1190520" y="2974320"/>
                  <a:ext cx="1493280" cy="3737520"/>
                  <a:chOff x="1190520" y="2974320"/>
                  <a:chExt cx="1493280" cy="3737520"/>
                </a:xfrm>
              </p:grpSpPr>
              <p:sp>
                <p:nvSpPr>
                  <p:cNvPr id="237" name="Rectangle 9"/>
                  <p:cNvSpPr/>
                  <p:nvPr/>
                </p:nvSpPr>
                <p:spPr>
                  <a:xfrm>
                    <a:off x="1190520" y="2974320"/>
                    <a:ext cx="1493280" cy="66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Rectangle 10"/>
                  <p:cNvSpPr/>
                  <p:nvPr/>
                </p:nvSpPr>
                <p:spPr>
                  <a:xfrm>
                    <a:off x="1190520" y="2974320"/>
                    <a:ext cx="1493280" cy="3737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</a:rPr>
                      <a:t>  </a:t>
                    </a:r>
                    <a:r>
                      <a:rPr b="0" lang="en-US" sz="57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Rectangle 11"/>
                <p:cNvSpPr/>
                <p:nvPr/>
              </p:nvSpPr>
              <p:spPr>
                <a:xfrm>
                  <a:off x="1190520" y="2974320"/>
                  <a:ext cx="1493280" cy="3737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40" name="Picture 12" descr="2004101905224560"/>
          <p:cNvPicPr/>
          <p:nvPr/>
        </p:nvPicPr>
        <p:blipFill>
          <a:blip r:embed="rId1"/>
          <a:stretch/>
        </p:blipFill>
        <p:spPr>
          <a:xfrm>
            <a:off x="228600" y="906480"/>
            <a:ext cx="85345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红日初升"/>
          <p:cNvPicPr/>
          <p:nvPr/>
        </p:nvPicPr>
        <p:blipFill>
          <a:blip r:embed="rId1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蓝天白云"/>
          <p:cNvPicPr/>
          <p:nvPr/>
        </p:nvPicPr>
        <p:blipFill>
          <a:blip r:embed="rId2"/>
          <a:stretch/>
        </p:blipFill>
        <p:spPr>
          <a:xfrm>
            <a:off x="0" y="3429000"/>
            <a:ext cx="4267080" cy="3429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彩虹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58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夕阳美景"/>
          <p:cNvPicPr/>
          <p:nvPr/>
        </p:nvPicPr>
        <p:blipFill>
          <a:blip r:embed="rId4"/>
          <a:srcRect l="0" t="7332" r="0" b="11780"/>
          <a:stretch/>
        </p:blipFill>
        <p:spPr>
          <a:xfrm>
            <a:off x="4267080" y="342900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143000" y="1494000"/>
            <a:ext cx="6858000" cy="3870000"/>
            <a:chOff x="1143000" y="1494000"/>
            <a:chExt cx="6858000" cy="3870000"/>
          </a:xfrm>
        </p:grpSpPr>
        <p:sp>
          <p:nvSpPr>
            <p:cNvPr id="246" name="Rectangle 3"/>
            <p:cNvSpPr/>
            <p:nvPr/>
          </p:nvSpPr>
          <p:spPr>
            <a:xfrm>
              <a:off x="1143000" y="149400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4"/>
            <p:cNvGrpSpPr/>
            <p:nvPr/>
          </p:nvGrpSpPr>
          <p:grpSpPr>
            <a:xfrm>
              <a:off x="1143000" y="1494000"/>
              <a:ext cx="6286680" cy="3870000"/>
              <a:chOff x="1143000" y="1494000"/>
              <a:chExt cx="6286680" cy="3870000"/>
            </a:xfrm>
          </p:grpSpPr>
          <p:sp>
            <p:nvSpPr>
              <p:cNvPr id="248" name="Rectangle 5"/>
              <p:cNvSpPr/>
              <p:nvPr/>
            </p:nvSpPr>
            <p:spPr>
              <a:xfrm>
                <a:off x="1143000" y="1494000"/>
                <a:ext cx="62866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6"/>
              <p:cNvSpPr/>
              <p:nvPr/>
            </p:nvSpPr>
            <p:spPr>
              <a:xfrm>
                <a:off x="1143000" y="1494000"/>
                <a:ext cx="6286680" cy="38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3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0" name="Picture 7" descr="1494313_311862"/>
          <p:cNvPicPr/>
          <p:nvPr/>
        </p:nvPicPr>
        <p:blipFill>
          <a:blip r:embed="rId1"/>
          <a:srcRect l="0" t="0" r="0" b="17785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太阳黑子"/>
          <p:cNvPicPr/>
          <p:nvPr/>
        </p:nvPicPr>
        <p:blipFill>
          <a:blip r:embed="rId1"/>
          <a:stretch/>
        </p:blipFill>
        <p:spPr>
          <a:xfrm>
            <a:off x="0" y="2590920"/>
            <a:ext cx="4379760" cy="4267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日食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401148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6553080" y="4191120"/>
            <a:ext cx="9144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日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全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食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1295280" y="914400"/>
            <a:ext cx="2514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太阳黑子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539640" y="476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太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虽然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离我们很远很远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但是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它和我们的关系非常密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大树"/>
          <p:cNvPicPr/>
          <p:nvPr/>
        </p:nvPicPr>
        <p:blipFill>
          <a:blip r:embed="rId1"/>
          <a:stretch/>
        </p:blipFill>
        <p:spPr>
          <a:xfrm>
            <a:off x="0" y="299736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大象"/>
          <p:cNvPicPr/>
          <p:nvPr/>
        </p:nvPicPr>
        <p:blipFill>
          <a:blip r:embed="rId2"/>
          <a:srcRect l="4455" t="5560" r="8885" b="13881"/>
          <a:stretch/>
        </p:blipFill>
        <p:spPr>
          <a:xfrm>
            <a:off x="0" y="5029200"/>
            <a:ext cx="289548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花"/>
          <p:cNvPicPr/>
          <p:nvPr/>
        </p:nvPicPr>
        <p:blipFill>
          <a:blip r:embed="rId3"/>
          <a:stretch/>
        </p:blipFill>
        <p:spPr>
          <a:xfrm>
            <a:off x="0" y="0"/>
            <a:ext cx="2666880" cy="2730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精肉"/>
          <p:cNvPicPr/>
          <p:nvPr/>
        </p:nvPicPr>
        <p:blipFill>
          <a:blip r:embed="rId4"/>
          <a:stretch/>
        </p:blipFill>
        <p:spPr>
          <a:xfrm>
            <a:off x="6324480" y="4998960"/>
            <a:ext cx="2819520" cy="1859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煤"/>
          <p:cNvPicPr/>
          <p:nvPr/>
        </p:nvPicPr>
        <p:blipFill>
          <a:blip r:embed="rId5"/>
          <a:stretch/>
        </p:blipFill>
        <p:spPr>
          <a:xfrm>
            <a:off x="6694560" y="2349360"/>
            <a:ext cx="2449440" cy="2159280"/>
          </a:xfrm>
          <a:prstGeom prst="rect">
            <a:avLst/>
          </a:prstGeom>
          <a:ln w="0">
            <a:noFill/>
          </a:ln>
        </p:spPr>
      </p:pic>
      <p:sp>
        <p:nvSpPr>
          <p:cNvPr id="261" name="Line 8"/>
          <p:cNvSpPr/>
          <p:nvPr/>
        </p:nvSpPr>
        <p:spPr>
          <a:xfrm flipH="1">
            <a:off x="2987280" y="3645000"/>
            <a:ext cx="863640" cy="8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雪景"/>
          <p:cNvPicPr/>
          <p:nvPr/>
        </p:nvPicPr>
        <p:blipFill>
          <a:blip r:embed="rId6"/>
          <a:stretch/>
        </p:blipFill>
        <p:spPr>
          <a:xfrm>
            <a:off x="2700360" y="0"/>
            <a:ext cx="3456000" cy="2114640"/>
          </a:xfrm>
          <a:prstGeom prst="rect">
            <a:avLst/>
          </a:prstGeom>
          <a:ln w="0">
            <a:noFill/>
          </a:ln>
        </p:spPr>
      </p:pic>
      <p:sp>
        <p:nvSpPr>
          <p:cNvPr id="263" name="Line 10"/>
          <p:cNvSpPr/>
          <p:nvPr/>
        </p:nvSpPr>
        <p:spPr>
          <a:xfrm flipV="1">
            <a:off x="4572000" y="198900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 flipH="1" flipV="1">
            <a:off x="2700360" y="2492280"/>
            <a:ext cx="792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2" descr="水果"/>
          <p:cNvPicPr/>
          <p:nvPr/>
        </p:nvPicPr>
        <p:blipFill>
          <a:blip r:embed="rId7"/>
          <a:stretch/>
        </p:blipFill>
        <p:spPr>
          <a:xfrm>
            <a:off x="3276720" y="494172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晒衣服"/>
          <p:cNvPicPr/>
          <p:nvPr/>
        </p:nvPicPr>
        <p:blipFill>
          <a:blip r:embed="rId8"/>
          <a:stretch/>
        </p:blipFill>
        <p:spPr>
          <a:xfrm>
            <a:off x="6156360" y="0"/>
            <a:ext cx="2987640" cy="2205000"/>
          </a:xfrm>
          <a:prstGeom prst="rect">
            <a:avLst/>
          </a:prstGeom>
          <a:ln w="0">
            <a:noFill/>
          </a:ln>
        </p:spPr>
      </p:pic>
      <p:sp>
        <p:nvSpPr>
          <p:cNvPr id="267" name="Line 14"/>
          <p:cNvSpPr/>
          <p:nvPr/>
        </p:nvSpPr>
        <p:spPr>
          <a:xfrm flipV="1">
            <a:off x="5292720" y="227628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5724360" y="335772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5364000" y="3860640"/>
            <a:ext cx="1071720" cy="138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7"/>
          <p:cNvSpPr/>
          <p:nvPr/>
        </p:nvSpPr>
        <p:spPr>
          <a:xfrm>
            <a:off x="4500720" y="407664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 flipH="1">
            <a:off x="2987640" y="3933720"/>
            <a:ext cx="1152720" cy="9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9"/>
          <p:cNvGrpSpPr/>
          <p:nvPr/>
        </p:nvGrpSpPr>
        <p:grpSpPr>
          <a:xfrm>
            <a:off x="3924000" y="2781000"/>
            <a:ext cx="1371600" cy="1143360"/>
            <a:chOff x="3924000" y="2781000"/>
            <a:chExt cx="1371600" cy="1143360"/>
          </a:xfrm>
        </p:grpSpPr>
        <p:sp>
          <p:nvSpPr>
            <p:cNvPr id="273" name="Line 20"/>
            <p:cNvSpPr/>
            <p:nvPr/>
          </p:nvSpPr>
          <p:spPr>
            <a:xfrm flipV="1">
              <a:off x="5037120" y="3294000"/>
              <a:ext cx="258480" cy="46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1"/>
            <p:cNvGrpSpPr/>
            <p:nvPr/>
          </p:nvGrpSpPr>
          <p:grpSpPr>
            <a:xfrm>
              <a:off x="3924000" y="2781000"/>
              <a:ext cx="1294200" cy="1143360"/>
              <a:chOff x="3924000" y="2781000"/>
              <a:chExt cx="1294200" cy="1143360"/>
            </a:xfrm>
          </p:grpSpPr>
          <p:sp>
            <p:nvSpPr>
              <p:cNvPr id="275" name="Oval 22"/>
              <p:cNvSpPr/>
              <p:nvPr/>
            </p:nvSpPr>
            <p:spPr>
              <a:xfrm>
                <a:off x="4209120" y="3037680"/>
                <a:ext cx="750240" cy="629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23"/>
              <p:cNvSpPr/>
              <p:nvPr/>
            </p:nvSpPr>
            <p:spPr>
              <a:xfrm flipH="1" flipV="1">
                <a:off x="4260240" y="2850840"/>
                <a:ext cx="129240" cy="16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24"/>
              <p:cNvSpPr/>
              <p:nvPr/>
            </p:nvSpPr>
            <p:spPr>
              <a:xfrm flipH="1" flipV="1">
                <a:off x="4027680" y="3037680"/>
                <a:ext cx="206640" cy="116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5"/>
              <p:cNvSpPr/>
              <p:nvPr/>
            </p:nvSpPr>
            <p:spPr>
              <a:xfrm flipH="1">
                <a:off x="3924000" y="3294360"/>
                <a:ext cx="258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3976200" y="3481200"/>
                <a:ext cx="232560" cy="93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7"/>
              <p:cNvSpPr/>
              <p:nvPr/>
            </p:nvSpPr>
            <p:spPr>
              <a:xfrm flipH="1">
                <a:off x="4105080" y="3621240"/>
                <a:ext cx="181080" cy="16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8"/>
              <p:cNvSpPr/>
              <p:nvPr/>
            </p:nvSpPr>
            <p:spPr>
              <a:xfrm flipH="1">
                <a:off x="4363920" y="3691080"/>
                <a:ext cx="7740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9"/>
              <p:cNvSpPr/>
              <p:nvPr/>
            </p:nvSpPr>
            <p:spPr>
              <a:xfrm flipH="1" flipV="1">
                <a:off x="4545360" y="2781000"/>
                <a:ext cx="2592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30"/>
              <p:cNvSpPr/>
              <p:nvPr/>
            </p:nvSpPr>
            <p:spPr>
              <a:xfrm flipV="1">
                <a:off x="4778280" y="2850840"/>
                <a:ext cx="129240" cy="16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31"/>
              <p:cNvSpPr/>
              <p:nvPr/>
            </p:nvSpPr>
            <p:spPr>
              <a:xfrm flipV="1">
                <a:off x="4933440" y="3014640"/>
                <a:ext cx="207000" cy="139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32"/>
              <p:cNvSpPr/>
              <p:nvPr/>
            </p:nvSpPr>
            <p:spPr>
              <a:xfrm>
                <a:off x="4648680" y="3714480"/>
                <a:ext cx="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33"/>
              <p:cNvSpPr/>
              <p:nvPr/>
            </p:nvSpPr>
            <p:spPr>
              <a:xfrm>
                <a:off x="4959360" y="3504600"/>
                <a:ext cx="258840" cy="93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34"/>
              <p:cNvSpPr/>
              <p:nvPr/>
            </p:nvSpPr>
            <p:spPr>
              <a:xfrm>
                <a:off x="4855680" y="3644280"/>
                <a:ext cx="12924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8" name="Picture 35" descr="DSC02752"/>
          <p:cNvPicPr/>
          <p:nvPr/>
        </p:nvPicPr>
        <p:blipFill>
          <a:blip r:embed="rId9"/>
          <a:stretch/>
        </p:blipFill>
        <p:spPr>
          <a:xfrm>
            <a:off x="0" y="0"/>
            <a:ext cx="262728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5"/>
          <p:cNvSpPr/>
          <p:nvPr/>
        </p:nvSpPr>
        <p:spPr>
          <a:xfrm>
            <a:off x="116676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38420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70188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35948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723600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u=3592560199,1181741657&amp;fm=0&amp;gp=-14"/>
          <p:cNvPicPr/>
          <p:nvPr/>
        </p:nvPicPr>
        <p:blipFill>
          <a:blip r:embed="rId1"/>
          <a:stretch/>
        </p:blipFill>
        <p:spPr>
          <a:xfrm>
            <a:off x="7391520" y="4724280"/>
            <a:ext cx="971280" cy="10573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1"/>
          <p:cNvSpPr/>
          <p:nvPr/>
        </p:nvSpPr>
        <p:spPr>
          <a:xfrm>
            <a:off x="3204720" y="2514600"/>
            <a:ext cx="7290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3454920" y="131616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阳与气象的关系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3951000" y="26668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4939560" y="266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6158520" y="266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1252440" y="261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768120" y="3732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水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3768120" y="464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蒸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3872520" y="5484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>
            <a:off x="1523880" y="3124080"/>
            <a:ext cx="2362320" cy="2590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4114800" y="502920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2"/>
          <p:cNvSpPr/>
          <p:nvPr/>
        </p:nvSpPr>
        <p:spPr>
          <a:xfrm flipV="1">
            <a:off x="4114800" y="4114440"/>
            <a:ext cx="0" cy="609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3"/>
          <p:cNvSpPr/>
          <p:nvPr/>
        </p:nvSpPr>
        <p:spPr>
          <a:xfrm flipV="1">
            <a:off x="4114800" y="3048120"/>
            <a:ext cx="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 flipV="1">
            <a:off x="4114800" y="2590560"/>
            <a:ext cx="0" cy="15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5"/>
          <p:cNvSpPr/>
          <p:nvPr/>
        </p:nvSpPr>
        <p:spPr>
          <a:xfrm>
            <a:off x="4114800" y="2590920"/>
            <a:ext cx="990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6"/>
          <p:cNvSpPr/>
          <p:nvPr/>
        </p:nvSpPr>
        <p:spPr>
          <a:xfrm>
            <a:off x="5105520" y="2590920"/>
            <a:ext cx="0" cy="152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7"/>
          <p:cNvSpPr/>
          <p:nvPr/>
        </p:nvSpPr>
        <p:spPr>
          <a:xfrm flipV="1">
            <a:off x="4038480" y="2437920"/>
            <a:ext cx="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8"/>
          <p:cNvSpPr/>
          <p:nvPr/>
        </p:nvSpPr>
        <p:spPr>
          <a:xfrm>
            <a:off x="4038480" y="2438280"/>
            <a:ext cx="228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9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30"/>
          <p:cNvGrpSpPr/>
          <p:nvPr/>
        </p:nvGrpSpPr>
        <p:grpSpPr>
          <a:xfrm>
            <a:off x="826560" y="2204640"/>
            <a:ext cx="1371600" cy="1143360"/>
            <a:chOff x="826560" y="2204640"/>
            <a:chExt cx="1371600" cy="1143360"/>
          </a:xfrm>
        </p:grpSpPr>
        <p:sp>
          <p:nvSpPr>
            <p:cNvPr id="315" name="Line 31"/>
            <p:cNvSpPr/>
            <p:nvPr/>
          </p:nvSpPr>
          <p:spPr>
            <a:xfrm flipV="1">
              <a:off x="1939680" y="2717640"/>
              <a:ext cx="258480" cy="46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32"/>
            <p:cNvGrpSpPr/>
            <p:nvPr/>
          </p:nvGrpSpPr>
          <p:grpSpPr>
            <a:xfrm>
              <a:off x="826560" y="2204640"/>
              <a:ext cx="1294200" cy="1143360"/>
              <a:chOff x="826560" y="2204640"/>
              <a:chExt cx="1294200" cy="1143360"/>
            </a:xfrm>
          </p:grpSpPr>
          <p:sp>
            <p:nvSpPr>
              <p:cNvPr id="317" name="Oval 33"/>
              <p:cNvSpPr/>
              <p:nvPr/>
            </p:nvSpPr>
            <p:spPr>
              <a:xfrm>
                <a:off x="1111680" y="2461320"/>
                <a:ext cx="750240" cy="629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34"/>
              <p:cNvSpPr/>
              <p:nvPr/>
            </p:nvSpPr>
            <p:spPr>
              <a:xfrm flipH="1" flipV="1">
                <a:off x="1162800" y="2274480"/>
                <a:ext cx="129240" cy="16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35"/>
              <p:cNvSpPr/>
              <p:nvPr/>
            </p:nvSpPr>
            <p:spPr>
              <a:xfrm flipH="1" flipV="1">
                <a:off x="930240" y="2461320"/>
                <a:ext cx="206640" cy="116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36"/>
              <p:cNvSpPr/>
              <p:nvPr/>
            </p:nvSpPr>
            <p:spPr>
              <a:xfrm flipH="1">
                <a:off x="826560" y="2718000"/>
                <a:ext cx="258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7"/>
              <p:cNvSpPr/>
              <p:nvPr/>
            </p:nvSpPr>
            <p:spPr>
              <a:xfrm flipH="1">
                <a:off x="878760" y="2904840"/>
                <a:ext cx="232560" cy="93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8"/>
              <p:cNvSpPr/>
              <p:nvPr/>
            </p:nvSpPr>
            <p:spPr>
              <a:xfrm flipH="1">
                <a:off x="1007640" y="3044880"/>
                <a:ext cx="181080" cy="16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9"/>
              <p:cNvSpPr/>
              <p:nvPr/>
            </p:nvSpPr>
            <p:spPr>
              <a:xfrm flipH="1">
                <a:off x="1266480" y="3114720"/>
                <a:ext cx="7740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40"/>
              <p:cNvSpPr/>
              <p:nvPr/>
            </p:nvSpPr>
            <p:spPr>
              <a:xfrm flipH="1" flipV="1">
                <a:off x="1447920" y="2204640"/>
                <a:ext cx="2592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41"/>
              <p:cNvSpPr/>
              <p:nvPr/>
            </p:nvSpPr>
            <p:spPr>
              <a:xfrm flipV="1">
                <a:off x="1680840" y="2274480"/>
                <a:ext cx="129240" cy="16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42"/>
              <p:cNvSpPr/>
              <p:nvPr/>
            </p:nvSpPr>
            <p:spPr>
              <a:xfrm flipV="1">
                <a:off x="1836000" y="2438280"/>
                <a:ext cx="207000" cy="139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43"/>
              <p:cNvSpPr/>
              <p:nvPr/>
            </p:nvSpPr>
            <p:spPr>
              <a:xfrm>
                <a:off x="1551240" y="3138120"/>
                <a:ext cx="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44"/>
              <p:cNvSpPr/>
              <p:nvPr/>
            </p:nvSpPr>
            <p:spPr>
              <a:xfrm>
                <a:off x="1861920" y="2928240"/>
                <a:ext cx="258840" cy="93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45"/>
              <p:cNvSpPr/>
              <p:nvPr/>
            </p:nvSpPr>
            <p:spPr>
              <a:xfrm>
                <a:off x="1758240" y="3067920"/>
                <a:ext cx="12924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295280" y="1143000"/>
            <a:ext cx="78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面温度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摄氏度，就是钢铁碰到它，也会变成汽；中心温度估计是表面温度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5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倍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5508360" y="4508640"/>
            <a:ext cx="3166920" cy="1152360"/>
            <a:chOff x="5508360" y="4508640"/>
            <a:chExt cx="3166920" cy="1152360"/>
          </a:xfrm>
        </p:grpSpPr>
        <p:sp>
          <p:nvSpPr>
            <p:cNvPr id="332" name="AutoShape 5"/>
            <p:cNvSpPr/>
            <p:nvPr/>
          </p:nvSpPr>
          <p:spPr>
            <a:xfrm flipH="1">
              <a:off x="5508000" y="4508640"/>
              <a:ext cx="3166920" cy="115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07" y="2142"/>
                  </a:moveTo>
                  <a:lnTo>
                    <a:pt x="22806" y="2142"/>
                  </a:lnTo>
                  <a:lnTo>
                    <a:pt x="22806" y="-11187"/>
                  </a:lnTo>
                  <a:lnTo>
                    <a:pt x="18234" y="-18179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6071760" y="4724280"/>
              <a:ext cx="183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列数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7"/>
          <p:cNvSpPr/>
          <p:nvPr/>
        </p:nvSpPr>
        <p:spPr>
          <a:xfrm>
            <a:off x="380880" y="609480"/>
            <a:ext cx="2229120" cy="792360"/>
          </a:xfrm>
          <a:prstGeom prst="borderCallout1">
            <a:avLst>
              <a:gd name="adj1" fmla="val 18750"/>
              <a:gd name="adj2" fmla="val -8333"/>
              <a:gd name="adj3" fmla="val 109620"/>
              <a:gd name="adj4" fmla="val 29401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例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4716360" y="0"/>
            <a:ext cx="27352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2" y="4000"/>
                </a:moveTo>
                <a:lnTo>
                  <a:pt x="-3824" y="4000"/>
                </a:lnTo>
                <a:lnTo>
                  <a:pt x="-3824" y="27225"/>
                </a:lnTo>
                <a:lnTo>
                  <a:pt x="-1680" y="4730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列数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684000" y="3716280"/>
            <a:ext cx="3166920" cy="1152360"/>
            <a:chOff x="684000" y="3716280"/>
            <a:chExt cx="3166920" cy="1152360"/>
          </a:xfrm>
        </p:grpSpPr>
        <p:sp>
          <p:nvSpPr>
            <p:cNvPr id="337" name="AutoShape 10"/>
            <p:cNvSpPr/>
            <p:nvPr/>
          </p:nvSpPr>
          <p:spPr>
            <a:xfrm flipH="1">
              <a:off x="683640" y="3716280"/>
              <a:ext cx="3166920" cy="115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07" y="2142"/>
                  </a:moveTo>
                  <a:lnTo>
                    <a:pt x="22806" y="2142"/>
                  </a:lnTo>
                  <a:lnTo>
                    <a:pt x="22806" y="-11187"/>
                  </a:lnTo>
                  <a:lnTo>
                    <a:pt x="18234" y="-18179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1247400" y="3931920"/>
              <a:ext cx="183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举例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j0095665"/>
          <p:cNvPicPr/>
          <p:nvPr/>
        </p:nvPicPr>
        <p:blipFill>
          <a:blip r:embed="rId1"/>
          <a:stretch/>
        </p:blipFill>
        <p:spPr>
          <a:xfrm>
            <a:off x="8229600" y="0"/>
            <a:ext cx="503280" cy="720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j0095665"/>
          <p:cNvPicPr/>
          <p:nvPr/>
        </p:nvPicPr>
        <p:blipFill>
          <a:blip r:embed="rId2"/>
          <a:stretch/>
        </p:blipFill>
        <p:spPr>
          <a:xfrm>
            <a:off x="8640720" y="0"/>
            <a:ext cx="503280" cy="720720"/>
          </a:xfrm>
          <a:prstGeom prst="rect">
            <a:avLst/>
          </a:prstGeom>
          <a:ln w="0">
            <a:noFill/>
          </a:ln>
        </p:spPr>
      </p:pic>
      <p:sp>
        <p:nvSpPr>
          <p:cNvPr id="341" name="WordArt 4"/>
          <p:cNvSpPr txBox="1"/>
          <p:nvPr/>
        </p:nvSpPr>
        <p:spPr>
          <a:xfrm>
            <a:off x="380880" y="2209680"/>
            <a:ext cx="6098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太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990720" y="1066680"/>
            <a:ext cx="228600" cy="4191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6"/>
          <p:cNvSpPr txBox="1"/>
          <p:nvPr/>
        </p:nvSpPr>
        <p:spPr>
          <a:xfrm>
            <a:off x="1258920" y="1197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特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4" name="WordArt 7"/>
          <p:cNvSpPr txBox="1"/>
          <p:nvPr/>
        </p:nvSpPr>
        <p:spPr>
          <a:xfrm>
            <a:off x="1371600" y="4952880"/>
            <a:ext cx="5335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关系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5" name="AutoShape 8"/>
          <p:cNvSpPr/>
          <p:nvPr/>
        </p:nvSpPr>
        <p:spPr>
          <a:xfrm>
            <a:off x="1979640" y="260280"/>
            <a:ext cx="457200" cy="2133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9"/>
          <p:cNvSpPr txBox="1"/>
          <p:nvPr/>
        </p:nvSpPr>
        <p:spPr>
          <a:xfrm>
            <a:off x="2484360" y="2602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7" name="WordArt 10"/>
          <p:cNvSpPr txBox="1"/>
          <p:nvPr/>
        </p:nvSpPr>
        <p:spPr>
          <a:xfrm>
            <a:off x="2484360" y="11970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8" name="WordArt 11"/>
          <p:cNvSpPr txBox="1"/>
          <p:nvPr/>
        </p:nvSpPr>
        <p:spPr>
          <a:xfrm>
            <a:off x="2484360" y="206064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49" name="WordArt 12" descr=""/>
          <p:cNvPicPr/>
          <p:nvPr/>
        </p:nvPicPr>
        <p:blipFill>
          <a:blip r:embed="rId3"/>
          <a:stretch/>
        </p:blipFill>
        <p:spPr>
          <a:xfrm>
            <a:off x="3121200" y="249120"/>
            <a:ext cx="3187440" cy="708120"/>
          </a:xfrm>
          <a:prstGeom prst="rect">
            <a:avLst/>
          </a:prstGeom>
          <a:ln w="0">
            <a:noFill/>
          </a:ln>
        </p:spPr>
      </p:pic>
      <p:pic>
        <p:nvPicPr>
          <p:cNvPr id="350" name="WordArt 13" descr=""/>
          <p:cNvPicPr/>
          <p:nvPr/>
        </p:nvPicPr>
        <p:blipFill>
          <a:blip r:embed="rId4"/>
          <a:stretch/>
        </p:blipFill>
        <p:spPr>
          <a:xfrm>
            <a:off x="3193920" y="1255680"/>
            <a:ext cx="3146400" cy="407880"/>
          </a:xfrm>
          <a:prstGeom prst="rect">
            <a:avLst/>
          </a:prstGeom>
          <a:ln w="0">
            <a:noFill/>
          </a:ln>
        </p:spPr>
      </p:pic>
      <p:pic>
        <p:nvPicPr>
          <p:cNvPr id="351" name="WordArt 14" descr=""/>
          <p:cNvPicPr/>
          <p:nvPr/>
        </p:nvPicPr>
        <p:blipFill>
          <a:blip r:embed="rId5"/>
          <a:stretch/>
        </p:blipFill>
        <p:spPr>
          <a:xfrm>
            <a:off x="3193920" y="1974960"/>
            <a:ext cx="3530880" cy="4824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15"/>
          <p:cNvSpPr/>
          <p:nvPr/>
        </p:nvSpPr>
        <p:spPr>
          <a:xfrm>
            <a:off x="1905120" y="3886200"/>
            <a:ext cx="457200" cy="2438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16"/>
          <p:cNvSpPr txBox="1"/>
          <p:nvPr/>
        </p:nvSpPr>
        <p:spPr>
          <a:xfrm>
            <a:off x="2438280" y="3581280"/>
            <a:ext cx="3810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动植物生长生存需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54" name="WordArt 17"/>
          <p:cNvSpPr txBox="1"/>
          <p:nvPr/>
        </p:nvSpPr>
        <p:spPr>
          <a:xfrm>
            <a:off x="2514600" y="4267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人类生活离不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55" name="WordArt 18"/>
          <p:cNvSpPr txBox="1"/>
          <p:nvPr/>
        </p:nvSpPr>
        <p:spPr>
          <a:xfrm>
            <a:off x="2590920" y="50292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气象变化离不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56" name="WordArt 19"/>
          <p:cNvSpPr txBox="1"/>
          <p:nvPr/>
        </p:nvSpPr>
        <p:spPr>
          <a:xfrm>
            <a:off x="2590920" y="57913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防治疾病可利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57" name="AutoShape 20"/>
          <p:cNvSpPr/>
          <p:nvPr/>
        </p:nvSpPr>
        <p:spPr>
          <a:xfrm>
            <a:off x="6553080" y="380880"/>
            <a:ext cx="533520" cy="6019920"/>
          </a:xfrm>
          <a:custGeom>
            <a:avLst/>
            <a:gdLst>
              <a:gd name="textAreaLeft" fmla="*/ 0 w 533520"/>
              <a:gd name="textAreaRight" fmla="*/ 192600 w 533520"/>
              <a:gd name="textAreaTop" fmla="*/ 156960 h 6019920"/>
              <a:gd name="textAreaBottom" fmla="*/ 586296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1"/>
          <p:cNvSpPr txBox="1"/>
          <p:nvPr/>
        </p:nvSpPr>
        <p:spPr>
          <a:xfrm>
            <a:off x="7162920" y="1143000"/>
            <a:ext cx="19810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没有太阳就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没有我们这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美丽可爱的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世界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9" name="Picture 22" descr="sdzs022.gif (4170 bytes)"/>
          <p:cNvPicPr/>
          <p:nvPr/>
        </p:nvPicPr>
        <p:blipFill>
          <a:blip r:embed="rId6"/>
          <a:stretch/>
        </p:blipFill>
        <p:spPr>
          <a:xfrm>
            <a:off x="0" y="0"/>
            <a:ext cx="14479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611280" y="333360"/>
            <a:ext cx="853272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静心默读课文，思考课文从哪   两个方面介绍了太阳，并找出相应的小节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想一想课文主要告诉我们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16676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38420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70188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35948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23600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204720" y="2514600"/>
            <a:ext cx="7290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2222"/>
          <p:cNvPicPr/>
          <p:nvPr/>
        </p:nvPicPr>
        <p:blipFill>
          <a:blip r:embed="rId1"/>
          <a:stretch/>
        </p:blipFill>
        <p:spPr>
          <a:xfrm>
            <a:off x="324000" y="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Line 11"/>
          <p:cNvSpPr/>
          <p:nvPr/>
        </p:nvSpPr>
        <p:spPr>
          <a:xfrm flipH="1" flipV="1">
            <a:off x="3419280" y="1341360"/>
            <a:ext cx="3671640" cy="2232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 rot="1682400">
            <a:off x="5056560" y="1844280"/>
            <a:ext cx="194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.5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公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11280" y="414972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太阳上去，如果步行，日夜不停地走，差不多要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5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；就是坐飞机，也要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十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2843280" y="1844640"/>
            <a:ext cx="2361960" cy="167652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world[1]"/>
          <p:cNvPicPr/>
          <p:nvPr/>
        </p:nvPicPr>
        <p:blipFill>
          <a:blip r:embed="rId2"/>
          <a:stretch/>
        </p:blipFill>
        <p:spPr>
          <a:xfrm>
            <a:off x="7164360" y="3284640"/>
            <a:ext cx="720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6"/>
          <p:cNvGrpSpPr/>
          <p:nvPr/>
        </p:nvGrpSpPr>
        <p:grpSpPr>
          <a:xfrm>
            <a:off x="755280" y="-27000"/>
            <a:ext cx="2953080" cy="2592000"/>
            <a:chOff x="755280" y="-27000"/>
            <a:chExt cx="2953080" cy="2592000"/>
          </a:xfrm>
        </p:grpSpPr>
        <p:sp>
          <p:nvSpPr>
            <p:cNvPr id="67" name="Line 17"/>
            <p:cNvSpPr/>
            <p:nvPr/>
          </p:nvSpPr>
          <p:spPr>
            <a:xfrm flipV="1">
              <a:off x="3151440" y="1136520"/>
              <a:ext cx="556920" cy="105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18"/>
            <p:cNvGrpSpPr/>
            <p:nvPr/>
          </p:nvGrpSpPr>
          <p:grpSpPr>
            <a:xfrm>
              <a:off x="755280" y="-27000"/>
              <a:ext cx="2785320" cy="2592000"/>
              <a:chOff x="755280" y="-27000"/>
              <a:chExt cx="2785320" cy="2592000"/>
            </a:xfrm>
          </p:grpSpPr>
          <p:sp>
            <p:nvSpPr>
              <p:cNvPr id="69" name="Oval 19"/>
              <p:cNvSpPr/>
              <p:nvPr/>
            </p:nvSpPr>
            <p:spPr>
              <a:xfrm>
                <a:off x="1368360" y="554760"/>
                <a:ext cx="1615320" cy="1428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0"/>
              <p:cNvSpPr/>
              <p:nvPr/>
            </p:nvSpPr>
            <p:spPr>
              <a:xfrm flipH="1" flipV="1">
                <a:off x="1479240" y="131400"/>
                <a:ext cx="278280" cy="37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1"/>
              <p:cNvSpPr/>
              <p:nvPr/>
            </p:nvSpPr>
            <p:spPr>
              <a:xfrm flipH="1" flipV="1">
                <a:off x="978120" y="554400"/>
                <a:ext cx="445320" cy="26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2"/>
              <p:cNvSpPr/>
              <p:nvPr/>
            </p:nvSpPr>
            <p:spPr>
              <a:xfrm flipH="1">
                <a:off x="755280" y="1136880"/>
                <a:ext cx="556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3"/>
              <p:cNvSpPr/>
              <p:nvPr/>
            </p:nvSpPr>
            <p:spPr>
              <a:xfrm flipH="1">
                <a:off x="866880" y="1559880"/>
                <a:ext cx="501120" cy="21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4"/>
              <p:cNvSpPr/>
              <p:nvPr/>
            </p:nvSpPr>
            <p:spPr>
              <a:xfrm flipH="1">
                <a:off x="1145160" y="1877400"/>
                <a:ext cx="389880" cy="37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5"/>
              <p:cNvSpPr/>
              <p:nvPr/>
            </p:nvSpPr>
            <p:spPr>
              <a:xfrm flipH="1">
                <a:off x="1702440" y="2036160"/>
                <a:ext cx="167040" cy="47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6"/>
              <p:cNvSpPr/>
              <p:nvPr/>
            </p:nvSpPr>
            <p:spPr>
              <a:xfrm flipH="1" flipV="1">
                <a:off x="2092320" y="-27000"/>
                <a:ext cx="55440" cy="47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7"/>
              <p:cNvSpPr/>
              <p:nvPr/>
            </p:nvSpPr>
            <p:spPr>
              <a:xfrm flipV="1">
                <a:off x="2593800" y="131400"/>
                <a:ext cx="278640" cy="370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8"/>
              <p:cNvSpPr/>
              <p:nvPr/>
            </p:nvSpPr>
            <p:spPr>
              <a:xfrm flipV="1">
                <a:off x="2927880" y="501480"/>
                <a:ext cx="445680" cy="317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9"/>
              <p:cNvSpPr/>
              <p:nvPr/>
            </p:nvSpPr>
            <p:spPr>
              <a:xfrm>
                <a:off x="2315160" y="2089080"/>
                <a:ext cx="0" cy="47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0"/>
              <p:cNvSpPr/>
              <p:nvPr/>
            </p:nvSpPr>
            <p:spPr>
              <a:xfrm>
                <a:off x="2983680" y="1613160"/>
                <a:ext cx="55692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1"/>
              <p:cNvSpPr/>
              <p:nvPr/>
            </p:nvSpPr>
            <p:spPr>
              <a:xfrm>
                <a:off x="2760840" y="1930320"/>
                <a:ext cx="278640" cy="47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0920" y="1413000"/>
            <a:ext cx="936144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这么远，箭哪能射得到呢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50920" y="3068640"/>
            <a:ext cx="936144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这么远，箭射不到。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611280" y="1125360"/>
            <a:ext cx="75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地球才能抵得上一个太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54a9efce1e54d62900e92859"/>
          <p:cNvPicPr/>
          <p:nvPr/>
        </p:nvPicPr>
        <p:blipFill>
          <a:blip r:embed="rId1"/>
          <a:stretch/>
        </p:blipFill>
        <p:spPr>
          <a:xfrm>
            <a:off x="4572000" y="20574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XQ_008"/>
          <p:cNvPicPr/>
          <p:nvPr/>
        </p:nvPicPr>
        <p:blipFill>
          <a:blip r:embed="rId2"/>
          <a:stretch/>
        </p:blipFill>
        <p:spPr>
          <a:xfrm>
            <a:off x="519120" y="3500280"/>
            <a:ext cx="824040" cy="79236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6"/>
          <p:cNvGrpSpPr/>
          <p:nvPr/>
        </p:nvGrpSpPr>
        <p:grpSpPr>
          <a:xfrm>
            <a:off x="1644480" y="3749760"/>
            <a:ext cx="2854080" cy="333000"/>
            <a:chOff x="1644480" y="3749760"/>
            <a:chExt cx="2854080" cy="333000"/>
          </a:xfrm>
        </p:grpSpPr>
        <p:sp>
          <p:nvSpPr>
            <p:cNvPr id="88" name="Line 7"/>
            <p:cNvSpPr/>
            <p:nvPr/>
          </p:nvSpPr>
          <p:spPr>
            <a:xfrm flipH="1">
              <a:off x="1644480" y="3749760"/>
              <a:ext cx="2854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8"/>
            <p:cNvSpPr/>
            <p:nvPr/>
          </p:nvSpPr>
          <p:spPr>
            <a:xfrm flipH="1">
              <a:off x="1644480" y="4082760"/>
              <a:ext cx="285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AutoShape 9"/>
          <p:cNvSpPr/>
          <p:nvPr/>
        </p:nvSpPr>
        <p:spPr>
          <a:xfrm>
            <a:off x="1476360" y="4365720"/>
            <a:ext cx="3200400" cy="104148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得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world[1]"/>
          <p:cNvPicPr/>
          <p:nvPr/>
        </p:nvPicPr>
        <p:blipFill>
          <a:blip r:embed="rId3"/>
          <a:stretch/>
        </p:blipFill>
        <p:spPr>
          <a:xfrm>
            <a:off x="539640" y="3500280"/>
            <a:ext cx="790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95280" y="260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ahoma"/>
                <a:ea typeface="黑体"/>
              </a:rPr>
              <a:t>关联词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332000" y="1052640"/>
            <a:ext cx="75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（   ）太阳离地球太远了，（   ）我们看上去只有一个盘子那么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我们看太阳只有一个盘子那么大，（     ）它离地球太远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     ）太阳很大，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离我们太远了，（   ）看起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只有一个盘子那么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419640" y="1125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763640" y="162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203640" y="3284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是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059280" y="43657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虽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236000" y="4437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但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084720" y="49417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576360" y="798480"/>
            <a:ext cx="97567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太阳会发光，会发热，是个</a:t>
            </a:r>
            <a:r>
              <a:rPr b="1" lang="zh-CN" sz="3900" spc="-1" strike="noStrike">
                <a:solidFill>
                  <a:srgbClr val="ff0000"/>
                </a:solidFill>
                <a:latin typeface="Arial"/>
              </a:rPr>
              <a:t>大火球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54a9efce1e54d62900e92859"/>
          <p:cNvPicPr/>
          <p:nvPr/>
        </p:nvPicPr>
        <p:blipFill>
          <a:blip r:embed="rId1"/>
          <a:stretch/>
        </p:blipFill>
        <p:spPr>
          <a:xfrm>
            <a:off x="2195640" y="1700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6T15:33:54Z</dcterms:modified>
  <cp:revision>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