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709-914E-4889-964F-445363C4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EBF-8C44-409B-BC25-FB581E5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210-C11C-4026-A070-613FCEEF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282-A0D8-4C12-B018-1E3DD16F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3DB-2563-43EB-ADF5-D51561EA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0A0-B3C5-44BD-9662-983A1AA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6F1-D515-4893-A997-EDD90AE6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278-652D-4E4E-A920-18AE025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106-52FA-4F90-A535-C93703F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42F-1532-41AA-AFE5-EF5AC4EA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9DD-0175-4CEB-A219-0A54A4D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C8F-4B19-45B8-87B9-7DE7F38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2AF-1888-4B4A-A5AA-EF9F7F6E4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00200" y="334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国女子体操队优秀的跳马选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81080" y="11732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开始练体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81080" y="201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进入省体操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828800" y="3780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多次参加重大国际比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国家赢得了荣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c201009251329392609"/>
          <p:cNvPicPr/>
          <p:nvPr/>
        </p:nvPicPr>
        <p:blipFill>
          <a:blip r:embed="rId1"/>
          <a:stretch/>
        </p:blipFill>
        <p:spPr>
          <a:xfrm>
            <a:off x="6095880" y="1219320"/>
            <a:ext cx="2705400" cy="3381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6324480" y="49528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桑 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905120" y="28486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入选国家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116000" y="328464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桑兰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053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228600" y="4572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子一天一天过去了，桑兰可以自己刷牙，自己穿衣，自己吃饭了。但有谁知道，在这些简单得不能再简单的动作背后，桑兰是怎样累得气喘吁吁、大汗淋漓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73r23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0948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气喘吁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666880" y="2286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汗淋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njxwjy.njenet.net.cn/school/jxpt_4/jx_sc/xx/xxyw6/XC604002.jpg"/>
          <p:cNvPicPr/>
          <p:nvPr/>
        </p:nvPicPr>
        <p:blipFill>
          <a:blip r:embed="rId1"/>
          <a:stretch/>
        </p:blipFill>
        <p:spPr>
          <a:xfrm>
            <a:off x="2971800" y="2743200"/>
            <a:ext cx="3124080" cy="380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red-brief-4"/>
          <p:cNvPicPr/>
          <p:nvPr/>
        </p:nvPicPr>
        <p:blipFill>
          <a:blip r:embed="rId2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red-brief-4"/>
          <p:cNvPicPr/>
          <p:nvPr/>
        </p:nvPicPr>
        <p:blipFill>
          <a:blip r:embed="rId3"/>
          <a:stretch/>
        </p:blipFill>
        <p:spPr>
          <a:xfrm>
            <a:off x="6629400" y="0"/>
            <a:ext cx="2514600" cy="157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152280" y="533520"/>
            <a:ext cx="84582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决不向伤痛屈服，我相信早晚有一天能站起来！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red-brief-4"/>
          <p:cNvPicPr/>
          <p:nvPr/>
        </p:nvPicPr>
        <p:blipFill>
          <a:blip r:embed="rId4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red-brief-4"/>
          <p:cNvPicPr/>
          <p:nvPr/>
        </p:nvPicPr>
        <p:blipFill>
          <a:blip r:embed="rId5"/>
          <a:stretch/>
        </p:blipFill>
        <p:spPr>
          <a:xfrm>
            <a:off x="6629400" y="5283360"/>
            <a:ext cx="25146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914400" y="1143000"/>
            <a:ext cx="4419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兰这个坚强的小姑娘，她用无比的勇气承受着一切，她以一贯的微笑赢得了海内外人士的敬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red-brief-4"/>
          <p:cNvPicPr/>
          <p:nvPr/>
        </p:nvPicPr>
        <p:blipFill>
          <a:blip r:embed="rId1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red-brief-4"/>
          <p:cNvPicPr/>
          <p:nvPr/>
        </p:nvPicPr>
        <p:blipFill>
          <a:blip r:embed="rId2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red-brief-4"/>
          <p:cNvPicPr/>
          <p:nvPr/>
        </p:nvPicPr>
        <p:blipFill>
          <a:blip r:embed="rId3"/>
          <a:stretch/>
        </p:blipFill>
        <p:spPr>
          <a:xfrm>
            <a:off x="6629400" y="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red-brief-4"/>
          <p:cNvPicPr/>
          <p:nvPr/>
        </p:nvPicPr>
        <p:blipFill>
          <a:blip r:embed="rId4"/>
          <a:stretch/>
        </p:blipFill>
        <p:spPr>
          <a:xfrm>
            <a:off x="662940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c201009251329392609"/>
          <p:cNvPicPr/>
          <p:nvPr/>
        </p:nvPicPr>
        <p:blipFill>
          <a:blip r:embed="rId5"/>
          <a:stretch/>
        </p:blipFill>
        <p:spPr>
          <a:xfrm>
            <a:off x="5715000" y="1447920"/>
            <a:ext cx="2522520" cy="3152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44120" y="4952880"/>
            <a:ext cx="8094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桑兰姐姐，我想对你说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790720" y="413280"/>
            <a:ext cx="2375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从那一刻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身体的伤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肢体的残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生活的不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将时刻困扰着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从那刻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场上将不见你活跃的身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如雷的掌声不再属于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盛开的鲜花不再簇拥着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骄人的奖牌不再与你有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然而你以不屈的精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无比的勇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惊人的毅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动人的微笑承受着一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我们敬佩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桑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red-brief-4"/>
          <p:cNvPicPr/>
          <p:nvPr/>
        </p:nvPicPr>
        <p:blipFill>
          <a:blip r:embed="rId1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ed-brief-4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red-brief-4"/>
          <p:cNvPicPr/>
          <p:nvPr/>
        </p:nvPicPr>
        <p:blipFill>
          <a:blip r:embed="rId3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6"/>
          <p:cNvSpPr txBox="1"/>
          <p:nvPr/>
        </p:nvSpPr>
        <p:spPr>
          <a:xfrm>
            <a:off x="814320" y="685800"/>
            <a:ext cx="330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拓展作业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14400" y="284976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兰姐姐，我想对你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开头，写几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d-brief-4"/>
          <p:cNvPicPr/>
          <p:nvPr/>
        </p:nvPicPr>
        <p:blipFill>
          <a:blip r:embed="rId1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4343894"/>
          <p:cNvPicPr/>
          <p:nvPr/>
        </p:nvPicPr>
        <p:blipFill>
          <a:blip r:embed="rId2"/>
          <a:stretch/>
        </p:blipFill>
        <p:spPr>
          <a:xfrm>
            <a:off x="1447920" y="304920"/>
            <a:ext cx="271764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01200000033528115651235492887_s"/>
          <p:cNvPicPr/>
          <p:nvPr/>
        </p:nvPicPr>
        <p:blipFill>
          <a:blip r:embed="rId3"/>
          <a:stretch/>
        </p:blipFill>
        <p:spPr>
          <a:xfrm>
            <a:off x="2743200" y="3048120"/>
            <a:ext cx="2760840" cy="35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mg279565798"/>
          <p:cNvPicPr/>
          <p:nvPr/>
        </p:nvPicPr>
        <p:blipFill>
          <a:blip r:embed="rId4"/>
          <a:stretch/>
        </p:blipFill>
        <p:spPr>
          <a:xfrm>
            <a:off x="5334120" y="228600"/>
            <a:ext cx="3485880" cy="434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red-brief-4"/>
          <p:cNvPicPr/>
          <p:nvPr/>
        </p:nvPicPr>
        <p:blipFill>
          <a:blip r:embed="rId5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ed-brief-4"/>
          <p:cNvPicPr/>
          <p:nvPr/>
        </p:nvPicPr>
        <p:blipFill>
          <a:blip r:embed="rId6"/>
          <a:stretch/>
        </p:blipFill>
        <p:spPr>
          <a:xfrm>
            <a:off x="6629400" y="5283360"/>
            <a:ext cx="25146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685800" y="2135520"/>
            <a:ext cx="8077320" cy="2744280"/>
            <a:chOff x="685800" y="2135520"/>
            <a:chExt cx="8077320" cy="2744280"/>
          </a:xfrm>
        </p:grpSpPr>
        <p:sp>
          <p:nvSpPr>
            <p:cNvPr id="55" name="Rectangle 3"/>
            <p:cNvSpPr/>
            <p:nvPr/>
          </p:nvSpPr>
          <p:spPr>
            <a:xfrm>
              <a:off x="685800" y="2135520"/>
              <a:ext cx="8077320" cy="27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时间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谁）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哪里）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参加跳马比赛前试跳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面对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不幸，她以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精神，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勇气，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毅力和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微笑承受着一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762120" y="3809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5"/>
          <p:cNvSpPr/>
          <p:nvPr/>
        </p:nvSpPr>
        <p:spPr>
          <a:xfrm>
            <a:off x="1295280" y="20718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9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晚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72200" y="20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桑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447920" y="2681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美国纽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85800" y="3352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发生了意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581280" y="3367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天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553080" y="3367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523880" y="3976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无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038480" y="3976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惊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55308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red-brief-4"/>
          <p:cNvPicPr/>
          <p:nvPr/>
        </p:nvPicPr>
        <p:blipFill>
          <a:blip r:embed="rId1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685800" y="990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由朗读课文，完成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8ujGGw2008729131148203"/>
          <p:cNvPicPr/>
          <p:nvPr/>
        </p:nvPicPr>
        <p:blipFill>
          <a:blip r:embed="rId2"/>
          <a:stretch/>
        </p:blipFill>
        <p:spPr>
          <a:xfrm>
            <a:off x="7512120" y="4952880"/>
            <a:ext cx="1631880" cy="1752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red-brief-4"/>
          <p:cNvPicPr/>
          <p:nvPr/>
        </p:nvPicPr>
        <p:blipFill>
          <a:blip r:embed="rId3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red-brief-4"/>
          <p:cNvPicPr/>
          <p:nvPr/>
        </p:nvPicPr>
        <p:blipFill>
          <a:blip r:embed="rId4"/>
          <a:stretch/>
        </p:blipFill>
        <p:spPr>
          <a:xfrm>
            <a:off x="6629400" y="0"/>
            <a:ext cx="25146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"/>
          <p:cNvPicPr/>
          <p:nvPr/>
        </p:nvPicPr>
        <p:blipFill>
          <a:blip r:embed="rId1"/>
          <a:stretch/>
        </p:blipFill>
        <p:spPr>
          <a:xfrm>
            <a:off x="0" y="0"/>
            <a:ext cx="45720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"/>
          <p:cNvGrpSpPr/>
          <p:nvPr/>
        </p:nvGrpSpPr>
        <p:grpSpPr>
          <a:xfrm>
            <a:off x="533520" y="4890600"/>
            <a:ext cx="8076960" cy="916920"/>
            <a:chOff x="533520" y="4890600"/>
            <a:chExt cx="8076960" cy="916920"/>
          </a:xfrm>
        </p:grpSpPr>
        <p:sp>
          <p:nvSpPr>
            <p:cNvPr id="73" name="Rectangle 4"/>
            <p:cNvSpPr/>
            <p:nvPr/>
          </p:nvSpPr>
          <p:spPr>
            <a:xfrm>
              <a:off x="533520" y="4890600"/>
              <a:ext cx="807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真是天大的不幸！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5"/>
            <p:cNvSpPr/>
            <p:nvPr/>
          </p:nvSpPr>
          <p:spPr>
            <a:xfrm>
              <a:off x="4419720" y="5715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"/>
            <p:cNvSpPr/>
            <p:nvPr/>
          </p:nvSpPr>
          <p:spPr>
            <a:xfrm>
              <a:off x="3962520" y="5715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7" descr="Img249059550"/>
          <p:cNvPicPr/>
          <p:nvPr/>
        </p:nvPicPr>
        <p:blipFill>
          <a:blip r:embed="rId2"/>
          <a:srcRect l="0" t="24075" r="0" b="0"/>
          <a:stretch/>
        </p:blipFill>
        <p:spPr>
          <a:xfrm>
            <a:off x="4572000" y="99072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wdyqjam551142"/>
          <p:cNvPicPr/>
          <p:nvPr/>
        </p:nvPicPr>
        <p:blipFill>
          <a:blip r:embed="rId1"/>
          <a:stretch/>
        </p:blipFill>
        <p:spPr>
          <a:xfrm>
            <a:off x="755640" y="260280"/>
            <a:ext cx="4762440" cy="6353280"/>
          </a:xfrm>
          <a:prstGeom prst="rect">
            <a:avLst/>
          </a:prstGeom>
          <a:ln w="0">
            <a:noFill/>
          </a:ln>
        </p:spPr>
      </p:pic>
      <p:sp>
        <p:nvSpPr>
          <p:cNvPr id="78" name="Oval 5"/>
          <p:cNvSpPr/>
          <p:nvPr/>
        </p:nvSpPr>
        <p:spPr>
          <a:xfrm>
            <a:off x="3995640" y="260280"/>
            <a:ext cx="863640" cy="180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4500360" y="1341360"/>
            <a:ext cx="649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4500360" y="1197000"/>
            <a:ext cx="649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6172200" y="2057400"/>
            <a:ext cx="2303640" cy="1185480"/>
            <a:chOff x="6172200" y="2057400"/>
            <a:chExt cx="2303640" cy="1185480"/>
          </a:xfrm>
        </p:grpSpPr>
        <p:sp>
          <p:nvSpPr>
            <p:cNvPr id="82" name="TextBox 6"/>
            <p:cNvSpPr/>
            <p:nvPr/>
          </p:nvSpPr>
          <p:spPr>
            <a:xfrm>
              <a:off x="6172200" y="2417760"/>
              <a:ext cx="230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脊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243480" y="2057400"/>
              <a:ext cx="172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j </a:t>
              </a:r>
              <a:r>
                <a:rPr b="1" lang="en-US" sz="3200" spc="-1" strike="noStrike">
                  <a:solidFill>
                    <a:srgbClr val="0033cc"/>
                  </a:solidFill>
                  <a:latin typeface="Arial"/>
                </a:rPr>
                <a:t>ǐ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  li</a:t>
              </a:r>
              <a:r>
                <a:rPr b="1" lang="en-US" sz="3200" spc="-1" strike="noStrike">
                  <a:solidFill>
                    <a:srgbClr val="0033cc"/>
                  </a:solidFill>
                  <a:latin typeface="Arial"/>
                </a:rPr>
                <a:t>ɑ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red-brief-4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4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red-brief-4"/>
          <p:cNvPicPr/>
          <p:nvPr/>
        </p:nvPicPr>
        <p:blipFill>
          <a:blip r:embed="rId2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838080" y="120348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赛前试跳时，发生了意外情况，她头朝下从马箱上摔了下来，顿时，胸部以下完全失去了知觉。经医生诊断，她的第六根和第七根脊梁骨骨折。这真是天大的不幸！桑兰的美好人生刚刚开始，可是后半生也许永远要在轮椅上度过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d-brief-4"/>
          <p:cNvPicPr/>
          <p:nvPr/>
        </p:nvPicPr>
        <p:blipFill>
          <a:blip r:embed="rId3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8ujGGw2008729131148203"/>
          <p:cNvPicPr/>
          <p:nvPr/>
        </p:nvPicPr>
        <p:blipFill>
          <a:blip r:embed="rId4"/>
          <a:stretch/>
        </p:blipFill>
        <p:spPr>
          <a:xfrm>
            <a:off x="7512120" y="4952880"/>
            <a:ext cx="16318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ed-brief-4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4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red-brief-4"/>
          <p:cNvPicPr/>
          <p:nvPr/>
        </p:nvPicPr>
        <p:blipFill>
          <a:blip r:embed="rId2"/>
          <a:stretch/>
        </p:blipFill>
        <p:spPr>
          <a:xfrm>
            <a:off x="0" y="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red-brief-4"/>
          <p:cNvPicPr/>
          <p:nvPr/>
        </p:nvPicPr>
        <p:blipFill>
          <a:blip r:embed="rId3"/>
          <a:stretch/>
        </p:blipFill>
        <p:spPr>
          <a:xfrm>
            <a:off x="0" y="5283360"/>
            <a:ext cx="2514600" cy="157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8ujGGw2008729131148203"/>
          <p:cNvPicPr/>
          <p:nvPr/>
        </p:nvPicPr>
        <p:blipFill>
          <a:blip r:embed="rId4"/>
          <a:stretch/>
        </p:blipFill>
        <p:spPr>
          <a:xfrm>
            <a:off x="7512120" y="4952880"/>
            <a:ext cx="1631880" cy="1752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685800" y="1143000"/>
            <a:ext cx="770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知自己的伤势后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岁的桑兰表现得非常坚强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前来探望的队友们看到桑兰脖子上套着固定套，躺在床上不能动弹，都忍不住失声痛哭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桑兰没有掉一滴眼泪，反而急切地询问队友们的比赛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61027105537f3775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4267080" y="762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前来探望的队友们看到桑兰脖子上套着固定套，躺在床上不能动弹，都忍不住失声痛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267080" y="4191120"/>
            <a:ext cx="4876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桑兰没有掉一滴眼泪，反而急切地询问队友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比赛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724800" y="2590920"/>
            <a:ext cx="21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失声痛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0421221554523239"/>
          <p:cNvPicPr/>
          <p:nvPr/>
        </p:nvPicPr>
        <p:blipFill>
          <a:blip r:embed="rId1"/>
          <a:stretch/>
        </p:blipFill>
        <p:spPr>
          <a:xfrm>
            <a:off x="0" y="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20042122156237161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414360" y="342900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兰总是一边忍着剧痛配合医生，一边轻轻哼着自由体操的乐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04640" y="4022640"/>
            <a:ext cx="8358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治医生拉格纳森感动地说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个小姑娘用惊人的毅力和不屈的精神，给所有的瘫痪患者做出了榜样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495680" y="3505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剧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6T15:44:28Z</dcterms:modified>
  <cp:revision>3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