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969-F864-4F32-916D-5599D17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AA1-9135-4F8B-8861-297FBBB1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7BC-02C7-468A-AC5E-3B1C5CA6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A0B-82F9-4FDC-AE90-05B6D566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1D50-6138-4C42-B4AA-1793119D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EA0A-B6DC-47AA-B97E-57AD746A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2A4-D3E6-41AC-83B0-349D10D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0929-2BE9-4D6F-9C39-5DD2529E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7FA-91D2-4130-A3AF-11EFAC1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9EED-F9FE-4E65-B05B-571301D4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14D-8D3D-4DD6-AC93-9E75E17F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683F-9B31-4BB7-AFB8-BC4F904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0A2D-F047-4792-A484-6104967219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843280" y="260280"/>
            <a:ext cx="59054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最不可宽恕的，是晚上睡觉时同早上一样无知。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2491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餐桌上的学习真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 ______________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564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等我上了大学才发现，那些教授教导我的，正是父亲早已知道的东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不断学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亲知道，世上最奇妙的东西是人的学习能力，极小的知识点滴也可能对我们有益。“生也有涯，”他说，“而学海无涯。我们成为怎样的人，决定于我们所学到的东西。”父亲的办法使我终身受用不尽。如今，我每晚在就寝之前，都会听见父亲在说：“雨生，你今天学到了些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7287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99"/>
                </a:solidFill>
                <a:latin typeface="Arial"/>
                <a:ea typeface="楷体"/>
              </a:rPr>
              <a:t>餐桌上的大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宽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恕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聆听   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嘈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杂    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琐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碎   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斟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扫视   压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轴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戏  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拯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微不足道  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鸦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雀无声 气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氛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迫不</a:t>
            </a:r>
            <a:r>
              <a:rPr b="1" lang="zh-CN" sz="4800" spc="-1" strike="noStrike">
                <a:solidFill>
                  <a:srgbClr val="cc0000"/>
                </a:solidFill>
                <a:latin typeface="楷体"/>
                <a:ea typeface="楷体"/>
              </a:rPr>
              <a:t>及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待  喧闹  察觉  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771280" y="260280"/>
            <a:ext cx="5977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人最不可宽恕的，是晚上睡觉时同早上一样无知。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所以，每次晚餐以后，我们必定会增长不少知识。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学习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”的父母是怎样发挥他们的作用的呢？请同学们再来读读课文的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——1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节，用横线划出有关的句子，谈谈自己的感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楷体"/>
              </a:rPr>
              <a:t>晚餐时声音嘈杂，碗碟的碰撞声衬托着热烈的谈话。我们叙述的事情不论怎样微不足道，双亲都仔细聆听，并随时评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    </a:t>
            </a:r>
            <a:r>
              <a:rPr b="1" lang="zh-CN" sz="3600" spc="-1" strike="noStrike">
                <a:solidFill>
                  <a:srgbClr val="800080"/>
                </a:solidFill>
                <a:latin typeface="华文新魏"/>
                <a:ea typeface="华文新魏"/>
              </a:rPr>
              <a:t>我一向觉得奇怪，不论我说的是什么，父亲都不会认为琐碎。首先，他会把我的话仔细想一想，好像我的话能拯救世界。“尼泊尔的人口… …嗯。好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 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新魏"/>
              </a:rPr>
              <a:t>接着，父亲会看着坐在餐桌另一头的母亲：“孩子妈，这个，你知道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0       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母亲的回答总会让气氛轻松起来。“尼泊尔？我连它在什么地方都不知道呢！”当然，这种回答正中父亲下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“</a:t>
            </a:r>
            <a:r>
              <a:rPr b="1" lang="zh-CN" sz="4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尼泊尔的人口… …嗯。好。”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