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70A0-A427-4DCC-9F36-C37FFEB6670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8EA7-09E7-4F39-AE21-44D24A3CE28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BA96-C7D3-439B-A7A2-EB554447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059A-9AEB-446F-A0D0-FA745745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2830-01A8-41C9-B5DB-A5180703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2A70-0C8D-41B4-8B5E-58DDD24F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B7C6-DB2E-4909-8E28-2376D51D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B25B-8B22-4BA6-A2C7-8E057EFF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E218-EE05-4F7C-8867-D3E7174A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28EB-6C36-4F12-B72F-060CF710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D55B-E17F-467E-AF3C-17455ED6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AFE9-63F5-4F6C-AC76-4B845E39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0496-20D0-4DC6-B520-D81B77C1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0E93-E142-470E-AA92-0B2B8169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D433-1E11-4EC1-83E3-07587A7A84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" Target="slide13.xm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403280" y="1700280"/>
            <a:ext cx="6048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带刺的朋友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013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还没弄清楚是怎么回事，树上那个家伙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扑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一声，径直掉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快，它又慢慢活动起来了。看样子，劲头比上树的时候足多了。它匆匆地忙碌着，把散落的红枣逐个地归到一起，又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扑噜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下，就地打了一个滚。你猜怎么着？那堆枣儿，全都扎在它的背上了。立刻，它的身子涨大了一圈。兴许是怕被人发现，它驮着满背的红枣，向着墙角的水沟眼儿，飞快地跑去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468360" y="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仿宋"/>
              </a:rPr>
              <a:t>刺猬偷枣</a:t>
            </a:r>
            <a:r>
              <a:rPr b="1" lang="zh-CN" sz="54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—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013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还没弄清楚是怎么回事，树上那个家伙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扑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一声，径直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掉下来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听得出来，摔得还挺重呢！很快，它又慢慢活动起来了。看样子，劲头比上树的时候足多了。它匆匆地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爬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四周，把散落的红枣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逐个地归到一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全都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扎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它的背上了。立刻，它的身子涨大了一圈。兴许是怕被人发现，它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驮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背的红枣，向着墙角的水沟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急急火火地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跑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仿宋"/>
              </a:rPr>
              <a:t>刺猬偷枣</a:t>
            </a:r>
            <a:r>
              <a:rPr b="1" lang="zh-CN" sz="54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—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2"/>
          <p:cNvGrpSpPr/>
          <p:nvPr/>
        </p:nvGrpSpPr>
        <p:grpSpPr>
          <a:xfrm>
            <a:off x="0" y="5675400"/>
            <a:ext cx="1510920" cy="863280"/>
            <a:chOff x="0" y="5675400"/>
            <a:chExt cx="1510920" cy="863280"/>
          </a:xfrm>
        </p:grpSpPr>
        <p:sp>
          <p:nvSpPr>
            <p:cNvPr id="84" name="AutoShape 3"/>
            <p:cNvSpPr/>
            <p:nvPr/>
          </p:nvSpPr>
          <p:spPr>
            <a:xfrm>
              <a:off x="1053720" y="6020280"/>
              <a:ext cx="457200" cy="306720"/>
            </a:xfrm>
            <a:prstGeom prst="flowChartDecision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4"/>
            <p:cNvSpPr/>
            <p:nvPr/>
          </p:nvSpPr>
          <p:spPr>
            <a:xfrm>
              <a:off x="228960" y="5866560"/>
              <a:ext cx="1099440" cy="5634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5"/>
            <p:cNvSpPr/>
            <p:nvPr/>
          </p:nvSpPr>
          <p:spPr>
            <a:xfrm>
              <a:off x="732600" y="5814360"/>
              <a:ext cx="46440" cy="256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6"/>
            <p:cNvSpPr/>
            <p:nvPr/>
          </p:nvSpPr>
          <p:spPr>
            <a:xfrm>
              <a:off x="870120" y="5968080"/>
              <a:ext cx="46440" cy="256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7"/>
            <p:cNvSpPr/>
            <p:nvPr/>
          </p:nvSpPr>
          <p:spPr>
            <a:xfrm>
              <a:off x="1007640" y="6121800"/>
              <a:ext cx="46080" cy="256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8"/>
            <p:cNvSpPr/>
            <p:nvPr/>
          </p:nvSpPr>
          <p:spPr>
            <a:xfrm>
              <a:off x="550080" y="5814360"/>
              <a:ext cx="46440" cy="256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9"/>
            <p:cNvSpPr/>
            <p:nvPr/>
          </p:nvSpPr>
          <p:spPr>
            <a:xfrm>
              <a:off x="366120" y="5968080"/>
              <a:ext cx="46440" cy="256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10"/>
            <p:cNvSpPr/>
            <p:nvPr/>
          </p:nvSpPr>
          <p:spPr>
            <a:xfrm>
              <a:off x="1007640" y="5866560"/>
              <a:ext cx="46080" cy="256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11"/>
            <p:cNvSpPr/>
            <p:nvPr/>
          </p:nvSpPr>
          <p:spPr>
            <a:xfrm>
              <a:off x="687240" y="5968080"/>
              <a:ext cx="46440" cy="256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12"/>
            <p:cNvSpPr/>
            <p:nvPr/>
          </p:nvSpPr>
          <p:spPr>
            <a:xfrm>
              <a:off x="503640" y="5917320"/>
              <a:ext cx="46440" cy="256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3"/>
            <p:cNvSpPr/>
            <p:nvPr/>
          </p:nvSpPr>
          <p:spPr>
            <a:xfrm>
              <a:off x="550080" y="6121800"/>
              <a:ext cx="46440" cy="256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4"/>
            <p:cNvSpPr/>
            <p:nvPr/>
          </p:nvSpPr>
          <p:spPr>
            <a:xfrm>
              <a:off x="916560" y="5866560"/>
              <a:ext cx="46440" cy="256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15"/>
            <p:cNvSpPr/>
            <p:nvPr/>
          </p:nvSpPr>
          <p:spPr>
            <a:xfrm>
              <a:off x="779400" y="6020280"/>
              <a:ext cx="46440" cy="256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6"/>
            <p:cNvSpPr/>
            <p:nvPr/>
          </p:nvSpPr>
          <p:spPr>
            <a:xfrm>
              <a:off x="640800" y="6070680"/>
              <a:ext cx="46440" cy="256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17"/>
            <p:cNvSpPr/>
            <p:nvPr/>
          </p:nvSpPr>
          <p:spPr>
            <a:xfrm>
              <a:off x="458280" y="6070680"/>
              <a:ext cx="46440" cy="256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18"/>
            <p:cNvSpPr/>
            <p:nvPr/>
          </p:nvSpPr>
          <p:spPr>
            <a:xfrm>
              <a:off x="824400" y="6121800"/>
              <a:ext cx="46440" cy="256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9"/>
            <p:cNvSpPr/>
            <p:nvPr/>
          </p:nvSpPr>
          <p:spPr>
            <a:xfrm>
              <a:off x="1099440" y="6020280"/>
              <a:ext cx="46440" cy="256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20"/>
            <p:cNvSpPr/>
            <p:nvPr/>
          </p:nvSpPr>
          <p:spPr>
            <a:xfrm>
              <a:off x="687240" y="6173640"/>
              <a:ext cx="46440" cy="256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21"/>
            <p:cNvSpPr/>
            <p:nvPr/>
          </p:nvSpPr>
          <p:spPr>
            <a:xfrm>
              <a:off x="320760" y="6020280"/>
              <a:ext cx="46440" cy="256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22"/>
            <p:cNvSpPr/>
            <p:nvPr/>
          </p:nvSpPr>
          <p:spPr>
            <a:xfrm>
              <a:off x="503640" y="5968080"/>
              <a:ext cx="46440" cy="256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23"/>
            <p:cNvSpPr/>
            <p:nvPr/>
          </p:nvSpPr>
          <p:spPr>
            <a:xfrm>
              <a:off x="1191240" y="5917320"/>
              <a:ext cx="46440" cy="256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24"/>
            <p:cNvSpPr/>
            <p:nvPr/>
          </p:nvSpPr>
          <p:spPr>
            <a:xfrm>
              <a:off x="595440" y="5814360"/>
              <a:ext cx="46440" cy="256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25"/>
            <p:cNvSpPr/>
            <p:nvPr/>
          </p:nvSpPr>
          <p:spPr>
            <a:xfrm>
              <a:off x="1099440" y="5968080"/>
              <a:ext cx="46440" cy="256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6"/>
            <p:cNvSpPr/>
            <p:nvPr/>
          </p:nvSpPr>
          <p:spPr>
            <a:xfrm>
              <a:off x="916560" y="6121800"/>
              <a:ext cx="46440" cy="256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27"/>
            <p:cNvSpPr/>
            <p:nvPr/>
          </p:nvSpPr>
          <p:spPr>
            <a:xfrm>
              <a:off x="458280" y="5866560"/>
              <a:ext cx="46440" cy="256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28"/>
            <p:cNvSpPr/>
            <p:nvPr/>
          </p:nvSpPr>
          <p:spPr>
            <a:xfrm>
              <a:off x="732600" y="6070680"/>
              <a:ext cx="46440" cy="256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29"/>
            <p:cNvSpPr/>
            <p:nvPr/>
          </p:nvSpPr>
          <p:spPr>
            <a:xfrm>
              <a:off x="366120" y="5968080"/>
              <a:ext cx="46440" cy="256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30"/>
            <p:cNvSpPr/>
            <p:nvPr/>
          </p:nvSpPr>
          <p:spPr>
            <a:xfrm>
              <a:off x="824400" y="5866560"/>
              <a:ext cx="46440" cy="256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31"/>
            <p:cNvSpPr/>
            <p:nvPr/>
          </p:nvSpPr>
          <p:spPr>
            <a:xfrm>
              <a:off x="1191240" y="5968080"/>
              <a:ext cx="46440" cy="256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32"/>
            <p:cNvSpPr/>
            <p:nvPr/>
          </p:nvSpPr>
          <p:spPr>
            <a:xfrm>
              <a:off x="870120" y="6121800"/>
              <a:ext cx="46440" cy="256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33"/>
            <p:cNvSpPr/>
            <p:nvPr/>
          </p:nvSpPr>
          <p:spPr>
            <a:xfrm>
              <a:off x="1053720" y="6020280"/>
              <a:ext cx="46440" cy="256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34"/>
            <p:cNvSpPr/>
            <p:nvPr/>
          </p:nvSpPr>
          <p:spPr>
            <a:xfrm>
              <a:off x="1099440" y="6020280"/>
              <a:ext cx="46440" cy="256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35"/>
            <p:cNvSpPr/>
            <p:nvPr/>
          </p:nvSpPr>
          <p:spPr>
            <a:xfrm>
              <a:off x="1144800" y="6070680"/>
              <a:ext cx="46440" cy="256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36"/>
            <p:cNvSpPr/>
            <p:nvPr/>
          </p:nvSpPr>
          <p:spPr>
            <a:xfrm>
              <a:off x="1236600" y="5968080"/>
              <a:ext cx="46080" cy="256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37"/>
            <p:cNvSpPr/>
            <p:nvPr/>
          </p:nvSpPr>
          <p:spPr>
            <a:xfrm>
              <a:off x="458280" y="6020280"/>
              <a:ext cx="366120" cy="504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38"/>
            <p:cNvSpPr/>
            <p:nvPr/>
          </p:nvSpPr>
          <p:spPr>
            <a:xfrm>
              <a:off x="458280" y="6327360"/>
              <a:ext cx="320760" cy="51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39"/>
            <p:cNvSpPr/>
            <p:nvPr/>
          </p:nvSpPr>
          <p:spPr>
            <a:xfrm>
              <a:off x="275400" y="6275160"/>
              <a:ext cx="274320" cy="507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40"/>
            <p:cNvSpPr/>
            <p:nvPr/>
          </p:nvSpPr>
          <p:spPr>
            <a:xfrm>
              <a:off x="183600" y="6070680"/>
              <a:ext cx="321120" cy="51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41"/>
            <p:cNvSpPr/>
            <p:nvPr/>
          </p:nvSpPr>
          <p:spPr>
            <a:xfrm>
              <a:off x="275400" y="6020280"/>
              <a:ext cx="320760" cy="51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42"/>
            <p:cNvSpPr/>
            <p:nvPr/>
          </p:nvSpPr>
          <p:spPr>
            <a:xfrm>
              <a:off x="138240" y="6121800"/>
              <a:ext cx="320760" cy="51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43"/>
            <p:cNvSpPr/>
            <p:nvPr/>
          </p:nvSpPr>
          <p:spPr>
            <a:xfrm>
              <a:off x="320760" y="6327360"/>
              <a:ext cx="320760" cy="51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44"/>
            <p:cNvSpPr/>
            <p:nvPr/>
          </p:nvSpPr>
          <p:spPr>
            <a:xfrm>
              <a:off x="183600" y="6224400"/>
              <a:ext cx="321120" cy="51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45"/>
            <p:cNvSpPr/>
            <p:nvPr/>
          </p:nvSpPr>
          <p:spPr>
            <a:xfrm>
              <a:off x="412560" y="6224400"/>
              <a:ext cx="321120" cy="51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46"/>
            <p:cNvSpPr/>
            <p:nvPr/>
          </p:nvSpPr>
          <p:spPr>
            <a:xfrm>
              <a:off x="640800" y="6275160"/>
              <a:ext cx="320760" cy="51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47"/>
            <p:cNvSpPr/>
            <p:nvPr/>
          </p:nvSpPr>
          <p:spPr>
            <a:xfrm>
              <a:off x="550080" y="6378120"/>
              <a:ext cx="320760" cy="51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48"/>
            <p:cNvSpPr/>
            <p:nvPr/>
          </p:nvSpPr>
          <p:spPr>
            <a:xfrm>
              <a:off x="824400" y="6327360"/>
              <a:ext cx="321120" cy="51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9"/>
            <p:cNvSpPr/>
            <p:nvPr/>
          </p:nvSpPr>
          <p:spPr>
            <a:xfrm>
              <a:off x="1328400" y="6173640"/>
              <a:ext cx="4644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50"/>
            <p:cNvSpPr/>
            <p:nvPr/>
          </p:nvSpPr>
          <p:spPr>
            <a:xfrm flipH="1" rot="10800000">
              <a:off x="1007640" y="6327000"/>
              <a:ext cx="274320" cy="102600"/>
            </a:xfrm>
            <a:custGeom>
              <a:avLst/>
              <a:gdLst>
                <a:gd name="textAreaLeft" fmla="*/ 157320 w 274320"/>
                <a:gd name="textAreaRight" fmla="*/ 232200 w 274320"/>
                <a:gd name="textAreaTop" fmla="*/ 13320 h 102600"/>
                <a:gd name="textAreaBottom" fmla="*/ 43920 h 10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51"/>
            <p:cNvSpPr/>
            <p:nvPr/>
          </p:nvSpPr>
          <p:spPr>
            <a:xfrm flipH="1" rot="10800000">
              <a:off x="1144800" y="6274800"/>
              <a:ext cx="228960" cy="102600"/>
            </a:xfrm>
            <a:custGeom>
              <a:avLst/>
              <a:gdLst>
                <a:gd name="textAreaLeft" fmla="*/ 132480 w 228960"/>
                <a:gd name="textAreaRight" fmla="*/ 194040 w 228960"/>
                <a:gd name="textAreaTop" fmla="*/ 13320 h 102600"/>
                <a:gd name="textAreaBottom" fmla="*/ 43920 h 10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52"/>
            <p:cNvSpPr/>
            <p:nvPr/>
          </p:nvSpPr>
          <p:spPr>
            <a:xfrm flipV="1" rot="1150200">
              <a:off x="503280" y="6326640"/>
              <a:ext cx="366480" cy="155880"/>
            </a:xfrm>
            <a:custGeom>
              <a:avLst/>
              <a:gdLst>
                <a:gd name="textAreaLeft" fmla="*/ 210960 w 366480"/>
                <a:gd name="textAreaRight" fmla="*/ 308880 w 366480"/>
                <a:gd name="textAreaTop" fmla="*/ 20880 h 155880"/>
                <a:gd name="textAreaBottom" fmla="*/ 66240 h 15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53"/>
            <p:cNvSpPr/>
            <p:nvPr/>
          </p:nvSpPr>
          <p:spPr>
            <a:xfrm>
              <a:off x="275400" y="5917320"/>
              <a:ext cx="319680" cy="507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54"/>
            <p:cNvSpPr/>
            <p:nvPr/>
          </p:nvSpPr>
          <p:spPr>
            <a:xfrm>
              <a:off x="458280" y="5866560"/>
              <a:ext cx="320040" cy="504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55"/>
            <p:cNvSpPr/>
            <p:nvPr/>
          </p:nvSpPr>
          <p:spPr>
            <a:xfrm>
              <a:off x="91800" y="5968080"/>
              <a:ext cx="320040" cy="504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56"/>
            <p:cNvSpPr/>
            <p:nvPr/>
          </p:nvSpPr>
          <p:spPr>
            <a:xfrm>
              <a:off x="138240" y="6070680"/>
              <a:ext cx="320040" cy="507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57"/>
            <p:cNvSpPr/>
            <p:nvPr/>
          </p:nvSpPr>
          <p:spPr>
            <a:xfrm>
              <a:off x="0" y="6121800"/>
              <a:ext cx="320040" cy="504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58"/>
            <p:cNvSpPr/>
            <p:nvPr/>
          </p:nvSpPr>
          <p:spPr>
            <a:xfrm>
              <a:off x="138240" y="6173640"/>
              <a:ext cx="320040" cy="507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59"/>
            <p:cNvSpPr/>
            <p:nvPr/>
          </p:nvSpPr>
          <p:spPr>
            <a:xfrm>
              <a:off x="550080" y="5866560"/>
              <a:ext cx="320040" cy="504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60"/>
            <p:cNvSpPr/>
            <p:nvPr/>
          </p:nvSpPr>
          <p:spPr>
            <a:xfrm>
              <a:off x="687240" y="5917320"/>
              <a:ext cx="320040" cy="507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61"/>
            <p:cNvSpPr/>
            <p:nvPr/>
          </p:nvSpPr>
          <p:spPr>
            <a:xfrm rot="3535200">
              <a:off x="346320" y="5920200"/>
              <a:ext cx="357840" cy="44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62"/>
            <p:cNvSpPr/>
            <p:nvPr/>
          </p:nvSpPr>
          <p:spPr>
            <a:xfrm rot="3535200">
              <a:off x="759240" y="5817600"/>
              <a:ext cx="357840" cy="44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63"/>
            <p:cNvSpPr/>
            <p:nvPr/>
          </p:nvSpPr>
          <p:spPr>
            <a:xfrm rot="3535200">
              <a:off x="1033920" y="5970960"/>
              <a:ext cx="357840" cy="44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64"/>
            <p:cNvSpPr/>
            <p:nvPr/>
          </p:nvSpPr>
          <p:spPr>
            <a:xfrm rot="3535200">
              <a:off x="759240" y="6023160"/>
              <a:ext cx="357840" cy="44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65"/>
            <p:cNvSpPr/>
            <p:nvPr/>
          </p:nvSpPr>
          <p:spPr>
            <a:xfrm rot="3535200">
              <a:off x="942120" y="5970960"/>
              <a:ext cx="357840" cy="44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66"/>
            <p:cNvSpPr/>
            <p:nvPr/>
          </p:nvSpPr>
          <p:spPr>
            <a:xfrm rot="3535200">
              <a:off x="483480" y="5970960"/>
              <a:ext cx="357840" cy="44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67"/>
            <p:cNvSpPr/>
            <p:nvPr/>
          </p:nvSpPr>
          <p:spPr>
            <a:xfrm rot="3535200">
              <a:off x="804600" y="5868360"/>
              <a:ext cx="357840" cy="44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68"/>
            <p:cNvSpPr/>
            <p:nvPr/>
          </p:nvSpPr>
          <p:spPr>
            <a:xfrm rot="3535200">
              <a:off x="667440" y="5868000"/>
              <a:ext cx="357840" cy="4464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69"/>
            <p:cNvSpPr/>
            <p:nvPr/>
          </p:nvSpPr>
          <p:spPr>
            <a:xfrm rot="3535200">
              <a:off x="575280" y="6176880"/>
              <a:ext cx="357840" cy="44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276520" y="5595840"/>
            <a:ext cx="1305720" cy="853920"/>
            <a:chOff x="5276520" y="5595840"/>
            <a:chExt cx="1305720" cy="853920"/>
          </a:xfrm>
        </p:grpSpPr>
        <p:sp>
          <p:nvSpPr>
            <p:cNvPr id="152" name="AutoShape 71"/>
            <p:cNvSpPr/>
            <p:nvPr/>
          </p:nvSpPr>
          <p:spPr>
            <a:xfrm rot="20386800">
              <a:off x="6145200" y="5761440"/>
              <a:ext cx="399600" cy="288000"/>
            </a:xfrm>
            <a:prstGeom prst="flowChartDecision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72"/>
            <p:cNvSpPr/>
            <p:nvPr/>
          </p:nvSpPr>
          <p:spPr>
            <a:xfrm rot="20386800">
              <a:off x="5443200" y="5771160"/>
              <a:ext cx="960840" cy="528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73"/>
            <p:cNvSpPr/>
            <p:nvPr/>
          </p:nvSpPr>
          <p:spPr>
            <a:xfrm rot="20386800">
              <a:off x="5817600" y="5740920"/>
              <a:ext cx="40320" cy="240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74"/>
            <p:cNvSpPr/>
            <p:nvPr/>
          </p:nvSpPr>
          <p:spPr>
            <a:xfrm rot="20386800">
              <a:off x="5979960" y="5834880"/>
              <a:ext cx="40320" cy="240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75"/>
            <p:cNvSpPr/>
            <p:nvPr/>
          </p:nvSpPr>
          <p:spPr>
            <a:xfrm rot="20386800">
              <a:off x="6142680" y="5928480"/>
              <a:ext cx="40320" cy="240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76"/>
            <p:cNvSpPr/>
            <p:nvPr/>
          </p:nvSpPr>
          <p:spPr>
            <a:xfrm rot="20386800">
              <a:off x="5667840" y="5796360"/>
              <a:ext cx="40320" cy="240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77"/>
            <p:cNvSpPr/>
            <p:nvPr/>
          </p:nvSpPr>
          <p:spPr>
            <a:xfrm rot="20386800">
              <a:off x="5567040" y="5986800"/>
              <a:ext cx="40320" cy="240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78"/>
            <p:cNvSpPr/>
            <p:nvPr/>
          </p:nvSpPr>
          <p:spPr>
            <a:xfrm rot="20386800">
              <a:off x="6059880" y="5703840"/>
              <a:ext cx="40320" cy="240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79"/>
            <p:cNvSpPr/>
            <p:nvPr/>
          </p:nvSpPr>
          <p:spPr>
            <a:xfrm rot="20386800">
              <a:off x="5830560" y="5889960"/>
              <a:ext cx="40320" cy="240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80"/>
            <p:cNvSpPr/>
            <p:nvPr/>
          </p:nvSpPr>
          <p:spPr>
            <a:xfrm rot="20386800">
              <a:off x="5662800" y="5900760"/>
              <a:ext cx="40320" cy="240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81"/>
            <p:cNvSpPr/>
            <p:nvPr/>
          </p:nvSpPr>
          <p:spPr>
            <a:xfrm rot="20386800">
              <a:off x="5767560" y="6066720"/>
              <a:ext cx="40320" cy="240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82"/>
            <p:cNvSpPr/>
            <p:nvPr/>
          </p:nvSpPr>
          <p:spPr>
            <a:xfrm rot="20386800">
              <a:off x="5985360" y="5731560"/>
              <a:ext cx="40320" cy="240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83"/>
            <p:cNvSpPr/>
            <p:nvPr/>
          </p:nvSpPr>
          <p:spPr>
            <a:xfrm rot="20386800">
              <a:off x="5922720" y="5907960"/>
              <a:ext cx="40320" cy="240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84"/>
            <p:cNvSpPr/>
            <p:nvPr/>
          </p:nvSpPr>
          <p:spPr>
            <a:xfrm rot="20386800">
              <a:off x="5825520" y="5994360"/>
              <a:ext cx="40320" cy="240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85"/>
            <p:cNvSpPr/>
            <p:nvPr/>
          </p:nvSpPr>
          <p:spPr>
            <a:xfrm rot="20386800">
              <a:off x="5675400" y="6049800"/>
              <a:ext cx="40320" cy="240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86"/>
            <p:cNvSpPr/>
            <p:nvPr/>
          </p:nvSpPr>
          <p:spPr>
            <a:xfrm rot="20386800">
              <a:off x="5992920" y="5983920"/>
              <a:ext cx="40320" cy="240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87"/>
            <p:cNvSpPr/>
            <p:nvPr/>
          </p:nvSpPr>
          <p:spPr>
            <a:xfrm rot="20386800">
              <a:off x="6185160" y="5811480"/>
              <a:ext cx="40320" cy="240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88"/>
            <p:cNvSpPr/>
            <p:nvPr/>
          </p:nvSpPr>
          <p:spPr>
            <a:xfrm rot="20386800">
              <a:off x="5897160" y="6071040"/>
              <a:ext cx="40320" cy="240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89"/>
            <p:cNvSpPr/>
            <p:nvPr/>
          </p:nvSpPr>
          <p:spPr>
            <a:xfrm rot="20386800">
              <a:off x="5546520" y="6046560"/>
              <a:ext cx="40320" cy="240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90"/>
            <p:cNvSpPr/>
            <p:nvPr/>
          </p:nvSpPr>
          <p:spPr>
            <a:xfrm rot="20386800">
              <a:off x="5679360" y="5945400"/>
              <a:ext cx="40320" cy="240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91"/>
            <p:cNvSpPr/>
            <p:nvPr/>
          </p:nvSpPr>
          <p:spPr>
            <a:xfrm rot="20386800">
              <a:off x="6227280" y="5693040"/>
              <a:ext cx="40320" cy="240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92"/>
            <p:cNvSpPr/>
            <p:nvPr/>
          </p:nvSpPr>
          <p:spPr>
            <a:xfrm rot="20386800">
              <a:off x="5704920" y="5782680"/>
              <a:ext cx="40320" cy="240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93"/>
            <p:cNvSpPr/>
            <p:nvPr/>
          </p:nvSpPr>
          <p:spPr>
            <a:xfrm rot="20386800">
              <a:off x="6168240" y="5765400"/>
              <a:ext cx="40320" cy="240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94"/>
            <p:cNvSpPr/>
            <p:nvPr/>
          </p:nvSpPr>
          <p:spPr>
            <a:xfrm rot="20386800">
              <a:off x="6068160" y="5956200"/>
              <a:ext cx="40320" cy="240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95"/>
            <p:cNvSpPr/>
            <p:nvPr/>
          </p:nvSpPr>
          <p:spPr>
            <a:xfrm rot="20386800">
              <a:off x="5609520" y="5870160"/>
              <a:ext cx="40320" cy="240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96"/>
            <p:cNvSpPr/>
            <p:nvPr/>
          </p:nvSpPr>
          <p:spPr>
            <a:xfrm rot="20386800">
              <a:off x="5900760" y="5966640"/>
              <a:ext cx="40320" cy="240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97"/>
            <p:cNvSpPr/>
            <p:nvPr/>
          </p:nvSpPr>
          <p:spPr>
            <a:xfrm rot="20386800">
              <a:off x="5567040" y="5986800"/>
              <a:ext cx="40320" cy="240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98"/>
            <p:cNvSpPr/>
            <p:nvPr/>
          </p:nvSpPr>
          <p:spPr>
            <a:xfrm rot="20386800">
              <a:off x="5910120" y="5759280"/>
              <a:ext cx="40320" cy="240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99"/>
            <p:cNvSpPr/>
            <p:nvPr/>
          </p:nvSpPr>
          <p:spPr>
            <a:xfrm rot="20386800">
              <a:off x="6243480" y="5737680"/>
              <a:ext cx="40320" cy="240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00"/>
            <p:cNvSpPr/>
            <p:nvPr/>
          </p:nvSpPr>
          <p:spPr>
            <a:xfrm rot="20386800">
              <a:off x="6030000" y="5970240"/>
              <a:ext cx="40320" cy="240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01"/>
            <p:cNvSpPr/>
            <p:nvPr/>
          </p:nvSpPr>
          <p:spPr>
            <a:xfrm rot="20386800">
              <a:off x="6147720" y="5825160"/>
              <a:ext cx="40320" cy="240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02"/>
            <p:cNvSpPr/>
            <p:nvPr/>
          </p:nvSpPr>
          <p:spPr>
            <a:xfrm rot="20386800">
              <a:off x="6185160" y="5811480"/>
              <a:ext cx="40320" cy="240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03"/>
            <p:cNvSpPr/>
            <p:nvPr/>
          </p:nvSpPr>
          <p:spPr>
            <a:xfrm rot="20386800">
              <a:off x="6238800" y="5842440"/>
              <a:ext cx="40320" cy="240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4"/>
            <p:cNvSpPr/>
            <p:nvPr/>
          </p:nvSpPr>
          <p:spPr>
            <a:xfrm rot="20386800">
              <a:off x="6280560" y="5724000"/>
              <a:ext cx="40320" cy="240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05"/>
            <p:cNvSpPr/>
            <p:nvPr/>
          </p:nvSpPr>
          <p:spPr>
            <a:xfrm rot="20386800">
              <a:off x="5617440" y="5962680"/>
              <a:ext cx="320040" cy="475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06"/>
            <p:cNvSpPr/>
            <p:nvPr/>
          </p:nvSpPr>
          <p:spPr>
            <a:xfrm rot="20386800">
              <a:off x="5718240" y="6239880"/>
              <a:ext cx="280440" cy="486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07"/>
            <p:cNvSpPr/>
            <p:nvPr/>
          </p:nvSpPr>
          <p:spPr>
            <a:xfrm rot="20386800">
              <a:off x="5553000" y="6256080"/>
              <a:ext cx="239760" cy="475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08"/>
            <p:cNvSpPr/>
            <p:nvPr/>
          </p:nvSpPr>
          <p:spPr>
            <a:xfrm rot="20386800">
              <a:off x="5410080" y="6096960"/>
              <a:ext cx="280440" cy="486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09"/>
            <p:cNvSpPr/>
            <p:nvPr/>
          </p:nvSpPr>
          <p:spPr>
            <a:xfrm rot="20386800">
              <a:off x="5469120" y="6024600"/>
              <a:ext cx="280440" cy="482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10"/>
            <p:cNvSpPr/>
            <p:nvPr/>
          </p:nvSpPr>
          <p:spPr>
            <a:xfrm rot="20386800">
              <a:off x="5389200" y="6155640"/>
              <a:ext cx="280440" cy="482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11"/>
            <p:cNvSpPr/>
            <p:nvPr/>
          </p:nvSpPr>
          <p:spPr>
            <a:xfrm rot="20386800">
              <a:off x="5605920" y="6281280"/>
              <a:ext cx="280440" cy="486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12"/>
            <p:cNvSpPr/>
            <p:nvPr/>
          </p:nvSpPr>
          <p:spPr>
            <a:xfrm rot="20386800">
              <a:off x="5459760" y="6232680"/>
              <a:ext cx="280440" cy="486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13"/>
            <p:cNvSpPr/>
            <p:nvPr/>
          </p:nvSpPr>
          <p:spPr>
            <a:xfrm rot="20386800">
              <a:off x="5648040" y="6163200"/>
              <a:ext cx="280440" cy="486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14"/>
            <p:cNvSpPr/>
            <p:nvPr/>
          </p:nvSpPr>
          <p:spPr>
            <a:xfrm rot="20386800">
              <a:off x="5851440" y="6138720"/>
              <a:ext cx="280440" cy="486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15"/>
            <p:cNvSpPr/>
            <p:nvPr/>
          </p:nvSpPr>
          <p:spPr>
            <a:xfrm rot="20386800">
              <a:off x="5810400" y="6256800"/>
              <a:ext cx="280440" cy="482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16"/>
            <p:cNvSpPr/>
            <p:nvPr/>
          </p:nvSpPr>
          <p:spPr>
            <a:xfrm rot="20386800">
              <a:off x="6018840" y="6129000"/>
              <a:ext cx="280440" cy="486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17"/>
            <p:cNvSpPr/>
            <p:nvPr/>
          </p:nvSpPr>
          <p:spPr>
            <a:xfrm rot="20386800">
              <a:off x="6389640" y="5883120"/>
              <a:ext cx="403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18"/>
            <p:cNvSpPr/>
            <p:nvPr/>
          </p:nvSpPr>
          <p:spPr>
            <a:xfrm flipH="1" rot="9586800">
              <a:off x="6177960" y="6078960"/>
              <a:ext cx="239760" cy="96120"/>
            </a:xfrm>
            <a:custGeom>
              <a:avLst/>
              <a:gdLst>
                <a:gd name="textAreaLeft" fmla="*/ 137520 w 239760"/>
                <a:gd name="textAreaRight" fmla="*/ 203040 w 239760"/>
                <a:gd name="textAreaTop" fmla="*/ 12600 h 96120"/>
                <a:gd name="textAreaBottom" fmla="*/ 41040 h 9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19"/>
            <p:cNvSpPr/>
            <p:nvPr/>
          </p:nvSpPr>
          <p:spPr>
            <a:xfrm flipH="1" rot="9586800">
              <a:off x="6275520" y="5999040"/>
              <a:ext cx="200160" cy="96480"/>
            </a:xfrm>
            <a:custGeom>
              <a:avLst/>
              <a:gdLst>
                <a:gd name="textAreaLeft" fmla="*/ 115560 w 200160"/>
                <a:gd name="textAreaRight" fmla="*/ 169560 w 200160"/>
                <a:gd name="textAreaTop" fmla="*/ 12600 h 96480"/>
                <a:gd name="textAreaBottom" fmla="*/ 41400 h 9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20"/>
            <p:cNvSpPr/>
            <p:nvPr/>
          </p:nvSpPr>
          <p:spPr>
            <a:xfrm flipV="1" rot="21537000">
              <a:off x="5771160" y="6215760"/>
              <a:ext cx="320040" cy="146160"/>
            </a:xfrm>
            <a:custGeom>
              <a:avLst/>
              <a:gdLst>
                <a:gd name="textAreaLeft" fmla="*/ 184320 w 320040"/>
                <a:gd name="textAreaRight" fmla="*/ 270000 w 320040"/>
                <a:gd name="textAreaTop" fmla="*/ 20160 h 146160"/>
                <a:gd name="textAreaBottom" fmla="*/ 62640 h 14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21"/>
            <p:cNvSpPr/>
            <p:nvPr/>
          </p:nvSpPr>
          <p:spPr>
            <a:xfrm rot="20386800">
              <a:off x="5435640" y="5933880"/>
              <a:ext cx="279360" cy="475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22"/>
            <p:cNvSpPr/>
            <p:nvPr/>
          </p:nvSpPr>
          <p:spPr>
            <a:xfrm rot="20386800">
              <a:off x="5568840" y="5834520"/>
              <a:ext cx="279720" cy="475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23"/>
            <p:cNvSpPr/>
            <p:nvPr/>
          </p:nvSpPr>
          <p:spPr>
            <a:xfrm rot="20386800">
              <a:off x="5301000" y="6034320"/>
              <a:ext cx="279720" cy="475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24"/>
            <p:cNvSpPr/>
            <p:nvPr/>
          </p:nvSpPr>
          <p:spPr>
            <a:xfrm rot="20386800">
              <a:off x="5372280" y="6110640"/>
              <a:ext cx="279720" cy="475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25"/>
            <p:cNvSpPr/>
            <p:nvPr/>
          </p:nvSpPr>
          <p:spPr>
            <a:xfrm rot="20386800">
              <a:off x="5275800" y="6197400"/>
              <a:ext cx="279720" cy="475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26"/>
            <p:cNvSpPr/>
            <p:nvPr/>
          </p:nvSpPr>
          <p:spPr>
            <a:xfrm rot="20386800">
              <a:off x="5405760" y="6201360"/>
              <a:ext cx="279720" cy="475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27"/>
            <p:cNvSpPr/>
            <p:nvPr/>
          </p:nvSpPr>
          <p:spPr>
            <a:xfrm rot="20386800">
              <a:off x="5644080" y="5806440"/>
              <a:ext cx="279720" cy="475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28"/>
            <p:cNvSpPr/>
            <p:nvPr/>
          </p:nvSpPr>
          <p:spPr>
            <a:xfrm rot="20386800">
              <a:off x="5773320" y="5809680"/>
              <a:ext cx="279720" cy="475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29"/>
            <p:cNvSpPr/>
            <p:nvPr/>
          </p:nvSpPr>
          <p:spPr>
            <a:xfrm rot="2322000">
              <a:off x="5481360" y="5911920"/>
              <a:ext cx="335880" cy="385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30"/>
            <p:cNvSpPr/>
            <p:nvPr/>
          </p:nvSpPr>
          <p:spPr>
            <a:xfrm rot="2322000">
              <a:off x="5786640" y="5696280"/>
              <a:ext cx="335880" cy="385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31"/>
            <p:cNvSpPr/>
            <p:nvPr/>
          </p:nvSpPr>
          <p:spPr>
            <a:xfrm rot="2322000">
              <a:off x="6061680" y="5748480"/>
              <a:ext cx="335880" cy="385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32"/>
            <p:cNvSpPr/>
            <p:nvPr/>
          </p:nvSpPr>
          <p:spPr>
            <a:xfrm rot="2322000">
              <a:off x="5853600" y="5877360"/>
              <a:ext cx="335880" cy="385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33"/>
            <p:cNvSpPr/>
            <p:nvPr/>
          </p:nvSpPr>
          <p:spPr>
            <a:xfrm rot="2322000">
              <a:off x="5986440" y="5776200"/>
              <a:ext cx="335880" cy="385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134"/>
            <p:cNvSpPr/>
            <p:nvPr/>
          </p:nvSpPr>
          <p:spPr>
            <a:xfrm rot="2322000">
              <a:off x="5610600" y="5914800"/>
              <a:ext cx="335880" cy="385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135"/>
            <p:cNvSpPr/>
            <p:nvPr/>
          </p:nvSpPr>
          <p:spPr>
            <a:xfrm rot="2322000">
              <a:off x="5840280" y="5727240"/>
              <a:ext cx="335880" cy="385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36"/>
            <p:cNvSpPr/>
            <p:nvPr/>
          </p:nvSpPr>
          <p:spPr>
            <a:xfrm rot="2322000">
              <a:off x="5727960" y="5768280"/>
              <a:ext cx="335880" cy="388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37"/>
            <p:cNvSpPr/>
            <p:nvPr/>
          </p:nvSpPr>
          <p:spPr>
            <a:xfrm rot="2322000">
              <a:off x="5752440" y="6068160"/>
              <a:ext cx="335880" cy="385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138"/>
          <p:cNvGrpSpPr/>
          <p:nvPr/>
        </p:nvGrpSpPr>
        <p:grpSpPr>
          <a:xfrm>
            <a:off x="5423760" y="5484240"/>
            <a:ext cx="1123200" cy="1027800"/>
            <a:chOff x="5423760" y="5484240"/>
            <a:chExt cx="1123200" cy="1027800"/>
          </a:xfrm>
        </p:grpSpPr>
        <p:sp>
          <p:nvSpPr>
            <p:cNvPr id="220" name="AutoShape 139"/>
            <p:cNvSpPr/>
            <p:nvPr/>
          </p:nvSpPr>
          <p:spPr>
            <a:xfrm rot="19187400">
              <a:off x="6115320" y="5593320"/>
              <a:ext cx="370800" cy="322920"/>
            </a:xfrm>
            <a:prstGeom prst="flowChartDecision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40"/>
            <p:cNvSpPr/>
            <p:nvPr/>
          </p:nvSpPr>
          <p:spPr>
            <a:xfrm rot="19187400">
              <a:off x="5525640" y="5701680"/>
              <a:ext cx="891360" cy="5925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141"/>
            <p:cNvSpPr/>
            <p:nvPr/>
          </p:nvSpPr>
          <p:spPr>
            <a:xfrm rot="19187400">
              <a:off x="5798880" y="5709960"/>
              <a:ext cx="37440" cy="269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142"/>
            <p:cNvSpPr/>
            <p:nvPr/>
          </p:nvSpPr>
          <p:spPr>
            <a:xfrm rot="19187400">
              <a:off x="5988240" y="5761440"/>
              <a:ext cx="37440" cy="269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143"/>
            <p:cNvSpPr/>
            <p:nvPr/>
          </p:nvSpPr>
          <p:spPr>
            <a:xfrm rot="19187400">
              <a:off x="6177600" y="5812920"/>
              <a:ext cx="37440" cy="269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144"/>
            <p:cNvSpPr/>
            <p:nvPr/>
          </p:nvSpPr>
          <p:spPr>
            <a:xfrm rot="19187400">
              <a:off x="5685840" y="5805720"/>
              <a:ext cx="37440" cy="269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145"/>
            <p:cNvSpPr/>
            <p:nvPr/>
          </p:nvSpPr>
          <p:spPr>
            <a:xfrm rot="19187400">
              <a:off x="5676480" y="6025320"/>
              <a:ext cx="37440" cy="269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146"/>
            <p:cNvSpPr/>
            <p:nvPr/>
          </p:nvSpPr>
          <p:spPr>
            <a:xfrm rot="19187400">
              <a:off x="6004440" y="5608080"/>
              <a:ext cx="37440" cy="269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147"/>
            <p:cNvSpPr/>
            <p:nvPr/>
          </p:nvSpPr>
          <p:spPr>
            <a:xfrm rot="19187400">
              <a:off x="5875200" y="5857200"/>
              <a:ext cx="37440" cy="269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148"/>
            <p:cNvSpPr/>
            <p:nvPr/>
          </p:nvSpPr>
          <p:spPr>
            <a:xfrm rot="19187400">
              <a:off x="5726520" y="5912640"/>
              <a:ext cx="37440" cy="269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149"/>
            <p:cNvSpPr/>
            <p:nvPr/>
          </p:nvSpPr>
          <p:spPr>
            <a:xfrm rot="19187400">
              <a:off x="5894640" y="6052320"/>
              <a:ext cx="37440" cy="269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150"/>
            <p:cNvSpPr/>
            <p:nvPr/>
          </p:nvSpPr>
          <p:spPr>
            <a:xfrm rot="19187400">
              <a:off x="5948280" y="5655240"/>
              <a:ext cx="37440" cy="269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51"/>
            <p:cNvSpPr/>
            <p:nvPr/>
          </p:nvSpPr>
          <p:spPr>
            <a:xfrm rot="19187400">
              <a:off x="5967360" y="5850720"/>
              <a:ext cx="37440" cy="269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152"/>
            <p:cNvSpPr/>
            <p:nvPr/>
          </p:nvSpPr>
          <p:spPr>
            <a:xfrm rot="19187400">
              <a:off x="5916240" y="5963760"/>
              <a:ext cx="37440" cy="269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153"/>
            <p:cNvSpPr/>
            <p:nvPr/>
          </p:nvSpPr>
          <p:spPr>
            <a:xfrm rot="19187400">
              <a:off x="5802840" y="6059520"/>
              <a:ext cx="37440" cy="269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154"/>
            <p:cNvSpPr/>
            <p:nvPr/>
          </p:nvSpPr>
          <p:spPr>
            <a:xfrm rot="19187400">
              <a:off x="6064560" y="5908680"/>
              <a:ext cx="37440" cy="269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155"/>
            <p:cNvSpPr/>
            <p:nvPr/>
          </p:nvSpPr>
          <p:spPr>
            <a:xfrm rot="19187400">
              <a:off x="6165720" y="5683320"/>
              <a:ext cx="37440" cy="269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156"/>
            <p:cNvSpPr/>
            <p:nvPr/>
          </p:nvSpPr>
          <p:spPr>
            <a:xfrm rot="19187400">
              <a:off x="6014520" y="6022080"/>
              <a:ext cx="37440" cy="269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157"/>
            <p:cNvSpPr/>
            <p:nvPr/>
          </p:nvSpPr>
          <p:spPr>
            <a:xfrm rot="19187400">
              <a:off x="5683680" y="6090840"/>
              <a:ext cx="37440" cy="269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158"/>
            <p:cNvSpPr/>
            <p:nvPr/>
          </p:nvSpPr>
          <p:spPr>
            <a:xfrm rot="19187400">
              <a:off x="5761440" y="5953320"/>
              <a:ext cx="37440" cy="269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159"/>
            <p:cNvSpPr/>
            <p:nvPr/>
          </p:nvSpPr>
          <p:spPr>
            <a:xfrm rot="19187400">
              <a:off x="6152400" y="5552280"/>
              <a:ext cx="37440" cy="269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160"/>
            <p:cNvSpPr/>
            <p:nvPr/>
          </p:nvSpPr>
          <p:spPr>
            <a:xfrm rot="19187400">
              <a:off x="5713920" y="5781960"/>
              <a:ext cx="37440" cy="269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161"/>
            <p:cNvSpPr/>
            <p:nvPr/>
          </p:nvSpPr>
          <p:spPr>
            <a:xfrm rot="19187400">
              <a:off x="6130080" y="5641560"/>
              <a:ext cx="37440" cy="269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162"/>
            <p:cNvSpPr/>
            <p:nvPr/>
          </p:nvSpPr>
          <p:spPr>
            <a:xfrm rot="19187400">
              <a:off x="6121440" y="5860440"/>
              <a:ext cx="37440" cy="269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163"/>
            <p:cNvSpPr/>
            <p:nvPr/>
          </p:nvSpPr>
          <p:spPr>
            <a:xfrm rot="19187400">
              <a:off x="5664240" y="5895360"/>
              <a:ext cx="37440" cy="269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164"/>
            <p:cNvSpPr/>
            <p:nvPr/>
          </p:nvSpPr>
          <p:spPr>
            <a:xfrm rot="19187400">
              <a:off x="5972760" y="5915880"/>
              <a:ext cx="37440" cy="269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165"/>
            <p:cNvSpPr/>
            <p:nvPr/>
          </p:nvSpPr>
          <p:spPr>
            <a:xfrm rot="19187400">
              <a:off x="5676480" y="6025320"/>
              <a:ext cx="37440" cy="269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166"/>
            <p:cNvSpPr/>
            <p:nvPr/>
          </p:nvSpPr>
          <p:spPr>
            <a:xfrm rot="19187400">
              <a:off x="5891040" y="5703840"/>
              <a:ext cx="37440" cy="269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167"/>
            <p:cNvSpPr/>
            <p:nvPr/>
          </p:nvSpPr>
          <p:spPr>
            <a:xfrm rot="19187400">
              <a:off x="6187320" y="5593320"/>
              <a:ext cx="37440" cy="269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168"/>
            <p:cNvSpPr/>
            <p:nvPr/>
          </p:nvSpPr>
          <p:spPr>
            <a:xfrm rot="19187400">
              <a:off x="6092640" y="5884920"/>
              <a:ext cx="37440" cy="269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169"/>
            <p:cNvSpPr/>
            <p:nvPr/>
          </p:nvSpPr>
          <p:spPr>
            <a:xfrm rot="19187400">
              <a:off x="6137640" y="5707080"/>
              <a:ext cx="37440" cy="269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170"/>
            <p:cNvSpPr/>
            <p:nvPr/>
          </p:nvSpPr>
          <p:spPr>
            <a:xfrm rot="19187400">
              <a:off x="6165720" y="5683320"/>
              <a:ext cx="37440" cy="269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171"/>
            <p:cNvSpPr/>
            <p:nvPr/>
          </p:nvSpPr>
          <p:spPr>
            <a:xfrm rot="19187400">
              <a:off x="6228000" y="5700240"/>
              <a:ext cx="37440" cy="269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72"/>
            <p:cNvSpPr/>
            <p:nvPr/>
          </p:nvSpPr>
          <p:spPr>
            <a:xfrm rot="19187400">
              <a:off x="6215400" y="5569560"/>
              <a:ext cx="37440" cy="269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173"/>
            <p:cNvSpPr/>
            <p:nvPr/>
          </p:nvSpPr>
          <p:spPr>
            <a:xfrm rot="19187400">
              <a:off x="5668200" y="5960880"/>
              <a:ext cx="297000" cy="53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174"/>
            <p:cNvSpPr/>
            <p:nvPr/>
          </p:nvSpPr>
          <p:spPr>
            <a:xfrm rot="19187400">
              <a:off x="5881320" y="6219000"/>
              <a:ext cx="26028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175"/>
            <p:cNvSpPr/>
            <p:nvPr/>
          </p:nvSpPr>
          <p:spPr>
            <a:xfrm rot="19187400">
              <a:off x="5736600" y="6285600"/>
              <a:ext cx="222480" cy="53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176"/>
            <p:cNvSpPr/>
            <p:nvPr/>
          </p:nvSpPr>
          <p:spPr>
            <a:xfrm rot="19187400">
              <a:off x="5537160" y="6157080"/>
              <a:ext cx="26028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177"/>
            <p:cNvSpPr/>
            <p:nvPr/>
          </p:nvSpPr>
          <p:spPr>
            <a:xfrm rot="19187400">
              <a:off x="5559480" y="6068160"/>
              <a:ext cx="26028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178"/>
            <p:cNvSpPr/>
            <p:nvPr/>
          </p:nvSpPr>
          <p:spPr>
            <a:xfrm rot="19187400">
              <a:off x="5543640" y="6221880"/>
              <a:ext cx="26028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179"/>
            <p:cNvSpPr/>
            <p:nvPr/>
          </p:nvSpPr>
          <p:spPr>
            <a:xfrm rot="19187400">
              <a:off x="5796360" y="6291000"/>
              <a:ext cx="26028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180"/>
            <p:cNvSpPr/>
            <p:nvPr/>
          </p:nvSpPr>
          <p:spPr>
            <a:xfrm rot="19187400">
              <a:off x="5641560" y="6280560"/>
              <a:ext cx="26028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81"/>
            <p:cNvSpPr/>
            <p:nvPr/>
          </p:nvSpPr>
          <p:spPr>
            <a:xfrm rot="19187400">
              <a:off x="5783400" y="6160680"/>
              <a:ext cx="26028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182"/>
            <p:cNvSpPr/>
            <p:nvPr/>
          </p:nvSpPr>
          <p:spPr>
            <a:xfrm rot="19187400">
              <a:off x="5959080" y="6081480"/>
              <a:ext cx="26028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183"/>
            <p:cNvSpPr/>
            <p:nvPr/>
          </p:nvSpPr>
          <p:spPr>
            <a:xfrm rot="19187400">
              <a:off x="5972760" y="6211800"/>
              <a:ext cx="26028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184"/>
            <p:cNvSpPr/>
            <p:nvPr/>
          </p:nvSpPr>
          <p:spPr>
            <a:xfrm rot="19187400">
              <a:off x="6108120" y="6027480"/>
              <a:ext cx="26028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85"/>
            <p:cNvSpPr/>
            <p:nvPr/>
          </p:nvSpPr>
          <p:spPr>
            <a:xfrm rot="19187400">
              <a:off x="6341760" y="5712120"/>
              <a:ext cx="37440" cy="5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186"/>
            <p:cNvSpPr/>
            <p:nvPr/>
          </p:nvSpPr>
          <p:spPr>
            <a:xfrm flipH="1" rot="8387400">
              <a:off x="6242760" y="5937480"/>
              <a:ext cx="222480" cy="108000"/>
            </a:xfrm>
            <a:custGeom>
              <a:avLst/>
              <a:gdLst>
                <a:gd name="textAreaLeft" fmla="*/ 127800 w 222480"/>
                <a:gd name="textAreaRight" fmla="*/ 188280 w 222480"/>
                <a:gd name="textAreaTop" fmla="*/ 14040 h 108000"/>
                <a:gd name="textAreaBottom" fmla="*/ 4608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187"/>
            <p:cNvSpPr/>
            <p:nvPr/>
          </p:nvSpPr>
          <p:spPr>
            <a:xfrm flipH="1" rot="8387400">
              <a:off x="6296760" y="5835600"/>
              <a:ext cx="185760" cy="108000"/>
            </a:xfrm>
            <a:custGeom>
              <a:avLst/>
              <a:gdLst>
                <a:gd name="textAreaLeft" fmla="*/ 107640 w 185760"/>
                <a:gd name="textAreaRight" fmla="*/ 157680 w 185760"/>
                <a:gd name="textAreaTop" fmla="*/ 14040 h 108000"/>
                <a:gd name="textAreaBottom" fmla="*/ 4608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188"/>
            <p:cNvSpPr/>
            <p:nvPr/>
          </p:nvSpPr>
          <p:spPr>
            <a:xfrm flipV="1" rot="20337600">
              <a:off x="5940000" y="6170040"/>
              <a:ext cx="297000" cy="163800"/>
            </a:xfrm>
            <a:custGeom>
              <a:avLst/>
              <a:gdLst>
                <a:gd name="textAreaLeft" fmla="*/ 171000 w 297000"/>
                <a:gd name="textAreaRight" fmla="*/ 250560 w 297000"/>
                <a:gd name="textAreaTop" fmla="*/ 21960 h 163800"/>
                <a:gd name="textAreaBottom" fmla="*/ 69480 h 16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189"/>
            <p:cNvSpPr/>
            <p:nvPr/>
          </p:nvSpPr>
          <p:spPr>
            <a:xfrm rot="19187400">
              <a:off x="5489280" y="5986080"/>
              <a:ext cx="2592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190"/>
            <p:cNvSpPr/>
            <p:nvPr/>
          </p:nvSpPr>
          <p:spPr>
            <a:xfrm rot="19187400">
              <a:off x="5568120" y="5849280"/>
              <a:ext cx="25956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91"/>
            <p:cNvSpPr/>
            <p:nvPr/>
          </p:nvSpPr>
          <p:spPr>
            <a:xfrm rot="19187400">
              <a:off x="5410080" y="6122880"/>
              <a:ext cx="25956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92"/>
            <p:cNvSpPr/>
            <p:nvPr/>
          </p:nvSpPr>
          <p:spPr>
            <a:xfrm rot="19187400">
              <a:off x="5508720" y="6181200"/>
              <a:ext cx="25956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93"/>
            <p:cNvSpPr/>
            <p:nvPr/>
          </p:nvSpPr>
          <p:spPr>
            <a:xfrm rot="19187400">
              <a:off x="5457600" y="6294240"/>
              <a:ext cx="25956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94"/>
            <p:cNvSpPr/>
            <p:nvPr/>
          </p:nvSpPr>
          <p:spPr>
            <a:xfrm rot="19187400">
              <a:off x="5578200" y="6263640"/>
              <a:ext cx="25956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95"/>
            <p:cNvSpPr/>
            <p:nvPr/>
          </p:nvSpPr>
          <p:spPr>
            <a:xfrm rot="19187400">
              <a:off x="5625000" y="5801400"/>
              <a:ext cx="25956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96"/>
            <p:cNvSpPr/>
            <p:nvPr/>
          </p:nvSpPr>
          <p:spPr>
            <a:xfrm rot="19187400">
              <a:off x="5744520" y="5770080"/>
              <a:ext cx="25956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97"/>
            <p:cNvSpPr/>
            <p:nvPr/>
          </p:nvSpPr>
          <p:spPr>
            <a:xfrm rot="1122600">
              <a:off x="5486760" y="5947200"/>
              <a:ext cx="376560" cy="360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98"/>
            <p:cNvSpPr/>
            <p:nvPr/>
          </p:nvSpPr>
          <p:spPr>
            <a:xfrm rot="1122600">
              <a:off x="5672880" y="5648400"/>
              <a:ext cx="376560" cy="360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99"/>
            <p:cNvSpPr/>
            <p:nvPr/>
          </p:nvSpPr>
          <p:spPr>
            <a:xfrm rot="1122600">
              <a:off x="5947200" y="5628240"/>
              <a:ext cx="376560" cy="360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200"/>
            <p:cNvSpPr/>
            <p:nvPr/>
          </p:nvSpPr>
          <p:spPr>
            <a:xfrm rot="1122600">
              <a:off x="5812560" y="5813640"/>
              <a:ext cx="376560" cy="360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201"/>
            <p:cNvSpPr/>
            <p:nvPr/>
          </p:nvSpPr>
          <p:spPr>
            <a:xfrm rot="1122600">
              <a:off x="5890320" y="5676480"/>
              <a:ext cx="376560" cy="360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202"/>
            <p:cNvSpPr/>
            <p:nvPr/>
          </p:nvSpPr>
          <p:spPr>
            <a:xfrm rot="1122600">
              <a:off x="5606640" y="5916240"/>
              <a:ext cx="376560" cy="360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203"/>
            <p:cNvSpPr/>
            <p:nvPr/>
          </p:nvSpPr>
          <p:spPr>
            <a:xfrm rot="1122600">
              <a:off x="5735520" y="5665320"/>
              <a:ext cx="376560" cy="360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204"/>
            <p:cNvSpPr/>
            <p:nvPr/>
          </p:nvSpPr>
          <p:spPr>
            <a:xfrm rot="1122600">
              <a:off x="5650200" y="5737320"/>
              <a:ext cx="376560" cy="360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205"/>
            <p:cNvSpPr/>
            <p:nvPr/>
          </p:nvSpPr>
          <p:spPr>
            <a:xfrm rot="1122600">
              <a:off x="5802840" y="6033600"/>
              <a:ext cx="376560" cy="360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206"/>
          <p:cNvGrpSpPr/>
          <p:nvPr/>
        </p:nvGrpSpPr>
        <p:grpSpPr>
          <a:xfrm>
            <a:off x="5219640" y="5606640"/>
            <a:ext cx="1368000" cy="896760"/>
            <a:chOff x="5219640" y="5606640"/>
            <a:chExt cx="1368000" cy="896760"/>
          </a:xfrm>
        </p:grpSpPr>
        <p:sp>
          <p:nvSpPr>
            <p:cNvPr id="288" name="AutoShape 207"/>
            <p:cNvSpPr/>
            <p:nvPr/>
          </p:nvSpPr>
          <p:spPr>
            <a:xfrm>
              <a:off x="6173640" y="5967000"/>
              <a:ext cx="414000" cy="322200"/>
            </a:xfrm>
            <a:prstGeom prst="flowChartDecision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08"/>
            <p:cNvSpPr/>
            <p:nvPr/>
          </p:nvSpPr>
          <p:spPr>
            <a:xfrm>
              <a:off x="5427000" y="5805720"/>
              <a:ext cx="995400" cy="591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209"/>
            <p:cNvSpPr/>
            <p:nvPr/>
          </p:nvSpPr>
          <p:spPr>
            <a:xfrm>
              <a:off x="5883120" y="57510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210"/>
            <p:cNvSpPr/>
            <p:nvPr/>
          </p:nvSpPr>
          <p:spPr>
            <a:xfrm>
              <a:off x="6007320" y="59122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211"/>
            <p:cNvSpPr/>
            <p:nvPr/>
          </p:nvSpPr>
          <p:spPr>
            <a:xfrm>
              <a:off x="6131880" y="607356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212"/>
            <p:cNvSpPr/>
            <p:nvPr/>
          </p:nvSpPr>
          <p:spPr>
            <a:xfrm>
              <a:off x="5717520" y="57510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213"/>
            <p:cNvSpPr/>
            <p:nvPr/>
          </p:nvSpPr>
          <p:spPr>
            <a:xfrm>
              <a:off x="5551200" y="59122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214"/>
            <p:cNvSpPr/>
            <p:nvPr/>
          </p:nvSpPr>
          <p:spPr>
            <a:xfrm>
              <a:off x="6131880" y="580572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215"/>
            <p:cNvSpPr/>
            <p:nvPr/>
          </p:nvSpPr>
          <p:spPr>
            <a:xfrm>
              <a:off x="5842080" y="59122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216"/>
            <p:cNvSpPr/>
            <p:nvPr/>
          </p:nvSpPr>
          <p:spPr>
            <a:xfrm>
              <a:off x="5675400" y="585864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217"/>
            <p:cNvSpPr/>
            <p:nvPr/>
          </p:nvSpPr>
          <p:spPr>
            <a:xfrm>
              <a:off x="5717520" y="607356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218"/>
            <p:cNvSpPr/>
            <p:nvPr/>
          </p:nvSpPr>
          <p:spPr>
            <a:xfrm>
              <a:off x="6049440" y="580572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219"/>
            <p:cNvSpPr/>
            <p:nvPr/>
          </p:nvSpPr>
          <p:spPr>
            <a:xfrm>
              <a:off x="5925240" y="59670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220"/>
            <p:cNvSpPr/>
            <p:nvPr/>
          </p:nvSpPr>
          <p:spPr>
            <a:xfrm>
              <a:off x="5799960" y="60202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221"/>
            <p:cNvSpPr/>
            <p:nvPr/>
          </p:nvSpPr>
          <p:spPr>
            <a:xfrm>
              <a:off x="5634360" y="60202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utoShape 222"/>
            <p:cNvSpPr/>
            <p:nvPr/>
          </p:nvSpPr>
          <p:spPr>
            <a:xfrm>
              <a:off x="5966280" y="607356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223"/>
            <p:cNvSpPr/>
            <p:nvPr/>
          </p:nvSpPr>
          <p:spPr>
            <a:xfrm>
              <a:off x="6215040" y="59670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224"/>
            <p:cNvSpPr/>
            <p:nvPr/>
          </p:nvSpPr>
          <p:spPr>
            <a:xfrm>
              <a:off x="5842080" y="612792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225"/>
            <p:cNvSpPr/>
            <p:nvPr/>
          </p:nvSpPr>
          <p:spPr>
            <a:xfrm>
              <a:off x="5510160" y="59670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226"/>
            <p:cNvSpPr/>
            <p:nvPr/>
          </p:nvSpPr>
          <p:spPr>
            <a:xfrm>
              <a:off x="5675400" y="59122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227"/>
            <p:cNvSpPr/>
            <p:nvPr/>
          </p:nvSpPr>
          <p:spPr>
            <a:xfrm>
              <a:off x="6298200" y="585864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228"/>
            <p:cNvSpPr/>
            <p:nvPr/>
          </p:nvSpPr>
          <p:spPr>
            <a:xfrm>
              <a:off x="5758560" y="57510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229"/>
            <p:cNvSpPr/>
            <p:nvPr/>
          </p:nvSpPr>
          <p:spPr>
            <a:xfrm>
              <a:off x="6215040" y="59122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230"/>
            <p:cNvSpPr/>
            <p:nvPr/>
          </p:nvSpPr>
          <p:spPr>
            <a:xfrm>
              <a:off x="6049440" y="607356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231"/>
            <p:cNvSpPr/>
            <p:nvPr/>
          </p:nvSpPr>
          <p:spPr>
            <a:xfrm>
              <a:off x="5634360" y="580572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232"/>
            <p:cNvSpPr/>
            <p:nvPr/>
          </p:nvSpPr>
          <p:spPr>
            <a:xfrm>
              <a:off x="5883120" y="60202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233"/>
            <p:cNvSpPr/>
            <p:nvPr/>
          </p:nvSpPr>
          <p:spPr>
            <a:xfrm>
              <a:off x="5551200" y="59122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234"/>
            <p:cNvSpPr/>
            <p:nvPr/>
          </p:nvSpPr>
          <p:spPr>
            <a:xfrm>
              <a:off x="5966280" y="580572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235"/>
            <p:cNvSpPr/>
            <p:nvPr/>
          </p:nvSpPr>
          <p:spPr>
            <a:xfrm>
              <a:off x="6298200" y="59122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236"/>
            <p:cNvSpPr/>
            <p:nvPr/>
          </p:nvSpPr>
          <p:spPr>
            <a:xfrm>
              <a:off x="6007320" y="607356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237"/>
            <p:cNvSpPr/>
            <p:nvPr/>
          </p:nvSpPr>
          <p:spPr>
            <a:xfrm>
              <a:off x="6173640" y="59670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238"/>
            <p:cNvSpPr/>
            <p:nvPr/>
          </p:nvSpPr>
          <p:spPr>
            <a:xfrm>
              <a:off x="6215040" y="59670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239"/>
            <p:cNvSpPr/>
            <p:nvPr/>
          </p:nvSpPr>
          <p:spPr>
            <a:xfrm>
              <a:off x="6256080" y="60202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240"/>
            <p:cNvSpPr/>
            <p:nvPr/>
          </p:nvSpPr>
          <p:spPr>
            <a:xfrm>
              <a:off x="6339240" y="59122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241"/>
            <p:cNvSpPr/>
            <p:nvPr/>
          </p:nvSpPr>
          <p:spPr>
            <a:xfrm>
              <a:off x="5634360" y="5967000"/>
              <a:ext cx="331560" cy="52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242"/>
            <p:cNvSpPr/>
            <p:nvPr/>
          </p:nvSpPr>
          <p:spPr>
            <a:xfrm>
              <a:off x="5634360" y="628956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243"/>
            <p:cNvSpPr/>
            <p:nvPr/>
          </p:nvSpPr>
          <p:spPr>
            <a:xfrm>
              <a:off x="5469120" y="6234840"/>
              <a:ext cx="248400" cy="53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244"/>
            <p:cNvSpPr/>
            <p:nvPr/>
          </p:nvSpPr>
          <p:spPr>
            <a:xfrm>
              <a:off x="5385600" y="602028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245"/>
            <p:cNvSpPr/>
            <p:nvPr/>
          </p:nvSpPr>
          <p:spPr>
            <a:xfrm>
              <a:off x="5469120" y="5967000"/>
              <a:ext cx="290520" cy="540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246"/>
            <p:cNvSpPr/>
            <p:nvPr/>
          </p:nvSpPr>
          <p:spPr>
            <a:xfrm>
              <a:off x="5344560" y="6073560"/>
              <a:ext cx="290520" cy="540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247"/>
            <p:cNvSpPr/>
            <p:nvPr/>
          </p:nvSpPr>
          <p:spPr>
            <a:xfrm>
              <a:off x="5510160" y="628956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248"/>
            <p:cNvSpPr/>
            <p:nvPr/>
          </p:nvSpPr>
          <p:spPr>
            <a:xfrm>
              <a:off x="5385600" y="618156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249"/>
            <p:cNvSpPr/>
            <p:nvPr/>
          </p:nvSpPr>
          <p:spPr>
            <a:xfrm>
              <a:off x="5593320" y="618156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250"/>
            <p:cNvSpPr/>
            <p:nvPr/>
          </p:nvSpPr>
          <p:spPr>
            <a:xfrm>
              <a:off x="5799960" y="623484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251"/>
            <p:cNvSpPr/>
            <p:nvPr/>
          </p:nvSpPr>
          <p:spPr>
            <a:xfrm>
              <a:off x="5717520" y="6342840"/>
              <a:ext cx="290520" cy="540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252"/>
            <p:cNvSpPr/>
            <p:nvPr/>
          </p:nvSpPr>
          <p:spPr>
            <a:xfrm>
              <a:off x="5966280" y="628956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253"/>
            <p:cNvSpPr/>
            <p:nvPr/>
          </p:nvSpPr>
          <p:spPr>
            <a:xfrm>
              <a:off x="6422400" y="6127920"/>
              <a:ext cx="41760" cy="5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254"/>
            <p:cNvSpPr/>
            <p:nvPr/>
          </p:nvSpPr>
          <p:spPr>
            <a:xfrm flipH="1" rot="10800000">
              <a:off x="6131880" y="6289200"/>
              <a:ext cx="248400" cy="107640"/>
            </a:xfrm>
            <a:custGeom>
              <a:avLst/>
              <a:gdLst>
                <a:gd name="textAreaLeft" fmla="*/ 142560 w 248400"/>
                <a:gd name="textAreaRight" fmla="*/ 210240 w 248400"/>
                <a:gd name="textAreaTop" fmla="*/ 14040 h 107640"/>
                <a:gd name="textAreaBottom" fmla="*/ 46080 h 1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255"/>
            <p:cNvSpPr/>
            <p:nvPr/>
          </p:nvSpPr>
          <p:spPr>
            <a:xfrm flipH="1" rot="10800000">
              <a:off x="6256080" y="6234840"/>
              <a:ext cx="207360" cy="108000"/>
            </a:xfrm>
            <a:custGeom>
              <a:avLst/>
              <a:gdLst>
                <a:gd name="textAreaLeft" fmla="*/ 119520 w 207360"/>
                <a:gd name="textAreaRight" fmla="*/ 175680 w 207360"/>
                <a:gd name="textAreaTop" fmla="*/ 14040 h 108000"/>
                <a:gd name="textAreaBottom" fmla="*/ 4608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256"/>
            <p:cNvSpPr/>
            <p:nvPr/>
          </p:nvSpPr>
          <p:spPr>
            <a:xfrm flipV="1" rot="1150200">
              <a:off x="5675040" y="6289560"/>
              <a:ext cx="331560" cy="163440"/>
            </a:xfrm>
            <a:custGeom>
              <a:avLst/>
              <a:gdLst>
                <a:gd name="textAreaLeft" fmla="*/ 190800 w 331560"/>
                <a:gd name="textAreaRight" fmla="*/ 279720 w 331560"/>
                <a:gd name="textAreaTop" fmla="*/ 22320 h 163440"/>
                <a:gd name="textAreaBottom" fmla="*/ 69840 h 16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257"/>
            <p:cNvSpPr/>
            <p:nvPr/>
          </p:nvSpPr>
          <p:spPr>
            <a:xfrm>
              <a:off x="5469120" y="5858640"/>
              <a:ext cx="28944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258"/>
            <p:cNvSpPr/>
            <p:nvPr/>
          </p:nvSpPr>
          <p:spPr>
            <a:xfrm>
              <a:off x="5634360" y="5805720"/>
              <a:ext cx="28980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259"/>
            <p:cNvSpPr/>
            <p:nvPr/>
          </p:nvSpPr>
          <p:spPr>
            <a:xfrm>
              <a:off x="5302440" y="5912280"/>
              <a:ext cx="28980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260"/>
            <p:cNvSpPr/>
            <p:nvPr/>
          </p:nvSpPr>
          <p:spPr>
            <a:xfrm>
              <a:off x="5344560" y="602028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261"/>
            <p:cNvSpPr/>
            <p:nvPr/>
          </p:nvSpPr>
          <p:spPr>
            <a:xfrm>
              <a:off x="5219640" y="6073560"/>
              <a:ext cx="28980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262"/>
            <p:cNvSpPr/>
            <p:nvPr/>
          </p:nvSpPr>
          <p:spPr>
            <a:xfrm>
              <a:off x="5344560" y="612792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263"/>
            <p:cNvSpPr/>
            <p:nvPr/>
          </p:nvSpPr>
          <p:spPr>
            <a:xfrm>
              <a:off x="5717520" y="5805720"/>
              <a:ext cx="28980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264"/>
            <p:cNvSpPr/>
            <p:nvPr/>
          </p:nvSpPr>
          <p:spPr>
            <a:xfrm>
              <a:off x="5842080" y="585864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265"/>
            <p:cNvSpPr/>
            <p:nvPr/>
          </p:nvSpPr>
          <p:spPr>
            <a:xfrm rot="3535200">
              <a:off x="5507280" y="586584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266"/>
            <p:cNvSpPr/>
            <p:nvPr/>
          </p:nvSpPr>
          <p:spPr>
            <a:xfrm rot="3535200">
              <a:off x="5881320" y="575784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267"/>
            <p:cNvSpPr/>
            <p:nvPr/>
          </p:nvSpPr>
          <p:spPr>
            <a:xfrm rot="3535200">
              <a:off x="6130080" y="591912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268"/>
            <p:cNvSpPr/>
            <p:nvPr/>
          </p:nvSpPr>
          <p:spPr>
            <a:xfrm rot="3535200">
              <a:off x="5881320" y="597384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269"/>
            <p:cNvSpPr/>
            <p:nvPr/>
          </p:nvSpPr>
          <p:spPr>
            <a:xfrm rot="3535200">
              <a:off x="6046920" y="591912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270"/>
            <p:cNvSpPr/>
            <p:nvPr/>
          </p:nvSpPr>
          <p:spPr>
            <a:xfrm rot="3535200">
              <a:off x="5631840" y="591912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271"/>
            <p:cNvSpPr/>
            <p:nvPr/>
          </p:nvSpPr>
          <p:spPr>
            <a:xfrm rot="3535200">
              <a:off x="5922360" y="581112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272"/>
            <p:cNvSpPr/>
            <p:nvPr/>
          </p:nvSpPr>
          <p:spPr>
            <a:xfrm rot="3535200">
              <a:off x="5798160" y="5810400"/>
              <a:ext cx="375840" cy="403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273"/>
            <p:cNvSpPr/>
            <p:nvPr/>
          </p:nvSpPr>
          <p:spPr>
            <a:xfrm rot="3535200">
              <a:off x="5715000" y="613512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74"/>
          <p:cNvGrpSpPr/>
          <p:nvPr/>
        </p:nvGrpSpPr>
        <p:grpSpPr>
          <a:xfrm>
            <a:off x="5480280" y="5169960"/>
            <a:ext cx="808560" cy="1435320"/>
            <a:chOff x="5480280" y="5169960"/>
            <a:chExt cx="808560" cy="1435320"/>
          </a:xfrm>
        </p:grpSpPr>
        <p:sp>
          <p:nvSpPr>
            <p:cNvPr id="356" name="AutoShape 275"/>
            <p:cNvSpPr/>
            <p:nvPr/>
          </p:nvSpPr>
          <p:spPr>
            <a:xfrm rot="17098800">
              <a:off x="5825520" y="5274720"/>
              <a:ext cx="438120" cy="288360"/>
            </a:xfrm>
            <a:prstGeom prst="flowChartDecision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276"/>
            <p:cNvSpPr/>
            <p:nvPr/>
          </p:nvSpPr>
          <p:spPr>
            <a:xfrm rot="17098800">
              <a:off x="5370120" y="5614200"/>
              <a:ext cx="1053360" cy="5295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277"/>
            <p:cNvSpPr/>
            <p:nvPr/>
          </p:nvSpPr>
          <p:spPr>
            <a:xfrm rot="17098800">
              <a:off x="5682240" y="5729400"/>
              <a:ext cx="44280" cy="240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278"/>
            <p:cNvSpPr/>
            <p:nvPr/>
          </p:nvSpPr>
          <p:spPr>
            <a:xfrm rot="17098800">
              <a:off x="5855760" y="5639400"/>
              <a:ext cx="44280" cy="240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279"/>
            <p:cNvSpPr/>
            <p:nvPr/>
          </p:nvSpPr>
          <p:spPr>
            <a:xfrm rot="17098800">
              <a:off x="6029280" y="5549760"/>
              <a:ext cx="44280" cy="240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280"/>
            <p:cNvSpPr/>
            <p:nvPr/>
          </p:nvSpPr>
          <p:spPr>
            <a:xfrm rot="17098800">
              <a:off x="5636880" y="5898600"/>
              <a:ext cx="44280" cy="240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281"/>
            <p:cNvSpPr/>
            <p:nvPr/>
          </p:nvSpPr>
          <p:spPr>
            <a:xfrm rot="17098800">
              <a:off x="5730840" y="6106320"/>
              <a:ext cx="44280" cy="240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282"/>
            <p:cNvSpPr/>
            <p:nvPr/>
          </p:nvSpPr>
          <p:spPr>
            <a:xfrm rot="17098800">
              <a:off x="5797440" y="5487840"/>
              <a:ext cx="44280" cy="240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283"/>
            <p:cNvSpPr/>
            <p:nvPr/>
          </p:nvSpPr>
          <p:spPr>
            <a:xfrm rot="17098800">
              <a:off x="5810400" y="5808960"/>
              <a:ext cx="44280" cy="240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284"/>
            <p:cNvSpPr/>
            <p:nvPr/>
          </p:nvSpPr>
          <p:spPr>
            <a:xfrm rot="17098800">
              <a:off x="5718600" y="5966640"/>
              <a:ext cx="44280" cy="240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285"/>
            <p:cNvSpPr/>
            <p:nvPr/>
          </p:nvSpPr>
          <p:spPr>
            <a:xfrm rot="17098800">
              <a:off x="5915880" y="5973120"/>
              <a:ext cx="44280" cy="240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286"/>
            <p:cNvSpPr/>
            <p:nvPr/>
          </p:nvSpPr>
          <p:spPr>
            <a:xfrm rot="17098800">
              <a:off x="5775120" y="5572080"/>
              <a:ext cx="44280" cy="240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287"/>
            <p:cNvSpPr/>
            <p:nvPr/>
          </p:nvSpPr>
          <p:spPr>
            <a:xfrm rot="17098800">
              <a:off x="5880600" y="5736240"/>
              <a:ext cx="44280" cy="240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288"/>
            <p:cNvSpPr/>
            <p:nvPr/>
          </p:nvSpPr>
          <p:spPr>
            <a:xfrm rot="17098800">
              <a:off x="5892120" y="5876640"/>
              <a:ext cx="44280" cy="240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289"/>
            <p:cNvSpPr/>
            <p:nvPr/>
          </p:nvSpPr>
          <p:spPr>
            <a:xfrm rot="17098800">
              <a:off x="5846760" y="6045840"/>
              <a:ext cx="44280" cy="240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290"/>
            <p:cNvSpPr/>
            <p:nvPr/>
          </p:nvSpPr>
          <p:spPr>
            <a:xfrm rot="17098800">
              <a:off x="5983920" y="5719320"/>
              <a:ext cx="44280" cy="240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291"/>
            <p:cNvSpPr/>
            <p:nvPr/>
          </p:nvSpPr>
          <p:spPr>
            <a:xfrm rot="17098800">
              <a:off x="5959800" y="5439960"/>
              <a:ext cx="44280" cy="240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utoShape 292"/>
            <p:cNvSpPr/>
            <p:nvPr/>
          </p:nvSpPr>
          <p:spPr>
            <a:xfrm rot="17098800">
              <a:off x="5996880" y="5858640"/>
              <a:ext cx="44280" cy="240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293"/>
            <p:cNvSpPr/>
            <p:nvPr/>
          </p:nvSpPr>
          <p:spPr>
            <a:xfrm rot="17098800">
              <a:off x="5767200" y="6160680"/>
              <a:ext cx="44280" cy="240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294"/>
            <p:cNvSpPr/>
            <p:nvPr/>
          </p:nvSpPr>
          <p:spPr>
            <a:xfrm rot="17098800">
              <a:off x="5765040" y="5978880"/>
              <a:ext cx="44280" cy="240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295"/>
            <p:cNvSpPr/>
            <p:nvPr/>
          </p:nvSpPr>
          <p:spPr>
            <a:xfrm rot="17098800">
              <a:off x="5888880" y="5330160"/>
              <a:ext cx="44280" cy="240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96"/>
            <p:cNvSpPr/>
            <p:nvPr/>
          </p:nvSpPr>
          <p:spPr>
            <a:xfrm rot="17098800">
              <a:off x="5648040" y="5856840"/>
              <a:ext cx="44280" cy="240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297"/>
            <p:cNvSpPr/>
            <p:nvPr/>
          </p:nvSpPr>
          <p:spPr>
            <a:xfrm rot="17098800">
              <a:off x="5912640" y="5427360"/>
              <a:ext cx="44280" cy="240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298"/>
            <p:cNvSpPr/>
            <p:nvPr/>
          </p:nvSpPr>
          <p:spPr>
            <a:xfrm rot="17098800">
              <a:off x="6006600" y="5634000"/>
              <a:ext cx="44280" cy="240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299"/>
            <p:cNvSpPr/>
            <p:nvPr/>
          </p:nvSpPr>
          <p:spPr>
            <a:xfrm rot="17098800">
              <a:off x="5661360" y="5996520"/>
              <a:ext cx="44280" cy="240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300"/>
            <p:cNvSpPr/>
            <p:nvPr/>
          </p:nvSpPr>
          <p:spPr>
            <a:xfrm rot="17098800">
              <a:off x="5914800" y="5791680"/>
              <a:ext cx="44280" cy="240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301"/>
            <p:cNvSpPr/>
            <p:nvPr/>
          </p:nvSpPr>
          <p:spPr>
            <a:xfrm rot="17098800">
              <a:off x="5730840" y="6106320"/>
              <a:ext cx="44280" cy="240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302"/>
            <p:cNvSpPr/>
            <p:nvPr/>
          </p:nvSpPr>
          <p:spPr>
            <a:xfrm rot="17098800">
              <a:off x="5752440" y="5657400"/>
              <a:ext cx="44280" cy="240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303"/>
            <p:cNvSpPr/>
            <p:nvPr/>
          </p:nvSpPr>
          <p:spPr>
            <a:xfrm rot="17098800">
              <a:off x="5935320" y="5342400"/>
              <a:ext cx="44280" cy="240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304"/>
            <p:cNvSpPr/>
            <p:nvPr/>
          </p:nvSpPr>
          <p:spPr>
            <a:xfrm rot="17098800">
              <a:off x="5995080" y="5676840"/>
              <a:ext cx="44280" cy="240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305"/>
            <p:cNvSpPr/>
            <p:nvPr/>
          </p:nvSpPr>
          <p:spPr>
            <a:xfrm rot="17098800">
              <a:off x="5948640" y="5482440"/>
              <a:ext cx="44280" cy="240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306"/>
            <p:cNvSpPr/>
            <p:nvPr/>
          </p:nvSpPr>
          <p:spPr>
            <a:xfrm rot="17098800">
              <a:off x="5959800" y="5439960"/>
              <a:ext cx="44280" cy="240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307"/>
            <p:cNvSpPr/>
            <p:nvPr/>
          </p:nvSpPr>
          <p:spPr>
            <a:xfrm rot="17098800">
              <a:off x="6017040" y="5410440"/>
              <a:ext cx="44280" cy="240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308"/>
            <p:cNvSpPr/>
            <p:nvPr/>
          </p:nvSpPr>
          <p:spPr>
            <a:xfrm rot="17098800">
              <a:off x="5946480" y="5300280"/>
              <a:ext cx="44280" cy="2408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309"/>
            <p:cNvSpPr/>
            <p:nvPr/>
          </p:nvSpPr>
          <p:spPr>
            <a:xfrm rot="17098800">
              <a:off x="5594040" y="5957280"/>
              <a:ext cx="350640" cy="475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10"/>
            <p:cNvSpPr/>
            <p:nvPr/>
          </p:nvSpPr>
          <p:spPr>
            <a:xfrm rot="17098800">
              <a:off x="5889600" y="6052320"/>
              <a:ext cx="307440" cy="486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11"/>
            <p:cNvSpPr/>
            <p:nvPr/>
          </p:nvSpPr>
          <p:spPr>
            <a:xfrm rot="17098800">
              <a:off x="5813280" y="6230880"/>
              <a:ext cx="262800" cy="478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312"/>
            <p:cNvSpPr/>
            <p:nvPr/>
          </p:nvSpPr>
          <p:spPr>
            <a:xfrm rot="17098800">
              <a:off x="5588280" y="6244200"/>
              <a:ext cx="307440" cy="486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313"/>
            <p:cNvSpPr/>
            <p:nvPr/>
          </p:nvSpPr>
          <p:spPr>
            <a:xfrm rot="17098800">
              <a:off x="5565240" y="6147000"/>
              <a:ext cx="307440" cy="486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314"/>
            <p:cNvSpPr/>
            <p:nvPr/>
          </p:nvSpPr>
          <p:spPr>
            <a:xfrm rot="17098800">
              <a:off x="5623560" y="6298560"/>
              <a:ext cx="307440" cy="486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315"/>
            <p:cNvSpPr/>
            <p:nvPr/>
          </p:nvSpPr>
          <p:spPr>
            <a:xfrm rot="17098800">
              <a:off x="5855400" y="6179400"/>
              <a:ext cx="307440" cy="486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16"/>
            <p:cNvSpPr/>
            <p:nvPr/>
          </p:nvSpPr>
          <p:spPr>
            <a:xfrm rot="17098800">
              <a:off x="5727960" y="6281640"/>
              <a:ext cx="307440" cy="486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317"/>
            <p:cNvSpPr/>
            <p:nvPr/>
          </p:nvSpPr>
          <p:spPr>
            <a:xfrm rot="17098800">
              <a:off x="5784480" y="6069600"/>
              <a:ext cx="307440" cy="486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318"/>
            <p:cNvSpPr/>
            <p:nvPr/>
          </p:nvSpPr>
          <p:spPr>
            <a:xfrm rot="17098800">
              <a:off x="5887440" y="5870520"/>
              <a:ext cx="307440" cy="486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319"/>
            <p:cNvSpPr/>
            <p:nvPr/>
          </p:nvSpPr>
          <p:spPr>
            <a:xfrm rot="17098800">
              <a:off x="5958360" y="5979600"/>
              <a:ext cx="307440" cy="486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320"/>
            <p:cNvSpPr/>
            <p:nvPr/>
          </p:nvSpPr>
          <p:spPr>
            <a:xfrm rot="17098800">
              <a:off x="5980320" y="5713560"/>
              <a:ext cx="307440" cy="486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21"/>
            <p:cNvSpPr/>
            <p:nvPr/>
          </p:nvSpPr>
          <p:spPr>
            <a:xfrm rot="17098800">
              <a:off x="6062400" y="5336640"/>
              <a:ext cx="442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322"/>
            <p:cNvSpPr/>
            <p:nvPr/>
          </p:nvSpPr>
          <p:spPr>
            <a:xfrm flipH="1" rot="6298800">
              <a:off x="6065280" y="5547600"/>
              <a:ext cx="262800" cy="96480"/>
            </a:xfrm>
            <a:custGeom>
              <a:avLst/>
              <a:gdLst>
                <a:gd name="textAreaLeft" fmla="*/ 151200 w 262800"/>
                <a:gd name="textAreaRight" fmla="*/ 222840 w 262800"/>
                <a:gd name="textAreaTop" fmla="*/ 12600 h 96480"/>
                <a:gd name="textAreaBottom" fmla="*/ 41400 h 9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323"/>
            <p:cNvSpPr/>
            <p:nvPr/>
          </p:nvSpPr>
          <p:spPr>
            <a:xfrm flipH="1" rot="6298800">
              <a:off x="6067800" y="5429880"/>
              <a:ext cx="219240" cy="96480"/>
            </a:xfrm>
            <a:custGeom>
              <a:avLst/>
              <a:gdLst>
                <a:gd name="textAreaLeft" fmla="*/ 126720 w 219240"/>
                <a:gd name="textAreaRight" fmla="*/ 185400 w 219240"/>
                <a:gd name="textAreaTop" fmla="*/ 12600 h 96480"/>
                <a:gd name="textAreaBottom" fmla="*/ 41400 h 9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324"/>
            <p:cNvSpPr/>
            <p:nvPr/>
          </p:nvSpPr>
          <p:spPr>
            <a:xfrm flipV="1" rot="18248400">
              <a:off x="5931720" y="5952960"/>
              <a:ext cx="351000" cy="146520"/>
            </a:xfrm>
            <a:custGeom>
              <a:avLst/>
              <a:gdLst>
                <a:gd name="textAreaLeft" fmla="*/ 201960 w 351000"/>
                <a:gd name="textAreaRight" fmla="*/ 295920 w 351000"/>
                <a:gd name="textAreaTop" fmla="*/ 19800 h 146520"/>
                <a:gd name="textAreaBottom" fmla="*/ 62280 h 14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325"/>
            <p:cNvSpPr/>
            <p:nvPr/>
          </p:nvSpPr>
          <p:spPr>
            <a:xfrm rot="17098800">
              <a:off x="5471640" y="6122520"/>
              <a:ext cx="306360" cy="478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326"/>
            <p:cNvSpPr/>
            <p:nvPr/>
          </p:nvSpPr>
          <p:spPr>
            <a:xfrm rot="17098800">
              <a:off x="5470920" y="5941800"/>
              <a:ext cx="306360" cy="475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327"/>
            <p:cNvSpPr/>
            <p:nvPr/>
          </p:nvSpPr>
          <p:spPr>
            <a:xfrm rot="17098800">
              <a:off x="5472360" y="6305400"/>
              <a:ext cx="306360" cy="475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328"/>
            <p:cNvSpPr/>
            <p:nvPr/>
          </p:nvSpPr>
          <p:spPr>
            <a:xfrm rot="17098800">
              <a:off x="5577120" y="6286680"/>
              <a:ext cx="306360" cy="478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329"/>
            <p:cNvSpPr/>
            <p:nvPr/>
          </p:nvSpPr>
          <p:spPr>
            <a:xfrm rot="17098800">
              <a:off x="5589360" y="6427440"/>
              <a:ext cx="306360" cy="475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330"/>
            <p:cNvSpPr/>
            <p:nvPr/>
          </p:nvSpPr>
          <p:spPr>
            <a:xfrm rot="17098800">
              <a:off x="5670360" y="6311880"/>
              <a:ext cx="306360" cy="478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331"/>
            <p:cNvSpPr/>
            <p:nvPr/>
          </p:nvSpPr>
          <p:spPr>
            <a:xfrm rot="17098800">
              <a:off x="5493960" y="5856480"/>
              <a:ext cx="306360" cy="475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332"/>
            <p:cNvSpPr/>
            <p:nvPr/>
          </p:nvSpPr>
          <p:spPr>
            <a:xfrm rot="17098800">
              <a:off x="5573880" y="5741280"/>
              <a:ext cx="306360" cy="478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333"/>
            <p:cNvSpPr/>
            <p:nvPr/>
          </p:nvSpPr>
          <p:spPr>
            <a:xfrm rot="20634000">
              <a:off x="5479560" y="6041880"/>
              <a:ext cx="336240" cy="424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334"/>
            <p:cNvSpPr/>
            <p:nvPr/>
          </p:nvSpPr>
          <p:spPr>
            <a:xfrm rot="20634000">
              <a:off x="5488560" y="5634720"/>
              <a:ext cx="336240" cy="424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335"/>
            <p:cNvSpPr/>
            <p:nvPr/>
          </p:nvSpPr>
          <p:spPr>
            <a:xfrm rot="20634000">
              <a:off x="5695920" y="5418000"/>
              <a:ext cx="336240" cy="424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336"/>
            <p:cNvSpPr/>
            <p:nvPr/>
          </p:nvSpPr>
          <p:spPr>
            <a:xfrm rot="20634000">
              <a:off x="5675040" y="5684760"/>
              <a:ext cx="336240" cy="424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337"/>
            <p:cNvSpPr/>
            <p:nvPr/>
          </p:nvSpPr>
          <p:spPr>
            <a:xfrm rot="20634000">
              <a:off x="5673240" y="5502600"/>
              <a:ext cx="336240" cy="424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338"/>
            <p:cNvSpPr/>
            <p:nvPr/>
          </p:nvSpPr>
          <p:spPr>
            <a:xfrm rot="20634000">
              <a:off x="5559840" y="5927040"/>
              <a:ext cx="336240" cy="424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339"/>
            <p:cNvSpPr/>
            <p:nvPr/>
          </p:nvSpPr>
          <p:spPr>
            <a:xfrm rot="20634000">
              <a:off x="5545800" y="5605200"/>
              <a:ext cx="336240" cy="424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340"/>
            <p:cNvSpPr/>
            <p:nvPr/>
          </p:nvSpPr>
          <p:spPr>
            <a:xfrm rot="20634000">
              <a:off x="5511960" y="5732280"/>
              <a:ext cx="336240" cy="424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AutoShape 341"/>
            <p:cNvSpPr/>
            <p:nvPr/>
          </p:nvSpPr>
          <p:spPr>
            <a:xfrm rot="20634000">
              <a:off x="5769000" y="5892120"/>
              <a:ext cx="336240" cy="424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342"/>
          <p:cNvGrpSpPr/>
          <p:nvPr/>
        </p:nvGrpSpPr>
        <p:grpSpPr>
          <a:xfrm>
            <a:off x="6668640" y="-46440"/>
            <a:ext cx="957240" cy="1360800"/>
            <a:chOff x="6668640" y="-46440"/>
            <a:chExt cx="957240" cy="1360800"/>
          </a:xfrm>
        </p:grpSpPr>
        <p:sp>
          <p:nvSpPr>
            <p:cNvPr id="424" name="AutoShape 343"/>
            <p:cNvSpPr/>
            <p:nvPr/>
          </p:nvSpPr>
          <p:spPr>
            <a:xfrm flipH="1" rot="5884200">
              <a:off x="6919200" y="3960"/>
              <a:ext cx="405720" cy="349560"/>
            </a:xfrm>
            <a:prstGeom prst="flowChartDecision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344"/>
            <p:cNvSpPr/>
            <p:nvPr/>
          </p:nvSpPr>
          <p:spPr>
            <a:xfrm flipH="1" rot="5884200">
              <a:off x="6600240" y="304920"/>
              <a:ext cx="975600" cy="6415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utoShape 345"/>
            <p:cNvSpPr/>
            <p:nvPr/>
          </p:nvSpPr>
          <p:spPr>
            <a:xfrm flipH="1" rot="5884200">
              <a:off x="7295760" y="532440"/>
              <a:ext cx="4104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AutoShape 346"/>
            <p:cNvSpPr/>
            <p:nvPr/>
          </p:nvSpPr>
          <p:spPr>
            <a:xfrm flipH="1" rot="5884200">
              <a:off x="7139520" y="387360"/>
              <a:ext cx="4104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347"/>
            <p:cNvSpPr/>
            <p:nvPr/>
          </p:nvSpPr>
          <p:spPr>
            <a:xfrm flipH="1" rot="5884200">
              <a:off x="6983640" y="241920"/>
              <a:ext cx="4104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AutoShape 348"/>
            <p:cNvSpPr/>
            <p:nvPr/>
          </p:nvSpPr>
          <p:spPr>
            <a:xfrm flipH="1" rot="5884200">
              <a:off x="7273080" y="693000"/>
              <a:ext cx="4104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349"/>
            <p:cNvSpPr/>
            <p:nvPr/>
          </p:nvSpPr>
          <p:spPr>
            <a:xfrm flipH="1" rot="5884200">
              <a:off x="7076880" y="830160"/>
              <a:ext cx="4104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350"/>
            <p:cNvSpPr/>
            <p:nvPr/>
          </p:nvSpPr>
          <p:spPr>
            <a:xfrm flipH="1" rot="5884200">
              <a:off x="7271640" y="282960"/>
              <a:ext cx="4104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351"/>
            <p:cNvSpPr/>
            <p:nvPr/>
          </p:nvSpPr>
          <p:spPr>
            <a:xfrm flipH="1" rot="5884200">
              <a:off x="7116840" y="547920"/>
              <a:ext cx="4104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352"/>
            <p:cNvSpPr/>
            <p:nvPr/>
          </p:nvSpPr>
          <p:spPr>
            <a:xfrm flipH="1" rot="5884200">
              <a:off x="7151400" y="717840"/>
              <a:ext cx="4104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353"/>
            <p:cNvSpPr/>
            <p:nvPr/>
          </p:nvSpPr>
          <p:spPr>
            <a:xfrm flipH="1" rot="5884200">
              <a:off x="6926400" y="644040"/>
              <a:ext cx="4104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utoShape 354"/>
            <p:cNvSpPr/>
            <p:nvPr/>
          </p:nvSpPr>
          <p:spPr>
            <a:xfrm flipH="1" rot="5884200">
              <a:off x="7260120" y="362520"/>
              <a:ext cx="4104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355"/>
            <p:cNvSpPr/>
            <p:nvPr/>
          </p:nvSpPr>
          <p:spPr>
            <a:xfrm flipH="1" rot="5884200">
              <a:off x="7070040" y="459000"/>
              <a:ext cx="4104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356"/>
            <p:cNvSpPr/>
            <p:nvPr/>
          </p:nvSpPr>
          <p:spPr>
            <a:xfrm flipH="1" rot="5884200">
              <a:off x="6995160" y="572400"/>
              <a:ext cx="4104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357"/>
            <p:cNvSpPr/>
            <p:nvPr/>
          </p:nvSpPr>
          <p:spPr>
            <a:xfrm flipH="1" rot="5884200">
              <a:off x="6972480" y="732600"/>
              <a:ext cx="4104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358"/>
            <p:cNvSpPr/>
            <p:nvPr/>
          </p:nvSpPr>
          <p:spPr>
            <a:xfrm flipH="1" rot="5884200">
              <a:off x="6960600" y="402840"/>
              <a:ext cx="4104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359"/>
            <p:cNvSpPr/>
            <p:nvPr/>
          </p:nvSpPr>
          <p:spPr>
            <a:xfrm flipH="1" rot="5884200">
              <a:off x="7109640" y="177840"/>
              <a:ext cx="4104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360"/>
            <p:cNvSpPr/>
            <p:nvPr/>
          </p:nvSpPr>
          <p:spPr>
            <a:xfrm flipH="1" rot="5884200">
              <a:off x="6885360" y="514800"/>
              <a:ext cx="4104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361"/>
            <p:cNvSpPr/>
            <p:nvPr/>
          </p:nvSpPr>
          <p:spPr>
            <a:xfrm flipH="1" rot="5884200">
              <a:off x="7012800" y="861840"/>
              <a:ext cx="4104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362"/>
            <p:cNvSpPr/>
            <p:nvPr/>
          </p:nvSpPr>
          <p:spPr>
            <a:xfrm flipH="1" rot="5884200">
              <a:off x="7093800" y="709560"/>
              <a:ext cx="4104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363"/>
            <p:cNvSpPr/>
            <p:nvPr/>
          </p:nvSpPr>
          <p:spPr>
            <a:xfrm flipH="1" rot="5884200">
              <a:off x="7237080" y="113040"/>
              <a:ext cx="4104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364"/>
            <p:cNvSpPr/>
            <p:nvPr/>
          </p:nvSpPr>
          <p:spPr>
            <a:xfrm flipH="1" rot="5884200">
              <a:off x="7278480" y="653400"/>
              <a:ext cx="4104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365"/>
            <p:cNvSpPr/>
            <p:nvPr/>
          </p:nvSpPr>
          <p:spPr>
            <a:xfrm flipH="1" rot="5884200">
              <a:off x="7168320" y="186120"/>
              <a:ext cx="4104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366"/>
            <p:cNvSpPr/>
            <p:nvPr/>
          </p:nvSpPr>
          <p:spPr>
            <a:xfrm flipH="1" rot="5884200">
              <a:off x="6972120" y="321840"/>
              <a:ext cx="4104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367"/>
            <p:cNvSpPr/>
            <p:nvPr/>
          </p:nvSpPr>
          <p:spPr>
            <a:xfrm flipH="1" rot="5884200">
              <a:off x="7203240" y="765360"/>
              <a:ext cx="4104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368"/>
            <p:cNvSpPr/>
            <p:nvPr/>
          </p:nvSpPr>
          <p:spPr>
            <a:xfrm flipH="1" rot="5884200">
              <a:off x="7006680" y="491400"/>
              <a:ext cx="4104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369"/>
            <p:cNvSpPr/>
            <p:nvPr/>
          </p:nvSpPr>
          <p:spPr>
            <a:xfrm flipH="1" rot="5884200">
              <a:off x="7076880" y="830160"/>
              <a:ext cx="4104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AutoShape 370"/>
            <p:cNvSpPr/>
            <p:nvPr/>
          </p:nvSpPr>
          <p:spPr>
            <a:xfrm flipH="1" rot="5884200">
              <a:off x="7248600" y="443520"/>
              <a:ext cx="4104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371"/>
            <p:cNvSpPr/>
            <p:nvPr/>
          </p:nvSpPr>
          <p:spPr>
            <a:xfrm flipH="1" rot="5884200">
              <a:off x="7179840" y="105120"/>
              <a:ext cx="4104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372"/>
            <p:cNvSpPr/>
            <p:nvPr/>
          </p:nvSpPr>
          <p:spPr>
            <a:xfrm flipH="1" rot="5884200">
              <a:off x="6966360" y="362880"/>
              <a:ext cx="4104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373"/>
            <p:cNvSpPr/>
            <p:nvPr/>
          </p:nvSpPr>
          <p:spPr>
            <a:xfrm flipH="1" rot="5884200">
              <a:off x="7104240" y="217440"/>
              <a:ext cx="4104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374"/>
            <p:cNvSpPr/>
            <p:nvPr/>
          </p:nvSpPr>
          <p:spPr>
            <a:xfrm flipH="1" rot="5884200">
              <a:off x="7109640" y="177840"/>
              <a:ext cx="4104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375"/>
            <p:cNvSpPr/>
            <p:nvPr/>
          </p:nvSpPr>
          <p:spPr>
            <a:xfrm flipH="1" rot="5884200">
              <a:off x="7058160" y="129600"/>
              <a:ext cx="4104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utoShape 376"/>
            <p:cNvSpPr/>
            <p:nvPr/>
          </p:nvSpPr>
          <p:spPr>
            <a:xfrm flipH="1" rot="5884200">
              <a:off x="7185240" y="65160"/>
              <a:ext cx="4104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377"/>
            <p:cNvSpPr/>
            <p:nvPr/>
          </p:nvSpPr>
          <p:spPr>
            <a:xfrm flipH="1" rot="5884200">
              <a:off x="7023960" y="733680"/>
              <a:ext cx="325080" cy="57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378"/>
            <p:cNvSpPr/>
            <p:nvPr/>
          </p:nvSpPr>
          <p:spPr>
            <a:xfrm flipH="1" rot="5884200">
              <a:off x="6694200" y="703440"/>
              <a:ext cx="284760" cy="590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379"/>
            <p:cNvSpPr/>
            <p:nvPr/>
          </p:nvSpPr>
          <p:spPr>
            <a:xfrm flipH="1" rot="5884200">
              <a:off x="6747840" y="893520"/>
              <a:ext cx="243360" cy="583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380"/>
            <p:cNvSpPr/>
            <p:nvPr/>
          </p:nvSpPr>
          <p:spPr>
            <a:xfrm flipH="1" rot="5884200">
              <a:off x="6948720" y="986400"/>
              <a:ext cx="285120" cy="590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381"/>
            <p:cNvSpPr/>
            <p:nvPr/>
          </p:nvSpPr>
          <p:spPr>
            <a:xfrm flipH="1" rot="5884200">
              <a:off x="7018200" y="913680"/>
              <a:ext cx="284760" cy="586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382"/>
            <p:cNvSpPr/>
            <p:nvPr/>
          </p:nvSpPr>
          <p:spPr>
            <a:xfrm flipH="1" rot="5884200">
              <a:off x="6886440" y="1018440"/>
              <a:ext cx="284760" cy="586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383"/>
            <p:cNvSpPr/>
            <p:nvPr/>
          </p:nvSpPr>
          <p:spPr>
            <a:xfrm flipH="1" rot="5884200">
              <a:off x="6677280" y="824400"/>
              <a:ext cx="284760" cy="590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384"/>
            <p:cNvSpPr/>
            <p:nvPr/>
          </p:nvSpPr>
          <p:spPr>
            <a:xfrm flipH="1" rot="5884200">
              <a:off x="6775560" y="961560"/>
              <a:ext cx="285120" cy="590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385"/>
            <p:cNvSpPr/>
            <p:nvPr/>
          </p:nvSpPr>
          <p:spPr>
            <a:xfrm flipH="1" rot="5884200">
              <a:off x="6804000" y="760320"/>
              <a:ext cx="285120" cy="590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386"/>
            <p:cNvSpPr/>
            <p:nvPr/>
          </p:nvSpPr>
          <p:spPr>
            <a:xfrm flipH="1" rot="5884200">
              <a:off x="6775560" y="551520"/>
              <a:ext cx="284760" cy="590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87"/>
            <p:cNvSpPr/>
            <p:nvPr/>
          </p:nvSpPr>
          <p:spPr>
            <a:xfrm flipH="1" rot="5884200">
              <a:off x="6648480" y="615240"/>
              <a:ext cx="284760" cy="586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88"/>
            <p:cNvSpPr/>
            <p:nvPr/>
          </p:nvSpPr>
          <p:spPr>
            <a:xfrm flipH="1" rot="5884200">
              <a:off x="6739560" y="381600"/>
              <a:ext cx="285120" cy="590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89"/>
            <p:cNvSpPr/>
            <p:nvPr/>
          </p:nvSpPr>
          <p:spPr>
            <a:xfrm flipH="1" rot="5884200">
              <a:off x="7080840" y="84960"/>
              <a:ext cx="41040" cy="5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390"/>
            <p:cNvSpPr/>
            <p:nvPr/>
          </p:nvSpPr>
          <p:spPr>
            <a:xfrm rot="16684200">
              <a:off x="6751800" y="208800"/>
              <a:ext cx="243360" cy="116640"/>
            </a:xfrm>
            <a:custGeom>
              <a:avLst/>
              <a:gdLst>
                <a:gd name="textAreaLeft" fmla="*/ 139680 w 243360"/>
                <a:gd name="textAreaRight" fmla="*/ 205920 w 243360"/>
                <a:gd name="textAreaTop" fmla="*/ 15120 h 116640"/>
                <a:gd name="textAreaBottom" fmla="*/ 50040 h 11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391"/>
            <p:cNvSpPr/>
            <p:nvPr/>
          </p:nvSpPr>
          <p:spPr>
            <a:xfrm rot="16684200">
              <a:off x="6844680" y="116640"/>
              <a:ext cx="203400" cy="116640"/>
            </a:xfrm>
            <a:custGeom>
              <a:avLst/>
              <a:gdLst>
                <a:gd name="textAreaLeft" fmla="*/ 117360 w 203400"/>
                <a:gd name="textAreaRight" fmla="*/ 172080 w 203400"/>
                <a:gd name="textAreaTop" fmla="*/ 15120 h 116640"/>
                <a:gd name="textAreaBottom" fmla="*/ 50040 h 11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392"/>
            <p:cNvSpPr/>
            <p:nvPr/>
          </p:nvSpPr>
          <p:spPr>
            <a:xfrm flipH="1" flipV="1" rot="4734000">
              <a:off x="6624360" y="576360"/>
              <a:ext cx="325080" cy="177480"/>
            </a:xfrm>
            <a:custGeom>
              <a:avLst/>
              <a:gdLst>
                <a:gd name="textAreaLeft" fmla="*/ 186840 w 325080"/>
                <a:gd name="textAreaRight" fmla="*/ 273960 w 325080"/>
                <a:gd name="textAreaTop" fmla="*/ 24480 h 177480"/>
                <a:gd name="textAreaBottom" fmla="*/ 75960 h 17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393"/>
            <p:cNvSpPr/>
            <p:nvPr/>
          </p:nvSpPr>
          <p:spPr>
            <a:xfrm flipH="1" rot="5884200">
              <a:off x="7134480" y="930960"/>
              <a:ext cx="283680" cy="583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394"/>
            <p:cNvSpPr/>
            <p:nvPr/>
          </p:nvSpPr>
          <p:spPr>
            <a:xfrm flipH="1" rot="5884200">
              <a:off x="7215120" y="778320"/>
              <a:ext cx="284040" cy="57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utoShape 395"/>
            <p:cNvSpPr/>
            <p:nvPr/>
          </p:nvSpPr>
          <p:spPr>
            <a:xfrm flipH="1" rot="5884200">
              <a:off x="7054560" y="1084320"/>
              <a:ext cx="284040" cy="57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AutoShape 396"/>
            <p:cNvSpPr/>
            <p:nvPr/>
          </p:nvSpPr>
          <p:spPr>
            <a:xfrm flipH="1" rot="5884200">
              <a:off x="6944040" y="1027080"/>
              <a:ext cx="284040" cy="583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397"/>
            <p:cNvSpPr/>
            <p:nvPr/>
          </p:nvSpPr>
          <p:spPr>
            <a:xfrm flipH="1" rot="5884200">
              <a:off x="6869880" y="1140480"/>
              <a:ext cx="284040" cy="57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398"/>
            <p:cNvSpPr/>
            <p:nvPr/>
          </p:nvSpPr>
          <p:spPr>
            <a:xfrm flipH="1" rot="5884200">
              <a:off x="6828120" y="1010880"/>
              <a:ext cx="284040" cy="583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399"/>
            <p:cNvSpPr/>
            <p:nvPr/>
          </p:nvSpPr>
          <p:spPr>
            <a:xfrm flipH="1" rot="5884200">
              <a:off x="7226280" y="697680"/>
              <a:ext cx="284040" cy="57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AutoShape 400"/>
            <p:cNvSpPr/>
            <p:nvPr/>
          </p:nvSpPr>
          <p:spPr>
            <a:xfrm flipH="1" rot="5884200">
              <a:off x="7185960" y="568800"/>
              <a:ext cx="284040" cy="583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401"/>
            <p:cNvSpPr/>
            <p:nvPr/>
          </p:nvSpPr>
          <p:spPr>
            <a:xfrm flipH="1" rot="2349000">
              <a:off x="7084080" y="861840"/>
              <a:ext cx="407520" cy="3924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402"/>
            <p:cNvSpPr/>
            <p:nvPr/>
          </p:nvSpPr>
          <p:spPr>
            <a:xfrm flipH="1" rot="2349000">
              <a:off x="7251120" y="514800"/>
              <a:ext cx="407520" cy="3924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403"/>
            <p:cNvSpPr/>
            <p:nvPr/>
          </p:nvSpPr>
          <p:spPr>
            <a:xfrm flipH="1" rot="2349000">
              <a:off x="7112160" y="249120"/>
              <a:ext cx="407520" cy="3924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404"/>
            <p:cNvSpPr/>
            <p:nvPr/>
          </p:nvSpPr>
          <p:spPr>
            <a:xfrm flipH="1" rot="2349000">
              <a:off x="7019640" y="482040"/>
              <a:ext cx="407520" cy="3924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405"/>
            <p:cNvSpPr/>
            <p:nvPr/>
          </p:nvSpPr>
          <p:spPr>
            <a:xfrm flipH="1" rot="2349000">
              <a:off x="7100640" y="329760"/>
              <a:ext cx="407520" cy="3924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406"/>
            <p:cNvSpPr/>
            <p:nvPr/>
          </p:nvSpPr>
          <p:spPr>
            <a:xfrm flipH="1" rot="2349000">
              <a:off x="7043760" y="732600"/>
              <a:ext cx="407520" cy="3924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407"/>
            <p:cNvSpPr/>
            <p:nvPr/>
          </p:nvSpPr>
          <p:spPr>
            <a:xfrm flipH="1" rot="2349000">
              <a:off x="7199640" y="466920"/>
              <a:ext cx="407520" cy="3924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408"/>
            <p:cNvSpPr/>
            <p:nvPr/>
          </p:nvSpPr>
          <p:spPr>
            <a:xfrm flipH="1" rot="2349000">
              <a:off x="7182360" y="586800"/>
              <a:ext cx="407520" cy="396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utoShape 409"/>
            <p:cNvSpPr/>
            <p:nvPr/>
          </p:nvSpPr>
          <p:spPr>
            <a:xfrm flipH="1" rot="2349000">
              <a:off x="6823440" y="618840"/>
              <a:ext cx="407520" cy="3924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410"/>
          <p:cNvGrpSpPr/>
          <p:nvPr/>
        </p:nvGrpSpPr>
        <p:grpSpPr>
          <a:xfrm>
            <a:off x="6180840" y="269640"/>
            <a:ext cx="1375560" cy="913680"/>
            <a:chOff x="6180840" y="269640"/>
            <a:chExt cx="1375560" cy="913680"/>
          </a:xfrm>
        </p:grpSpPr>
        <p:sp>
          <p:nvSpPr>
            <p:cNvPr id="492" name="AutoShape 411"/>
            <p:cNvSpPr/>
            <p:nvPr/>
          </p:nvSpPr>
          <p:spPr>
            <a:xfrm flipV="1" rot="11745000">
              <a:off x="6216840" y="503280"/>
              <a:ext cx="414000" cy="322200"/>
            </a:xfrm>
            <a:prstGeom prst="flowChartDecision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412"/>
            <p:cNvSpPr/>
            <p:nvPr/>
          </p:nvSpPr>
          <p:spPr>
            <a:xfrm flipV="1" rot="11745000">
              <a:off x="6372000" y="466920"/>
              <a:ext cx="995760" cy="5918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413"/>
            <p:cNvSpPr/>
            <p:nvPr/>
          </p:nvSpPr>
          <p:spPr>
            <a:xfrm flipV="1" rot="11745000">
              <a:off x="6928560" y="42660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414"/>
            <p:cNvSpPr/>
            <p:nvPr/>
          </p:nvSpPr>
          <p:spPr>
            <a:xfrm flipV="1" rot="11745000">
              <a:off x="6764760" y="54792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415"/>
            <p:cNvSpPr/>
            <p:nvPr/>
          </p:nvSpPr>
          <p:spPr>
            <a:xfrm flipV="1" rot="11745000">
              <a:off x="6600960" y="66924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416"/>
            <p:cNvSpPr/>
            <p:nvPr/>
          </p:nvSpPr>
          <p:spPr>
            <a:xfrm flipV="1" rot="11745000">
              <a:off x="7087320" y="47160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417"/>
            <p:cNvSpPr/>
            <p:nvPr/>
          </p:nvSpPr>
          <p:spPr>
            <a:xfrm flipV="1" rot="11745000">
              <a:off x="7203960" y="67176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418"/>
            <p:cNvSpPr/>
            <p:nvPr/>
          </p:nvSpPr>
          <p:spPr>
            <a:xfrm flipV="1" rot="11745000">
              <a:off x="6673680" y="41148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419"/>
            <p:cNvSpPr/>
            <p:nvPr/>
          </p:nvSpPr>
          <p:spPr>
            <a:xfrm flipV="1" rot="11745000">
              <a:off x="6924240" y="59292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420"/>
            <p:cNvSpPr/>
            <p:nvPr/>
          </p:nvSpPr>
          <p:spPr>
            <a:xfrm flipV="1" rot="11745000">
              <a:off x="7098840" y="58644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421"/>
            <p:cNvSpPr/>
            <p:nvPr/>
          </p:nvSpPr>
          <p:spPr>
            <a:xfrm flipV="1" rot="11745000">
              <a:off x="6999840" y="78192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422"/>
            <p:cNvSpPr/>
            <p:nvPr/>
          </p:nvSpPr>
          <p:spPr>
            <a:xfrm flipV="1" rot="11745000">
              <a:off x="6753240" y="43416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423"/>
            <p:cNvSpPr/>
            <p:nvPr/>
          </p:nvSpPr>
          <p:spPr>
            <a:xfrm flipV="1" rot="11745000">
              <a:off x="6829200" y="62316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424"/>
            <p:cNvSpPr/>
            <p:nvPr/>
          </p:nvSpPr>
          <p:spPr>
            <a:xfrm flipV="1" rot="11745000">
              <a:off x="6935400" y="70848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425"/>
            <p:cNvSpPr/>
            <p:nvPr/>
          </p:nvSpPr>
          <p:spPr>
            <a:xfrm flipV="1" rot="11745000">
              <a:off x="7094520" y="75312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426"/>
            <p:cNvSpPr/>
            <p:nvPr/>
          </p:nvSpPr>
          <p:spPr>
            <a:xfrm flipV="1" rot="11745000">
              <a:off x="6760800" y="71460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427"/>
            <p:cNvSpPr/>
            <p:nvPr/>
          </p:nvSpPr>
          <p:spPr>
            <a:xfrm flipV="1" rot="11745000">
              <a:off x="6549840" y="54432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428"/>
            <p:cNvSpPr/>
            <p:nvPr/>
          </p:nvSpPr>
          <p:spPr>
            <a:xfrm flipV="1" rot="11745000">
              <a:off x="6865560" y="80064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429"/>
            <p:cNvSpPr/>
            <p:nvPr/>
          </p:nvSpPr>
          <p:spPr>
            <a:xfrm flipV="1" rot="11745000">
              <a:off x="7228800" y="73584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AutoShape 430"/>
            <p:cNvSpPr/>
            <p:nvPr/>
          </p:nvSpPr>
          <p:spPr>
            <a:xfrm flipV="1" rot="11745000">
              <a:off x="7084080" y="63792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431"/>
            <p:cNvSpPr/>
            <p:nvPr/>
          </p:nvSpPr>
          <p:spPr>
            <a:xfrm flipV="1" rot="11745000">
              <a:off x="6499440" y="41724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432"/>
            <p:cNvSpPr/>
            <p:nvPr/>
          </p:nvSpPr>
          <p:spPr>
            <a:xfrm flipV="1" rot="11745000">
              <a:off x="7048080" y="46044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433"/>
            <p:cNvSpPr/>
            <p:nvPr/>
          </p:nvSpPr>
          <p:spPr>
            <a:xfrm flipV="1" rot="11745000">
              <a:off x="6564960" y="49176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434"/>
            <p:cNvSpPr/>
            <p:nvPr/>
          </p:nvSpPr>
          <p:spPr>
            <a:xfrm flipV="1" rot="11745000">
              <a:off x="6680520" y="69192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435"/>
            <p:cNvSpPr/>
            <p:nvPr/>
          </p:nvSpPr>
          <p:spPr>
            <a:xfrm flipV="1" rot="11745000">
              <a:off x="7152840" y="54684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436"/>
            <p:cNvSpPr/>
            <p:nvPr/>
          </p:nvSpPr>
          <p:spPr>
            <a:xfrm flipV="1" rot="11745000">
              <a:off x="6855480" y="68580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437"/>
            <p:cNvSpPr/>
            <p:nvPr/>
          </p:nvSpPr>
          <p:spPr>
            <a:xfrm flipV="1" rot="11745000">
              <a:off x="7203960" y="67176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utoShape 438"/>
            <p:cNvSpPr/>
            <p:nvPr/>
          </p:nvSpPr>
          <p:spPr>
            <a:xfrm flipV="1" rot="11745000">
              <a:off x="6833520" y="45684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439"/>
            <p:cNvSpPr/>
            <p:nvPr/>
          </p:nvSpPr>
          <p:spPr>
            <a:xfrm flipV="1" rot="11745000">
              <a:off x="6484680" y="46908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440"/>
            <p:cNvSpPr/>
            <p:nvPr/>
          </p:nvSpPr>
          <p:spPr>
            <a:xfrm flipV="1" rot="11745000">
              <a:off x="6720840" y="70308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AutoShape 441"/>
            <p:cNvSpPr/>
            <p:nvPr/>
          </p:nvSpPr>
          <p:spPr>
            <a:xfrm flipV="1" rot="11745000">
              <a:off x="6589800" y="55548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AutoShape 442"/>
            <p:cNvSpPr/>
            <p:nvPr/>
          </p:nvSpPr>
          <p:spPr>
            <a:xfrm flipV="1" rot="11745000">
              <a:off x="6549840" y="54432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443"/>
            <p:cNvSpPr/>
            <p:nvPr/>
          </p:nvSpPr>
          <p:spPr>
            <a:xfrm flipV="1" rot="11745000">
              <a:off x="6496200" y="58428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444"/>
            <p:cNvSpPr/>
            <p:nvPr/>
          </p:nvSpPr>
          <p:spPr>
            <a:xfrm flipV="1" rot="11745000">
              <a:off x="6445440" y="45792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utoShape 445"/>
            <p:cNvSpPr/>
            <p:nvPr/>
          </p:nvSpPr>
          <p:spPr>
            <a:xfrm flipV="1" rot="11745000">
              <a:off x="6853320" y="666720"/>
              <a:ext cx="331560" cy="52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utoShape 446"/>
            <p:cNvSpPr/>
            <p:nvPr/>
          </p:nvSpPr>
          <p:spPr>
            <a:xfrm flipV="1" rot="11745000">
              <a:off x="6805800" y="98244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AutoShape 447"/>
            <p:cNvSpPr/>
            <p:nvPr/>
          </p:nvSpPr>
          <p:spPr>
            <a:xfrm flipV="1" rot="11745000">
              <a:off x="7021440" y="981000"/>
              <a:ext cx="248400" cy="53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AutoShape 448"/>
            <p:cNvSpPr/>
            <p:nvPr/>
          </p:nvSpPr>
          <p:spPr>
            <a:xfrm flipV="1" rot="11745000">
              <a:off x="7118280" y="790920"/>
              <a:ext cx="29088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449"/>
            <p:cNvSpPr/>
            <p:nvPr/>
          </p:nvSpPr>
          <p:spPr>
            <a:xfrm flipV="1" rot="11745000">
              <a:off x="7052760" y="717120"/>
              <a:ext cx="290520" cy="53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450"/>
            <p:cNvSpPr/>
            <p:nvPr/>
          </p:nvSpPr>
          <p:spPr>
            <a:xfrm flipV="1" rot="11745000">
              <a:off x="7143480" y="853200"/>
              <a:ext cx="290520" cy="53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451"/>
            <p:cNvSpPr/>
            <p:nvPr/>
          </p:nvSpPr>
          <p:spPr>
            <a:xfrm flipV="1" rot="11745000">
              <a:off x="6925680" y="101628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452"/>
            <p:cNvSpPr/>
            <p:nvPr/>
          </p:nvSpPr>
          <p:spPr>
            <a:xfrm flipV="1" rot="11745000">
              <a:off x="7074360" y="946080"/>
              <a:ext cx="29088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453"/>
            <p:cNvSpPr/>
            <p:nvPr/>
          </p:nvSpPr>
          <p:spPr>
            <a:xfrm flipV="1" rot="11745000">
              <a:off x="6874560" y="889920"/>
              <a:ext cx="29088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454"/>
            <p:cNvSpPr/>
            <p:nvPr/>
          </p:nvSpPr>
          <p:spPr>
            <a:xfrm flipV="1" rot="11745000">
              <a:off x="6661440" y="88488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455"/>
            <p:cNvSpPr/>
            <p:nvPr/>
          </p:nvSpPr>
          <p:spPr>
            <a:xfrm flipV="1" rot="11745000">
              <a:off x="6711120" y="1011240"/>
              <a:ext cx="290520" cy="53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456"/>
            <p:cNvSpPr/>
            <p:nvPr/>
          </p:nvSpPr>
          <p:spPr>
            <a:xfrm flipV="1" rot="11745000">
              <a:off x="6486120" y="892440"/>
              <a:ext cx="29088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457"/>
            <p:cNvSpPr/>
            <p:nvPr/>
          </p:nvSpPr>
          <p:spPr>
            <a:xfrm flipV="1" rot="11745000">
              <a:off x="6335640" y="647280"/>
              <a:ext cx="41760" cy="5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458"/>
            <p:cNvSpPr/>
            <p:nvPr/>
          </p:nvSpPr>
          <p:spPr>
            <a:xfrm flipH="1" flipV="1" rot="945000">
              <a:off x="6360840" y="851760"/>
              <a:ext cx="248400" cy="107280"/>
            </a:xfrm>
            <a:custGeom>
              <a:avLst/>
              <a:gdLst>
                <a:gd name="textAreaLeft" fmla="*/ 142560 w 248400"/>
                <a:gd name="textAreaRight" fmla="*/ 210240 w 248400"/>
                <a:gd name="textAreaTop" fmla="*/ 14400 h 107280"/>
                <a:gd name="textAreaBottom" fmla="*/ 46440 h 10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utoShape 459"/>
            <p:cNvSpPr/>
            <p:nvPr/>
          </p:nvSpPr>
          <p:spPr>
            <a:xfrm flipH="1" flipV="1" rot="945000">
              <a:off x="6296040" y="771480"/>
              <a:ext cx="207360" cy="107640"/>
            </a:xfrm>
            <a:custGeom>
              <a:avLst/>
              <a:gdLst>
                <a:gd name="textAreaLeft" fmla="*/ 119520 w 207360"/>
                <a:gd name="textAreaRight" fmla="*/ 175680 w 207360"/>
                <a:gd name="textAreaTop" fmla="*/ 14040 h 107640"/>
                <a:gd name="textAreaBottom" fmla="*/ 46080 h 1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utoShape 460"/>
            <p:cNvSpPr/>
            <p:nvPr/>
          </p:nvSpPr>
          <p:spPr>
            <a:xfrm rot="10594800">
              <a:off x="6710760" y="963360"/>
              <a:ext cx="331920" cy="163800"/>
            </a:xfrm>
            <a:custGeom>
              <a:avLst/>
              <a:gdLst>
                <a:gd name="textAreaLeft" fmla="*/ 191160 w 331920"/>
                <a:gd name="textAreaRight" fmla="*/ 280080 w 331920"/>
                <a:gd name="textAreaTop" fmla="*/ 22320 h 163800"/>
                <a:gd name="textAreaBottom" fmla="*/ 69840 h 16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461"/>
            <p:cNvSpPr/>
            <p:nvPr/>
          </p:nvSpPr>
          <p:spPr>
            <a:xfrm flipV="1" rot="11745000">
              <a:off x="7083000" y="612720"/>
              <a:ext cx="28944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462"/>
            <p:cNvSpPr/>
            <p:nvPr/>
          </p:nvSpPr>
          <p:spPr>
            <a:xfrm flipV="1" rot="11745000">
              <a:off x="6938280" y="51660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utoShape 463"/>
            <p:cNvSpPr/>
            <p:nvPr/>
          </p:nvSpPr>
          <p:spPr>
            <a:xfrm flipV="1" rot="11745000">
              <a:off x="7229160" y="70920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464"/>
            <p:cNvSpPr/>
            <p:nvPr/>
          </p:nvSpPr>
          <p:spPr>
            <a:xfrm flipV="1" rot="11745000">
              <a:off x="7158960" y="80172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465"/>
            <p:cNvSpPr/>
            <p:nvPr/>
          </p:nvSpPr>
          <p:spPr>
            <a:xfrm flipV="1" rot="11745000">
              <a:off x="7264800" y="88704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466"/>
            <p:cNvSpPr/>
            <p:nvPr/>
          </p:nvSpPr>
          <p:spPr>
            <a:xfrm flipV="1" rot="11745000">
              <a:off x="7129800" y="90540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467"/>
            <p:cNvSpPr/>
            <p:nvPr/>
          </p:nvSpPr>
          <p:spPr>
            <a:xfrm flipV="1" rot="11745000">
              <a:off x="6858000" y="49392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utoShape 468"/>
            <p:cNvSpPr/>
            <p:nvPr/>
          </p:nvSpPr>
          <p:spPr>
            <a:xfrm flipV="1" rot="11745000">
              <a:off x="6724080" y="51120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469"/>
            <p:cNvSpPr/>
            <p:nvPr/>
          </p:nvSpPr>
          <p:spPr>
            <a:xfrm flipV="1" rot="8209800">
              <a:off x="6961320" y="59724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AutoShape 470"/>
            <p:cNvSpPr/>
            <p:nvPr/>
          </p:nvSpPr>
          <p:spPr>
            <a:xfrm flipV="1" rot="8209800">
              <a:off x="6630840" y="39204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471"/>
            <p:cNvSpPr/>
            <p:nvPr/>
          </p:nvSpPr>
          <p:spPr>
            <a:xfrm flipV="1" rot="8209800">
              <a:off x="6347520" y="47952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AutoShape 472"/>
            <p:cNvSpPr/>
            <p:nvPr/>
          </p:nvSpPr>
          <p:spPr>
            <a:xfrm flipV="1" rot="8209800">
              <a:off x="6572160" y="59976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AutoShape 473"/>
            <p:cNvSpPr/>
            <p:nvPr/>
          </p:nvSpPr>
          <p:spPr>
            <a:xfrm flipV="1" rot="8209800">
              <a:off x="6427440" y="50220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474"/>
            <p:cNvSpPr/>
            <p:nvPr/>
          </p:nvSpPr>
          <p:spPr>
            <a:xfrm flipV="1" rot="8209800">
              <a:off x="6827400" y="61488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utoShape 475"/>
            <p:cNvSpPr/>
            <p:nvPr/>
          </p:nvSpPr>
          <p:spPr>
            <a:xfrm flipV="1" rot="8209800">
              <a:off x="6576840" y="43200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476"/>
            <p:cNvSpPr/>
            <p:nvPr/>
          </p:nvSpPr>
          <p:spPr>
            <a:xfrm flipV="1" rot="8209800">
              <a:off x="6696360" y="466200"/>
              <a:ext cx="375840" cy="403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477"/>
            <p:cNvSpPr/>
            <p:nvPr/>
          </p:nvSpPr>
          <p:spPr>
            <a:xfrm flipV="1" rot="8209800">
              <a:off x="6688800" y="80028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478"/>
          <p:cNvGrpSpPr/>
          <p:nvPr/>
        </p:nvGrpSpPr>
        <p:grpSpPr>
          <a:xfrm>
            <a:off x="2843280" y="18360"/>
            <a:ext cx="1439280" cy="970200"/>
            <a:chOff x="2843280" y="18360"/>
            <a:chExt cx="1439280" cy="970200"/>
          </a:xfrm>
        </p:grpSpPr>
        <p:sp>
          <p:nvSpPr>
            <p:cNvPr id="560" name="AutoShape 479"/>
            <p:cNvSpPr/>
            <p:nvPr/>
          </p:nvSpPr>
          <p:spPr>
            <a:xfrm flipV="1" rot="10800000">
              <a:off x="2843280" y="408600"/>
              <a:ext cx="435600" cy="349560"/>
            </a:xfrm>
            <a:prstGeom prst="flowChartDecision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480"/>
            <p:cNvSpPr/>
            <p:nvPr/>
          </p:nvSpPr>
          <p:spPr>
            <a:xfrm flipV="1" rot="10800000">
              <a:off x="3017160" y="234000"/>
              <a:ext cx="1047240" cy="6415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481"/>
            <p:cNvSpPr/>
            <p:nvPr/>
          </p:nvSpPr>
          <p:spPr>
            <a:xfrm flipV="1" rot="10800000">
              <a:off x="3540600" y="174600"/>
              <a:ext cx="4392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AutoShape 482"/>
            <p:cNvSpPr/>
            <p:nvPr/>
          </p:nvSpPr>
          <p:spPr>
            <a:xfrm flipV="1" rot="10800000">
              <a:off x="3409920" y="349560"/>
              <a:ext cx="4392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483"/>
            <p:cNvSpPr/>
            <p:nvPr/>
          </p:nvSpPr>
          <p:spPr>
            <a:xfrm flipV="1" rot="10800000">
              <a:off x="3278880" y="524520"/>
              <a:ext cx="4392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484"/>
            <p:cNvSpPr/>
            <p:nvPr/>
          </p:nvSpPr>
          <p:spPr>
            <a:xfrm flipV="1" rot="10800000">
              <a:off x="3714840" y="174600"/>
              <a:ext cx="4392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AutoShape 485"/>
            <p:cNvSpPr/>
            <p:nvPr/>
          </p:nvSpPr>
          <p:spPr>
            <a:xfrm flipV="1" rot="10800000">
              <a:off x="3889800" y="349560"/>
              <a:ext cx="4392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AutoShape 486"/>
            <p:cNvSpPr/>
            <p:nvPr/>
          </p:nvSpPr>
          <p:spPr>
            <a:xfrm flipV="1" rot="10800000">
              <a:off x="3278880" y="233640"/>
              <a:ext cx="4392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487"/>
            <p:cNvSpPr/>
            <p:nvPr/>
          </p:nvSpPr>
          <p:spPr>
            <a:xfrm flipV="1" rot="10800000">
              <a:off x="3583800" y="349560"/>
              <a:ext cx="4392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488"/>
            <p:cNvSpPr/>
            <p:nvPr/>
          </p:nvSpPr>
          <p:spPr>
            <a:xfrm flipV="1" rot="10800000">
              <a:off x="3759120" y="291600"/>
              <a:ext cx="4392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489"/>
            <p:cNvSpPr/>
            <p:nvPr/>
          </p:nvSpPr>
          <p:spPr>
            <a:xfrm flipV="1" rot="10800000">
              <a:off x="3714840" y="524520"/>
              <a:ext cx="4392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AutoShape 490"/>
            <p:cNvSpPr/>
            <p:nvPr/>
          </p:nvSpPr>
          <p:spPr>
            <a:xfrm flipV="1" rot="10800000">
              <a:off x="3365640" y="233640"/>
              <a:ext cx="4392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utoShape 491"/>
            <p:cNvSpPr/>
            <p:nvPr/>
          </p:nvSpPr>
          <p:spPr>
            <a:xfrm flipV="1" rot="10800000">
              <a:off x="3496320" y="408600"/>
              <a:ext cx="4392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AutoShape 492"/>
            <p:cNvSpPr/>
            <p:nvPr/>
          </p:nvSpPr>
          <p:spPr>
            <a:xfrm flipV="1" rot="10800000">
              <a:off x="3628080" y="466560"/>
              <a:ext cx="4392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AutoShape 493"/>
            <p:cNvSpPr/>
            <p:nvPr/>
          </p:nvSpPr>
          <p:spPr>
            <a:xfrm flipV="1" rot="10800000">
              <a:off x="3802320" y="466560"/>
              <a:ext cx="4392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AutoShape 494"/>
            <p:cNvSpPr/>
            <p:nvPr/>
          </p:nvSpPr>
          <p:spPr>
            <a:xfrm flipV="1" rot="10800000">
              <a:off x="3453120" y="524520"/>
              <a:ext cx="4392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AutoShape 495"/>
            <p:cNvSpPr/>
            <p:nvPr/>
          </p:nvSpPr>
          <p:spPr>
            <a:xfrm flipV="1" rot="10800000">
              <a:off x="3191400" y="408600"/>
              <a:ext cx="4392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utoShape 496"/>
            <p:cNvSpPr/>
            <p:nvPr/>
          </p:nvSpPr>
          <p:spPr>
            <a:xfrm flipV="1" rot="10800000">
              <a:off x="3583800" y="583560"/>
              <a:ext cx="4392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AutoShape 497"/>
            <p:cNvSpPr/>
            <p:nvPr/>
          </p:nvSpPr>
          <p:spPr>
            <a:xfrm flipV="1" rot="10800000">
              <a:off x="3933000" y="408600"/>
              <a:ext cx="4392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AutoShape 498"/>
            <p:cNvSpPr/>
            <p:nvPr/>
          </p:nvSpPr>
          <p:spPr>
            <a:xfrm flipV="1" rot="10800000">
              <a:off x="3759120" y="349560"/>
              <a:ext cx="4392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AutoShape 499"/>
            <p:cNvSpPr/>
            <p:nvPr/>
          </p:nvSpPr>
          <p:spPr>
            <a:xfrm flipV="1" rot="10800000">
              <a:off x="3103920" y="291600"/>
              <a:ext cx="4392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AutoShape 500"/>
            <p:cNvSpPr/>
            <p:nvPr/>
          </p:nvSpPr>
          <p:spPr>
            <a:xfrm flipV="1" rot="10800000">
              <a:off x="3671640" y="174600"/>
              <a:ext cx="4392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AutoShape 501"/>
            <p:cNvSpPr/>
            <p:nvPr/>
          </p:nvSpPr>
          <p:spPr>
            <a:xfrm flipV="1" rot="10800000">
              <a:off x="3191400" y="349560"/>
              <a:ext cx="4392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utoShape 502"/>
            <p:cNvSpPr/>
            <p:nvPr/>
          </p:nvSpPr>
          <p:spPr>
            <a:xfrm flipV="1" rot="10800000">
              <a:off x="3365640" y="524520"/>
              <a:ext cx="4392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utoShape 503"/>
            <p:cNvSpPr/>
            <p:nvPr/>
          </p:nvSpPr>
          <p:spPr>
            <a:xfrm flipV="1" rot="10800000">
              <a:off x="3802320" y="233640"/>
              <a:ext cx="4392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utoShape 504"/>
            <p:cNvSpPr/>
            <p:nvPr/>
          </p:nvSpPr>
          <p:spPr>
            <a:xfrm flipV="1" rot="10800000">
              <a:off x="3540600" y="466560"/>
              <a:ext cx="4392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utoShape 505"/>
            <p:cNvSpPr/>
            <p:nvPr/>
          </p:nvSpPr>
          <p:spPr>
            <a:xfrm flipV="1" rot="10800000">
              <a:off x="3889800" y="349560"/>
              <a:ext cx="4392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utoShape 506"/>
            <p:cNvSpPr/>
            <p:nvPr/>
          </p:nvSpPr>
          <p:spPr>
            <a:xfrm flipV="1" rot="10800000">
              <a:off x="3453120" y="233640"/>
              <a:ext cx="4392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AutoShape 507"/>
            <p:cNvSpPr/>
            <p:nvPr/>
          </p:nvSpPr>
          <p:spPr>
            <a:xfrm flipV="1" rot="10800000">
              <a:off x="3103920" y="349560"/>
              <a:ext cx="4392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utoShape 508"/>
            <p:cNvSpPr/>
            <p:nvPr/>
          </p:nvSpPr>
          <p:spPr>
            <a:xfrm flipV="1" rot="10800000">
              <a:off x="3409920" y="524520"/>
              <a:ext cx="4392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AutoShape 509"/>
            <p:cNvSpPr/>
            <p:nvPr/>
          </p:nvSpPr>
          <p:spPr>
            <a:xfrm flipV="1" rot="10800000">
              <a:off x="3234960" y="408600"/>
              <a:ext cx="4392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AutoShape 510"/>
            <p:cNvSpPr/>
            <p:nvPr/>
          </p:nvSpPr>
          <p:spPr>
            <a:xfrm flipV="1" rot="10800000">
              <a:off x="3191400" y="408600"/>
              <a:ext cx="4392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AutoShape 511"/>
            <p:cNvSpPr/>
            <p:nvPr/>
          </p:nvSpPr>
          <p:spPr>
            <a:xfrm flipV="1" rot="10800000">
              <a:off x="3148200" y="466560"/>
              <a:ext cx="4392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AutoShape 512"/>
            <p:cNvSpPr/>
            <p:nvPr/>
          </p:nvSpPr>
          <p:spPr>
            <a:xfrm flipV="1" rot="10800000">
              <a:off x="3060720" y="349560"/>
              <a:ext cx="43920" cy="291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utoShape 513"/>
            <p:cNvSpPr/>
            <p:nvPr/>
          </p:nvSpPr>
          <p:spPr>
            <a:xfrm flipV="1" rot="10800000">
              <a:off x="3497400" y="408960"/>
              <a:ext cx="348840" cy="576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utoShape 514"/>
            <p:cNvSpPr/>
            <p:nvPr/>
          </p:nvSpPr>
          <p:spPr>
            <a:xfrm flipV="1" rot="10800000">
              <a:off x="3540600" y="758880"/>
              <a:ext cx="305640" cy="590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515"/>
            <p:cNvSpPr/>
            <p:nvPr/>
          </p:nvSpPr>
          <p:spPr>
            <a:xfrm flipV="1" rot="10800000">
              <a:off x="3758760" y="699480"/>
              <a:ext cx="261360" cy="579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516"/>
            <p:cNvSpPr/>
            <p:nvPr/>
          </p:nvSpPr>
          <p:spPr>
            <a:xfrm flipV="1" rot="10800000">
              <a:off x="3801960" y="466920"/>
              <a:ext cx="306000" cy="590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utoShape 517"/>
            <p:cNvSpPr/>
            <p:nvPr/>
          </p:nvSpPr>
          <p:spPr>
            <a:xfrm flipV="1" rot="10800000">
              <a:off x="3714480" y="408600"/>
              <a:ext cx="305640" cy="586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518"/>
            <p:cNvSpPr/>
            <p:nvPr/>
          </p:nvSpPr>
          <p:spPr>
            <a:xfrm flipV="1" rot="10800000">
              <a:off x="3845520" y="524520"/>
              <a:ext cx="305640" cy="586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AutoShape 519"/>
            <p:cNvSpPr/>
            <p:nvPr/>
          </p:nvSpPr>
          <p:spPr>
            <a:xfrm flipV="1" rot="10800000">
              <a:off x="3671280" y="758880"/>
              <a:ext cx="305640" cy="590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AutoShape 520"/>
            <p:cNvSpPr/>
            <p:nvPr/>
          </p:nvSpPr>
          <p:spPr>
            <a:xfrm flipV="1" rot="10800000">
              <a:off x="3801960" y="641880"/>
              <a:ext cx="306000" cy="590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AutoShape 521"/>
            <p:cNvSpPr/>
            <p:nvPr/>
          </p:nvSpPr>
          <p:spPr>
            <a:xfrm flipV="1" rot="10800000">
              <a:off x="3583440" y="641880"/>
              <a:ext cx="306000" cy="590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522"/>
            <p:cNvSpPr/>
            <p:nvPr/>
          </p:nvSpPr>
          <p:spPr>
            <a:xfrm flipV="1" rot="10800000">
              <a:off x="3366360" y="699840"/>
              <a:ext cx="305640" cy="590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AutoShape 523"/>
            <p:cNvSpPr/>
            <p:nvPr/>
          </p:nvSpPr>
          <p:spPr>
            <a:xfrm flipV="1" rot="10800000">
              <a:off x="3453120" y="816480"/>
              <a:ext cx="305640" cy="586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AutoShape 524"/>
            <p:cNvSpPr/>
            <p:nvPr/>
          </p:nvSpPr>
          <p:spPr>
            <a:xfrm flipV="1" rot="10800000">
              <a:off x="3191040" y="758880"/>
              <a:ext cx="306000" cy="590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525"/>
            <p:cNvSpPr/>
            <p:nvPr/>
          </p:nvSpPr>
          <p:spPr>
            <a:xfrm flipV="1" rot="10800000">
              <a:off x="2973240" y="583560"/>
              <a:ext cx="43920" cy="5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AutoShape 526"/>
            <p:cNvSpPr/>
            <p:nvPr/>
          </p:nvSpPr>
          <p:spPr>
            <a:xfrm flipH="1" flipV="1">
              <a:off x="3061440" y="758880"/>
              <a:ext cx="261360" cy="116640"/>
            </a:xfrm>
            <a:custGeom>
              <a:avLst/>
              <a:gdLst>
                <a:gd name="textAreaLeft" fmla="*/ 149760 w 261360"/>
                <a:gd name="textAreaRight" fmla="*/ 221040 w 261360"/>
                <a:gd name="textAreaTop" fmla="*/ 15480 h 116640"/>
                <a:gd name="textAreaBottom" fmla="*/ 50400 h 11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AutoShape 527"/>
            <p:cNvSpPr/>
            <p:nvPr/>
          </p:nvSpPr>
          <p:spPr>
            <a:xfrm flipH="1" flipV="1">
              <a:off x="2973960" y="699120"/>
              <a:ext cx="218160" cy="117000"/>
            </a:xfrm>
            <a:custGeom>
              <a:avLst/>
              <a:gdLst>
                <a:gd name="textAreaLeft" fmla="*/ 126360 w 218160"/>
                <a:gd name="textAreaRight" fmla="*/ 185040 w 218160"/>
                <a:gd name="textAreaTop" fmla="*/ 15120 h 117000"/>
                <a:gd name="textAreaBottom" fmla="*/ 50040 h 11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AutoShape 528"/>
            <p:cNvSpPr/>
            <p:nvPr/>
          </p:nvSpPr>
          <p:spPr>
            <a:xfrm rot="9649800">
              <a:off x="3453840" y="758880"/>
              <a:ext cx="349200" cy="177120"/>
            </a:xfrm>
            <a:custGeom>
              <a:avLst/>
              <a:gdLst>
                <a:gd name="textAreaLeft" fmla="*/ 201240 w 349200"/>
                <a:gd name="textAreaRight" fmla="*/ 294480 w 349200"/>
                <a:gd name="textAreaTop" fmla="*/ 24120 h 177120"/>
                <a:gd name="textAreaBottom" fmla="*/ 75600 h 17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AutoShape 529"/>
            <p:cNvSpPr/>
            <p:nvPr/>
          </p:nvSpPr>
          <p:spPr>
            <a:xfrm flipV="1" rot="10800000">
              <a:off x="3715560" y="291600"/>
              <a:ext cx="304560" cy="57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AutoShape 530"/>
            <p:cNvSpPr/>
            <p:nvPr/>
          </p:nvSpPr>
          <p:spPr>
            <a:xfrm flipV="1" rot="10800000">
              <a:off x="3541320" y="234000"/>
              <a:ext cx="304920" cy="576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AutoShape 531"/>
            <p:cNvSpPr/>
            <p:nvPr/>
          </p:nvSpPr>
          <p:spPr>
            <a:xfrm flipV="1" rot="10800000">
              <a:off x="3890520" y="349920"/>
              <a:ext cx="304920" cy="576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AutoShape 532"/>
            <p:cNvSpPr/>
            <p:nvPr/>
          </p:nvSpPr>
          <p:spPr>
            <a:xfrm flipV="1" rot="10800000">
              <a:off x="3846240" y="466560"/>
              <a:ext cx="304920" cy="57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utoShape 533"/>
            <p:cNvSpPr/>
            <p:nvPr/>
          </p:nvSpPr>
          <p:spPr>
            <a:xfrm flipV="1" rot="10800000">
              <a:off x="3977640" y="524880"/>
              <a:ext cx="304920" cy="576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AutoShape 534"/>
            <p:cNvSpPr/>
            <p:nvPr/>
          </p:nvSpPr>
          <p:spPr>
            <a:xfrm flipV="1" rot="10800000">
              <a:off x="3846240" y="583560"/>
              <a:ext cx="304920" cy="57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utoShape 535"/>
            <p:cNvSpPr/>
            <p:nvPr/>
          </p:nvSpPr>
          <p:spPr>
            <a:xfrm flipV="1" rot="10800000">
              <a:off x="3453840" y="234000"/>
              <a:ext cx="304920" cy="576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utoShape 536"/>
            <p:cNvSpPr/>
            <p:nvPr/>
          </p:nvSpPr>
          <p:spPr>
            <a:xfrm flipV="1" rot="10800000">
              <a:off x="3322800" y="291600"/>
              <a:ext cx="304920" cy="57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AutoShape 537"/>
            <p:cNvSpPr/>
            <p:nvPr/>
          </p:nvSpPr>
          <p:spPr>
            <a:xfrm flipV="1" rot="7264800">
              <a:off x="3578760" y="298800"/>
              <a:ext cx="407160" cy="421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AutoShape 538"/>
            <p:cNvSpPr/>
            <p:nvPr/>
          </p:nvSpPr>
          <p:spPr>
            <a:xfrm flipV="1" rot="7264800">
              <a:off x="3185280" y="181800"/>
              <a:ext cx="407160" cy="421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AutoShape 539"/>
            <p:cNvSpPr/>
            <p:nvPr/>
          </p:nvSpPr>
          <p:spPr>
            <a:xfrm flipV="1" rot="7264800">
              <a:off x="2923560" y="356760"/>
              <a:ext cx="407160" cy="421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utoShape 540"/>
            <p:cNvSpPr/>
            <p:nvPr/>
          </p:nvSpPr>
          <p:spPr>
            <a:xfrm flipV="1" rot="7264800">
              <a:off x="3185280" y="415800"/>
              <a:ext cx="407160" cy="421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AutoShape 541"/>
            <p:cNvSpPr/>
            <p:nvPr/>
          </p:nvSpPr>
          <p:spPr>
            <a:xfrm flipV="1" rot="7264800">
              <a:off x="3011040" y="356760"/>
              <a:ext cx="407160" cy="421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AutoShape 542"/>
            <p:cNvSpPr/>
            <p:nvPr/>
          </p:nvSpPr>
          <p:spPr>
            <a:xfrm flipV="1" rot="7264800">
              <a:off x="3447720" y="356760"/>
              <a:ext cx="407160" cy="421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543"/>
            <p:cNvSpPr/>
            <p:nvPr/>
          </p:nvSpPr>
          <p:spPr>
            <a:xfrm flipV="1" rot="7264800">
              <a:off x="3142080" y="239760"/>
              <a:ext cx="407160" cy="421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AutoShape 544"/>
            <p:cNvSpPr/>
            <p:nvPr/>
          </p:nvSpPr>
          <p:spPr>
            <a:xfrm flipV="1" rot="7264800">
              <a:off x="3272400" y="240480"/>
              <a:ext cx="407160" cy="424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AutoShape 545"/>
            <p:cNvSpPr/>
            <p:nvPr/>
          </p:nvSpPr>
          <p:spPr>
            <a:xfrm flipV="1" rot="7264800">
              <a:off x="3360240" y="590760"/>
              <a:ext cx="407160" cy="421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Oval 546"/>
          <p:cNvSpPr/>
          <p:nvPr/>
        </p:nvSpPr>
        <p:spPr>
          <a:xfrm>
            <a:off x="2340000" y="1052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547"/>
          <p:cNvSpPr/>
          <p:nvPr/>
        </p:nvSpPr>
        <p:spPr>
          <a:xfrm>
            <a:off x="2195640" y="90792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548"/>
          <p:cNvSpPr/>
          <p:nvPr/>
        </p:nvSpPr>
        <p:spPr>
          <a:xfrm>
            <a:off x="2195640" y="1197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549"/>
          <p:cNvSpPr/>
          <p:nvPr/>
        </p:nvSpPr>
        <p:spPr>
          <a:xfrm>
            <a:off x="2700360" y="1484280"/>
            <a:ext cx="21600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550"/>
          <p:cNvSpPr/>
          <p:nvPr/>
        </p:nvSpPr>
        <p:spPr>
          <a:xfrm>
            <a:off x="2050920" y="1341360"/>
            <a:ext cx="1447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551"/>
          <p:cNvSpPr/>
          <p:nvPr/>
        </p:nvSpPr>
        <p:spPr>
          <a:xfrm>
            <a:off x="2484360" y="119700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552"/>
          <p:cNvSpPr/>
          <p:nvPr/>
        </p:nvSpPr>
        <p:spPr>
          <a:xfrm>
            <a:off x="2556000" y="76500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553"/>
          <p:cNvSpPr/>
          <p:nvPr/>
        </p:nvSpPr>
        <p:spPr>
          <a:xfrm>
            <a:off x="2050920" y="907920"/>
            <a:ext cx="73080" cy="217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554"/>
          <p:cNvSpPr/>
          <p:nvPr/>
        </p:nvSpPr>
        <p:spPr>
          <a:xfrm>
            <a:off x="2411280" y="26028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555"/>
          <p:cNvSpPr/>
          <p:nvPr/>
        </p:nvSpPr>
        <p:spPr>
          <a:xfrm>
            <a:off x="2627280" y="47628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556"/>
          <p:cNvSpPr/>
          <p:nvPr/>
        </p:nvSpPr>
        <p:spPr>
          <a:xfrm>
            <a:off x="2843280" y="69228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557"/>
          <p:cNvSpPr/>
          <p:nvPr/>
        </p:nvSpPr>
        <p:spPr>
          <a:xfrm>
            <a:off x="3059280" y="90792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558"/>
          <p:cNvSpPr/>
          <p:nvPr/>
        </p:nvSpPr>
        <p:spPr>
          <a:xfrm>
            <a:off x="3274920" y="112392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559"/>
          <p:cNvSpPr/>
          <p:nvPr/>
        </p:nvSpPr>
        <p:spPr>
          <a:xfrm>
            <a:off x="5148360" y="76500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560"/>
          <p:cNvSpPr/>
          <p:nvPr/>
        </p:nvSpPr>
        <p:spPr>
          <a:xfrm>
            <a:off x="5364000" y="83664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561"/>
          <p:cNvSpPr/>
          <p:nvPr/>
        </p:nvSpPr>
        <p:spPr>
          <a:xfrm>
            <a:off x="5219640" y="47628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562"/>
          <p:cNvSpPr/>
          <p:nvPr/>
        </p:nvSpPr>
        <p:spPr>
          <a:xfrm>
            <a:off x="5867280" y="765000"/>
            <a:ext cx="14472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563"/>
          <p:cNvSpPr/>
          <p:nvPr/>
        </p:nvSpPr>
        <p:spPr>
          <a:xfrm>
            <a:off x="5724360" y="54936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564"/>
          <p:cNvSpPr/>
          <p:nvPr/>
        </p:nvSpPr>
        <p:spPr>
          <a:xfrm>
            <a:off x="5580000" y="981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565"/>
          <p:cNvSpPr/>
          <p:nvPr/>
        </p:nvSpPr>
        <p:spPr>
          <a:xfrm>
            <a:off x="5219640" y="981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566"/>
          <p:cNvSpPr/>
          <p:nvPr/>
        </p:nvSpPr>
        <p:spPr>
          <a:xfrm>
            <a:off x="6156360" y="981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567"/>
          <p:cNvSpPr/>
          <p:nvPr/>
        </p:nvSpPr>
        <p:spPr>
          <a:xfrm>
            <a:off x="6227640" y="1341360"/>
            <a:ext cx="14472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568"/>
          <p:cNvSpPr/>
          <p:nvPr/>
        </p:nvSpPr>
        <p:spPr>
          <a:xfrm>
            <a:off x="6084720" y="119700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val 569"/>
          <p:cNvSpPr/>
          <p:nvPr/>
        </p:nvSpPr>
        <p:spPr>
          <a:xfrm>
            <a:off x="6443640" y="126828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570"/>
          <p:cNvSpPr/>
          <p:nvPr/>
        </p:nvSpPr>
        <p:spPr>
          <a:xfrm>
            <a:off x="6516720" y="981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571"/>
          <p:cNvSpPr/>
          <p:nvPr/>
        </p:nvSpPr>
        <p:spPr>
          <a:xfrm>
            <a:off x="5580000" y="47628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572"/>
          <p:cNvSpPr/>
          <p:nvPr/>
        </p:nvSpPr>
        <p:spPr>
          <a:xfrm>
            <a:off x="8317080" y="26028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573"/>
          <p:cNvSpPr/>
          <p:nvPr/>
        </p:nvSpPr>
        <p:spPr>
          <a:xfrm>
            <a:off x="8675640" y="40464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574"/>
          <p:cNvSpPr/>
          <p:nvPr/>
        </p:nvSpPr>
        <p:spPr>
          <a:xfrm>
            <a:off x="8604360" y="620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575"/>
          <p:cNvSpPr/>
          <p:nvPr/>
        </p:nvSpPr>
        <p:spPr>
          <a:xfrm>
            <a:off x="8244000" y="162864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576"/>
          <p:cNvSpPr/>
          <p:nvPr/>
        </p:nvSpPr>
        <p:spPr>
          <a:xfrm>
            <a:off x="8748720" y="191628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577"/>
          <p:cNvSpPr/>
          <p:nvPr/>
        </p:nvSpPr>
        <p:spPr>
          <a:xfrm>
            <a:off x="8317080" y="134136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578"/>
          <p:cNvSpPr/>
          <p:nvPr/>
        </p:nvSpPr>
        <p:spPr>
          <a:xfrm>
            <a:off x="8675640" y="1052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579"/>
          <p:cNvSpPr/>
          <p:nvPr/>
        </p:nvSpPr>
        <p:spPr>
          <a:xfrm>
            <a:off x="3059280" y="112536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580"/>
          <p:cNvSpPr/>
          <p:nvPr/>
        </p:nvSpPr>
        <p:spPr>
          <a:xfrm>
            <a:off x="8748720" y="155736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581"/>
          <p:cNvSpPr/>
          <p:nvPr/>
        </p:nvSpPr>
        <p:spPr>
          <a:xfrm>
            <a:off x="1979640" y="40464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582"/>
          <p:cNvGrpSpPr/>
          <p:nvPr/>
        </p:nvGrpSpPr>
        <p:grpSpPr>
          <a:xfrm>
            <a:off x="2796120" y="5383080"/>
            <a:ext cx="1375200" cy="913680"/>
            <a:chOff x="2796120" y="5383080"/>
            <a:chExt cx="1375200" cy="913680"/>
          </a:xfrm>
        </p:grpSpPr>
        <p:sp>
          <p:nvSpPr>
            <p:cNvPr id="664" name="AutoShape 583"/>
            <p:cNvSpPr/>
            <p:nvPr/>
          </p:nvSpPr>
          <p:spPr>
            <a:xfrm flipV="1" rot="11745000">
              <a:off x="2832120" y="5616720"/>
              <a:ext cx="414000" cy="322200"/>
            </a:xfrm>
            <a:prstGeom prst="flowChartDecision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584"/>
            <p:cNvSpPr/>
            <p:nvPr/>
          </p:nvSpPr>
          <p:spPr>
            <a:xfrm flipV="1" rot="11745000">
              <a:off x="2987280" y="5580360"/>
              <a:ext cx="995400" cy="5918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AutoShape 585"/>
            <p:cNvSpPr/>
            <p:nvPr/>
          </p:nvSpPr>
          <p:spPr>
            <a:xfrm flipV="1" rot="11745000">
              <a:off x="3543480" y="554004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AutoShape 586"/>
            <p:cNvSpPr/>
            <p:nvPr/>
          </p:nvSpPr>
          <p:spPr>
            <a:xfrm flipV="1" rot="11745000">
              <a:off x="3380040" y="566136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AutoShape 587"/>
            <p:cNvSpPr/>
            <p:nvPr/>
          </p:nvSpPr>
          <p:spPr>
            <a:xfrm flipV="1" rot="11745000">
              <a:off x="3216240" y="578268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utoShape 588"/>
            <p:cNvSpPr/>
            <p:nvPr/>
          </p:nvSpPr>
          <p:spPr>
            <a:xfrm flipV="1" rot="11745000">
              <a:off x="3702600" y="558504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AutoShape 589"/>
            <p:cNvSpPr/>
            <p:nvPr/>
          </p:nvSpPr>
          <p:spPr>
            <a:xfrm flipV="1" rot="11745000">
              <a:off x="3818880" y="578520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AutoShape 590"/>
            <p:cNvSpPr/>
            <p:nvPr/>
          </p:nvSpPr>
          <p:spPr>
            <a:xfrm flipV="1" rot="11745000">
              <a:off x="3288960" y="552492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AutoShape 591"/>
            <p:cNvSpPr/>
            <p:nvPr/>
          </p:nvSpPr>
          <p:spPr>
            <a:xfrm flipV="1" rot="11745000">
              <a:off x="3539160" y="570636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AutoShape 592"/>
            <p:cNvSpPr/>
            <p:nvPr/>
          </p:nvSpPr>
          <p:spPr>
            <a:xfrm flipV="1" rot="11745000">
              <a:off x="3714120" y="569988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AutoShape 593"/>
            <p:cNvSpPr/>
            <p:nvPr/>
          </p:nvSpPr>
          <p:spPr>
            <a:xfrm flipV="1" rot="11745000">
              <a:off x="3615120" y="589536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AutoShape 594"/>
            <p:cNvSpPr/>
            <p:nvPr/>
          </p:nvSpPr>
          <p:spPr>
            <a:xfrm flipV="1" rot="11745000">
              <a:off x="3368520" y="554760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AutoShape 595"/>
            <p:cNvSpPr/>
            <p:nvPr/>
          </p:nvSpPr>
          <p:spPr>
            <a:xfrm flipV="1" rot="11745000">
              <a:off x="3444120" y="573624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AutoShape 596"/>
            <p:cNvSpPr/>
            <p:nvPr/>
          </p:nvSpPr>
          <p:spPr>
            <a:xfrm flipV="1" rot="11745000">
              <a:off x="3550320" y="582156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AutoShape 597"/>
            <p:cNvSpPr/>
            <p:nvPr/>
          </p:nvSpPr>
          <p:spPr>
            <a:xfrm flipV="1" rot="11745000">
              <a:off x="3709800" y="586656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AutoShape 598"/>
            <p:cNvSpPr/>
            <p:nvPr/>
          </p:nvSpPr>
          <p:spPr>
            <a:xfrm flipV="1" rot="11745000">
              <a:off x="3375720" y="582768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AutoShape 599"/>
            <p:cNvSpPr/>
            <p:nvPr/>
          </p:nvSpPr>
          <p:spPr>
            <a:xfrm flipV="1" rot="11745000">
              <a:off x="3165120" y="565776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AutoShape 600"/>
            <p:cNvSpPr/>
            <p:nvPr/>
          </p:nvSpPr>
          <p:spPr>
            <a:xfrm flipV="1" rot="11745000">
              <a:off x="3480480" y="591372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AutoShape 601"/>
            <p:cNvSpPr/>
            <p:nvPr/>
          </p:nvSpPr>
          <p:spPr>
            <a:xfrm flipV="1" rot="11745000">
              <a:off x="3843720" y="584892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AutoShape 602"/>
            <p:cNvSpPr/>
            <p:nvPr/>
          </p:nvSpPr>
          <p:spPr>
            <a:xfrm flipV="1" rot="11745000">
              <a:off x="3699360" y="575136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AutoShape 603"/>
            <p:cNvSpPr/>
            <p:nvPr/>
          </p:nvSpPr>
          <p:spPr>
            <a:xfrm flipV="1" rot="11745000">
              <a:off x="3114720" y="553068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AutoShape 604"/>
            <p:cNvSpPr/>
            <p:nvPr/>
          </p:nvSpPr>
          <p:spPr>
            <a:xfrm flipV="1" rot="11745000">
              <a:off x="3663360" y="557388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AutoShape 605"/>
            <p:cNvSpPr/>
            <p:nvPr/>
          </p:nvSpPr>
          <p:spPr>
            <a:xfrm flipV="1" rot="11745000">
              <a:off x="3180240" y="560520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AutoShape 606"/>
            <p:cNvSpPr/>
            <p:nvPr/>
          </p:nvSpPr>
          <p:spPr>
            <a:xfrm flipV="1" rot="11745000">
              <a:off x="3295800" y="580536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607"/>
            <p:cNvSpPr/>
            <p:nvPr/>
          </p:nvSpPr>
          <p:spPr>
            <a:xfrm flipV="1" rot="11745000">
              <a:off x="3768120" y="566028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608"/>
            <p:cNvSpPr/>
            <p:nvPr/>
          </p:nvSpPr>
          <p:spPr>
            <a:xfrm flipV="1" rot="11745000">
              <a:off x="3470400" y="579924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AutoShape 609"/>
            <p:cNvSpPr/>
            <p:nvPr/>
          </p:nvSpPr>
          <p:spPr>
            <a:xfrm flipV="1" rot="11745000">
              <a:off x="3818880" y="578520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AutoShape 610"/>
            <p:cNvSpPr/>
            <p:nvPr/>
          </p:nvSpPr>
          <p:spPr>
            <a:xfrm flipV="1" rot="11745000">
              <a:off x="3448440" y="556992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611"/>
            <p:cNvSpPr/>
            <p:nvPr/>
          </p:nvSpPr>
          <p:spPr>
            <a:xfrm flipV="1" rot="11745000">
              <a:off x="3099960" y="558252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AutoShape 612"/>
            <p:cNvSpPr/>
            <p:nvPr/>
          </p:nvSpPr>
          <p:spPr>
            <a:xfrm flipV="1" rot="11745000">
              <a:off x="3336120" y="581652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AutoShape 613"/>
            <p:cNvSpPr/>
            <p:nvPr/>
          </p:nvSpPr>
          <p:spPr>
            <a:xfrm flipV="1" rot="11745000">
              <a:off x="3205080" y="566892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AutoShape 614"/>
            <p:cNvSpPr/>
            <p:nvPr/>
          </p:nvSpPr>
          <p:spPr>
            <a:xfrm flipV="1" rot="11745000">
              <a:off x="3165120" y="565776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AutoShape 615"/>
            <p:cNvSpPr/>
            <p:nvPr/>
          </p:nvSpPr>
          <p:spPr>
            <a:xfrm flipV="1" rot="11745000">
              <a:off x="3111480" y="569772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AutoShape 616"/>
            <p:cNvSpPr/>
            <p:nvPr/>
          </p:nvSpPr>
          <p:spPr>
            <a:xfrm flipV="1" rot="11745000">
              <a:off x="3060720" y="557136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AutoShape 617"/>
            <p:cNvSpPr/>
            <p:nvPr/>
          </p:nvSpPr>
          <p:spPr>
            <a:xfrm flipV="1" rot="11745000">
              <a:off x="3468600" y="5780160"/>
              <a:ext cx="331560" cy="52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AutoShape 618"/>
            <p:cNvSpPr/>
            <p:nvPr/>
          </p:nvSpPr>
          <p:spPr>
            <a:xfrm flipV="1" rot="11745000">
              <a:off x="3421080" y="609588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AutoShape 619"/>
            <p:cNvSpPr/>
            <p:nvPr/>
          </p:nvSpPr>
          <p:spPr>
            <a:xfrm flipV="1" rot="11745000">
              <a:off x="3636360" y="6094080"/>
              <a:ext cx="248400" cy="53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AutoShape 620"/>
            <p:cNvSpPr/>
            <p:nvPr/>
          </p:nvSpPr>
          <p:spPr>
            <a:xfrm flipV="1" rot="11745000">
              <a:off x="3733560" y="590436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AutoShape 621"/>
            <p:cNvSpPr/>
            <p:nvPr/>
          </p:nvSpPr>
          <p:spPr>
            <a:xfrm flipV="1" rot="11745000">
              <a:off x="3667680" y="5830200"/>
              <a:ext cx="290520" cy="53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AutoShape 622"/>
            <p:cNvSpPr/>
            <p:nvPr/>
          </p:nvSpPr>
          <p:spPr>
            <a:xfrm flipV="1" rot="11745000">
              <a:off x="3758400" y="5966640"/>
              <a:ext cx="290520" cy="53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AutoShape 623"/>
            <p:cNvSpPr/>
            <p:nvPr/>
          </p:nvSpPr>
          <p:spPr>
            <a:xfrm flipV="1" rot="11745000">
              <a:off x="3540600" y="612972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AutoShape 624"/>
            <p:cNvSpPr/>
            <p:nvPr/>
          </p:nvSpPr>
          <p:spPr>
            <a:xfrm flipV="1" rot="11745000">
              <a:off x="3689640" y="605952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AutoShape 625"/>
            <p:cNvSpPr/>
            <p:nvPr/>
          </p:nvSpPr>
          <p:spPr>
            <a:xfrm flipV="1" rot="11745000">
              <a:off x="3489840" y="600300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AutoShape 626"/>
            <p:cNvSpPr/>
            <p:nvPr/>
          </p:nvSpPr>
          <p:spPr>
            <a:xfrm flipV="1" rot="11745000">
              <a:off x="3276360" y="599832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AutoShape 627"/>
            <p:cNvSpPr/>
            <p:nvPr/>
          </p:nvSpPr>
          <p:spPr>
            <a:xfrm flipV="1" rot="11745000">
              <a:off x="3326400" y="6124680"/>
              <a:ext cx="290520" cy="53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AutoShape 628"/>
            <p:cNvSpPr/>
            <p:nvPr/>
          </p:nvSpPr>
          <p:spPr>
            <a:xfrm flipV="1" rot="11745000">
              <a:off x="3101400" y="600588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629"/>
            <p:cNvSpPr/>
            <p:nvPr/>
          </p:nvSpPr>
          <p:spPr>
            <a:xfrm flipV="1" rot="11745000">
              <a:off x="2950920" y="5760720"/>
              <a:ext cx="41760" cy="5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630"/>
            <p:cNvSpPr/>
            <p:nvPr/>
          </p:nvSpPr>
          <p:spPr>
            <a:xfrm flipH="1" flipV="1" rot="945000">
              <a:off x="2976120" y="5965200"/>
              <a:ext cx="248400" cy="107280"/>
            </a:xfrm>
            <a:custGeom>
              <a:avLst/>
              <a:gdLst>
                <a:gd name="textAreaLeft" fmla="*/ 142560 w 248400"/>
                <a:gd name="textAreaRight" fmla="*/ 210240 w 248400"/>
                <a:gd name="textAreaTop" fmla="*/ 14400 h 107280"/>
                <a:gd name="textAreaBottom" fmla="*/ 46440 h 10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AutoShape 631"/>
            <p:cNvSpPr/>
            <p:nvPr/>
          </p:nvSpPr>
          <p:spPr>
            <a:xfrm flipH="1" flipV="1" rot="945000">
              <a:off x="2911320" y="5884920"/>
              <a:ext cx="207360" cy="107640"/>
            </a:xfrm>
            <a:custGeom>
              <a:avLst/>
              <a:gdLst>
                <a:gd name="textAreaLeft" fmla="*/ 119520 w 207360"/>
                <a:gd name="textAreaRight" fmla="*/ 175680 w 207360"/>
                <a:gd name="textAreaTop" fmla="*/ 14040 h 107640"/>
                <a:gd name="textAreaBottom" fmla="*/ 46080 h 1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632"/>
            <p:cNvSpPr/>
            <p:nvPr/>
          </p:nvSpPr>
          <p:spPr>
            <a:xfrm rot="10594800">
              <a:off x="3326400" y="6077520"/>
              <a:ext cx="331560" cy="163440"/>
            </a:xfrm>
            <a:custGeom>
              <a:avLst/>
              <a:gdLst>
                <a:gd name="textAreaLeft" fmla="*/ 190800 w 331560"/>
                <a:gd name="textAreaRight" fmla="*/ 279720 w 331560"/>
                <a:gd name="textAreaTop" fmla="*/ 22320 h 163440"/>
                <a:gd name="textAreaBottom" fmla="*/ 69840 h 16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633"/>
            <p:cNvSpPr/>
            <p:nvPr/>
          </p:nvSpPr>
          <p:spPr>
            <a:xfrm flipV="1" rot="11745000">
              <a:off x="3697920" y="5726160"/>
              <a:ext cx="28944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utoShape 634"/>
            <p:cNvSpPr/>
            <p:nvPr/>
          </p:nvSpPr>
          <p:spPr>
            <a:xfrm flipV="1" rot="11745000">
              <a:off x="3553560" y="563004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635"/>
            <p:cNvSpPr/>
            <p:nvPr/>
          </p:nvSpPr>
          <p:spPr>
            <a:xfrm flipV="1" rot="11745000">
              <a:off x="3844080" y="582264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636"/>
            <p:cNvSpPr/>
            <p:nvPr/>
          </p:nvSpPr>
          <p:spPr>
            <a:xfrm flipV="1" rot="11745000">
              <a:off x="3774240" y="591516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637"/>
            <p:cNvSpPr/>
            <p:nvPr/>
          </p:nvSpPr>
          <p:spPr>
            <a:xfrm flipV="1" rot="11745000">
              <a:off x="3879720" y="600012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638"/>
            <p:cNvSpPr/>
            <p:nvPr/>
          </p:nvSpPr>
          <p:spPr>
            <a:xfrm flipV="1" rot="11745000">
              <a:off x="3744720" y="601848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639"/>
            <p:cNvSpPr/>
            <p:nvPr/>
          </p:nvSpPr>
          <p:spPr>
            <a:xfrm flipV="1" rot="11745000">
              <a:off x="3473280" y="560736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640"/>
            <p:cNvSpPr/>
            <p:nvPr/>
          </p:nvSpPr>
          <p:spPr>
            <a:xfrm flipV="1" rot="11745000">
              <a:off x="3339000" y="562428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utoShape 641"/>
            <p:cNvSpPr/>
            <p:nvPr/>
          </p:nvSpPr>
          <p:spPr>
            <a:xfrm flipV="1" rot="8209800">
              <a:off x="3576600" y="571068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642"/>
            <p:cNvSpPr/>
            <p:nvPr/>
          </p:nvSpPr>
          <p:spPr>
            <a:xfrm flipV="1" rot="8209800">
              <a:off x="3246120" y="550548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AutoShape 643"/>
            <p:cNvSpPr/>
            <p:nvPr/>
          </p:nvSpPr>
          <p:spPr>
            <a:xfrm flipV="1" rot="8209800">
              <a:off x="2962800" y="559296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AutoShape 644"/>
            <p:cNvSpPr/>
            <p:nvPr/>
          </p:nvSpPr>
          <p:spPr>
            <a:xfrm flipV="1" rot="8209800">
              <a:off x="3187440" y="571320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AutoShape 645"/>
            <p:cNvSpPr/>
            <p:nvPr/>
          </p:nvSpPr>
          <p:spPr>
            <a:xfrm flipV="1" rot="8209800">
              <a:off x="3042720" y="561564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AutoShape 646"/>
            <p:cNvSpPr/>
            <p:nvPr/>
          </p:nvSpPr>
          <p:spPr>
            <a:xfrm flipV="1" rot="8209800">
              <a:off x="3442320" y="572832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AutoShape 647"/>
            <p:cNvSpPr/>
            <p:nvPr/>
          </p:nvSpPr>
          <p:spPr>
            <a:xfrm flipV="1" rot="8209800">
              <a:off x="3192120" y="554544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AutoShape 648"/>
            <p:cNvSpPr/>
            <p:nvPr/>
          </p:nvSpPr>
          <p:spPr>
            <a:xfrm flipV="1" rot="8209800">
              <a:off x="3311280" y="5579640"/>
              <a:ext cx="375840" cy="403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AutoShape 649"/>
            <p:cNvSpPr/>
            <p:nvPr/>
          </p:nvSpPr>
          <p:spPr>
            <a:xfrm flipV="1" rot="8209800">
              <a:off x="3303720" y="591372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Group 650"/>
          <p:cNvGrpSpPr/>
          <p:nvPr/>
        </p:nvGrpSpPr>
        <p:grpSpPr>
          <a:xfrm>
            <a:off x="2772000" y="5409720"/>
            <a:ext cx="1376280" cy="882000"/>
            <a:chOff x="2772000" y="5409720"/>
            <a:chExt cx="1376280" cy="882000"/>
          </a:xfrm>
        </p:grpSpPr>
        <p:sp>
          <p:nvSpPr>
            <p:cNvPr id="732" name="AutoShape 651"/>
            <p:cNvSpPr/>
            <p:nvPr/>
          </p:nvSpPr>
          <p:spPr>
            <a:xfrm flipV="1" rot="10246800">
              <a:off x="2795040" y="5825160"/>
              <a:ext cx="414000" cy="322200"/>
            </a:xfrm>
            <a:prstGeom prst="flowChartDecision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652"/>
            <p:cNvSpPr/>
            <p:nvPr/>
          </p:nvSpPr>
          <p:spPr>
            <a:xfrm flipV="1" rot="10246800">
              <a:off x="2950200" y="5591520"/>
              <a:ext cx="995760" cy="591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AutoShape 653"/>
            <p:cNvSpPr/>
            <p:nvPr/>
          </p:nvSpPr>
          <p:spPr>
            <a:xfrm flipV="1" rot="10246800">
              <a:off x="3413160" y="5536440"/>
              <a:ext cx="4212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AutoShape 654"/>
            <p:cNvSpPr/>
            <p:nvPr/>
          </p:nvSpPr>
          <p:spPr>
            <a:xfrm flipV="1" rot="10246800">
              <a:off x="3315960" y="5715720"/>
              <a:ext cx="4212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AutoShape 655"/>
            <p:cNvSpPr/>
            <p:nvPr/>
          </p:nvSpPr>
          <p:spPr>
            <a:xfrm flipV="1" rot="10246800">
              <a:off x="3218760" y="5895000"/>
              <a:ext cx="4212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AutoShape 656"/>
            <p:cNvSpPr/>
            <p:nvPr/>
          </p:nvSpPr>
          <p:spPr>
            <a:xfrm flipV="1" rot="10246800">
              <a:off x="3576240" y="5510160"/>
              <a:ext cx="4212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AutoShape 657"/>
            <p:cNvSpPr/>
            <p:nvPr/>
          </p:nvSpPr>
          <p:spPr>
            <a:xfrm flipV="1" rot="10246800">
              <a:off x="3766680" y="5642640"/>
              <a:ext cx="4212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AutoShape 658"/>
            <p:cNvSpPr/>
            <p:nvPr/>
          </p:nvSpPr>
          <p:spPr>
            <a:xfrm flipV="1" rot="10246800">
              <a:off x="3175920" y="5630400"/>
              <a:ext cx="4212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AutoShape 659"/>
            <p:cNvSpPr/>
            <p:nvPr/>
          </p:nvSpPr>
          <p:spPr>
            <a:xfrm flipV="1" rot="10246800">
              <a:off x="3479400" y="5689080"/>
              <a:ext cx="4212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AutoShape 660"/>
            <p:cNvSpPr/>
            <p:nvPr/>
          </p:nvSpPr>
          <p:spPr>
            <a:xfrm flipV="1" rot="10246800">
              <a:off x="3634920" y="5609520"/>
              <a:ext cx="4212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AutoShape 661"/>
            <p:cNvSpPr/>
            <p:nvPr/>
          </p:nvSpPr>
          <p:spPr>
            <a:xfrm flipV="1" rot="10246800">
              <a:off x="3628080" y="5828400"/>
              <a:ext cx="4212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AutoShape 662"/>
            <p:cNvSpPr/>
            <p:nvPr/>
          </p:nvSpPr>
          <p:spPr>
            <a:xfrm flipV="1" rot="10246800">
              <a:off x="3257280" y="5617440"/>
              <a:ext cx="4212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AutoShape 663"/>
            <p:cNvSpPr/>
            <p:nvPr/>
          </p:nvSpPr>
          <p:spPr>
            <a:xfrm flipV="1" rot="10246800">
              <a:off x="3406320" y="5756400"/>
              <a:ext cx="4212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AutoShape 664"/>
            <p:cNvSpPr/>
            <p:nvPr/>
          </p:nvSpPr>
          <p:spPr>
            <a:xfrm flipV="1" rot="10246800">
              <a:off x="3538440" y="5789160"/>
              <a:ext cx="4212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AutoShape 665"/>
            <p:cNvSpPr/>
            <p:nvPr/>
          </p:nvSpPr>
          <p:spPr>
            <a:xfrm flipV="1" rot="10246800">
              <a:off x="3701520" y="5762520"/>
              <a:ext cx="4212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AutoShape 666"/>
            <p:cNvSpPr/>
            <p:nvPr/>
          </p:nvSpPr>
          <p:spPr>
            <a:xfrm flipV="1" rot="10246800">
              <a:off x="3382560" y="5868360"/>
              <a:ext cx="4212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AutoShape 667"/>
            <p:cNvSpPr/>
            <p:nvPr/>
          </p:nvSpPr>
          <p:spPr>
            <a:xfrm flipV="1" rot="10246800">
              <a:off x="3119760" y="5803200"/>
              <a:ext cx="4212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utoShape 668"/>
            <p:cNvSpPr/>
            <p:nvPr/>
          </p:nvSpPr>
          <p:spPr>
            <a:xfrm flipV="1" rot="10246800">
              <a:off x="3513960" y="5902200"/>
              <a:ext cx="4212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AutoShape 669"/>
            <p:cNvSpPr/>
            <p:nvPr/>
          </p:nvSpPr>
          <p:spPr>
            <a:xfrm flipV="1" rot="10246800">
              <a:off x="3816000" y="5690160"/>
              <a:ext cx="4212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AutoShape 670"/>
            <p:cNvSpPr/>
            <p:nvPr/>
          </p:nvSpPr>
          <p:spPr>
            <a:xfrm flipV="1" rot="10246800">
              <a:off x="3643560" y="5662440"/>
              <a:ext cx="4212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AutoShape 671"/>
            <p:cNvSpPr/>
            <p:nvPr/>
          </p:nvSpPr>
          <p:spPr>
            <a:xfrm flipV="1" rot="10246800">
              <a:off x="3020400" y="5709240"/>
              <a:ext cx="4212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AutoShape 672"/>
            <p:cNvSpPr/>
            <p:nvPr/>
          </p:nvSpPr>
          <p:spPr>
            <a:xfrm flipV="1" rot="10246800">
              <a:off x="3535560" y="5516640"/>
              <a:ext cx="4212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AutoShape 673"/>
            <p:cNvSpPr/>
            <p:nvPr/>
          </p:nvSpPr>
          <p:spPr>
            <a:xfrm flipV="1" rot="10246800">
              <a:off x="3111120" y="5749200"/>
              <a:ext cx="4212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AutoShape 674"/>
            <p:cNvSpPr/>
            <p:nvPr/>
          </p:nvSpPr>
          <p:spPr>
            <a:xfrm flipV="1" rot="10246800">
              <a:off x="3300120" y="5881680"/>
              <a:ext cx="4212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AutoShape 675"/>
            <p:cNvSpPr/>
            <p:nvPr/>
          </p:nvSpPr>
          <p:spPr>
            <a:xfrm flipV="1" rot="10246800">
              <a:off x="3666960" y="5550840"/>
              <a:ext cx="4212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AutoShape 676"/>
            <p:cNvSpPr/>
            <p:nvPr/>
          </p:nvSpPr>
          <p:spPr>
            <a:xfrm flipV="1" rot="10246800">
              <a:off x="3456360" y="5802480"/>
              <a:ext cx="4212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AutoShape 677"/>
            <p:cNvSpPr/>
            <p:nvPr/>
          </p:nvSpPr>
          <p:spPr>
            <a:xfrm flipV="1" rot="10246800">
              <a:off x="3766680" y="5642640"/>
              <a:ext cx="4212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AutoShape 678"/>
            <p:cNvSpPr/>
            <p:nvPr/>
          </p:nvSpPr>
          <p:spPr>
            <a:xfrm flipV="1" rot="10246800">
              <a:off x="3339720" y="5603760"/>
              <a:ext cx="4212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AutoShape 679"/>
            <p:cNvSpPr/>
            <p:nvPr/>
          </p:nvSpPr>
          <p:spPr>
            <a:xfrm flipV="1" rot="10246800">
              <a:off x="3029040" y="5762520"/>
              <a:ext cx="4212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AutoShape 680"/>
            <p:cNvSpPr/>
            <p:nvPr/>
          </p:nvSpPr>
          <p:spPr>
            <a:xfrm flipV="1" rot="10246800">
              <a:off x="3341880" y="5874840"/>
              <a:ext cx="4212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AutoShape 681"/>
            <p:cNvSpPr/>
            <p:nvPr/>
          </p:nvSpPr>
          <p:spPr>
            <a:xfrm flipV="1" rot="10246800">
              <a:off x="3160440" y="5796360"/>
              <a:ext cx="4212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AutoShape 682"/>
            <p:cNvSpPr/>
            <p:nvPr/>
          </p:nvSpPr>
          <p:spPr>
            <a:xfrm flipV="1" rot="10246800">
              <a:off x="3119760" y="5803200"/>
              <a:ext cx="4212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AutoShape 683"/>
            <p:cNvSpPr/>
            <p:nvPr/>
          </p:nvSpPr>
          <p:spPr>
            <a:xfrm flipV="1" rot="10246800">
              <a:off x="3087720" y="5862240"/>
              <a:ext cx="4212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684"/>
            <p:cNvSpPr/>
            <p:nvPr/>
          </p:nvSpPr>
          <p:spPr>
            <a:xfrm flipV="1" rot="10246800">
              <a:off x="2988360" y="5769000"/>
              <a:ext cx="4212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AutoShape 685"/>
            <p:cNvSpPr/>
            <p:nvPr/>
          </p:nvSpPr>
          <p:spPr>
            <a:xfrm flipV="1" rot="10246800">
              <a:off x="3387600" y="5734080"/>
              <a:ext cx="331560" cy="52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AutoShape 686"/>
            <p:cNvSpPr/>
            <p:nvPr/>
          </p:nvSpPr>
          <p:spPr>
            <a:xfrm flipV="1" rot="10246800">
              <a:off x="3480480" y="604980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AutoShape 687"/>
            <p:cNvSpPr/>
            <p:nvPr/>
          </p:nvSpPr>
          <p:spPr>
            <a:xfrm flipV="1" rot="10246800">
              <a:off x="3676680" y="5965560"/>
              <a:ext cx="248400" cy="53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utoShape 688"/>
            <p:cNvSpPr/>
            <p:nvPr/>
          </p:nvSpPr>
          <p:spPr>
            <a:xfrm flipV="1" rot="10246800">
              <a:off x="3682800" y="5743440"/>
              <a:ext cx="290880" cy="547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AutoShape 689"/>
            <p:cNvSpPr/>
            <p:nvPr/>
          </p:nvSpPr>
          <p:spPr>
            <a:xfrm flipV="1" rot="10246800">
              <a:off x="3592080" y="5704200"/>
              <a:ext cx="290520" cy="540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AutoShape 690"/>
            <p:cNvSpPr/>
            <p:nvPr/>
          </p:nvSpPr>
          <p:spPr>
            <a:xfrm flipV="1" rot="10246800">
              <a:off x="3732120" y="5789520"/>
              <a:ext cx="290520" cy="540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AutoShape 691"/>
            <p:cNvSpPr/>
            <p:nvPr/>
          </p:nvSpPr>
          <p:spPr>
            <a:xfrm flipV="1" rot="10246800">
              <a:off x="3603240" y="602964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AutoShape 692"/>
            <p:cNvSpPr/>
            <p:nvPr/>
          </p:nvSpPr>
          <p:spPr>
            <a:xfrm flipV="1" rot="10246800">
              <a:off x="3708720" y="5902920"/>
              <a:ext cx="290880" cy="547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AutoShape 693"/>
            <p:cNvSpPr/>
            <p:nvPr/>
          </p:nvSpPr>
          <p:spPr>
            <a:xfrm flipV="1" rot="10246800">
              <a:off x="3503520" y="5936040"/>
              <a:ext cx="290880" cy="547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AutoShape 694"/>
            <p:cNvSpPr/>
            <p:nvPr/>
          </p:nvSpPr>
          <p:spPr>
            <a:xfrm flipV="1" rot="10246800">
              <a:off x="3308400" y="602208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AutoShape 695"/>
            <p:cNvSpPr/>
            <p:nvPr/>
          </p:nvSpPr>
          <p:spPr>
            <a:xfrm flipV="1" rot="10246800">
              <a:off x="3406680" y="6115320"/>
              <a:ext cx="290520" cy="540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AutoShape 696"/>
            <p:cNvSpPr/>
            <p:nvPr/>
          </p:nvSpPr>
          <p:spPr>
            <a:xfrm flipV="1" rot="10246800">
              <a:off x="3152880" y="6102360"/>
              <a:ext cx="290880" cy="547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697"/>
            <p:cNvSpPr/>
            <p:nvPr/>
          </p:nvSpPr>
          <p:spPr>
            <a:xfrm flipV="1" rot="10246800">
              <a:off x="2923200" y="5996160"/>
              <a:ext cx="42120" cy="5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AutoShape 698"/>
            <p:cNvSpPr/>
            <p:nvPr/>
          </p:nvSpPr>
          <p:spPr>
            <a:xfrm flipH="1" flipV="1" rot="21047400">
              <a:off x="3034800" y="6125400"/>
              <a:ext cx="248400" cy="107640"/>
            </a:xfrm>
            <a:custGeom>
              <a:avLst/>
              <a:gdLst>
                <a:gd name="textAreaLeft" fmla="*/ 142560 w 248400"/>
                <a:gd name="textAreaRight" fmla="*/ 210240 w 248400"/>
                <a:gd name="textAreaTop" fmla="*/ 14040 h 107640"/>
                <a:gd name="textAreaBottom" fmla="*/ 46080 h 1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AutoShape 699"/>
            <p:cNvSpPr/>
            <p:nvPr/>
          </p:nvSpPr>
          <p:spPr>
            <a:xfrm flipH="1" flipV="1" rot="21047400">
              <a:off x="2945160" y="6088680"/>
              <a:ext cx="207360" cy="108000"/>
            </a:xfrm>
            <a:custGeom>
              <a:avLst/>
              <a:gdLst>
                <a:gd name="textAreaLeft" fmla="*/ 119520 w 207360"/>
                <a:gd name="textAreaRight" fmla="*/ 175680 w 207360"/>
                <a:gd name="textAreaTop" fmla="*/ 14400 h 108000"/>
                <a:gd name="textAreaBottom" fmla="*/ 4644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AutoShape 700"/>
            <p:cNvSpPr/>
            <p:nvPr/>
          </p:nvSpPr>
          <p:spPr>
            <a:xfrm rot="9096600">
              <a:off x="3407400" y="6058800"/>
              <a:ext cx="331920" cy="163800"/>
            </a:xfrm>
            <a:custGeom>
              <a:avLst/>
              <a:gdLst>
                <a:gd name="textAreaLeft" fmla="*/ 191160 w 331920"/>
                <a:gd name="textAreaRight" fmla="*/ 280080 w 331920"/>
                <a:gd name="textAreaTop" fmla="*/ 22320 h 163800"/>
                <a:gd name="textAreaBottom" fmla="*/ 69840 h 16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701"/>
            <p:cNvSpPr/>
            <p:nvPr/>
          </p:nvSpPr>
          <p:spPr>
            <a:xfrm flipV="1" rot="10246800">
              <a:off x="3575880" y="5597280"/>
              <a:ext cx="28944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AutoShape 702"/>
            <p:cNvSpPr/>
            <p:nvPr/>
          </p:nvSpPr>
          <p:spPr>
            <a:xfrm flipV="1" rot="10246800">
              <a:off x="3403080" y="5572080"/>
              <a:ext cx="28980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AutoShape 703"/>
            <p:cNvSpPr/>
            <p:nvPr/>
          </p:nvSpPr>
          <p:spPr>
            <a:xfrm flipV="1" rot="10246800">
              <a:off x="3748320" y="5623920"/>
              <a:ext cx="28980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AutoShape 704"/>
            <p:cNvSpPr/>
            <p:nvPr/>
          </p:nvSpPr>
          <p:spPr>
            <a:xfrm flipV="1" rot="10246800">
              <a:off x="3724200" y="573696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AutoShape 705"/>
            <p:cNvSpPr/>
            <p:nvPr/>
          </p:nvSpPr>
          <p:spPr>
            <a:xfrm flipV="1" rot="10246800">
              <a:off x="3855960" y="5770080"/>
              <a:ext cx="28980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AutoShape 706"/>
            <p:cNvSpPr/>
            <p:nvPr/>
          </p:nvSpPr>
          <p:spPr>
            <a:xfrm flipV="1" rot="10246800">
              <a:off x="3741480" y="584316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AutoShape 707"/>
            <p:cNvSpPr/>
            <p:nvPr/>
          </p:nvSpPr>
          <p:spPr>
            <a:xfrm flipV="1" rot="10246800">
              <a:off x="3321000" y="5585400"/>
              <a:ext cx="28980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AutoShape 708"/>
            <p:cNvSpPr/>
            <p:nvPr/>
          </p:nvSpPr>
          <p:spPr>
            <a:xfrm flipV="1" rot="10246800">
              <a:off x="3207240" y="565704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AutoShape 709"/>
            <p:cNvSpPr/>
            <p:nvPr/>
          </p:nvSpPr>
          <p:spPr>
            <a:xfrm flipV="1" rot="6712200">
              <a:off x="3452040" y="561816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AutoShape 710"/>
            <p:cNvSpPr/>
            <p:nvPr/>
          </p:nvSpPr>
          <p:spPr>
            <a:xfrm flipV="1" rot="6712200">
              <a:off x="3065400" y="557136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AutoShape 711"/>
            <p:cNvSpPr/>
            <p:nvPr/>
          </p:nvSpPr>
          <p:spPr>
            <a:xfrm flipV="1" rot="6712200">
              <a:off x="2845800" y="577044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AutoShape 712"/>
            <p:cNvSpPr/>
            <p:nvPr/>
          </p:nvSpPr>
          <p:spPr>
            <a:xfrm flipV="1" rot="6712200">
              <a:off x="3100320" y="578448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AutoShape 713"/>
            <p:cNvSpPr/>
            <p:nvPr/>
          </p:nvSpPr>
          <p:spPr>
            <a:xfrm flipV="1" rot="6712200">
              <a:off x="2927880" y="575712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AutoShape 714"/>
            <p:cNvSpPr/>
            <p:nvPr/>
          </p:nvSpPr>
          <p:spPr>
            <a:xfrm flipV="1" rot="6712200">
              <a:off x="3337920" y="569052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AutoShape 715"/>
            <p:cNvSpPr/>
            <p:nvPr/>
          </p:nvSpPr>
          <p:spPr>
            <a:xfrm flipV="1" rot="6712200">
              <a:off x="3033720" y="563040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AutoShape 716"/>
            <p:cNvSpPr/>
            <p:nvPr/>
          </p:nvSpPr>
          <p:spPr>
            <a:xfrm flipV="1" rot="6712200">
              <a:off x="3156120" y="5609880"/>
              <a:ext cx="375840" cy="403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AutoShape 717"/>
            <p:cNvSpPr/>
            <p:nvPr/>
          </p:nvSpPr>
          <p:spPr>
            <a:xfrm flipV="1" rot="6712200">
              <a:off x="3290400" y="591696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Group 718"/>
          <p:cNvGrpSpPr/>
          <p:nvPr/>
        </p:nvGrpSpPr>
        <p:grpSpPr>
          <a:xfrm>
            <a:off x="2626920" y="4887360"/>
            <a:ext cx="1146600" cy="1145520"/>
            <a:chOff x="2626920" y="4887360"/>
            <a:chExt cx="1146600" cy="1145520"/>
          </a:xfrm>
        </p:grpSpPr>
        <p:sp>
          <p:nvSpPr>
            <p:cNvPr id="800" name="AutoShape 719"/>
            <p:cNvSpPr/>
            <p:nvPr/>
          </p:nvSpPr>
          <p:spPr>
            <a:xfrm flipV="1" rot="8254200">
              <a:off x="2681280" y="5612760"/>
              <a:ext cx="414000" cy="322200"/>
            </a:xfrm>
            <a:prstGeom prst="flowChartDecision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720"/>
            <p:cNvSpPr/>
            <p:nvPr/>
          </p:nvSpPr>
          <p:spPr>
            <a:xfrm flipV="1" rot="8254200">
              <a:off x="2709000" y="5150880"/>
              <a:ext cx="995400" cy="591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AutoShape 721"/>
            <p:cNvSpPr/>
            <p:nvPr/>
          </p:nvSpPr>
          <p:spPr>
            <a:xfrm flipV="1" rot="8254200">
              <a:off x="3054600" y="51382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AutoShape 722"/>
            <p:cNvSpPr/>
            <p:nvPr/>
          </p:nvSpPr>
          <p:spPr>
            <a:xfrm flipV="1" rot="8254200">
              <a:off x="3071880" y="534132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AutoShape 723"/>
            <p:cNvSpPr/>
            <p:nvPr/>
          </p:nvSpPr>
          <p:spPr>
            <a:xfrm flipV="1" rot="8254200">
              <a:off x="3088800" y="554436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AutoShape 724"/>
            <p:cNvSpPr/>
            <p:nvPr/>
          </p:nvSpPr>
          <p:spPr>
            <a:xfrm flipV="1" rot="8254200">
              <a:off x="3177000" y="50266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AutoShape 725"/>
            <p:cNvSpPr/>
            <p:nvPr/>
          </p:nvSpPr>
          <p:spPr>
            <a:xfrm flipV="1" rot="8254200">
              <a:off x="3408480" y="503352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AutoShape 726"/>
            <p:cNvSpPr/>
            <p:nvPr/>
          </p:nvSpPr>
          <p:spPr>
            <a:xfrm flipV="1" rot="8254200">
              <a:off x="2908080" y="534672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AutoShape 727"/>
            <p:cNvSpPr/>
            <p:nvPr/>
          </p:nvSpPr>
          <p:spPr>
            <a:xfrm flipV="1" rot="8254200">
              <a:off x="3193920" y="522972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728"/>
            <p:cNvSpPr/>
            <p:nvPr/>
          </p:nvSpPr>
          <p:spPr>
            <a:xfrm flipV="1" rot="8254200">
              <a:off x="3280680" y="50778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729"/>
            <p:cNvSpPr/>
            <p:nvPr/>
          </p:nvSpPr>
          <p:spPr>
            <a:xfrm flipV="1" rot="8254200">
              <a:off x="3394440" y="526464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AutoShape 730"/>
            <p:cNvSpPr/>
            <p:nvPr/>
          </p:nvSpPr>
          <p:spPr>
            <a:xfrm flipV="1" rot="8254200">
              <a:off x="2968920" y="529092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AutoShape 731"/>
            <p:cNvSpPr/>
            <p:nvPr/>
          </p:nvSpPr>
          <p:spPr>
            <a:xfrm flipV="1" rot="8254200">
              <a:off x="3169440" y="53262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AutoShape 732"/>
            <p:cNvSpPr/>
            <p:nvPr/>
          </p:nvSpPr>
          <p:spPr>
            <a:xfrm flipV="1" rot="8254200">
              <a:off x="3297960" y="528084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AutoShape 733"/>
            <p:cNvSpPr/>
            <p:nvPr/>
          </p:nvSpPr>
          <p:spPr>
            <a:xfrm flipV="1" rot="8254200">
              <a:off x="3420000" y="516924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AutoShape 734"/>
            <p:cNvSpPr/>
            <p:nvPr/>
          </p:nvSpPr>
          <p:spPr>
            <a:xfrm flipV="1" rot="8254200">
              <a:off x="3210840" y="54324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AutoShape 735"/>
            <p:cNvSpPr/>
            <p:nvPr/>
          </p:nvSpPr>
          <p:spPr>
            <a:xfrm flipV="1" rot="8254200">
              <a:off x="2955600" y="55216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AutoShape 736"/>
            <p:cNvSpPr/>
            <p:nvPr/>
          </p:nvSpPr>
          <p:spPr>
            <a:xfrm flipV="1" rot="8254200">
              <a:off x="3339360" y="538884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AutoShape 737"/>
            <p:cNvSpPr/>
            <p:nvPr/>
          </p:nvSpPr>
          <p:spPr>
            <a:xfrm flipV="1" rot="8254200">
              <a:off x="3475800" y="504612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AutoShape 738"/>
            <p:cNvSpPr/>
            <p:nvPr/>
          </p:nvSpPr>
          <p:spPr>
            <a:xfrm flipV="1" rot="8254200">
              <a:off x="3317040" y="51174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AutoShape 739"/>
            <p:cNvSpPr/>
            <p:nvPr/>
          </p:nvSpPr>
          <p:spPr>
            <a:xfrm flipV="1" rot="8254200">
              <a:off x="2820960" y="549792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AutoShape 740"/>
            <p:cNvSpPr/>
            <p:nvPr/>
          </p:nvSpPr>
          <p:spPr>
            <a:xfrm flipV="1" rot="8254200">
              <a:off x="3146760" y="50544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AutoShape 741"/>
            <p:cNvSpPr/>
            <p:nvPr/>
          </p:nvSpPr>
          <p:spPr>
            <a:xfrm flipV="1" rot="8254200">
              <a:off x="2918520" y="548136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AutoShape 742"/>
            <p:cNvSpPr/>
            <p:nvPr/>
          </p:nvSpPr>
          <p:spPr>
            <a:xfrm flipV="1" rot="8254200">
              <a:off x="3149640" y="548856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AutoShape 743"/>
            <p:cNvSpPr/>
            <p:nvPr/>
          </p:nvSpPr>
          <p:spPr>
            <a:xfrm flipV="1" rot="8254200">
              <a:off x="3275280" y="501084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AutoShape 744"/>
            <p:cNvSpPr/>
            <p:nvPr/>
          </p:nvSpPr>
          <p:spPr>
            <a:xfrm flipV="1" rot="8254200">
              <a:off x="3236400" y="53370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AutoShape 745"/>
            <p:cNvSpPr/>
            <p:nvPr/>
          </p:nvSpPr>
          <p:spPr>
            <a:xfrm flipV="1" rot="8254200">
              <a:off x="3408480" y="503352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AutoShape 746"/>
            <p:cNvSpPr/>
            <p:nvPr/>
          </p:nvSpPr>
          <p:spPr>
            <a:xfrm flipV="1" rot="8254200">
              <a:off x="3030120" y="523476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AutoShape 747"/>
            <p:cNvSpPr/>
            <p:nvPr/>
          </p:nvSpPr>
          <p:spPr>
            <a:xfrm flipV="1" rot="8254200">
              <a:off x="2857320" y="553752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AutoShape 748"/>
            <p:cNvSpPr/>
            <p:nvPr/>
          </p:nvSpPr>
          <p:spPr>
            <a:xfrm flipV="1" rot="8254200">
              <a:off x="3180600" y="546012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AutoShape 749"/>
            <p:cNvSpPr/>
            <p:nvPr/>
          </p:nvSpPr>
          <p:spPr>
            <a:xfrm flipV="1" rot="8254200">
              <a:off x="2986200" y="549396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AutoShape 750"/>
            <p:cNvSpPr/>
            <p:nvPr/>
          </p:nvSpPr>
          <p:spPr>
            <a:xfrm flipV="1" rot="8254200">
              <a:off x="2955600" y="55216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AutoShape 751"/>
            <p:cNvSpPr/>
            <p:nvPr/>
          </p:nvSpPr>
          <p:spPr>
            <a:xfrm flipV="1" rot="8254200">
              <a:off x="2961000" y="558864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AutoShape 752"/>
            <p:cNvSpPr/>
            <p:nvPr/>
          </p:nvSpPr>
          <p:spPr>
            <a:xfrm flipV="1" rot="8254200">
              <a:off x="2826720" y="556524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AutoShape 753"/>
            <p:cNvSpPr/>
            <p:nvPr/>
          </p:nvSpPr>
          <p:spPr>
            <a:xfrm flipV="1" rot="8254200">
              <a:off x="3060000" y="5256360"/>
              <a:ext cx="331560" cy="52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AutoShape 754"/>
            <p:cNvSpPr/>
            <p:nvPr/>
          </p:nvSpPr>
          <p:spPr>
            <a:xfrm flipV="1" rot="8254200">
              <a:off x="3313800" y="548028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AutoShape 755"/>
            <p:cNvSpPr/>
            <p:nvPr/>
          </p:nvSpPr>
          <p:spPr>
            <a:xfrm flipV="1" rot="8254200">
              <a:off x="3435120" y="5313960"/>
              <a:ext cx="248400" cy="53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AutoShape 756"/>
            <p:cNvSpPr/>
            <p:nvPr/>
          </p:nvSpPr>
          <p:spPr>
            <a:xfrm flipV="1" rot="8254200">
              <a:off x="3315600" y="511380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AutoShape 757"/>
            <p:cNvSpPr/>
            <p:nvPr/>
          </p:nvSpPr>
          <p:spPr>
            <a:xfrm flipV="1" rot="8254200">
              <a:off x="3218040" y="513072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AutoShape 758"/>
            <p:cNvSpPr/>
            <p:nvPr/>
          </p:nvSpPr>
          <p:spPr>
            <a:xfrm flipV="1" rot="8254200">
              <a:off x="3381840" y="512532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AutoShape 759"/>
            <p:cNvSpPr/>
            <p:nvPr/>
          </p:nvSpPr>
          <p:spPr>
            <a:xfrm flipV="1" rot="8254200">
              <a:off x="3405240" y="539640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AutoShape 760"/>
            <p:cNvSpPr/>
            <p:nvPr/>
          </p:nvSpPr>
          <p:spPr>
            <a:xfrm flipV="1" rot="8254200">
              <a:off x="3424320" y="523296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AutoShape 761"/>
            <p:cNvSpPr/>
            <p:nvPr/>
          </p:nvSpPr>
          <p:spPr>
            <a:xfrm flipV="1" rot="8254200">
              <a:off x="3270960" y="537300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AutoShape 762"/>
            <p:cNvSpPr/>
            <p:nvPr/>
          </p:nvSpPr>
          <p:spPr>
            <a:xfrm flipV="1" rot="8254200">
              <a:off x="3154680" y="555156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AutoShape 763"/>
            <p:cNvSpPr/>
            <p:nvPr/>
          </p:nvSpPr>
          <p:spPr>
            <a:xfrm flipV="1" rot="8254200">
              <a:off x="3288240" y="557568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AutoShape 764"/>
            <p:cNvSpPr/>
            <p:nvPr/>
          </p:nvSpPr>
          <p:spPr>
            <a:xfrm flipV="1" rot="8254200">
              <a:off x="3068640" y="570420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765"/>
            <p:cNvSpPr/>
            <p:nvPr/>
          </p:nvSpPr>
          <p:spPr>
            <a:xfrm flipV="1" rot="8254200">
              <a:off x="2838960" y="5808960"/>
              <a:ext cx="41760" cy="53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AutoShape 766"/>
            <p:cNvSpPr/>
            <p:nvPr/>
          </p:nvSpPr>
          <p:spPr>
            <a:xfrm flipH="1" flipV="1" rot="19054200">
              <a:off x="3000960" y="5794560"/>
              <a:ext cx="248400" cy="107280"/>
            </a:xfrm>
            <a:custGeom>
              <a:avLst/>
              <a:gdLst>
                <a:gd name="textAreaLeft" fmla="*/ 142560 w 248400"/>
                <a:gd name="textAreaRight" fmla="*/ 210240 w 248400"/>
                <a:gd name="textAreaTop" fmla="*/ 14400 h 107280"/>
                <a:gd name="textAreaBottom" fmla="*/ 46440 h 10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AutoShape 767"/>
            <p:cNvSpPr/>
            <p:nvPr/>
          </p:nvSpPr>
          <p:spPr>
            <a:xfrm flipH="1" flipV="1" rot="19054200">
              <a:off x="2908080" y="5824440"/>
              <a:ext cx="207360" cy="107640"/>
            </a:xfrm>
            <a:custGeom>
              <a:avLst/>
              <a:gdLst>
                <a:gd name="textAreaLeft" fmla="*/ 119520 w 207360"/>
                <a:gd name="textAreaRight" fmla="*/ 175680 w 207360"/>
                <a:gd name="textAreaTop" fmla="*/ 14040 h 107640"/>
                <a:gd name="textAreaBottom" fmla="*/ 46080 h 1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AutoShape 768"/>
            <p:cNvSpPr/>
            <p:nvPr/>
          </p:nvSpPr>
          <p:spPr>
            <a:xfrm rot="7104000">
              <a:off x="3284640" y="5508000"/>
              <a:ext cx="331560" cy="163440"/>
            </a:xfrm>
            <a:custGeom>
              <a:avLst/>
              <a:gdLst>
                <a:gd name="textAreaLeft" fmla="*/ 190800 w 331560"/>
                <a:gd name="textAreaRight" fmla="*/ 279720 w 331560"/>
                <a:gd name="textAreaTop" fmla="*/ 22320 h 163440"/>
                <a:gd name="textAreaBottom" fmla="*/ 69840 h 16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AutoShape 769"/>
            <p:cNvSpPr/>
            <p:nvPr/>
          </p:nvSpPr>
          <p:spPr>
            <a:xfrm flipV="1" rot="8254200">
              <a:off x="3146040" y="5050080"/>
              <a:ext cx="28908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AutoShape 770"/>
            <p:cNvSpPr/>
            <p:nvPr/>
          </p:nvSpPr>
          <p:spPr>
            <a:xfrm flipV="1" rot="8254200">
              <a:off x="2987640" y="5123160"/>
              <a:ext cx="28980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AutoShape 771"/>
            <p:cNvSpPr/>
            <p:nvPr/>
          </p:nvSpPr>
          <p:spPr>
            <a:xfrm flipV="1" rot="8254200">
              <a:off x="3304440" y="4978080"/>
              <a:ext cx="28980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AutoShape 772"/>
            <p:cNvSpPr/>
            <p:nvPr/>
          </p:nvSpPr>
          <p:spPr>
            <a:xfrm flipV="1" rot="8254200">
              <a:off x="3346200" y="508572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AutoShape 773"/>
            <p:cNvSpPr/>
            <p:nvPr/>
          </p:nvSpPr>
          <p:spPr>
            <a:xfrm flipV="1" rot="8254200">
              <a:off x="3474360" y="5041080"/>
              <a:ext cx="28980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AutoShape 774"/>
            <p:cNvSpPr/>
            <p:nvPr/>
          </p:nvSpPr>
          <p:spPr>
            <a:xfrm flipV="1" rot="8254200">
              <a:off x="3418920" y="516528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AutoShape 775"/>
            <p:cNvSpPr/>
            <p:nvPr/>
          </p:nvSpPr>
          <p:spPr>
            <a:xfrm flipV="1" rot="8254200">
              <a:off x="2926080" y="5179320"/>
              <a:ext cx="28980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AutoShape 776"/>
            <p:cNvSpPr/>
            <p:nvPr/>
          </p:nvSpPr>
          <p:spPr>
            <a:xfrm flipV="1" rot="8254200">
              <a:off x="2869920" y="530208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AutoShape 777"/>
            <p:cNvSpPr/>
            <p:nvPr/>
          </p:nvSpPr>
          <p:spPr>
            <a:xfrm flipV="1" rot="4719000">
              <a:off x="3042360" y="511272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AutoShape 778"/>
            <p:cNvSpPr/>
            <p:nvPr/>
          </p:nvSpPr>
          <p:spPr>
            <a:xfrm flipV="1" rot="4719000">
              <a:off x="2693520" y="528516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AutoShape 779"/>
            <p:cNvSpPr/>
            <p:nvPr/>
          </p:nvSpPr>
          <p:spPr>
            <a:xfrm flipV="1" rot="4719000">
              <a:off x="2618640" y="557208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AutoShape 780"/>
            <p:cNvSpPr/>
            <p:nvPr/>
          </p:nvSpPr>
          <p:spPr>
            <a:xfrm flipV="1" rot="4719000">
              <a:off x="2839320" y="544464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AutoShape 781"/>
            <p:cNvSpPr/>
            <p:nvPr/>
          </p:nvSpPr>
          <p:spPr>
            <a:xfrm flipV="1" rot="4719000">
              <a:off x="2680200" y="551592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AutoShape 782"/>
            <p:cNvSpPr/>
            <p:nvPr/>
          </p:nvSpPr>
          <p:spPr>
            <a:xfrm flipV="1" rot="4719000">
              <a:off x="2986560" y="523584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AutoShape 783"/>
            <p:cNvSpPr/>
            <p:nvPr/>
          </p:nvSpPr>
          <p:spPr>
            <a:xfrm flipV="1" rot="4719000">
              <a:off x="2699280" y="535212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AutoShape 784"/>
            <p:cNvSpPr/>
            <p:nvPr/>
          </p:nvSpPr>
          <p:spPr>
            <a:xfrm flipV="1" rot="4719000">
              <a:off x="2790720" y="5268600"/>
              <a:ext cx="375840" cy="403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AutoShape 785"/>
            <p:cNvSpPr/>
            <p:nvPr/>
          </p:nvSpPr>
          <p:spPr>
            <a:xfrm flipV="1" rot="4719000">
              <a:off x="3070800" y="545148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Group 786"/>
          <p:cNvGrpSpPr/>
          <p:nvPr/>
        </p:nvGrpSpPr>
        <p:grpSpPr>
          <a:xfrm>
            <a:off x="2283480" y="4510080"/>
            <a:ext cx="896760" cy="1372680"/>
            <a:chOff x="2283480" y="4510080"/>
            <a:chExt cx="896760" cy="1372680"/>
          </a:xfrm>
        </p:grpSpPr>
        <p:sp>
          <p:nvSpPr>
            <p:cNvPr id="868" name="AutoShape 787"/>
            <p:cNvSpPr/>
            <p:nvPr/>
          </p:nvSpPr>
          <p:spPr>
            <a:xfrm flipV="1" rot="5481000">
              <a:off x="2588040" y="5510520"/>
              <a:ext cx="414000" cy="322200"/>
            </a:xfrm>
            <a:prstGeom prst="flowChartDecision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788"/>
            <p:cNvSpPr/>
            <p:nvPr/>
          </p:nvSpPr>
          <p:spPr>
            <a:xfrm flipV="1" rot="5481000">
              <a:off x="2281320" y="4919400"/>
              <a:ext cx="995400" cy="591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AutoShape 789"/>
            <p:cNvSpPr/>
            <p:nvPr/>
          </p:nvSpPr>
          <p:spPr>
            <a:xfrm flipV="1" rot="5481000">
              <a:off x="2543040" y="505476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AutoShape 790"/>
            <p:cNvSpPr/>
            <p:nvPr/>
          </p:nvSpPr>
          <p:spPr>
            <a:xfrm flipV="1" rot="5481000">
              <a:off x="2701080" y="518292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AutoShape 791"/>
            <p:cNvSpPr/>
            <p:nvPr/>
          </p:nvSpPr>
          <p:spPr>
            <a:xfrm flipV="1" rot="5481000">
              <a:off x="2859480" y="53110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AutoShape 792"/>
            <p:cNvSpPr/>
            <p:nvPr/>
          </p:nvSpPr>
          <p:spPr>
            <a:xfrm flipV="1" rot="5481000">
              <a:off x="2546640" y="488916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AutoShape 793"/>
            <p:cNvSpPr/>
            <p:nvPr/>
          </p:nvSpPr>
          <p:spPr>
            <a:xfrm flipV="1" rot="5481000">
              <a:off x="2711880" y="47268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AutoShape 794"/>
            <p:cNvSpPr/>
            <p:nvPr/>
          </p:nvSpPr>
          <p:spPr>
            <a:xfrm flipV="1" rot="5481000">
              <a:off x="2591640" y="530496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AutoShape 795"/>
            <p:cNvSpPr/>
            <p:nvPr/>
          </p:nvSpPr>
          <p:spPr>
            <a:xfrm flipV="1" rot="5481000">
              <a:off x="2705040" y="50176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AutoShape 796"/>
            <p:cNvSpPr/>
            <p:nvPr/>
          </p:nvSpPr>
          <p:spPr>
            <a:xfrm flipV="1" rot="5481000">
              <a:off x="2655360" y="484992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AutoShape 797"/>
            <p:cNvSpPr/>
            <p:nvPr/>
          </p:nvSpPr>
          <p:spPr>
            <a:xfrm flipV="1" rot="5481000">
              <a:off x="2869200" y="48970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AutoShape 798"/>
            <p:cNvSpPr/>
            <p:nvPr/>
          </p:nvSpPr>
          <p:spPr>
            <a:xfrm flipV="1" rot="5481000">
              <a:off x="2593800" y="522252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AutoShape 799"/>
            <p:cNvSpPr/>
            <p:nvPr/>
          </p:nvSpPr>
          <p:spPr>
            <a:xfrm flipV="1" rot="5481000">
              <a:off x="2757960" y="510192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AutoShape 800"/>
            <p:cNvSpPr/>
            <p:nvPr/>
          </p:nvSpPr>
          <p:spPr>
            <a:xfrm flipV="1" rot="5481000">
              <a:off x="2814120" y="49780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AutoShape 801"/>
            <p:cNvSpPr/>
            <p:nvPr/>
          </p:nvSpPr>
          <p:spPr>
            <a:xfrm flipV="1" rot="5481000">
              <a:off x="2818080" y="48124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AutoShape 802"/>
            <p:cNvSpPr/>
            <p:nvPr/>
          </p:nvSpPr>
          <p:spPr>
            <a:xfrm flipV="1" rot="5481000">
              <a:off x="2863440" y="51454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AutoShape 803"/>
            <p:cNvSpPr/>
            <p:nvPr/>
          </p:nvSpPr>
          <p:spPr>
            <a:xfrm flipV="1" rot="5481000">
              <a:off x="2751120" y="539172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AutoShape 804"/>
            <p:cNvSpPr/>
            <p:nvPr/>
          </p:nvSpPr>
          <p:spPr>
            <a:xfrm flipV="1" rot="5481000">
              <a:off x="2920680" y="502272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AutoShape 805"/>
            <p:cNvSpPr/>
            <p:nvPr/>
          </p:nvSpPr>
          <p:spPr>
            <a:xfrm flipV="1" rot="5481000">
              <a:off x="2767680" y="46872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AutoShape 806"/>
            <p:cNvSpPr/>
            <p:nvPr/>
          </p:nvSpPr>
          <p:spPr>
            <a:xfrm flipV="1" rot="5481000">
              <a:off x="2709000" y="48510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AutoShape 807"/>
            <p:cNvSpPr/>
            <p:nvPr/>
          </p:nvSpPr>
          <p:spPr>
            <a:xfrm flipV="1" rot="5481000">
              <a:off x="2640600" y="547236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AutoShape 808"/>
            <p:cNvSpPr/>
            <p:nvPr/>
          </p:nvSpPr>
          <p:spPr>
            <a:xfrm flipV="1" rot="5481000">
              <a:off x="2545920" y="49302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AutoShape 809"/>
            <p:cNvSpPr/>
            <p:nvPr/>
          </p:nvSpPr>
          <p:spPr>
            <a:xfrm flipV="1" rot="5481000">
              <a:off x="2696400" y="539064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AutoShape 810"/>
            <p:cNvSpPr/>
            <p:nvPr/>
          </p:nvSpPr>
          <p:spPr>
            <a:xfrm flipV="1" rot="5481000">
              <a:off x="2861280" y="522864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AutoShape 811"/>
            <p:cNvSpPr/>
            <p:nvPr/>
          </p:nvSpPr>
          <p:spPr>
            <a:xfrm flipV="1" rot="5481000">
              <a:off x="2603520" y="480744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AutoShape 812"/>
            <p:cNvSpPr/>
            <p:nvPr/>
          </p:nvSpPr>
          <p:spPr>
            <a:xfrm flipV="1" rot="5481000">
              <a:off x="2811960" y="506124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AutoShape 813"/>
            <p:cNvSpPr/>
            <p:nvPr/>
          </p:nvSpPr>
          <p:spPr>
            <a:xfrm flipV="1" rot="5481000">
              <a:off x="2711880" y="47268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AutoShape 814"/>
            <p:cNvSpPr/>
            <p:nvPr/>
          </p:nvSpPr>
          <p:spPr>
            <a:xfrm flipV="1" rot="5481000">
              <a:off x="2595600" y="513936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AutoShape 815"/>
            <p:cNvSpPr/>
            <p:nvPr/>
          </p:nvSpPr>
          <p:spPr>
            <a:xfrm flipV="1" rot="5481000">
              <a:off x="2694240" y="54738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AutoShape 816"/>
            <p:cNvSpPr/>
            <p:nvPr/>
          </p:nvSpPr>
          <p:spPr>
            <a:xfrm flipV="1" rot="5481000">
              <a:off x="2862360" y="518652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AutoShape 817"/>
            <p:cNvSpPr/>
            <p:nvPr/>
          </p:nvSpPr>
          <p:spPr>
            <a:xfrm flipV="1" rot="5481000">
              <a:off x="2751840" y="535032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818"/>
            <p:cNvSpPr/>
            <p:nvPr/>
          </p:nvSpPr>
          <p:spPr>
            <a:xfrm flipV="1" rot="5481000">
              <a:off x="2751120" y="539172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AutoShape 819"/>
            <p:cNvSpPr/>
            <p:nvPr/>
          </p:nvSpPr>
          <p:spPr>
            <a:xfrm flipV="1" rot="5481000">
              <a:off x="2803320" y="54342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AutoShape 820"/>
            <p:cNvSpPr/>
            <p:nvPr/>
          </p:nvSpPr>
          <p:spPr>
            <a:xfrm flipV="1" rot="5481000">
              <a:off x="2693520" y="551484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821"/>
            <p:cNvSpPr/>
            <p:nvPr/>
          </p:nvSpPr>
          <p:spPr>
            <a:xfrm flipV="1" rot="5481000">
              <a:off x="2508480" y="5061960"/>
              <a:ext cx="331560" cy="52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822"/>
            <p:cNvSpPr/>
            <p:nvPr/>
          </p:nvSpPr>
          <p:spPr>
            <a:xfrm flipV="1" rot="5481000">
              <a:off x="2852640" y="504828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AutoShape 823"/>
            <p:cNvSpPr/>
            <p:nvPr/>
          </p:nvSpPr>
          <p:spPr>
            <a:xfrm flipV="1" rot="5481000">
              <a:off x="2822760" y="4860720"/>
              <a:ext cx="248400" cy="53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AutoShape 824"/>
            <p:cNvSpPr/>
            <p:nvPr/>
          </p:nvSpPr>
          <p:spPr>
            <a:xfrm flipV="1" rot="5481000">
              <a:off x="2589480" y="479304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AutoShape 825"/>
            <p:cNvSpPr/>
            <p:nvPr/>
          </p:nvSpPr>
          <p:spPr>
            <a:xfrm flipV="1" rot="5481000">
              <a:off x="2533680" y="4875480"/>
              <a:ext cx="290520" cy="540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AutoShape 826"/>
            <p:cNvSpPr/>
            <p:nvPr/>
          </p:nvSpPr>
          <p:spPr>
            <a:xfrm flipV="1" rot="5481000">
              <a:off x="2643480" y="4753440"/>
              <a:ext cx="290520" cy="540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AutoShape 827"/>
            <p:cNvSpPr/>
            <p:nvPr/>
          </p:nvSpPr>
          <p:spPr>
            <a:xfrm flipV="1" rot="5481000">
              <a:off x="2855880" y="492408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AutoShape 828"/>
            <p:cNvSpPr/>
            <p:nvPr/>
          </p:nvSpPr>
          <p:spPr>
            <a:xfrm flipV="1" rot="5481000">
              <a:off x="2750760" y="479700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AutoShape 829"/>
            <p:cNvSpPr/>
            <p:nvPr/>
          </p:nvSpPr>
          <p:spPr>
            <a:xfrm flipV="1" rot="5481000">
              <a:off x="2745720" y="500472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AutoShape 830"/>
            <p:cNvSpPr/>
            <p:nvPr/>
          </p:nvSpPr>
          <p:spPr>
            <a:xfrm flipV="1" rot="5481000">
              <a:off x="2794320" y="521244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AutoShape 831"/>
            <p:cNvSpPr/>
            <p:nvPr/>
          </p:nvSpPr>
          <p:spPr>
            <a:xfrm flipV="1" rot="5481000">
              <a:off x="2903760" y="5132520"/>
              <a:ext cx="290520" cy="540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AutoShape 832"/>
            <p:cNvSpPr/>
            <p:nvPr/>
          </p:nvSpPr>
          <p:spPr>
            <a:xfrm flipV="1" rot="5481000">
              <a:off x="2845080" y="538020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833"/>
            <p:cNvSpPr/>
            <p:nvPr/>
          </p:nvSpPr>
          <p:spPr>
            <a:xfrm flipV="1" rot="5481000">
              <a:off x="2799360" y="5708880"/>
              <a:ext cx="41760" cy="5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AutoShape 834"/>
            <p:cNvSpPr/>
            <p:nvPr/>
          </p:nvSpPr>
          <p:spPr>
            <a:xfrm flipH="1" flipV="1" rot="16281000">
              <a:off x="2888640" y="5498280"/>
              <a:ext cx="248400" cy="107640"/>
            </a:xfrm>
            <a:custGeom>
              <a:avLst/>
              <a:gdLst>
                <a:gd name="textAreaLeft" fmla="*/ 142560 w 248400"/>
                <a:gd name="textAreaRight" fmla="*/ 210240 w 248400"/>
                <a:gd name="textAreaTop" fmla="*/ 14040 h 107640"/>
                <a:gd name="textAreaBottom" fmla="*/ 46080 h 1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AutoShape 835"/>
            <p:cNvSpPr/>
            <p:nvPr/>
          </p:nvSpPr>
          <p:spPr>
            <a:xfrm flipH="1" flipV="1" rot="16281000">
              <a:off x="2852640" y="5600520"/>
              <a:ext cx="207360" cy="108000"/>
            </a:xfrm>
            <a:custGeom>
              <a:avLst/>
              <a:gdLst>
                <a:gd name="textAreaLeft" fmla="*/ 119520 w 207360"/>
                <a:gd name="textAreaRight" fmla="*/ 175680 w 207360"/>
                <a:gd name="textAreaTop" fmla="*/ 14400 h 108000"/>
                <a:gd name="textAreaBottom" fmla="*/ 4644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AutoShape 836"/>
            <p:cNvSpPr/>
            <p:nvPr/>
          </p:nvSpPr>
          <p:spPr>
            <a:xfrm rot="4330800">
              <a:off x="2885760" y="5056200"/>
              <a:ext cx="331560" cy="163440"/>
            </a:xfrm>
            <a:custGeom>
              <a:avLst/>
              <a:gdLst>
                <a:gd name="textAreaLeft" fmla="*/ 190800 w 331560"/>
                <a:gd name="textAreaRight" fmla="*/ 279720 w 331560"/>
                <a:gd name="textAreaTop" fmla="*/ 22320 h 163440"/>
                <a:gd name="textAreaBottom" fmla="*/ 69840 h 16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AutoShape 837"/>
            <p:cNvSpPr/>
            <p:nvPr/>
          </p:nvSpPr>
          <p:spPr>
            <a:xfrm flipV="1" rot="5481000">
              <a:off x="2426040" y="4872600"/>
              <a:ext cx="28944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AutoShape 838"/>
            <p:cNvSpPr/>
            <p:nvPr/>
          </p:nvSpPr>
          <p:spPr>
            <a:xfrm flipV="1" rot="5481000">
              <a:off x="2368800" y="5037120"/>
              <a:ext cx="28980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AutoShape 839"/>
            <p:cNvSpPr/>
            <p:nvPr/>
          </p:nvSpPr>
          <p:spPr>
            <a:xfrm flipV="1" rot="5481000">
              <a:off x="2482920" y="4707720"/>
              <a:ext cx="28980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AutoShape 840"/>
            <p:cNvSpPr/>
            <p:nvPr/>
          </p:nvSpPr>
          <p:spPr>
            <a:xfrm flipV="1" rot="5481000">
              <a:off x="2590200" y="475200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AutoShape 841"/>
            <p:cNvSpPr/>
            <p:nvPr/>
          </p:nvSpPr>
          <p:spPr>
            <a:xfrm flipV="1" rot="5481000">
              <a:off x="2646360" y="4628880"/>
              <a:ext cx="28980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AutoShape 842"/>
            <p:cNvSpPr/>
            <p:nvPr/>
          </p:nvSpPr>
          <p:spPr>
            <a:xfrm flipV="1" rot="5481000">
              <a:off x="2697840" y="475452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AutoShape 843"/>
            <p:cNvSpPr/>
            <p:nvPr/>
          </p:nvSpPr>
          <p:spPr>
            <a:xfrm flipV="1" rot="5481000">
              <a:off x="2366640" y="5120280"/>
              <a:ext cx="28980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AutoShape 844"/>
            <p:cNvSpPr/>
            <p:nvPr/>
          </p:nvSpPr>
          <p:spPr>
            <a:xfrm flipV="1" rot="5481000">
              <a:off x="2416680" y="524556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AutoShape 845"/>
            <p:cNvSpPr/>
            <p:nvPr/>
          </p:nvSpPr>
          <p:spPr>
            <a:xfrm flipV="1" rot="1945800">
              <a:off x="2381400" y="4960080"/>
              <a:ext cx="375840" cy="403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AutoShape 846"/>
            <p:cNvSpPr/>
            <p:nvPr/>
          </p:nvSpPr>
          <p:spPr>
            <a:xfrm flipV="1" rot="1945800">
              <a:off x="2264760" y="5331600"/>
              <a:ext cx="375840" cy="403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AutoShape 847"/>
            <p:cNvSpPr/>
            <p:nvPr/>
          </p:nvSpPr>
          <p:spPr>
            <a:xfrm flipV="1" rot="1945800">
              <a:off x="2419920" y="5583960"/>
              <a:ext cx="375840" cy="403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AutoShape 848"/>
            <p:cNvSpPr/>
            <p:nvPr/>
          </p:nvSpPr>
          <p:spPr>
            <a:xfrm flipV="1" rot="1945800">
              <a:off x="2480760" y="5336640"/>
              <a:ext cx="375840" cy="403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AutoShape 849"/>
            <p:cNvSpPr/>
            <p:nvPr/>
          </p:nvSpPr>
          <p:spPr>
            <a:xfrm flipV="1" rot="1945800">
              <a:off x="2422080" y="5500800"/>
              <a:ext cx="375840" cy="403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AutoShape 850"/>
            <p:cNvSpPr/>
            <p:nvPr/>
          </p:nvSpPr>
          <p:spPr>
            <a:xfrm flipV="1" rot="1945800">
              <a:off x="2431800" y="5086080"/>
              <a:ext cx="375840" cy="403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AutoShape 851"/>
            <p:cNvSpPr/>
            <p:nvPr/>
          </p:nvSpPr>
          <p:spPr>
            <a:xfrm flipV="1" rot="1945800">
              <a:off x="2316960" y="5373720"/>
              <a:ext cx="375840" cy="403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AutoShape 852"/>
            <p:cNvSpPr/>
            <p:nvPr/>
          </p:nvSpPr>
          <p:spPr>
            <a:xfrm flipV="1" rot="1945800">
              <a:off x="2319480" y="5249880"/>
              <a:ext cx="375840" cy="403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AutoShape 853"/>
            <p:cNvSpPr/>
            <p:nvPr/>
          </p:nvSpPr>
          <p:spPr>
            <a:xfrm flipV="1" rot="1945800">
              <a:off x="2645640" y="5174280"/>
              <a:ext cx="375840" cy="403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Group 854"/>
          <p:cNvGrpSpPr/>
          <p:nvPr/>
        </p:nvGrpSpPr>
        <p:grpSpPr>
          <a:xfrm>
            <a:off x="2671920" y="4978800"/>
            <a:ext cx="1175040" cy="1102680"/>
            <a:chOff x="2671920" y="4978800"/>
            <a:chExt cx="1175040" cy="1102680"/>
          </a:xfrm>
        </p:grpSpPr>
        <p:sp>
          <p:nvSpPr>
            <p:cNvPr id="936" name="AutoShape 855"/>
            <p:cNvSpPr/>
            <p:nvPr/>
          </p:nvSpPr>
          <p:spPr>
            <a:xfrm flipV="1" rot="8480400">
              <a:off x="2727000" y="5664600"/>
              <a:ext cx="414000" cy="322200"/>
            </a:xfrm>
            <a:prstGeom prst="flowChartDecision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856"/>
            <p:cNvSpPr/>
            <p:nvPr/>
          </p:nvSpPr>
          <p:spPr>
            <a:xfrm flipV="1" rot="8480400">
              <a:off x="2775960" y="5224680"/>
              <a:ext cx="995400" cy="591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AutoShape 857"/>
            <p:cNvSpPr/>
            <p:nvPr/>
          </p:nvSpPr>
          <p:spPr>
            <a:xfrm flipV="1" rot="8480400">
              <a:off x="3133080" y="5204520"/>
              <a:ext cx="41760" cy="269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AutoShape 858"/>
            <p:cNvSpPr/>
            <p:nvPr/>
          </p:nvSpPr>
          <p:spPr>
            <a:xfrm flipV="1" rot="8480400">
              <a:off x="3137040" y="5407920"/>
              <a:ext cx="41760" cy="269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AutoShape 859"/>
            <p:cNvSpPr/>
            <p:nvPr/>
          </p:nvSpPr>
          <p:spPr>
            <a:xfrm flipV="1" rot="8480400">
              <a:off x="3140640" y="5611680"/>
              <a:ext cx="41760" cy="269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AutoShape 860"/>
            <p:cNvSpPr/>
            <p:nvPr/>
          </p:nvSpPr>
          <p:spPr>
            <a:xfrm flipV="1" rot="8480400">
              <a:off x="3262680" y="5101200"/>
              <a:ext cx="41760" cy="269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AutoShape 861"/>
            <p:cNvSpPr/>
            <p:nvPr/>
          </p:nvSpPr>
          <p:spPr>
            <a:xfrm flipV="1" rot="8480400">
              <a:off x="3493080" y="5123160"/>
              <a:ext cx="41760" cy="269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AutoShape 862"/>
            <p:cNvSpPr/>
            <p:nvPr/>
          </p:nvSpPr>
          <p:spPr>
            <a:xfrm flipV="1" rot="8480400">
              <a:off x="2973240" y="5402520"/>
              <a:ext cx="41760" cy="269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AutoShape 863"/>
            <p:cNvSpPr/>
            <p:nvPr/>
          </p:nvSpPr>
          <p:spPr>
            <a:xfrm flipV="1" rot="8480400">
              <a:off x="3265920" y="5304960"/>
              <a:ext cx="41760" cy="269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AutoShape 864"/>
            <p:cNvSpPr/>
            <p:nvPr/>
          </p:nvSpPr>
          <p:spPr>
            <a:xfrm flipV="1" rot="8480400">
              <a:off x="3362760" y="5158800"/>
              <a:ext cx="41760" cy="269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AutoShape 865"/>
            <p:cNvSpPr/>
            <p:nvPr/>
          </p:nvSpPr>
          <p:spPr>
            <a:xfrm flipV="1" rot="8480400">
              <a:off x="3463920" y="5352840"/>
              <a:ext cx="41760" cy="269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AutoShape 866"/>
            <p:cNvSpPr/>
            <p:nvPr/>
          </p:nvSpPr>
          <p:spPr>
            <a:xfrm flipV="1" rot="8480400">
              <a:off x="3037680" y="5351040"/>
              <a:ext cx="41760" cy="269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AutoShape 867"/>
            <p:cNvSpPr/>
            <p:nvPr/>
          </p:nvSpPr>
          <p:spPr>
            <a:xfrm flipV="1" rot="8480400">
              <a:off x="3235320" y="5399640"/>
              <a:ext cx="41760" cy="269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AutoShape 868"/>
            <p:cNvSpPr/>
            <p:nvPr/>
          </p:nvSpPr>
          <p:spPr>
            <a:xfrm flipV="1" rot="8480400">
              <a:off x="3366360" y="5362920"/>
              <a:ext cx="41760" cy="269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AutoShape 869"/>
            <p:cNvSpPr/>
            <p:nvPr/>
          </p:nvSpPr>
          <p:spPr>
            <a:xfrm flipV="1" rot="8480400">
              <a:off x="3495600" y="5259240"/>
              <a:ext cx="41760" cy="269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AutoShape 870"/>
            <p:cNvSpPr/>
            <p:nvPr/>
          </p:nvSpPr>
          <p:spPr>
            <a:xfrm flipV="1" rot="8480400">
              <a:off x="3269880" y="5508360"/>
              <a:ext cx="41760" cy="269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AutoShape 871"/>
            <p:cNvSpPr/>
            <p:nvPr/>
          </p:nvSpPr>
          <p:spPr>
            <a:xfrm flipV="1" rot="8480400">
              <a:off x="3008880" y="5580360"/>
              <a:ext cx="41760" cy="269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AutoShape 872"/>
            <p:cNvSpPr/>
            <p:nvPr/>
          </p:nvSpPr>
          <p:spPr>
            <a:xfrm flipV="1" rot="8480400">
              <a:off x="3400560" y="5473080"/>
              <a:ext cx="41760" cy="269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AutoShape 873"/>
            <p:cNvSpPr/>
            <p:nvPr/>
          </p:nvSpPr>
          <p:spPr>
            <a:xfrm flipV="1" rot="8480400">
              <a:off x="3559320" y="5140080"/>
              <a:ext cx="41760" cy="269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AutoShape 874"/>
            <p:cNvSpPr/>
            <p:nvPr/>
          </p:nvSpPr>
          <p:spPr>
            <a:xfrm flipV="1" rot="8480400">
              <a:off x="3396240" y="5200560"/>
              <a:ext cx="41760" cy="269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AutoShape 875"/>
            <p:cNvSpPr/>
            <p:nvPr/>
          </p:nvSpPr>
          <p:spPr>
            <a:xfrm flipV="1" rot="8480400">
              <a:off x="2876400" y="5547960"/>
              <a:ext cx="41760" cy="269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AutoShape 876"/>
            <p:cNvSpPr/>
            <p:nvPr/>
          </p:nvSpPr>
          <p:spPr>
            <a:xfrm flipV="1" rot="8480400">
              <a:off x="3230640" y="5126760"/>
              <a:ext cx="41760" cy="269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AutoShape 877"/>
            <p:cNvSpPr/>
            <p:nvPr/>
          </p:nvSpPr>
          <p:spPr>
            <a:xfrm flipV="1" rot="8480400">
              <a:off x="2974680" y="5537880"/>
              <a:ext cx="41760" cy="269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AutoShape 878"/>
            <p:cNvSpPr/>
            <p:nvPr/>
          </p:nvSpPr>
          <p:spPr>
            <a:xfrm flipV="1" rot="8480400">
              <a:off x="3204720" y="5560200"/>
              <a:ext cx="41760" cy="269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AutoShape 879"/>
            <p:cNvSpPr/>
            <p:nvPr/>
          </p:nvSpPr>
          <p:spPr>
            <a:xfrm flipV="1" rot="8480400">
              <a:off x="3361680" y="5091840"/>
              <a:ext cx="41760" cy="269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AutoShape 880"/>
            <p:cNvSpPr/>
            <p:nvPr/>
          </p:nvSpPr>
          <p:spPr>
            <a:xfrm flipV="1" rot="8480400">
              <a:off x="3301560" y="5414760"/>
              <a:ext cx="41760" cy="269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AutoShape 881"/>
            <p:cNvSpPr/>
            <p:nvPr/>
          </p:nvSpPr>
          <p:spPr>
            <a:xfrm flipV="1" rot="8480400">
              <a:off x="3493080" y="5123160"/>
              <a:ext cx="41760" cy="269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AutoShape 882"/>
            <p:cNvSpPr/>
            <p:nvPr/>
          </p:nvSpPr>
          <p:spPr>
            <a:xfrm flipV="1" rot="8480400">
              <a:off x="3102480" y="5299200"/>
              <a:ext cx="41760" cy="269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AutoShape 883"/>
            <p:cNvSpPr/>
            <p:nvPr/>
          </p:nvSpPr>
          <p:spPr>
            <a:xfrm flipV="1" rot="8480400">
              <a:off x="2909880" y="5589720"/>
              <a:ext cx="41760" cy="269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AutoShape 884"/>
            <p:cNvSpPr/>
            <p:nvPr/>
          </p:nvSpPr>
          <p:spPr>
            <a:xfrm flipV="1" rot="8480400">
              <a:off x="3237840" y="5533920"/>
              <a:ext cx="41760" cy="269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AutoShape 885"/>
            <p:cNvSpPr/>
            <p:nvPr/>
          </p:nvSpPr>
          <p:spPr>
            <a:xfrm flipV="1" rot="8480400">
              <a:off x="3041280" y="5554800"/>
              <a:ext cx="41760" cy="269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AutoShape 886"/>
            <p:cNvSpPr/>
            <p:nvPr/>
          </p:nvSpPr>
          <p:spPr>
            <a:xfrm flipV="1" rot="8480400">
              <a:off x="3008880" y="5580360"/>
              <a:ext cx="41760" cy="269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AutoShape 887"/>
            <p:cNvSpPr/>
            <p:nvPr/>
          </p:nvSpPr>
          <p:spPr>
            <a:xfrm flipV="1" rot="8480400">
              <a:off x="3010320" y="5647680"/>
              <a:ext cx="41760" cy="269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AutoShape 888"/>
            <p:cNvSpPr/>
            <p:nvPr/>
          </p:nvSpPr>
          <p:spPr>
            <a:xfrm flipV="1" rot="8480400">
              <a:off x="2877840" y="5615280"/>
              <a:ext cx="41760" cy="269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AutoShape 889"/>
            <p:cNvSpPr/>
            <p:nvPr/>
          </p:nvSpPr>
          <p:spPr>
            <a:xfrm flipV="1" rot="8480400">
              <a:off x="3137400" y="5331960"/>
              <a:ext cx="331560" cy="52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AutoShape 890"/>
            <p:cNvSpPr/>
            <p:nvPr/>
          </p:nvSpPr>
          <p:spPr>
            <a:xfrm flipV="1" rot="8480400">
              <a:off x="3375720" y="557064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AutoShape 891"/>
            <p:cNvSpPr/>
            <p:nvPr/>
          </p:nvSpPr>
          <p:spPr>
            <a:xfrm flipV="1" rot="8480400">
              <a:off x="3508200" y="5411160"/>
              <a:ext cx="248400" cy="53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AutoShape 892"/>
            <p:cNvSpPr/>
            <p:nvPr/>
          </p:nvSpPr>
          <p:spPr>
            <a:xfrm flipV="1" rot="8480400">
              <a:off x="3402000" y="520524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AutoShape 893"/>
            <p:cNvSpPr/>
            <p:nvPr/>
          </p:nvSpPr>
          <p:spPr>
            <a:xfrm flipV="1" rot="8480400">
              <a:off x="3303360" y="5215320"/>
              <a:ext cx="290520" cy="540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AutoShape 894"/>
            <p:cNvSpPr/>
            <p:nvPr/>
          </p:nvSpPr>
          <p:spPr>
            <a:xfrm flipV="1" rot="8480400">
              <a:off x="3467160" y="5220720"/>
              <a:ext cx="290520" cy="540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AutoShape 895"/>
            <p:cNvSpPr/>
            <p:nvPr/>
          </p:nvSpPr>
          <p:spPr>
            <a:xfrm flipV="1" rot="8480400">
              <a:off x="3472920" y="549324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AutoShape 896"/>
            <p:cNvSpPr/>
            <p:nvPr/>
          </p:nvSpPr>
          <p:spPr>
            <a:xfrm flipV="1" rot="8480400">
              <a:off x="3502800" y="533124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AutoShape 897"/>
            <p:cNvSpPr/>
            <p:nvPr/>
          </p:nvSpPr>
          <p:spPr>
            <a:xfrm flipV="1" rot="8480400">
              <a:off x="3340440" y="546084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AutoShape 898"/>
            <p:cNvSpPr/>
            <p:nvPr/>
          </p:nvSpPr>
          <p:spPr>
            <a:xfrm flipV="1" rot="8480400">
              <a:off x="3212280" y="563148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AutoShape 899"/>
            <p:cNvSpPr/>
            <p:nvPr/>
          </p:nvSpPr>
          <p:spPr>
            <a:xfrm flipV="1" rot="8480400">
              <a:off x="3344400" y="5663880"/>
              <a:ext cx="290520" cy="540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AutoShape 900"/>
            <p:cNvSpPr/>
            <p:nvPr/>
          </p:nvSpPr>
          <p:spPr>
            <a:xfrm flipV="1" rot="8480400">
              <a:off x="3116880" y="577800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901"/>
            <p:cNvSpPr/>
            <p:nvPr/>
          </p:nvSpPr>
          <p:spPr>
            <a:xfrm flipV="1" rot="8480400">
              <a:off x="2880720" y="5859000"/>
              <a:ext cx="41760" cy="53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AutoShape 902"/>
            <p:cNvSpPr/>
            <p:nvPr/>
          </p:nvSpPr>
          <p:spPr>
            <a:xfrm flipH="1" flipV="1" rot="19281000">
              <a:off x="3041640" y="5861880"/>
              <a:ext cx="248400" cy="108000"/>
            </a:xfrm>
            <a:custGeom>
              <a:avLst/>
              <a:gdLst>
                <a:gd name="textAreaLeft" fmla="*/ 142560 w 248400"/>
                <a:gd name="textAreaRight" fmla="*/ 210240 w 248400"/>
                <a:gd name="textAreaTop" fmla="*/ 14400 h 108000"/>
                <a:gd name="textAreaBottom" fmla="*/ 4644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AutoShape 903"/>
            <p:cNvSpPr/>
            <p:nvPr/>
          </p:nvSpPr>
          <p:spPr>
            <a:xfrm flipH="1" flipV="1" rot="19281000">
              <a:off x="2946960" y="5884920"/>
              <a:ext cx="207360" cy="108000"/>
            </a:xfrm>
            <a:custGeom>
              <a:avLst/>
              <a:gdLst>
                <a:gd name="textAreaLeft" fmla="*/ 119520 w 207360"/>
                <a:gd name="textAreaRight" fmla="*/ 175680 w 207360"/>
                <a:gd name="textAreaTop" fmla="*/ 14400 h 108000"/>
                <a:gd name="textAreaBottom" fmla="*/ 4644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AutoShape 904"/>
            <p:cNvSpPr/>
            <p:nvPr/>
          </p:nvSpPr>
          <p:spPr>
            <a:xfrm rot="7330200">
              <a:off x="3341520" y="5597640"/>
              <a:ext cx="331560" cy="163080"/>
            </a:xfrm>
            <a:custGeom>
              <a:avLst/>
              <a:gdLst>
                <a:gd name="textAreaLeft" fmla="*/ 190800 w 331560"/>
                <a:gd name="textAreaRight" fmla="*/ 279720 w 331560"/>
                <a:gd name="textAreaTop" fmla="*/ 22320 h 163080"/>
                <a:gd name="textAreaBottom" fmla="*/ 69840 h 16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AutoShape 905"/>
            <p:cNvSpPr/>
            <p:nvPr/>
          </p:nvSpPr>
          <p:spPr>
            <a:xfrm flipV="1" rot="8480400">
              <a:off x="3236400" y="5130720"/>
              <a:ext cx="289440" cy="5364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AutoShape 906"/>
            <p:cNvSpPr/>
            <p:nvPr/>
          </p:nvSpPr>
          <p:spPr>
            <a:xfrm flipV="1" rot="8480400">
              <a:off x="3074040" y="5193000"/>
              <a:ext cx="28980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AutoShape 907"/>
            <p:cNvSpPr/>
            <p:nvPr/>
          </p:nvSpPr>
          <p:spPr>
            <a:xfrm flipV="1" rot="8480400">
              <a:off x="3399840" y="5068800"/>
              <a:ext cx="28980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AutoShape 908"/>
            <p:cNvSpPr/>
            <p:nvPr/>
          </p:nvSpPr>
          <p:spPr>
            <a:xfrm flipV="1" rot="8480400">
              <a:off x="3434400" y="517932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AutoShape 909"/>
            <p:cNvSpPr/>
            <p:nvPr/>
          </p:nvSpPr>
          <p:spPr>
            <a:xfrm flipV="1" rot="8480400">
              <a:off x="3565080" y="5142960"/>
              <a:ext cx="28980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AutoShape 910"/>
            <p:cNvSpPr/>
            <p:nvPr/>
          </p:nvSpPr>
          <p:spPr>
            <a:xfrm flipV="1" rot="8480400">
              <a:off x="3501720" y="526320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AutoShape 911"/>
            <p:cNvSpPr/>
            <p:nvPr/>
          </p:nvSpPr>
          <p:spPr>
            <a:xfrm flipV="1" rot="8480400">
              <a:off x="3009240" y="5244840"/>
              <a:ext cx="28980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AutoShape 912"/>
            <p:cNvSpPr/>
            <p:nvPr/>
          </p:nvSpPr>
          <p:spPr>
            <a:xfrm flipV="1" rot="8480400">
              <a:off x="2944800" y="536364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AutoShape 913"/>
            <p:cNvSpPr/>
            <p:nvPr/>
          </p:nvSpPr>
          <p:spPr>
            <a:xfrm flipV="1" rot="4945200">
              <a:off x="3129840" y="518868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AutoShape 914"/>
            <p:cNvSpPr/>
            <p:nvPr/>
          </p:nvSpPr>
          <p:spPr>
            <a:xfrm flipV="1" rot="4945200">
              <a:off x="2770560" y="533808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AutoShape 915"/>
            <p:cNvSpPr/>
            <p:nvPr/>
          </p:nvSpPr>
          <p:spPr>
            <a:xfrm flipV="1" rot="4945200">
              <a:off x="2676960" y="561960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AutoShape 916"/>
            <p:cNvSpPr/>
            <p:nvPr/>
          </p:nvSpPr>
          <p:spPr>
            <a:xfrm flipV="1" rot="4945200">
              <a:off x="2905200" y="550692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AutoShape 917"/>
            <p:cNvSpPr/>
            <p:nvPr/>
          </p:nvSpPr>
          <p:spPr>
            <a:xfrm flipV="1" rot="4945200">
              <a:off x="2741760" y="556740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AutoShape 918"/>
            <p:cNvSpPr/>
            <p:nvPr/>
          </p:nvSpPr>
          <p:spPr>
            <a:xfrm flipV="1" rot="4945200">
              <a:off x="3066120" y="530820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AutoShape 919"/>
            <p:cNvSpPr/>
            <p:nvPr/>
          </p:nvSpPr>
          <p:spPr>
            <a:xfrm flipV="1" rot="4945200">
              <a:off x="2771640" y="540540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AutoShape 920"/>
            <p:cNvSpPr/>
            <p:nvPr/>
          </p:nvSpPr>
          <p:spPr>
            <a:xfrm flipV="1" rot="4945200">
              <a:off x="2868480" y="5327280"/>
              <a:ext cx="375840" cy="403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AutoShape 921"/>
            <p:cNvSpPr/>
            <p:nvPr/>
          </p:nvSpPr>
          <p:spPr>
            <a:xfrm flipV="1" rot="4945200">
              <a:off x="3135960" y="552888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Group 922"/>
          <p:cNvGrpSpPr/>
          <p:nvPr/>
        </p:nvGrpSpPr>
        <p:grpSpPr>
          <a:xfrm>
            <a:off x="1704240" y="5119560"/>
            <a:ext cx="1384560" cy="892080"/>
            <a:chOff x="1704240" y="5119560"/>
            <a:chExt cx="1384560" cy="892080"/>
          </a:xfrm>
        </p:grpSpPr>
        <p:sp>
          <p:nvSpPr>
            <p:cNvPr id="1004" name="AutoShape 923"/>
            <p:cNvSpPr/>
            <p:nvPr/>
          </p:nvSpPr>
          <p:spPr>
            <a:xfrm flipV="1" rot="435000">
              <a:off x="2655720" y="5381640"/>
              <a:ext cx="414000" cy="322200"/>
            </a:xfrm>
            <a:prstGeom prst="flowChartDecision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Oval 924"/>
            <p:cNvSpPr/>
            <p:nvPr/>
          </p:nvSpPr>
          <p:spPr>
            <a:xfrm flipV="1" rot="435000">
              <a:off x="1909440" y="5216040"/>
              <a:ext cx="995400" cy="591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AutoShape 925"/>
            <p:cNvSpPr/>
            <p:nvPr/>
          </p:nvSpPr>
          <p:spPr>
            <a:xfrm flipV="1" rot="435000">
              <a:off x="2338920" y="558972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AutoShape 926"/>
            <p:cNvSpPr/>
            <p:nvPr/>
          </p:nvSpPr>
          <p:spPr>
            <a:xfrm flipV="1" rot="435000">
              <a:off x="2482200" y="544536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AutoShape 927"/>
            <p:cNvSpPr/>
            <p:nvPr/>
          </p:nvSpPr>
          <p:spPr>
            <a:xfrm flipV="1" rot="435000">
              <a:off x="2626200" y="53010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AutoShape 928"/>
            <p:cNvSpPr/>
            <p:nvPr/>
          </p:nvSpPr>
          <p:spPr>
            <a:xfrm flipV="1" rot="435000">
              <a:off x="2174400" y="556884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AutoShape 929"/>
            <p:cNvSpPr/>
            <p:nvPr/>
          </p:nvSpPr>
          <p:spPr>
            <a:xfrm flipV="1" rot="435000">
              <a:off x="2030040" y="538776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AutoShape 930"/>
            <p:cNvSpPr/>
            <p:nvPr/>
          </p:nvSpPr>
          <p:spPr>
            <a:xfrm flipV="1" rot="435000">
              <a:off x="2592360" y="55666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AutoShape 931"/>
            <p:cNvSpPr/>
            <p:nvPr/>
          </p:nvSpPr>
          <p:spPr>
            <a:xfrm flipV="1" rot="435000">
              <a:off x="2318400" y="54244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AutoShape 932"/>
            <p:cNvSpPr/>
            <p:nvPr/>
          </p:nvSpPr>
          <p:spPr>
            <a:xfrm flipV="1" rot="435000">
              <a:off x="2146320" y="545652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AutoShape 933"/>
            <p:cNvSpPr/>
            <p:nvPr/>
          </p:nvSpPr>
          <p:spPr>
            <a:xfrm flipV="1" rot="435000">
              <a:off x="2215080" y="52488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AutoShape 934"/>
            <p:cNvSpPr/>
            <p:nvPr/>
          </p:nvSpPr>
          <p:spPr>
            <a:xfrm flipV="1" rot="435000">
              <a:off x="2510640" y="555624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AutoShape 935"/>
            <p:cNvSpPr/>
            <p:nvPr/>
          </p:nvSpPr>
          <p:spPr>
            <a:xfrm flipV="1" rot="435000">
              <a:off x="2407680" y="538056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AutoShape 936"/>
            <p:cNvSpPr/>
            <p:nvPr/>
          </p:nvSpPr>
          <p:spPr>
            <a:xfrm flipV="1" rot="435000">
              <a:off x="2290320" y="531216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AutoShape 937"/>
            <p:cNvSpPr/>
            <p:nvPr/>
          </p:nvSpPr>
          <p:spPr>
            <a:xfrm flipV="1" rot="435000">
              <a:off x="2126160" y="52912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AutoShape 938"/>
            <p:cNvSpPr/>
            <p:nvPr/>
          </p:nvSpPr>
          <p:spPr>
            <a:xfrm flipV="1" rot="435000">
              <a:off x="2462040" y="528012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AutoShape 939"/>
            <p:cNvSpPr/>
            <p:nvPr/>
          </p:nvSpPr>
          <p:spPr>
            <a:xfrm flipV="1" rot="435000">
              <a:off x="2695320" y="54172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AutoShape 940"/>
            <p:cNvSpPr/>
            <p:nvPr/>
          </p:nvSpPr>
          <p:spPr>
            <a:xfrm flipV="1" rot="435000">
              <a:off x="2345760" y="521064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AutoShape 941"/>
            <p:cNvSpPr/>
            <p:nvPr/>
          </p:nvSpPr>
          <p:spPr>
            <a:xfrm flipV="1" rot="435000">
              <a:off x="1996200" y="532836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AutoShape 942"/>
            <p:cNvSpPr/>
            <p:nvPr/>
          </p:nvSpPr>
          <p:spPr>
            <a:xfrm flipV="1" rot="435000">
              <a:off x="2153160" y="54036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AutoShape 943"/>
            <p:cNvSpPr/>
            <p:nvPr/>
          </p:nvSpPr>
          <p:spPr>
            <a:xfrm flipV="1" rot="435000">
              <a:off x="2764080" y="553536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AutoShape 944"/>
            <p:cNvSpPr/>
            <p:nvPr/>
          </p:nvSpPr>
          <p:spPr>
            <a:xfrm flipV="1" rot="435000">
              <a:off x="2215080" y="55738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AutoShape 945"/>
            <p:cNvSpPr/>
            <p:nvPr/>
          </p:nvSpPr>
          <p:spPr>
            <a:xfrm flipV="1" rot="435000">
              <a:off x="2688480" y="547164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AutoShape 946"/>
            <p:cNvSpPr/>
            <p:nvPr/>
          </p:nvSpPr>
          <p:spPr>
            <a:xfrm flipV="1" rot="435000">
              <a:off x="2544480" y="529056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AutoShape 947"/>
            <p:cNvSpPr/>
            <p:nvPr/>
          </p:nvSpPr>
          <p:spPr>
            <a:xfrm flipV="1" rot="435000">
              <a:off x="2098800" y="550404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AutoShape 948"/>
            <p:cNvSpPr/>
            <p:nvPr/>
          </p:nvSpPr>
          <p:spPr>
            <a:xfrm flipV="1" rot="435000">
              <a:off x="2372760" y="53226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AutoShape 949"/>
            <p:cNvSpPr/>
            <p:nvPr/>
          </p:nvSpPr>
          <p:spPr>
            <a:xfrm flipV="1" rot="435000">
              <a:off x="2030040" y="538776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AutoShape 950"/>
            <p:cNvSpPr/>
            <p:nvPr/>
          </p:nvSpPr>
          <p:spPr>
            <a:xfrm flipV="1" rot="435000">
              <a:off x="2428200" y="55458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AutoShape 951"/>
            <p:cNvSpPr/>
            <p:nvPr/>
          </p:nvSpPr>
          <p:spPr>
            <a:xfrm flipV="1" rot="435000">
              <a:off x="2770920" y="54820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AutoShape 952"/>
            <p:cNvSpPr/>
            <p:nvPr/>
          </p:nvSpPr>
          <p:spPr>
            <a:xfrm flipV="1" rot="435000">
              <a:off x="2502720" y="528552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AutoShape 953"/>
            <p:cNvSpPr/>
            <p:nvPr/>
          </p:nvSpPr>
          <p:spPr>
            <a:xfrm flipV="1" rot="435000">
              <a:off x="2654280" y="54118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AutoShape 954"/>
            <p:cNvSpPr/>
            <p:nvPr/>
          </p:nvSpPr>
          <p:spPr>
            <a:xfrm flipV="1" rot="435000">
              <a:off x="2695320" y="54172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AutoShape 955"/>
            <p:cNvSpPr/>
            <p:nvPr/>
          </p:nvSpPr>
          <p:spPr>
            <a:xfrm flipV="1" rot="435000">
              <a:off x="2742840" y="536976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AutoShape 956"/>
            <p:cNvSpPr/>
            <p:nvPr/>
          </p:nvSpPr>
          <p:spPr>
            <a:xfrm flipV="1" rot="435000">
              <a:off x="2811600" y="548712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AutoShape 957"/>
            <p:cNvSpPr/>
            <p:nvPr/>
          </p:nvSpPr>
          <p:spPr>
            <a:xfrm flipV="1" rot="435000">
              <a:off x="2104200" y="5577120"/>
              <a:ext cx="331560" cy="52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AutoShape 958"/>
            <p:cNvSpPr/>
            <p:nvPr/>
          </p:nvSpPr>
          <p:spPr>
            <a:xfrm flipV="1" rot="435000">
              <a:off x="2145240" y="525348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AutoShape 959"/>
            <p:cNvSpPr/>
            <p:nvPr/>
          </p:nvSpPr>
          <p:spPr>
            <a:xfrm flipV="1" rot="435000">
              <a:off x="1974240" y="5284800"/>
              <a:ext cx="248400" cy="53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AutoShape 960"/>
            <p:cNvSpPr/>
            <p:nvPr/>
          </p:nvSpPr>
          <p:spPr>
            <a:xfrm flipV="1" rot="435000">
              <a:off x="1864440" y="548892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AutoShape 961"/>
            <p:cNvSpPr/>
            <p:nvPr/>
          </p:nvSpPr>
          <p:spPr>
            <a:xfrm flipV="1" rot="435000">
              <a:off x="1940760" y="5552280"/>
              <a:ext cx="290520" cy="540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AutoShape 962"/>
            <p:cNvSpPr/>
            <p:nvPr/>
          </p:nvSpPr>
          <p:spPr>
            <a:xfrm flipV="1" rot="435000">
              <a:off x="1830600" y="5430960"/>
              <a:ext cx="290520" cy="540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AutoShape 963"/>
            <p:cNvSpPr/>
            <p:nvPr/>
          </p:nvSpPr>
          <p:spPr>
            <a:xfrm flipV="1" rot="435000">
              <a:off x="2022120" y="523764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AutoShape 964"/>
            <p:cNvSpPr/>
            <p:nvPr/>
          </p:nvSpPr>
          <p:spPr>
            <a:xfrm flipV="1" rot="435000">
              <a:off x="1884960" y="532908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AutoShape 965"/>
            <p:cNvSpPr/>
            <p:nvPr/>
          </p:nvSpPr>
          <p:spPr>
            <a:xfrm flipV="1" rot="435000">
              <a:off x="2090880" y="535536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AutoShape 966"/>
            <p:cNvSpPr/>
            <p:nvPr/>
          </p:nvSpPr>
          <p:spPr>
            <a:xfrm flipV="1" rot="435000">
              <a:off x="2302560" y="532836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AutoShape 967"/>
            <p:cNvSpPr/>
            <p:nvPr/>
          </p:nvSpPr>
          <p:spPr>
            <a:xfrm flipV="1" rot="435000">
              <a:off x="2234520" y="5211000"/>
              <a:ext cx="290520" cy="540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AutoShape 968"/>
            <p:cNvSpPr/>
            <p:nvPr/>
          </p:nvSpPr>
          <p:spPr>
            <a:xfrm flipV="1" rot="435000">
              <a:off x="2474640" y="529524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969"/>
            <p:cNvSpPr/>
            <p:nvPr/>
          </p:nvSpPr>
          <p:spPr>
            <a:xfrm flipV="1" rot="435000">
              <a:off x="2907720" y="5498280"/>
              <a:ext cx="41760" cy="5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AutoShape 970"/>
            <p:cNvSpPr/>
            <p:nvPr/>
          </p:nvSpPr>
          <p:spPr>
            <a:xfrm flipH="1" flipV="1" rot="11235000">
              <a:off x="2642040" y="5260680"/>
              <a:ext cx="248400" cy="107640"/>
            </a:xfrm>
            <a:custGeom>
              <a:avLst/>
              <a:gdLst>
                <a:gd name="textAreaLeft" fmla="*/ 142560 w 248400"/>
                <a:gd name="textAreaRight" fmla="*/ 210240 w 248400"/>
                <a:gd name="textAreaTop" fmla="*/ 14040 h 107640"/>
                <a:gd name="textAreaBottom" fmla="*/ 46080 h 1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AutoShape 971"/>
            <p:cNvSpPr/>
            <p:nvPr/>
          </p:nvSpPr>
          <p:spPr>
            <a:xfrm flipH="1" flipV="1" rot="11235000">
              <a:off x="2758320" y="5326920"/>
              <a:ext cx="207360" cy="108000"/>
            </a:xfrm>
            <a:custGeom>
              <a:avLst/>
              <a:gdLst>
                <a:gd name="textAreaLeft" fmla="*/ 119520 w 207360"/>
                <a:gd name="textAreaRight" fmla="*/ 175680 w 207360"/>
                <a:gd name="textAreaTop" fmla="*/ 14400 h 108000"/>
                <a:gd name="textAreaBottom" fmla="*/ 4644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AutoShape 972"/>
            <p:cNvSpPr/>
            <p:nvPr/>
          </p:nvSpPr>
          <p:spPr>
            <a:xfrm rot="20884800">
              <a:off x="2192400" y="5151960"/>
              <a:ext cx="331560" cy="163440"/>
            </a:xfrm>
            <a:custGeom>
              <a:avLst/>
              <a:gdLst>
                <a:gd name="textAreaLeft" fmla="*/ 190800 w 331560"/>
                <a:gd name="textAreaRight" fmla="*/ 279720 w 331560"/>
                <a:gd name="textAreaTop" fmla="*/ 22320 h 163440"/>
                <a:gd name="textAreaBottom" fmla="*/ 69840 h 16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AutoShape 973"/>
            <p:cNvSpPr/>
            <p:nvPr/>
          </p:nvSpPr>
          <p:spPr>
            <a:xfrm flipV="1" rot="435000">
              <a:off x="1927080" y="5660640"/>
              <a:ext cx="28944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AutoShape 974"/>
            <p:cNvSpPr/>
            <p:nvPr/>
          </p:nvSpPr>
          <p:spPr>
            <a:xfrm flipV="1" rot="435000">
              <a:off x="2084040" y="5734800"/>
              <a:ext cx="28980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AutoShape 975"/>
            <p:cNvSpPr/>
            <p:nvPr/>
          </p:nvSpPr>
          <p:spPr>
            <a:xfrm flipV="1" rot="435000">
              <a:off x="1768320" y="5587200"/>
              <a:ext cx="28980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AutoShape 976"/>
            <p:cNvSpPr/>
            <p:nvPr/>
          </p:nvSpPr>
          <p:spPr>
            <a:xfrm flipV="1" rot="435000">
              <a:off x="1823760" y="548460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AutoShape 977"/>
            <p:cNvSpPr/>
            <p:nvPr/>
          </p:nvSpPr>
          <p:spPr>
            <a:xfrm flipV="1" rot="435000">
              <a:off x="1706400" y="5416560"/>
              <a:ext cx="28980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AutoShape 978"/>
            <p:cNvSpPr/>
            <p:nvPr/>
          </p:nvSpPr>
          <p:spPr>
            <a:xfrm flipV="1" rot="435000">
              <a:off x="1837440" y="537768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AutoShape 979"/>
            <p:cNvSpPr/>
            <p:nvPr/>
          </p:nvSpPr>
          <p:spPr>
            <a:xfrm flipV="1" rot="435000">
              <a:off x="2166840" y="5745240"/>
              <a:ext cx="28980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AutoShape 980"/>
            <p:cNvSpPr/>
            <p:nvPr/>
          </p:nvSpPr>
          <p:spPr>
            <a:xfrm flipV="1" rot="435000">
              <a:off x="2296800" y="570780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AutoShape 981"/>
            <p:cNvSpPr/>
            <p:nvPr/>
          </p:nvSpPr>
          <p:spPr>
            <a:xfrm flipV="1" rot="18499800">
              <a:off x="1964520" y="567720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AutoShape 982"/>
            <p:cNvSpPr/>
            <p:nvPr/>
          </p:nvSpPr>
          <p:spPr>
            <a:xfrm flipV="1" rot="18499800">
              <a:off x="2322000" y="583164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AutoShape 983"/>
            <p:cNvSpPr/>
            <p:nvPr/>
          </p:nvSpPr>
          <p:spPr>
            <a:xfrm flipV="1" rot="18499800">
              <a:off x="2589120" y="570312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AutoShape 984"/>
            <p:cNvSpPr/>
            <p:nvPr/>
          </p:nvSpPr>
          <p:spPr>
            <a:xfrm flipV="1" rot="18499800">
              <a:off x="2349000" y="561744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AutoShape 985"/>
            <p:cNvSpPr/>
            <p:nvPr/>
          </p:nvSpPr>
          <p:spPr>
            <a:xfrm flipV="1" rot="18499800">
              <a:off x="2506680" y="569232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AutoShape 986"/>
            <p:cNvSpPr/>
            <p:nvPr/>
          </p:nvSpPr>
          <p:spPr>
            <a:xfrm flipV="1" rot="18499800">
              <a:off x="2094840" y="564012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AutoShape 987"/>
            <p:cNvSpPr/>
            <p:nvPr/>
          </p:nvSpPr>
          <p:spPr>
            <a:xfrm flipV="1" rot="18499800">
              <a:off x="2369160" y="578376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AutoShape 988"/>
            <p:cNvSpPr/>
            <p:nvPr/>
          </p:nvSpPr>
          <p:spPr>
            <a:xfrm flipV="1" rot="18499800">
              <a:off x="2246400" y="576864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AutoShape 989"/>
            <p:cNvSpPr/>
            <p:nvPr/>
          </p:nvSpPr>
          <p:spPr>
            <a:xfrm flipV="1" rot="18499800">
              <a:off x="2204640" y="543636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1" name="Group 990"/>
          <p:cNvGrpSpPr/>
          <p:nvPr/>
        </p:nvGrpSpPr>
        <p:grpSpPr>
          <a:xfrm>
            <a:off x="1828800" y="4993200"/>
            <a:ext cx="1353240" cy="940680"/>
            <a:chOff x="1828800" y="4993200"/>
            <a:chExt cx="1353240" cy="940680"/>
          </a:xfrm>
        </p:grpSpPr>
        <p:sp>
          <p:nvSpPr>
            <p:cNvPr id="1072" name="AutoShape 991"/>
            <p:cNvSpPr/>
            <p:nvPr/>
          </p:nvSpPr>
          <p:spPr>
            <a:xfrm flipV="1" rot="1273200">
              <a:off x="2723400" y="5428080"/>
              <a:ext cx="414000" cy="322200"/>
            </a:xfrm>
            <a:prstGeom prst="flowChartDecision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992"/>
            <p:cNvSpPr/>
            <p:nvPr/>
          </p:nvSpPr>
          <p:spPr>
            <a:xfrm flipV="1" rot="1273200">
              <a:off x="1998360" y="5152680"/>
              <a:ext cx="995760" cy="591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AutoShape 993"/>
            <p:cNvSpPr/>
            <p:nvPr/>
          </p:nvSpPr>
          <p:spPr>
            <a:xfrm flipV="1" rot="1273200">
              <a:off x="2377800" y="550836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AutoShape 994"/>
            <p:cNvSpPr/>
            <p:nvPr/>
          </p:nvSpPr>
          <p:spPr>
            <a:xfrm flipV="1" rot="1273200">
              <a:off x="2552040" y="540324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AutoShape 995"/>
            <p:cNvSpPr/>
            <p:nvPr/>
          </p:nvSpPr>
          <p:spPr>
            <a:xfrm flipV="1" rot="1273200">
              <a:off x="2726280" y="529776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AutoShape 996"/>
            <p:cNvSpPr/>
            <p:nvPr/>
          </p:nvSpPr>
          <p:spPr>
            <a:xfrm flipV="1" rot="1273200">
              <a:off x="2223360" y="54486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AutoShape 997"/>
            <p:cNvSpPr/>
            <p:nvPr/>
          </p:nvSpPr>
          <p:spPr>
            <a:xfrm flipV="1" rot="1273200">
              <a:off x="2126880" y="52380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AutoShape 998"/>
            <p:cNvSpPr/>
            <p:nvPr/>
          </p:nvSpPr>
          <p:spPr>
            <a:xfrm flipV="1" rot="1273200">
              <a:off x="2629440" y="55476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AutoShape 999"/>
            <p:cNvSpPr/>
            <p:nvPr/>
          </p:nvSpPr>
          <p:spPr>
            <a:xfrm flipV="1" rot="1273200">
              <a:off x="2397960" y="53434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AutoShape 1000"/>
            <p:cNvSpPr/>
            <p:nvPr/>
          </p:nvSpPr>
          <p:spPr>
            <a:xfrm flipV="1" rot="1273200">
              <a:off x="2223000" y="533304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AutoShape 1001"/>
            <p:cNvSpPr/>
            <p:nvPr/>
          </p:nvSpPr>
          <p:spPr>
            <a:xfrm flipV="1" rot="1273200">
              <a:off x="2340360" y="51480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AutoShape 1002"/>
            <p:cNvSpPr/>
            <p:nvPr/>
          </p:nvSpPr>
          <p:spPr>
            <a:xfrm flipV="1" rot="1273200">
              <a:off x="2552760" y="551772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AutoShape 1003"/>
            <p:cNvSpPr/>
            <p:nvPr/>
          </p:nvSpPr>
          <p:spPr>
            <a:xfrm flipV="1" rot="1273200">
              <a:off x="2495160" y="532224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AutoShape 1004"/>
            <p:cNvSpPr/>
            <p:nvPr/>
          </p:nvSpPr>
          <p:spPr>
            <a:xfrm flipV="1" rot="1273200">
              <a:off x="2397600" y="522756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AutoShape 1005"/>
            <p:cNvSpPr/>
            <p:nvPr/>
          </p:nvSpPr>
          <p:spPr>
            <a:xfrm flipV="1" rot="1273200">
              <a:off x="2243520" y="516744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AutoShape 1006"/>
            <p:cNvSpPr/>
            <p:nvPr/>
          </p:nvSpPr>
          <p:spPr>
            <a:xfrm flipV="1" rot="1273200">
              <a:off x="2572200" y="52380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AutoShape 1007"/>
            <p:cNvSpPr/>
            <p:nvPr/>
          </p:nvSpPr>
          <p:spPr>
            <a:xfrm flipV="1" rot="1273200">
              <a:off x="2765520" y="542736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AutoShape 1008"/>
            <p:cNvSpPr/>
            <p:nvPr/>
          </p:nvSpPr>
          <p:spPr>
            <a:xfrm flipV="1" rot="1273200">
              <a:off x="2476080" y="514224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AutoShape 1009"/>
            <p:cNvSpPr/>
            <p:nvPr/>
          </p:nvSpPr>
          <p:spPr>
            <a:xfrm flipV="1" rot="1273200">
              <a:off x="2108160" y="517212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AutoShape 1010"/>
            <p:cNvSpPr/>
            <p:nvPr/>
          </p:nvSpPr>
          <p:spPr>
            <a:xfrm flipV="1" rot="1273200">
              <a:off x="2242440" y="52830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AutoShape 1011"/>
            <p:cNvSpPr/>
            <p:nvPr/>
          </p:nvSpPr>
          <p:spPr>
            <a:xfrm flipV="1" rot="1273200">
              <a:off x="2803680" y="55584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1012"/>
            <p:cNvSpPr/>
            <p:nvPr/>
          </p:nvSpPr>
          <p:spPr>
            <a:xfrm flipV="1" rot="1273200">
              <a:off x="2261520" y="546336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AutoShape 1013"/>
            <p:cNvSpPr/>
            <p:nvPr/>
          </p:nvSpPr>
          <p:spPr>
            <a:xfrm flipV="1" rot="1273200">
              <a:off x="2745720" y="54784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1014"/>
            <p:cNvSpPr/>
            <p:nvPr/>
          </p:nvSpPr>
          <p:spPr>
            <a:xfrm flipV="1" rot="1273200">
              <a:off x="2649600" y="52678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AutoShape 1015"/>
            <p:cNvSpPr/>
            <p:nvPr/>
          </p:nvSpPr>
          <p:spPr>
            <a:xfrm flipV="1" rot="1273200">
              <a:off x="2165760" y="53676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16"/>
            <p:cNvSpPr/>
            <p:nvPr/>
          </p:nvSpPr>
          <p:spPr>
            <a:xfrm flipV="1" rot="1273200">
              <a:off x="2475360" y="525744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AutoShape 1017"/>
            <p:cNvSpPr/>
            <p:nvPr/>
          </p:nvSpPr>
          <p:spPr>
            <a:xfrm flipV="1" rot="1273200">
              <a:off x="2126880" y="523800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AutoShape 1018"/>
            <p:cNvSpPr/>
            <p:nvPr/>
          </p:nvSpPr>
          <p:spPr>
            <a:xfrm flipV="1" rot="1273200">
              <a:off x="2475000" y="548748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AutoShape 1019"/>
            <p:cNvSpPr/>
            <p:nvPr/>
          </p:nvSpPr>
          <p:spPr>
            <a:xfrm flipV="1" rot="1273200">
              <a:off x="2823120" y="550836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AutoShape 1020"/>
            <p:cNvSpPr/>
            <p:nvPr/>
          </p:nvSpPr>
          <p:spPr>
            <a:xfrm flipV="1" rot="1273200">
              <a:off x="2610360" y="525276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AutoShape 1021"/>
            <p:cNvSpPr/>
            <p:nvPr/>
          </p:nvSpPr>
          <p:spPr>
            <a:xfrm flipV="1" rot="1273200">
              <a:off x="2726640" y="541224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AutoShape 1022"/>
            <p:cNvSpPr/>
            <p:nvPr/>
          </p:nvSpPr>
          <p:spPr>
            <a:xfrm flipV="1" rot="1273200">
              <a:off x="2765520" y="542736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AutoShape 1023"/>
            <p:cNvSpPr/>
            <p:nvPr/>
          </p:nvSpPr>
          <p:spPr>
            <a:xfrm flipV="1" rot="1273200">
              <a:off x="2823120" y="539244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AutoShape 1024"/>
            <p:cNvSpPr/>
            <p:nvPr/>
          </p:nvSpPr>
          <p:spPr>
            <a:xfrm flipV="1" rot="1273200">
              <a:off x="2861280" y="5523120"/>
              <a:ext cx="4176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AutoShape 1025"/>
            <p:cNvSpPr/>
            <p:nvPr/>
          </p:nvSpPr>
          <p:spPr>
            <a:xfrm flipV="1" rot="1273200">
              <a:off x="2175120" y="5478120"/>
              <a:ext cx="331560" cy="52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AutoShape 1026"/>
            <p:cNvSpPr/>
            <p:nvPr/>
          </p:nvSpPr>
          <p:spPr>
            <a:xfrm flipV="1" rot="1273200">
              <a:off x="2293200" y="516816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AutoShape 1027"/>
            <p:cNvSpPr/>
            <p:nvPr/>
          </p:nvSpPr>
          <p:spPr>
            <a:xfrm flipV="1" rot="1273200">
              <a:off x="2120760" y="5153040"/>
              <a:ext cx="248400" cy="53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AutoShape 1028"/>
            <p:cNvSpPr/>
            <p:nvPr/>
          </p:nvSpPr>
          <p:spPr>
            <a:xfrm flipV="1" rot="1273200">
              <a:off x="1963800" y="532908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AutoShape 1029"/>
            <p:cNvSpPr/>
            <p:nvPr/>
          </p:nvSpPr>
          <p:spPr>
            <a:xfrm flipV="1" rot="1273200">
              <a:off x="2022480" y="5409720"/>
              <a:ext cx="290520" cy="540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AutoShape 1030"/>
            <p:cNvSpPr/>
            <p:nvPr/>
          </p:nvSpPr>
          <p:spPr>
            <a:xfrm flipV="1" rot="1273200">
              <a:off x="1945080" y="5265360"/>
              <a:ext cx="290520" cy="540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AutoShape 1031"/>
            <p:cNvSpPr/>
            <p:nvPr/>
          </p:nvSpPr>
          <p:spPr>
            <a:xfrm flipV="1" rot="1273200">
              <a:off x="2177640" y="512316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AutoShape 1032"/>
            <p:cNvSpPr/>
            <p:nvPr/>
          </p:nvSpPr>
          <p:spPr>
            <a:xfrm flipV="1" rot="1273200">
              <a:off x="2022480" y="517860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AutoShape 1033"/>
            <p:cNvSpPr/>
            <p:nvPr/>
          </p:nvSpPr>
          <p:spPr>
            <a:xfrm flipV="1" rot="1273200">
              <a:off x="2216160" y="525384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AutoShape 1034"/>
            <p:cNvSpPr/>
            <p:nvPr/>
          </p:nvSpPr>
          <p:spPr>
            <a:xfrm flipV="1" rot="1273200">
              <a:off x="2427840" y="527904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AutoShape 1035"/>
            <p:cNvSpPr/>
            <p:nvPr/>
          </p:nvSpPr>
          <p:spPr>
            <a:xfrm flipV="1" rot="1273200">
              <a:off x="2390040" y="5149080"/>
              <a:ext cx="290520" cy="540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AutoShape 1036"/>
            <p:cNvSpPr/>
            <p:nvPr/>
          </p:nvSpPr>
          <p:spPr>
            <a:xfrm flipV="1" rot="1273200">
              <a:off x="2602800" y="528804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Oval 1037"/>
            <p:cNvSpPr/>
            <p:nvPr/>
          </p:nvSpPr>
          <p:spPr>
            <a:xfrm flipV="1" rot="1273200">
              <a:off x="2977560" y="5560560"/>
              <a:ext cx="41760" cy="5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AutoShape 1038"/>
            <p:cNvSpPr/>
            <p:nvPr/>
          </p:nvSpPr>
          <p:spPr>
            <a:xfrm flipH="1" flipV="1" rot="12073200">
              <a:off x="2768040" y="5289840"/>
              <a:ext cx="248400" cy="107640"/>
            </a:xfrm>
            <a:custGeom>
              <a:avLst/>
              <a:gdLst>
                <a:gd name="textAreaLeft" fmla="*/ 142560 w 248400"/>
                <a:gd name="textAreaRight" fmla="*/ 210240 w 248400"/>
                <a:gd name="textAreaTop" fmla="*/ 14040 h 107640"/>
                <a:gd name="textAreaBottom" fmla="*/ 46080 h 1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AutoShape 1039"/>
            <p:cNvSpPr/>
            <p:nvPr/>
          </p:nvSpPr>
          <p:spPr>
            <a:xfrm flipH="1" flipV="1" rot="12073200">
              <a:off x="2865600" y="5378040"/>
              <a:ext cx="207360" cy="108000"/>
            </a:xfrm>
            <a:custGeom>
              <a:avLst/>
              <a:gdLst>
                <a:gd name="textAreaLeft" fmla="*/ 119520 w 207360"/>
                <a:gd name="textAreaRight" fmla="*/ 175680 w 207360"/>
                <a:gd name="textAreaTop" fmla="*/ 14400 h 108000"/>
                <a:gd name="textAreaBottom" fmla="*/ 4644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AutoShape 1040"/>
            <p:cNvSpPr/>
            <p:nvPr/>
          </p:nvSpPr>
          <p:spPr>
            <a:xfrm rot="123000">
              <a:off x="2350440" y="5085000"/>
              <a:ext cx="331560" cy="163440"/>
            </a:xfrm>
            <a:custGeom>
              <a:avLst/>
              <a:gdLst>
                <a:gd name="textAreaLeft" fmla="*/ 190800 w 331560"/>
                <a:gd name="textAreaRight" fmla="*/ 279720 w 331560"/>
                <a:gd name="textAreaTop" fmla="*/ 22320 h 163440"/>
                <a:gd name="textAreaBottom" fmla="*/ 69840 h 16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AutoShape 1041"/>
            <p:cNvSpPr/>
            <p:nvPr/>
          </p:nvSpPr>
          <p:spPr>
            <a:xfrm flipV="1" rot="1273200">
              <a:off x="1983240" y="5510880"/>
              <a:ext cx="28944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AutoShape 1042"/>
            <p:cNvSpPr/>
            <p:nvPr/>
          </p:nvSpPr>
          <p:spPr>
            <a:xfrm flipV="1" rot="1273200">
              <a:off x="2118240" y="5621040"/>
              <a:ext cx="28944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AutoShape 1043"/>
            <p:cNvSpPr/>
            <p:nvPr/>
          </p:nvSpPr>
          <p:spPr>
            <a:xfrm flipV="1" rot="1273200">
              <a:off x="1847520" y="5401440"/>
              <a:ext cx="28944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AutoShape 1044"/>
            <p:cNvSpPr/>
            <p:nvPr/>
          </p:nvSpPr>
          <p:spPr>
            <a:xfrm flipV="1" rot="1273200">
              <a:off x="1925640" y="5315400"/>
              <a:ext cx="28944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AutoShape 1045"/>
            <p:cNvSpPr/>
            <p:nvPr/>
          </p:nvSpPr>
          <p:spPr>
            <a:xfrm flipV="1" rot="1273200">
              <a:off x="1828440" y="5221080"/>
              <a:ext cx="28944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AutoShape 1046"/>
            <p:cNvSpPr/>
            <p:nvPr/>
          </p:nvSpPr>
          <p:spPr>
            <a:xfrm flipV="1" rot="1273200">
              <a:off x="1964520" y="5214960"/>
              <a:ext cx="28944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AutoShape 1047"/>
            <p:cNvSpPr/>
            <p:nvPr/>
          </p:nvSpPr>
          <p:spPr>
            <a:xfrm flipV="1" rot="1273200">
              <a:off x="2195640" y="5650920"/>
              <a:ext cx="28944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AutoShape 1048"/>
            <p:cNvSpPr/>
            <p:nvPr/>
          </p:nvSpPr>
          <p:spPr>
            <a:xfrm flipV="1" rot="1273200">
              <a:off x="2331000" y="5645880"/>
              <a:ext cx="28944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AutoShape 1049"/>
            <p:cNvSpPr/>
            <p:nvPr/>
          </p:nvSpPr>
          <p:spPr>
            <a:xfrm flipV="1" rot="19338000">
              <a:off x="2016360" y="554688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AutoShape 1050"/>
            <p:cNvSpPr/>
            <p:nvPr/>
          </p:nvSpPr>
          <p:spPr>
            <a:xfrm flipV="1" rot="19338000">
              <a:off x="2325960" y="578304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AutoShape 1051"/>
            <p:cNvSpPr/>
            <p:nvPr/>
          </p:nvSpPr>
          <p:spPr>
            <a:xfrm flipV="1" rot="19338000">
              <a:off x="2616120" y="572292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AutoShape 1052"/>
            <p:cNvSpPr/>
            <p:nvPr/>
          </p:nvSpPr>
          <p:spPr>
            <a:xfrm flipV="1" rot="19338000">
              <a:off x="2404080" y="558180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AutoShape 1053"/>
            <p:cNvSpPr/>
            <p:nvPr/>
          </p:nvSpPr>
          <p:spPr>
            <a:xfrm flipV="1" rot="19338000">
              <a:off x="2538720" y="569268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AutoShape 1054"/>
            <p:cNvSpPr/>
            <p:nvPr/>
          </p:nvSpPr>
          <p:spPr>
            <a:xfrm flipV="1" rot="19338000">
              <a:off x="2151720" y="554256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AutoShape 1055"/>
            <p:cNvSpPr/>
            <p:nvPr/>
          </p:nvSpPr>
          <p:spPr>
            <a:xfrm flipV="1" rot="19338000">
              <a:off x="2383560" y="574812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AutoShape 1056"/>
            <p:cNvSpPr/>
            <p:nvPr/>
          </p:nvSpPr>
          <p:spPr>
            <a:xfrm flipV="1" rot="19338000">
              <a:off x="2267640" y="5703120"/>
              <a:ext cx="375840" cy="403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AutoShape 1057"/>
            <p:cNvSpPr/>
            <p:nvPr/>
          </p:nvSpPr>
          <p:spPr>
            <a:xfrm flipV="1" rot="19338000">
              <a:off x="2307600" y="537120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Group 1058"/>
          <p:cNvGrpSpPr/>
          <p:nvPr/>
        </p:nvGrpSpPr>
        <p:grpSpPr>
          <a:xfrm>
            <a:off x="1947960" y="4875480"/>
            <a:ext cx="1330560" cy="1021680"/>
            <a:chOff x="1947960" y="4875480"/>
            <a:chExt cx="1330560" cy="1021680"/>
          </a:xfrm>
        </p:grpSpPr>
        <p:sp>
          <p:nvSpPr>
            <p:cNvPr id="1140" name="AutoShape 1059"/>
            <p:cNvSpPr/>
            <p:nvPr/>
          </p:nvSpPr>
          <p:spPr>
            <a:xfrm flipV="1" rot="1797000">
              <a:off x="2801520" y="5434920"/>
              <a:ext cx="424800" cy="322200"/>
            </a:xfrm>
            <a:prstGeom prst="flowChartDecision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Oval 1060"/>
            <p:cNvSpPr/>
            <p:nvPr/>
          </p:nvSpPr>
          <p:spPr>
            <a:xfrm flipV="1" rot="1797000">
              <a:off x="2084760" y="5090400"/>
              <a:ext cx="1020240" cy="591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AutoShape 1061"/>
            <p:cNvSpPr/>
            <p:nvPr/>
          </p:nvSpPr>
          <p:spPr>
            <a:xfrm flipV="1" rot="1797000">
              <a:off x="2447280" y="5427720"/>
              <a:ext cx="4284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AutoShape 1062"/>
            <p:cNvSpPr/>
            <p:nvPr/>
          </p:nvSpPr>
          <p:spPr>
            <a:xfrm flipV="1" rot="1797000">
              <a:off x="2638080" y="5351760"/>
              <a:ext cx="4284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AutoShape 1063"/>
            <p:cNvSpPr/>
            <p:nvPr/>
          </p:nvSpPr>
          <p:spPr>
            <a:xfrm flipV="1" rot="1797000">
              <a:off x="2829600" y="5275800"/>
              <a:ext cx="4284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AutoShape 1064"/>
            <p:cNvSpPr/>
            <p:nvPr/>
          </p:nvSpPr>
          <p:spPr>
            <a:xfrm flipV="1" rot="1797000">
              <a:off x="2300400" y="5343120"/>
              <a:ext cx="4284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AutoShape 1065"/>
            <p:cNvSpPr/>
            <p:nvPr/>
          </p:nvSpPr>
          <p:spPr>
            <a:xfrm flipV="1" rot="1797000">
              <a:off x="2232720" y="5118120"/>
              <a:ext cx="4284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AutoShape 1066"/>
            <p:cNvSpPr/>
            <p:nvPr/>
          </p:nvSpPr>
          <p:spPr>
            <a:xfrm flipV="1" rot="1797000">
              <a:off x="2695680" y="5508000"/>
              <a:ext cx="4284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AutoShape 1067"/>
            <p:cNvSpPr/>
            <p:nvPr/>
          </p:nvSpPr>
          <p:spPr>
            <a:xfrm flipV="1" rot="1797000">
              <a:off x="2491200" y="5267160"/>
              <a:ext cx="4284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AutoShape 1068"/>
            <p:cNvSpPr/>
            <p:nvPr/>
          </p:nvSpPr>
          <p:spPr>
            <a:xfrm flipV="1" rot="1797000">
              <a:off x="2316600" y="5228280"/>
              <a:ext cx="4284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AutoShape 1069"/>
            <p:cNvSpPr/>
            <p:nvPr/>
          </p:nvSpPr>
          <p:spPr>
            <a:xfrm flipV="1" rot="1797000">
              <a:off x="2461320" y="5063760"/>
              <a:ext cx="4284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AutoShape 1070"/>
            <p:cNvSpPr/>
            <p:nvPr/>
          </p:nvSpPr>
          <p:spPr>
            <a:xfrm flipV="1" rot="1797000">
              <a:off x="2622600" y="5465520"/>
              <a:ext cx="4284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AutoShape 1071"/>
            <p:cNvSpPr/>
            <p:nvPr/>
          </p:nvSpPr>
          <p:spPr>
            <a:xfrm flipV="1" rot="1797000">
              <a:off x="2592360" y="5262120"/>
              <a:ext cx="4284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AutoShape 1072"/>
            <p:cNvSpPr/>
            <p:nvPr/>
          </p:nvSpPr>
          <p:spPr>
            <a:xfrm flipV="1" rot="1797000">
              <a:off x="2507760" y="5151960"/>
              <a:ext cx="4284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AutoShape 1073"/>
            <p:cNvSpPr/>
            <p:nvPr/>
          </p:nvSpPr>
          <p:spPr>
            <a:xfrm flipV="1" rot="1797000">
              <a:off x="2360880" y="5067360"/>
              <a:ext cx="4284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AutoShape 1074"/>
            <p:cNvSpPr/>
            <p:nvPr/>
          </p:nvSpPr>
          <p:spPr>
            <a:xfrm flipV="1" rot="1797000">
              <a:off x="2682360" y="5190840"/>
              <a:ext cx="4284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AutoShape 1075"/>
            <p:cNvSpPr/>
            <p:nvPr/>
          </p:nvSpPr>
          <p:spPr>
            <a:xfrm flipV="1" rot="1797000">
              <a:off x="2849760" y="5410440"/>
              <a:ext cx="4284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AutoShape 1076"/>
            <p:cNvSpPr/>
            <p:nvPr/>
          </p:nvSpPr>
          <p:spPr>
            <a:xfrm flipV="1" rot="1797000">
              <a:off x="2598840" y="5080320"/>
              <a:ext cx="4284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AutoShape 1077"/>
            <p:cNvSpPr/>
            <p:nvPr/>
          </p:nvSpPr>
          <p:spPr>
            <a:xfrm flipV="1" rot="1797000">
              <a:off x="2223360" y="5049720"/>
              <a:ext cx="4284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AutoShape 1078"/>
            <p:cNvSpPr/>
            <p:nvPr/>
          </p:nvSpPr>
          <p:spPr>
            <a:xfrm flipV="1" rot="1797000">
              <a:off x="2343600" y="5181840"/>
              <a:ext cx="4284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AutoShape 1079"/>
            <p:cNvSpPr/>
            <p:nvPr/>
          </p:nvSpPr>
          <p:spPr>
            <a:xfrm flipV="1" rot="1797000">
              <a:off x="2869560" y="5546880"/>
              <a:ext cx="4284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AutoShape 1080"/>
            <p:cNvSpPr/>
            <p:nvPr/>
          </p:nvSpPr>
          <p:spPr>
            <a:xfrm flipV="1" rot="1797000">
              <a:off x="2336760" y="5364360"/>
              <a:ext cx="4284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AutoShape 1081"/>
            <p:cNvSpPr/>
            <p:nvPr/>
          </p:nvSpPr>
          <p:spPr>
            <a:xfrm flipV="1" rot="1797000">
              <a:off x="2822400" y="5457960"/>
              <a:ext cx="4284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AutoShape 1082"/>
            <p:cNvSpPr/>
            <p:nvPr/>
          </p:nvSpPr>
          <p:spPr>
            <a:xfrm flipV="1" rot="1797000">
              <a:off x="2756160" y="5233680"/>
              <a:ext cx="4284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AutoShape 1083"/>
            <p:cNvSpPr/>
            <p:nvPr/>
          </p:nvSpPr>
          <p:spPr>
            <a:xfrm flipV="1" rot="1797000">
              <a:off x="2253600" y="5253120"/>
              <a:ext cx="4284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AutoShape 1084"/>
            <p:cNvSpPr/>
            <p:nvPr/>
          </p:nvSpPr>
          <p:spPr>
            <a:xfrm flipV="1" rot="1797000">
              <a:off x="2581560" y="5194440"/>
              <a:ext cx="4284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AutoShape 1085"/>
            <p:cNvSpPr/>
            <p:nvPr/>
          </p:nvSpPr>
          <p:spPr>
            <a:xfrm flipV="1" rot="1797000">
              <a:off x="2232720" y="5118120"/>
              <a:ext cx="4284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AutoShape 1086"/>
            <p:cNvSpPr/>
            <p:nvPr/>
          </p:nvSpPr>
          <p:spPr>
            <a:xfrm flipV="1" rot="1797000">
              <a:off x="2548440" y="5423040"/>
              <a:ext cx="4284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AutoShape 1087"/>
            <p:cNvSpPr/>
            <p:nvPr/>
          </p:nvSpPr>
          <p:spPr>
            <a:xfrm flipV="1" rot="1797000">
              <a:off x="2896560" y="5500440"/>
              <a:ext cx="4284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AutoShape 1088"/>
            <p:cNvSpPr/>
            <p:nvPr/>
          </p:nvSpPr>
          <p:spPr>
            <a:xfrm flipV="1" rot="1797000">
              <a:off x="2718720" y="5212080"/>
              <a:ext cx="4284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AutoShape 1089"/>
            <p:cNvSpPr/>
            <p:nvPr/>
          </p:nvSpPr>
          <p:spPr>
            <a:xfrm flipV="1" rot="1797000">
              <a:off x="2813400" y="5389560"/>
              <a:ext cx="4284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AutoShape 1090"/>
            <p:cNvSpPr/>
            <p:nvPr/>
          </p:nvSpPr>
          <p:spPr>
            <a:xfrm flipV="1" rot="1797000">
              <a:off x="2849760" y="5410440"/>
              <a:ext cx="4284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AutoShape 1091"/>
            <p:cNvSpPr/>
            <p:nvPr/>
          </p:nvSpPr>
          <p:spPr>
            <a:xfrm flipV="1" rot="1797000">
              <a:off x="2913120" y="5385240"/>
              <a:ext cx="4284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AutoShape 1092"/>
            <p:cNvSpPr/>
            <p:nvPr/>
          </p:nvSpPr>
          <p:spPr>
            <a:xfrm flipV="1" rot="1797000">
              <a:off x="2933280" y="5521680"/>
              <a:ext cx="42840" cy="268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AutoShape 1093"/>
            <p:cNvSpPr/>
            <p:nvPr/>
          </p:nvSpPr>
          <p:spPr>
            <a:xfrm flipV="1" rot="1797000">
              <a:off x="2260800" y="5389560"/>
              <a:ext cx="339840" cy="52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AutoShape 1094"/>
            <p:cNvSpPr/>
            <p:nvPr/>
          </p:nvSpPr>
          <p:spPr>
            <a:xfrm flipV="1" rot="1797000">
              <a:off x="2424960" y="5098320"/>
              <a:ext cx="2977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AutoShape 1095"/>
            <p:cNvSpPr/>
            <p:nvPr/>
          </p:nvSpPr>
          <p:spPr>
            <a:xfrm flipV="1" rot="1797000">
              <a:off x="2253240" y="5050800"/>
              <a:ext cx="254520" cy="53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AutoShape 1096"/>
            <p:cNvSpPr/>
            <p:nvPr/>
          </p:nvSpPr>
          <p:spPr>
            <a:xfrm flipV="1" rot="1797000">
              <a:off x="2069640" y="5204160"/>
              <a:ext cx="2977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AutoShape 1097"/>
            <p:cNvSpPr/>
            <p:nvPr/>
          </p:nvSpPr>
          <p:spPr>
            <a:xfrm flipV="1" rot="1797000">
              <a:off x="2117160" y="5293080"/>
              <a:ext cx="297720" cy="540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AutoShape 1098"/>
            <p:cNvSpPr/>
            <p:nvPr/>
          </p:nvSpPr>
          <p:spPr>
            <a:xfrm flipV="1" rot="1797000">
              <a:off x="2059560" y="5136840"/>
              <a:ext cx="297720" cy="540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AutoShape 1099"/>
            <p:cNvSpPr/>
            <p:nvPr/>
          </p:nvSpPr>
          <p:spPr>
            <a:xfrm flipV="1" rot="1797000">
              <a:off x="2314440" y="5034240"/>
              <a:ext cx="2977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AutoShape 1100"/>
            <p:cNvSpPr/>
            <p:nvPr/>
          </p:nvSpPr>
          <p:spPr>
            <a:xfrm flipV="1" rot="1797000">
              <a:off x="2149920" y="5064480"/>
              <a:ext cx="2977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AutoShape 1101"/>
            <p:cNvSpPr/>
            <p:nvPr/>
          </p:nvSpPr>
          <p:spPr>
            <a:xfrm flipV="1" rot="1797000">
              <a:off x="2334240" y="5170680"/>
              <a:ext cx="2977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AutoShape 1102"/>
            <p:cNvSpPr/>
            <p:nvPr/>
          </p:nvSpPr>
          <p:spPr>
            <a:xfrm flipV="1" rot="1797000">
              <a:off x="2544840" y="5230080"/>
              <a:ext cx="2977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AutoShape 1103"/>
            <p:cNvSpPr/>
            <p:nvPr/>
          </p:nvSpPr>
          <p:spPr>
            <a:xfrm flipV="1" rot="1797000">
              <a:off x="2525760" y="5094720"/>
              <a:ext cx="297720" cy="540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AutoShape 1104"/>
            <p:cNvSpPr/>
            <p:nvPr/>
          </p:nvSpPr>
          <p:spPr>
            <a:xfrm flipV="1" rot="1797000">
              <a:off x="2719800" y="5267880"/>
              <a:ext cx="2977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Oval 1105"/>
            <p:cNvSpPr/>
            <p:nvPr/>
          </p:nvSpPr>
          <p:spPr>
            <a:xfrm flipV="1" rot="1797000">
              <a:off x="3061080" y="5578560"/>
              <a:ext cx="42840" cy="5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AutoShape 1106"/>
            <p:cNvSpPr/>
            <p:nvPr/>
          </p:nvSpPr>
          <p:spPr>
            <a:xfrm flipH="1" flipV="1" rot="12597000">
              <a:off x="2883240" y="5292720"/>
              <a:ext cx="254520" cy="107640"/>
            </a:xfrm>
            <a:custGeom>
              <a:avLst/>
              <a:gdLst>
                <a:gd name="textAreaLeft" fmla="*/ 145800 w 254520"/>
                <a:gd name="textAreaRight" fmla="*/ 214920 w 254520"/>
                <a:gd name="textAreaTop" fmla="*/ 14040 h 107640"/>
                <a:gd name="textAreaBottom" fmla="*/ 46080 h 1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AutoShape 1107"/>
            <p:cNvSpPr/>
            <p:nvPr/>
          </p:nvSpPr>
          <p:spPr>
            <a:xfrm flipH="1" flipV="1" rot="12597000">
              <a:off x="2968200" y="5391720"/>
              <a:ext cx="212760" cy="108000"/>
            </a:xfrm>
            <a:custGeom>
              <a:avLst/>
              <a:gdLst>
                <a:gd name="textAreaLeft" fmla="*/ 122760 w 212760"/>
                <a:gd name="textAreaRight" fmla="*/ 180000 w 212760"/>
                <a:gd name="textAreaTop" fmla="*/ 14400 h 108000"/>
                <a:gd name="textAreaBottom" fmla="*/ 4644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AutoShape 1108"/>
            <p:cNvSpPr/>
            <p:nvPr/>
          </p:nvSpPr>
          <p:spPr>
            <a:xfrm rot="646800">
              <a:off x="2486520" y="5027760"/>
              <a:ext cx="340200" cy="163440"/>
            </a:xfrm>
            <a:custGeom>
              <a:avLst/>
              <a:gdLst>
                <a:gd name="textAreaLeft" fmla="*/ 195840 w 340200"/>
                <a:gd name="textAreaRight" fmla="*/ 286920 w 340200"/>
                <a:gd name="textAreaTop" fmla="*/ 22320 h 163440"/>
                <a:gd name="textAreaBottom" fmla="*/ 69840 h 16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AutoShape 1109"/>
            <p:cNvSpPr/>
            <p:nvPr/>
          </p:nvSpPr>
          <p:spPr>
            <a:xfrm flipV="1" rot="1797000">
              <a:off x="2062800" y="5388120"/>
              <a:ext cx="2970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AutoShape 1110"/>
            <p:cNvSpPr/>
            <p:nvPr/>
          </p:nvSpPr>
          <p:spPr>
            <a:xfrm flipV="1" rot="1797000">
              <a:off x="2183040" y="5519160"/>
              <a:ext cx="297000" cy="525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AutoShape 1111"/>
            <p:cNvSpPr/>
            <p:nvPr/>
          </p:nvSpPr>
          <p:spPr>
            <a:xfrm flipV="1" rot="1797000">
              <a:off x="1941120" y="5256720"/>
              <a:ext cx="297000" cy="525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AutoShape 1112"/>
            <p:cNvSpPr/>
            <p:nvPr/>
          </p:nvSpPr>
          <p:spPr>
            <a:xfrm flipV="1" rot="1797000">
              <a:off x="2032560" y="5184000"/>
              <a:ext cx="2970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AutoShape 1113"/>
            <p:cNvSpPr/>
            <p:nvPr/>
          </p:nvSpPr>
          <p:spPr>
            <a:xfrm flipV="1" rot="1797000">
              <a:off x="1948320" y="5074560"/>
              <a:ext cx="297000" cy="525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AutoShape 1114"/>
            <p:cNvSpPr/>
            <p:nvPr/>
          </p:nvSpPr>
          <p:spPr>
            <a:xfrm flipV="1" rot="1797000">
              <a:off x="2086560" y="5090760"/>
              <a:ext cx="2970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AutoShape 1115"/>
            <p:cNvSpPr/>
            <p:nvPr/>
          </p:nvSpPr>
          <p:spPr>
            <a:xfrm flipV="1" rot="1797000">
              <a:off x="2257200" y="5561640"/>
              <a:ext cx="297000" cy="525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AutoShape 1116"/>
            <p:cNvSpPr/>
            <p:nvPr/>
          </p:nvSpPr>
          <p:spPr>
            <a:xfrm flipV="1" rot="1797000">
              <a:off x="2394000" y="5578920"/>
              <a:ext cx="2970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AutoShape 1117"/>
            <p:cNvSpPr/>
            <p:nvPr/>
          </p:nvSpPr>
          <p:spPr>
            <a:xfrm flipV="1" rot="19862400">
              <a:off x="2096280" y="5434920"/>
              <a:ext cx="375840" cy="406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AutoShape 1118"/>
            <p:cNvSpPr/>
            <p:nvPr/>
          </p:nvSpPr>
          <p:spPr>
            <a:xfrm flipV="1" rot="19862400">
              <a:off x="2374560" y="5719680"/>
              <a:ext cx="375840" cy="406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AutoShape 1119"/>
            <p:cNvSpPr/>
            <p:nvPr/>
          </p:nvSpPr>
          <p:spPr>
            <a:xfrm flipV="1" rot="19862400">
              <a:off x="2675880" y="5707440"/>
              <a:ext cx="375840" cy="406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AutoShape 1120"/>
            <p:cNvSpPr/>
            <p:nvPr/>
          </p:nvSpPr>
          <p:spPr>
            <a:xfrm flipV="1" rot="19862400">
              <a:off x="2482200" y="5532480"/>
              <a:ext cx="375840" cy="406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AutoShape 1121"/>
            <p:cNvSpPr/>
            <p:nvPr/>
          </p:nvSpPr>
          <p:spPr>
            <a:xfrm flipV="1" rot="19862400">
              <a:off x="2602080" y="5664600"/>
              <a:ext cx="375840" cy="406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AutoShape 1122"/>
            <p:cNvSpPr/>
            <p:nvPr/>
          </p:nvSpPr>
          <p:spPr>
            <a:xfrm flipV="1" rot="19862400">
              <a:off x="2233080" y="5452200"/>
              <a:ext cx="375840" cy="406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AutoShape 1123"/>
            <p:cNvSpPr/>
            <p:nvPr/>
          </p:nvSpPr>
          <p:spPr>
            <a:xfrm flipV="1" rot="19862400">
              <a:off x="2437560" y="5694840"/>
              <a:ext cx="375840" cy="406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AutoShape 1124"/>
            <p:cNvSpPr/>
            <p:nvPr/>
          </p:nvSpPr>
          <p:spPr>
            <a:xfrm flipV="1" rot="19862400">
              <a:off x="2326680" y="5631120"/>
              <a:ext cx="375840" cy="4104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AutoShape 1125"/>
            <p:cNvSpPr/>
            <p:nvPr/>
          </p:nvSpPr>
          <p:spPr>
            <a:xfrm flipV="1" rot="19862400">
              <a:off x="2414880" y="5307840"/>
              <a:ext cx="375840" cy="406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Group 1126"/>
          <p:cNvGrpSpPr/>
          <p:nvPr/>
        </p:nvGrpSpPr>
        <p:grpSpPr>
          <a:xfrm>
            <a:off x="2146680" y="4608360"/>
            <a:ext cx="979200" cy="1291320"/>
            <a:chOff x="2146680" y="4608360"/>
            <a:chExt cx="979200" cy="1291320"/>
          </a:xfrm>
        </p:grpSpPr>
        <p:sp>
          <p:nvSpPr>
            <p:cNvPr id="1208" name="AutoShape 1127"/>
            <p:cNvSpPr/>
            <p:nvPr/>
          </p:nvSpPr>
          <p:spPr>
            <a:xfrm flipV="1" rot="3778800">
              <a:off x="2660400" y="5481000"/>
              <a:ext cx="413640" cy="322200"/>
            </a:xfrm>
            <a:prstGeom prst="flowChartDecision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Oval 1128"/>
            <p:cNvSpPr/>
            <p:nvPr/>
          </p:nvSpPr>
          <p:spPr>
            <a:xfrm flipV="1" rot="3778800">
              <a:off x="2138040" y="4952520"/>
              <a:ext cx="995760" cy="591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AutoShape 1129"/>
            <p:cNvSpPr/>
            <p:nvPr/>
          </p:nvSpPr>
          <p:spPr>
            <a:xfrm flipV="1" rot="3778800">
              <a:off x="2413440" y="519300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AutoShape 1130"/>
            <p:cNvSpPr/>
            <p:nvPr/>
          </p:nvSpPr>
          <p:spPr>
            <a:xfrm flipV="1" rot="3778800">
              <a:off x="2613600" y="523044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AutoShape 1131"/>
            <p:cNvSpPr/>
            <p:nvPr/>
          </p:nvSpPr>
          <p:spPr>
            <a:xfrm flipV="1" rot="3778800">
              <a:off x="2813760" y="526824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AutoShape 1132"/>
            <p:cNvSpPr/>
            <p:nvPr/>
          </p:nvSpPr>
          <p:spPr>
            <a:xfrm flipV="1" rot="3778800">
              <a:off x="2338200" y="504576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AutoShape 1133"/>
            <p:cNvSpPr/>
            <p:nvPr/>
          </p:nvSpPr>
          <p:spPr>
            <a:xfrm flipV="1" rot="3778800">
              <a:off x="2406240" y="482400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AutoShape 1134"/>
            <p:cNvSpPr/>
            <p:nvPr/>
          </p:nvSpPr>
          <p:spPr>
            <a:xfrm flipV="1" rot="3778800">
              <a:off x="2575080" y="538992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AutoShape 1135"/>
            <p:cNvSpPr/>
            <p:nvPr/>
          </p:nvSpPr>
          <p:spPr>
            <a:xfrm flipV="1" rot="3778800">
              <a:off x="2538360" y="508284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AutoShape 1136"/>
            <p:cNvSpPr/>
            <p:nvPr/>
          </p:nvSpPr>
          <p:spPr>
            <a:xfrm flipV="1" rot="3778800">
              <a:off x="2414880" y="495936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AutoShape 1137"/>
            <p:cNvSpPr/>
            <p:nvPr/>
          </p:nvSpPr>
          <p:spPr>
            <a:xfrm flipV="1" rot="3778800">
              <a:off x="2625480" y="489924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AutoShape 1138"/>
            <p:cNvSpPr/>
            <p:nvPr/>
          </p:nvSpPr>
          <p:spPr>
            <a:xfrm flipV="1" rot="3778800">
              <a:off x="2537640" y="531648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AutoShape 1139"/>
            <p:cNvSpPr/>
            <p:nvPr/>
          </p:nvSpPr>
          <p:spPr>
            <a:xfrm flipV="1" rot="3778800">
              <a:off x="2624760" y="513216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AutoShape 1140"/>
            <p:cNvSpPr/>
            <p:nvPr/>
          </p:nvSpPr>
          <p:spPr>
            <a:xfrm flipV="1" rot="3778800">
              <a:off x="2615400" y="499644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AutoShape 1141"/>
            <p:cNvSpPr/>
            <p:nvPr/>
          </p:nvSpPr>
          <p:spPr>
            <a:xfrm flipV="1" rot="3778800">
              <a:off x="2540520" y="484920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AutoShape 1142"/>
            <p:cNvSpPr/>
            <p:nvPr/>
          </p:nvSpPr>
          <p:spPr>
            <a:xfrm flipV="1" rot="3778800">
              <a:off x="2738520" y="512028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AutoShape 1143"/>
            <p:cNvSpPr/>
            <p:nvPr/>
          </p:nvSpPr>
          <p:spPr>
            <a:xfrm flipV="1" rot="3778800">
              <a:off x="2756520" y="539064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AutoShape 1144"/>
            <p:cNvSpPr/>
            <p:nvPr/>
          </p:nvSpPr>
          <p:spPr>
            <a:xfrm flipV="1" rot="3778800">
              <a:off x="2730600" y="498492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AutoShape 1145"/>
            <p:cNvSpPr/>
            <p:nvPr/>
          </p:nvSpPr>
          <p:spPr>
            <a:xfrm flipV="1" rot="3778800">
              <a:off x="2436120" y="476244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AutoShape 1146"/>
            <p:cNvSpPr/>
            <p:nvPr/>
          </p:nvSpPr>
          <p:spPr>
            <a:xfrm flipV="1" rot="3778800">
              <a:off x="2462760" y="493488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AutoShape 1147"/>
            <p:cNvSpPr/>
            <p:nvPr/>
          </p:nvSpPr>
          <p:spPr>
            <a:xfrm flipV="1" rot="3778800">
              <a:off x="2697840" y="551412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AutoShape 1148"/>
            <p:cNvSpPr/>
            <p:nvPr/>
          </p:nvSpPr>
          <p:spPr>
            <a:xfrm flipV="1" rot="3778800">
              <a:off x="2356920" y="508212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AutoShape 1149"/>
            <p:cNvSpPr/>
            <p:nvPr/>
          </p:nvSpPr>
          <p:spPr>
            <a:xfrm flipV="1" rot="3778800">
              <a:off x="2707920" y="541548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AutoShape 1150"/>
            <p:cNvSpPr/>
            <p:nvPr/>
          </p:nvSpPr>
          <p:spPr>
            <a:xfrm flipV="1" rot="3778800">
              <a:off x="2776320" y="519480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AutoShape 1151"/>
            <p:cNvSpPr/>
            <p:nvPr/>
          </p:nvSpPr>
          <p:spPr>
            <a:xfrm flipV="1" rot="3778800">
              <a:off x="2349360" y="494676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AutoShape 1152"/>
            <p:cNvSpPr/>
            <p:nvPr/>
          </p:nvSpPr>
          <p:spPr>
            <a:xfrm flipV="1" rot="3778800">
              <a:off x="2653200" y="507060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AutoShape 1153"/>
            <p:cNvSpPr/>
            <p:nvPr/>
          </p:nvSpPr>
          <p:spPr>
            <a:xfrm flipV="1" rot="3778800">
              <a:off x="2406240" y="482400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AutoShape 1154"/>
            <p:cNvSpPr/>
            <p:nvPr/>
          </p:nvSpPr>
          <p:spPr>
            <a:xfrm flipV="1" rot="3778800">
              <a:off x="2499840" y="524196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AutoShape 1155"/>
            <p:cNvSpPr/>
            <p:nvPr/>
          </p:nvSpPr>
          <p:spPr>
            <a:xfrm flipV="1" rot="3778800">
              <a:off x="2745720" y="548964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AutoShape 1156"/>
            <p:cNvSpPr/>
            <p:nvPr/>
          </p:nvSpPr>
          <p:spPr>
            <a:xfrm flipV="1" rot="3778800">
              <a:off x="2757240" y="515736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AutoShape 1157"/>
            <p:cNvSpPr/>
            <p:nvPr/>
          </p:nvSpPr>
          <p:spPr>
            <a:xfrm flipV="1" rot="3778800">
              <a:off x="2737800" y="535392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AutoShape 1158"/>
            <p:cNvSpPr/>
            <p:nvPr/>
          </p:nvSpPr>
          <p:spPr>
            <a:xfrm flipV="1" rot="3778800">
              <a:off x="2756520" y="539064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AutoShape 1159"/>
            <p:cNvSpPr/>
            <p:nvPr/>
          </p:nvSpPr>
          <p:spPr>
            <a:xfrm flipV="1" rot="3778800">
              <a:off x="2822760" y="540324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AutoShape 1160"/>
            <p:cNvSpPr/>
            <p:nvPr/>
          </p:nvSpPr>
          <p:spPr>
            <a:xfrm flipV="1" rot="3778800">
              <a:off x="2764440" y="5526360"/>
              <a:ext cx="41760" cy="2685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AutoShape 1161"/>
            <p:cNvSpPr/>
            <p:nvPr/>
          </p:nvSpPr>
          <p:spPr>
            <a:xfrm flipV="1" rot="3778800">
              <a:off x="2318040" y="5159880"/>
              <a:ext cx="331200" cy="529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AutoShape 1162"/>
            <p:cNvSpPr/>
            <p:nvPr/>
          </p:nvSpPr>
          <p:spPr>
            <a:xfrm flipV="1" rot="3778800">
              <a:off x="2617200" y="499356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AutoShape 1163"/>
            <p:cNvSpPr/>
            <p:nvPr/>
          </p:nvSpPr>
          <p:spPr>
            <a:xfrm flipV="1" rot="3778800">
              <a:off x="2503800" y="4853160"/>
              <a:ext cx="248400" cy="53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AutoShape 1164"/>
            <p:cNvSpPr/>
            <p:nvPr/>
          </p:nvSpPr>
          <p:spPr>
            <a:xfrm flipV="1" rot="3778800">
              <a:off x="2264040" y="4893840"/>
              <a:ext cx="290880" cy="547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AutoShape 1165"/>
            <p:cNvSpPr/>
            <p:nvPr/>
          </p:nvSpPr>
          <p:spPr>
            <a:xfrm flipV="1" rot="3778800">
              <a:off x="2254320" y="4992480"/>
              <a:ext cx="290520" cy="53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AutoShape 1166"/>
            <p:cNvSpPr/>
            <p:nvPr/>
          </p:nvSpPr>
          <p:spPr>
            <a:xfrm flipV="1" rot="3778800">
              <a:off x="2292480" y="4833360"/>
              <a:ext cx="290520" cy="53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AutoShape 1167"/>
            <p:cNvSpPr/>
            <p:nvPr/>
          </p:nvSpPr>
          <p:spPr>
            <a:xfrm flipV="1" rot="3778800">
              <a:off x="2560680" y="488268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AutoShape 1168"/>
            <p:cNvSpPr/>
            <p:nvPr/>
          </p:nvSpPr>
          <p:spPr>
            <a:xfrm flipV="1" rot="3778800">
              <a:off x="2407680" y="4820400"/>
              <a:ext cx="290880" cy="547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AutoShape 1169"/>
            <p:cNvSpPr/>
            <p:nvPr/>
          </p:nvSpPr>
          <p:spPr>
            <a:xfrm flipV="1" rot="3778800">
              <a:off x="2502000" y="5005440"/>
              <a:ext cx="290880" cy="547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AutoShape 1170"/>
            <p:cNvSpPr/>
            <p:nvPr/>
          </p:nvSpPr>
          <p:spPr>
            <a:xfrm flipV="1" rot="3778800">
              <a:off x="2643480" y="5165640"/>
              <a:ext cx="290520" cy="5436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AutoShape 1171"/>
            <p:cNvSpPr/>
            <p:nvPr/>
          </p:nvSpPr>
          <p:spPr>
            <a:xfrm flipV="1" rot="3778800">
              <a:off x="2702160" y="5043600"/>
              <a:ext cx="290520" cy="5364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AutoShape 1172"/>
            <p:cNvSpPr/>
            <p:nvPr/>
          </p:nvSpPr>
          <p:spPr>
            <a:xfrm flipV="1" rot="3778800">
              <a:off x="2767680" y="5288760"/>
              <a:ext cx="290880" cy="5472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Oval 1173"/>
            <p:cNvSpPr/>
            <p:nvPr/>
          </p:nvSpPr>
          <p:spPr>
            <a:xfrm flipV="1" rot="3778800">
              <a:off x="2898360" y="5658480"/>
              <a:ext cx="41760" cy="5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AutoShape 1174"/>
            <p:cNvSpPr/>
            <p:nvPr/>
          </p:nvSpPr>
          <p:spPr>
            <a:xfrm flipH="1" flipV="1" rot="14578800">
              <a:off x="2878200" y="5379120"/>
              <a:ext cx="248400" cy="108000"/>
            </a:xfrm>
            <a:custGeom>
              <a:avLst/>
              <a:gdLst>
                <a:gd name="textAreaLeft" fmla="*/ 142560 w 248400"/>
                <a:gd name="textAreaRight" fmla="*/ 210240 w 248400"/>
                <a:gd name="textAreaTop" fmla="*/ 14400 h 108000"/>
                <a:gd name="textAreaBottom" fmla="*/ 4644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AutoShape 1175"/>
            <p:cNvSpPr/>
            <p:nvPr/>
          </p:nvSpPr>
          <p:spPr>
            <a:xfrm flipH="1" flipV="1" rot="14578800">
              <a:off x="2896920" y="5496120"/>
              <a:ext cx="207360" cy="108000"/>
            </a:xfrm>
            <a:custGeom>
              <a:avLst/>
              <a:gdLst>
                <a:gd name="textAreaLeft" fmla="*/ 119520 w 207360"/>
                <a:gd name="textAreaRight" fmla="*/ 175680 w 207360"/>
                <a:gd name="textAreaTop" fmla="*/ 14400 h 108000"/>
                <a:gd name="textAreaBottom" fmla="*/ 4644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AutoShape 1176"/>
            <p:cNvSpPr/>
            <p:nvPr/>
          </p:nvSpPr>
          <p:spPr>
            <a:xfrm rot="2628600">
              <a:off x="2673000" y="4969440"/>
              <a:ext cx="331920" cy="163800"/>
            </a:xfrm>
            <a:custGeom>
              <a:avLst/>
              <a:gdLst>
                <a:gd name="textAreaLeft" fmla="*/ 191160 w 331920"/>
                <a:gd name="textAreaRight" fmla="*/ 280080 w 331920"/>
                <a:gd name="textAreaTop" fmla="*/ 22320 h 163800"/>
                <a:gd name="textAreaBottom" fmla="*/ 69840 h 16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AutoShape 1177"/>
            <p:cNvSpPr/>
            <p:nvPr/>
          </p:nvSpPr>
          <p:spPr>
            <a:xfrm flipV="1" rot="3778800">
              <a:off x="2157840" y="5041800"/>
              <a:ext cx="28944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AutoShape 1178"/>
            <p:cNvSpPr/>
            <p:nvPr/>
          </p:nvSpPr>
          <p:spPr>
            <a:xfrm flipV="1" rot="3778800">
              <a:off x="2185560" y="5214240"/>
              <a:ext cx="28980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AutoShape 1179"/>
            <p:cNvSpPr/>
            <p:nvPr/>
          </p:nvSpPr>
          <p:spPr>
            <a:xfrm flipV="1" rot="3778800">
              <a:off x="2129400" y="4869720"/>
              <a:ext cx="28980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AutoShape 1180"/>
            <p:cNvSpPr/>
            <p:nvPr/>
          </p:nvSpPr>
          <p:spPr>
            <a:xfrm flipV="1" rot="3778800">
              <a:off x="2244960" y="485820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AutoShape 1181"/>
            <p:cNvSpPr/>
            <p:nvPr/>
          </p:nvSpPr>
          <p:spPr>
            <a:xfrm flipV="1" rot="3778800">
              <a:off x="2235600" y="4722840"/>
              <a:ext cx="28980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AutoShape 1182"/>
            <p:cNvSpPr/>
            <p:nvPr/>
          </p:nvSpPr>
          <p:spPr>
            <a:xfrm flipV="1" rot="3778800">
              <a:off x="2341080" y="480924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AutoShape 1183"/>
            <p:cNvSpPr/>
            <p:nvPr/>
          </p:nvSpPr>
          <p:spPr>
            <a:xfrm flipV="1" rot="3778800">
              <a:off x="2223360" y="5288400"/>
              <a:ext cx="289800" cy="529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AutoShape 1184"/>
            <p:cNvSpPr/>
            <p:nvPr/>
          </p:nvSpPr>
          <p:spPr>
            <a:xfrm flipV="1" rot="3778800">
              <a:off x="2327040" y="5374800"/>
              <a:ext cx="289800" cy="5328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AutoShape 1185"/>
            <p:cNvSpPr/>
            <p:nvPr/>
          </p:nvSpPr>
          <p:spPr>
            <a:xfrm flipV="1" rot="243600">
              <a:off x="2152080" y="512064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AutoShape 1186"/>
            <p:cNvSpPr/>
            <p:nvPr/>
          </p:nvSpPr>
          <p:spPr>
            <a:xfrm flipV="1" rot="243600">
              <a:off x="2225880" y="550296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AutoShape 1187"/>
            <p:cNvSpPr/>
            <p:nvPr/>
          </p:nvSpPr>
          <p:spPr>
            <a:xfrm flipV="1" rot="243600">
              <a:off x="2482560" y="565128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AutoShape 1188"/>
            <p:cNvSpPr/>
            <p:nvPr/>
          </p:nvSpPr>
          <p:spPr>
            <a:xfrm flipV="1" rot="243600">
              <a:off x="2418120" y="540504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AutoShape 1189"/>
            <p:cNvSpPr/>
            <p:nvPr/>
          </p:nvSpPr>
          <p:spPr>
            <a:xfrm flipV="1" rot="243600">
              <a:off x="2444760" y="557748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AutoShape 1190"/>
            <p:cNvSpPr/>
            <p:nvPr/>
          </p:nvSpPr>
          <p:spPr>
            <a:xfrm flipV="1" rot="243600">
              <a:off x="2256120" y="520740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AutoShape 1191"/>
            <p:cNvSpPr/>
            <p:nvPr/>
          </p:nvSpPr>
          <p:spPr>
            <a:xfrm flipV="1" rot="243600">
              <a:off x="2292120" y="551556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AutoShape 1192"/>
            <p:cNvSpPr/>
            <p:nvPr/>
          </p:nvSpPr>
          <p:spPr>
            <a:xfrm flipV="1" rot="243600">
              <a:off x="2235240" y="5405040"/>
              <a:ext cx="375840" cy="4032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AutoShape 1193"/>
            <p:cNvSpPr/>
            <p:nvPr/>
          </p:nvSpPr>
          <p:spPr>
            <a:xfrm flipV="1" rot="243600">
              <a:off x="2486160" y="5183280"/>
              <a:ext cx="375840" cy="399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Group 1194"/>
          <p:cNvGrpSpPr/>
          <p:nvPr/>
        </p:nvGrpSpPr>
        <p:grpSpPr>
          <a:xfrm>
            <a:off x="1622520" y="5398920"/>
            <a:ext cx="1376280" cy="895680"/>
            <a:chOff x="1622520" y="5398920"/>
            <a:chExt cx="1376280" cy="895680"/>
          </a:xfrm>
        </p:grpSpPr>
        <p:grpSp>
          <p:nvGrpSpPr>
            <p:cNvPr id="1276" name="Group 1195"/>
            <p:cNvGrpSpPr/>
            <p:nvPr/>
          </p:nvGrpSpPr>
          <p:grpSpPr>
            <a:xfrm>
              <a:off x="1622520" y="5398920"/>
              <a:ext cx="1376280" cy="895680"/>
              <a:chOff x="1622520" y="5398920"/>
              <a:chExt cx="1376280" cy="895680"/>
            </a:xfrm>
          </p:grpSpPr>
          <p:sp>
            <p:nvSpPr>
              <p:cNvPr id="1277" name="AutoShape 1196"/>
              <p:cNvSpPr/>
              <p:nvPr/>
            </p:nvSpPr>
            <p:spPr>
              <a:xfrm flipV="1" rot="151800">
                <a:off x="2577600" y="5630040"/>
                <a:ext cx="414000" cy="322200"/>
              </a:xfrm>
              <a:prstGeom prst="flowChartDecision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Oval 1197"/>
              <p:cNvSpPr/>
              <p:nvPr/>
            </p:nvSpPr>
            <p:spPr>
              <a:xfrm flipV="1" rot="151800">
                <a:off x="1829880" y="5501880"/>
                <a:ext cx="995400" cy="591840"/>
              </a:xfrm>
              <a:prstGeom prst="ellipse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AutoShape 1198"/>
              <p:cNvSpPr/>
              <p:nvPr/>
            </p:nvSpPr>
            <p:spPr>
              <a:xfrm flipV="1" rot="151800">
                <a:off x="2276640" y="587808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AutoShape 1199"/>
              <p:cNvSpPr/>
              <p:nvPr/>
            </p:nvSpPr>
            <p:spPr>
              <a:xfrm flipV="1" rot="151800">
                <a:off x="2408040" y="572256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AutoShape 1200"/>
              <p:cNvSpPr/>
              <p:nvPr/>
            </p:nvSpPr>
            <p:spPr>
              <a:xfrm flipV="1" rot="151800">
                <a:off x="2539440" y="556704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AutoShape 1201"/>
              <p:cNvSpPr/>
              <p:nvPr/>
            </p:nvSpPr>
            <p:spPr>
              <a:xfrm flipV="1" rot="151800">
                <a:off x="2111400" y="587052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AutoShape 1202"/>
              <p:cNvSpPr/>
              <p:nvPr/>
            </p:nvSpPr>
            <p:spPr>
              <a:xfrm flipV="1" rot="151800">
                <a:off x="1952280" y="570240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AutoShape 1203"/>
              <p:cNvSpPr/>
              <p:nvPr/>
            </p:nvSpPr>
            <p:spPr>
              <a:xfrm flipV="1" rot="151800">
                <a:off x="2527560" y="583488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AutoShape 1204"/>
              <p:cNvSpPr/>
              <p:nvPr/>
            </p:nvSpPr>
            <p:spPr>
              <a:xfrm flipV="1" rot="151800">
                <a:off x="2242800" y="571536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AutoShape 1205"/>
              <p:cNvSpPr/>
              <p:nvPr/>
            </p:nvSpPr>
            <p:spPr>
              <a:xfrm flipV="1" rot="151800">
                <a:off x="2073960" y="576144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AutoShape 1206"/>
              <p:cNvSpPr/>
              <p:nvPr/>
            </p:nvSpPr>
            <p:spPr>
              <a:xfrm flipV="1" rot="151800">
                <a:off x="2125440" y="554868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AutoShape 1207"/>
              <p:cNvSpPr/>
              <p:nvPr/>
            </p:nvSpPr>
            <p:spPr>
              <a:xfrm flipV="1" rot="151800">
                <a:off x="2445120" y="583092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AutoShape 1208"/>
              <p:cNvSpPr/>
              <p:nvPr/>
            </p:nvSpPr>
            <p:spPr>
              <a:xfrm flipV="1" rot="151800">
                <a:off x="2328120" y="566496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AutoShape 1209"/>
              <p:cNvSpPr/>
              <p:nvPr/>
            </p:nvSpPr>
            <p:spPr>
              <a:xfrm flipV="1" rot="151800">
                <a:off x="2205720" y="560592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AutoShape 1210"/>
              <p:cNvSpPr/>
              <p:nvPr/>
            </p:nvSpPr>
            <p:spPr>
              <a:xfrm flipV="1" rot="151800">
                <a:off x="2040120" y="559872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AutoShape 1211"/>
              <p:cNvSpPr/>
              <p:nvPr/>
            </p:nvSpPr>
            <p:spPr>
              <a:xfrm flipV="1" rot="151800">
                <a:off x="2374200" y="555984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AutoShape 1212"/>
              <p:cNvSpPr/>
              <p:nvPr/>
            </p:nvSpPr>
            <p:spPr>
              <a:xfrm flipV="1" rot="151800">
                <a:off x="2617560" y="567756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AutoShape 1213"/>
              <p:cNvSpPr/>
              <p:nvPr/>
            </p:nvSpPr>
            <p:spPr>
              <a:xfrm flipV="1" rot="151800">
                <a:off x="2252520" y="550008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AutoShape 1214"/>
              <p:cNvSpPr/>
              <p:nvPr/>
            </p:nvSpPr>
            <p:spPr>
              <a:xfrm flipV="1" rot="151800">
                <a:off x="1913760" y="564624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AutoShape 1215"/>
              <p:cNvSpPr/>
              <p:nvPr/>
            </p:nvSpPr>
            <p:spPr>
              <a:xfrm flipV="1" rot="151800">
                <a:off x="2076480" y="570816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AutoShape 1216"/>
              <p:cNvSpPr/>
              <p:nvPr/>
            </p:nvSpPr>
            <p:spPr>
              <a:xfrm flipV="1" rot="151800">
                <a:off x="2696040" y="578916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AutoShape 1217"/>
              <p:cNvSpPr/>
              <p:nvPr/>
            </p:nvSpPr>
            <p:spPr>
              <a:xfrm flipV="1" rot="151800">
                <a:off x="2152080" y="587268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AutoShape 1218"/>
              <p:cNvSpPr/>
              <p:nvPr/>
            </p:nvSpPr>
            <p:spPr>
              <a:xfrm flipV="1" rot="151800">
                <a:off x="2615400" y="573156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AutoShape 1219"/>
              <p:cNvSpPr/>
              <p:nvPr/>
            </p:nvSpPr>
            <p:spPr>
              <a:xfrm flipV="1" rot="151800">
                <a:off x="2457000" y="556308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AutoShape 1220"/>
              <p:cNvSpPr/>
              <p:nvPr/>
            </p:nvSpPr>
            <p:spPr>
              <a:xfrm flipV="1" rot="151800">
                <a:off x="2030400" y="581292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AutoShape 1221"/>
              <p:cNvSpPr/>
              <p:nvPr/>
            </p:nvSpPr>
            <p:spPr>
              <a:xfrm flipV="1" rot="151800">
                <a:off x="2288520" y="560952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AutoShape 1222"/>
              <p:cNvSpPr/>
              <p:nvPr/>
            </p:nvSpPr>
            <p:spPr>
              <a:xfrm flipV="1" rot="151800">
                <a:off x="1952280" y="570240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AutoShape 1223"/>
              <p:cNvSpPr/>
              <p:nvPr/>
            </p:nvSpPr>
            <p:spPr>
              <a:xfrm flipV="1" rot="151800">
                <a:off x="2362320" y="582768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AutoShape 1224"/>
              <p:cNvSpPr/>
              <p:nvPr/>
            </p:nvSpPr>
            <p:spPr>
              <a:xfrm flipV="1" rot="151800">
                <a:off x="2698560" y="573516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AutoShape 1225"/>
              <p:cNvSpPr/>
              <p:nvPr/>
            </p:nvSpPr>
            <p:spPr>
              <a:xfrm flipV="1" rot="151800">
                <a:off x="2415240" y="556164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AutoShape 1226"/>
              <p:cNvSpPr/>
              <p:nvPr/>
            </p:nvSpPr>
            <p:spPr>
              <a:xfrm flipV="1" rot="151800">
                <a:off x="2576520" y="567576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AutoShape 1227"/>
              <p:cNvSpPr/>
              <p:nvPr/>
            </p:nvSpPr>
            <p:spPr>
              <a:xfrm flipV="1" rot="151800">
                <a:off x="2617560" y="567756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AutoShape 1228"/>
              <p:cNvSpPr/>
              <p:nvPr/>
            </p:nvSpPr>
            <p:spPr>
              <a:xfrm flipV="1" rot="151800">
                <a:off x="2661120" y="562608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AutoShape 1229"/>
              <p:cNvSpPr/>
              <p:nvPr/>
            </p:nvSpPr>
            <p:spPr>
              <a:xfrm flipV="1" rot="151800">
                <a:off x="2739240" y="573732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AutoShape 1230"/>
              <p:cNvSpPr/>
              <p:nvPr/>
            </p:nvSpPr>
            <p:spPr>
              <a:xfrm flipV="1" rot="151800">
                <a:off x="2032560" y="5873400"/>
                <a:ext cx="331560" cy="5292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AutoShape 1231"/>
              <p:cNvSpPr/>
              <p:nvPr/>
            </p:nvSpPr>
            <p:spPr>
              <a:xfrm flipV="1" rot="151800">
                <a:off x="2046960" y="5549400"/>
                <a:ext cx="290520" cy="543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AutoShape 1232"/>
              <p:cNvSpPr/>
              <p:nvPr/>
            </p:nvSpPr>
            <p:spPr>
              <a:xfrm flipV="1" rot="151800">
                <a:off x="1879560" y="5596560"/>
                <a:ext cx="248400" cy="5328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AutoShape 1233"/>
              <p:cNvSpPr/>
              <p:nvPr/>
            </p:nvSpPr>
            <p:spPr>
              <a:xfrm flipV="1" rot="151800">
                <a:off x="1786680" y="5807520"/>
                <a:ext cx="290520" cy="543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AutoShape 1234"/>
              <p:cNvSpPr/>
              <p:nvPr/>
            </p:nvSpPr>
            <p:spPr>
              <a:xfrm flipV="1" rot="151800">
                <a:off x="1867680" y="5865120"/>
                <a:ext cx="290520" cy="5364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AutoShape 1235"/>
              <p:cNvSpPr/>
              <p:nvPr/>
            </p:nvSpPr>
            <p:spPr>
              <a:xfrm flipV="1" rot="151800">
                <a:off x="1748160" y="5752800"/>
                <a:ext cx="290520" cy="5364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AutoShape 1236"/>
              <p:cNvSpPr/>
              <p:nvPr/>
            </p:nvSpPr>
            <p:spPr>
              <a:xfrm flipV="1" rot="151800">
                <a:off x="1922760" y="5544000"/>
                <a:ext cx="290520" cy="543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AutoShape 1237"/>
              <p:cNvSpPr/>
              <p:nvPr/>
            </p:nvSpPr>
            <p:spPr>
              <a:xfrm flipV="1" rot="151800">
                <a:off x="1793880" y="5646240"/>
                <a:ext cx="290520" cy="543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AutoShape 1238"/>
              <p:cNvSpPr/>
              <p:nvPr/>
            </p:nvSpPr>
            <p:spPr>
              <a:xfrm flipV="1" rot="151800">
                <a:off x="2001240" y="5655600"/>
                <a:ext cx="290520" cy="543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AutoShape 1239"/>
              <p:cNvSpPr/>
              <p:nvPr/>
            </p:nvSpPr>
            <p:spPr>
              <a:xfrm flipV="1" rot="151800">
                <a:off x="2210040" y="5611320"/>
                <a:ext cx="290520" cy="543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AutoShape 1240"/>
              <p:cNvSpPr/>
              <p:nvPr/>
            </p:nvSpPr>
            <p:spPr>
              <a:xfrm flipV="1" rot="151800">
                <a:off x="2132640" y="5500080"/>
                <a:ext cx="290520" cy="5364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AutoShape 1241"/>
              <p:cNvSpPr/>
              <p:nvPr/>
            </p:nvSpPr>
            <p:spPr>
              <a:xfrm flipV="1" rot="151800">
                <a:off x="2378520" y="5564160"/>
                <a:ext cx="290520" cy="543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Oval 1242"/>
              <p:cNvSpPr/>
              <p:nvPr/>
            </p:nvSpPr>
            <p:spPr>
              <a:xfrm flipV="1" rot="151800">
                <a:off x="2827080" y="5739840"/>
                <a:ext cx="41760" cy="53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AutoShape 1243"/>
              <p:cNvSpPr/>
              <p:nvPr/>
            </p:nvSpPr>
            <p:spPr>
              <a:xfrm flipH="1" flipV="1" rot="10951800">
                <a:off x="2545200" y="5517360"/>
                <a:ext cx="248400" cy="107280"/>
              </a:xfrm>
              <a:custGeom>
                <a:avLst/>
                <a:gdLst>
                  <a:gd name="textAreaLeft" fmla="*/ 142560 w 248400"/>
                  <a:gd name="textAreaRight" fmla="*/ 210240 w 248400"/>
                  <a:gd name="textAreaTop" fmla="*/ 14400 h 107280"/>
                  <a:gd name="textAreaBottom" fmla="*/ 46440 h 10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5126" y="0"/>
                    </a:lnTo>
                    <a:lnTo>
                      <a:pt x="15126" y="2912"/>
                    </a:lnTo>
                    <a:lnTo>
                      <a:pt x="12427" y="2912"/>
                    </a:lnTo>
                    <a:cubicBezTo>
                      <a:pt x="5564" y="2912"/>
                      <a:pt x="0" y="7052"/>
                      <a:pt x="0" y="12158"/>
                    </a:cubicBezTo>
                    <a:lnTo>
                      <a:pt x="0" y="21600"/>
                    </a:lnTo>
                    <a:lnTo>
                      <a:pt x="6474" y="21600"/>
                    </a:lnTo>
                    <a:lnTo>
                      <a:pt x="6474" y="12158"/>
                    </a:lnTo>
                    <a:cubicBezTo>
                      <a:pt x="6474" y="10550"/>
                      <a:pt x="9139" y="9246"/>
                      <a:pt x="12427" y="9246"/>
                    </a:cubicBezTo>
                    <a:lnTo>
                      <a:pt x="15126" y="9246"/>
                    </a:lnTo>
                    <a:lnTo>
                      <a:pt x="15126" y="121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AutoShape 1244"/>
              <p:cNvSpPr/>
              <p:nvPr/>
            </p:nvSpPr>
            <p:spPr>
              <a:xfrm flipH="1" flipV="1" rot="10951800">
                <a:off x="2666880" y="5576040"/>
                <a:ext cx="207360" cy="107640"/>
              </a:xfrm>
              <a:custGeom>
                <a:avLst/>
                <a:gdLst>
                  <a:gd name="textAreaLeft" fmla="*/ 119520 w 207360"/>
                  <a:gd name="textAreaRight" fmla="*/ 175680 w 207360"/>
                  <a:gd name="textAreaTop" fmla="*/ 14040 h 107640"/>
                  <a:gd name="textAreaBottom" fmla="*/ 4608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5126" y="0"/>
                    </a:lnTo>
                    <a:lnTo>
                      <a:pt x="15126" y="2912"/>
                    </a:lnTo>
                    <a:lnTo>
                      <a:pt x="12427" y="2912"/>
                    </a:lnTo>
                    <a:cubicBezTo>
                      <a:pt x="5564" y="2912"/>
                      <a:pt x="0" y="7052"/>
                      <a:pt x="0" y="12158"/>
                    </a:cubicBezTo>
                    <a:lnTo>
                      <a:pt x="0" y="21600"/>
                    </a:lnTo>
                    <a:lnTo>
                      <a:pt x="6474" y="21600"/>
                    </a:lnTo>
                    <a:lnTo>
                      <a:pt x="6474" y="12158"/>
                    </a:lnTo>
                    <a:cubicBezTo>
                      <a:pt x="6474" y="10550"/>
                      <a:pt x="9139" y="9246"/>
                      <a:pt x="12427" y="9246"/>
                    </a:cubicBezTo>
                    <a:lnTo>
                      <a:pt x="15126" y="9246"/>
                    </a:lnTo>
                    <a:lnTo>
                      <a:pt x="15126" y="121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AutoShape 1245"/>
              <p:cNvSpPr/>
              <p:nvPr/>
            </p:nvSpPr>
            <p:spPr>
              <a:xfrm rot="20602200">
                <a:off x="2090520" y="5442840"/>
                <a:ext cx="331560" cy="163080"/>
              </a:xfrm>
              <a:custGeom>
                <a:avLst/>
                <a:gdLst>
                  <a:gd name="textAreaLeft" fmla="*/ 190800 w 331560"/>
                  <a:gd name="textAreaRight" fmla="*/ 279720 w 331560"/>
                  <a:gd name="textAreaTop" fmla="*/ 22320 h 163080"/>
                  <a:gd name="textAreaBottom" fmla="*/ 698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5126" y="0"/>
                    </a:lnTo>
                    <a:lnTo>
                      <a:pt x="15126" y="2912"/>
                    </a:lnTo>
                    <a:lnTo>
                      <a:pt x="12427" y="2912"/>
                    </a:lnTo>
                    <a:cubicBezTo>
                      <a:pt x="5564" y="2912"/>
                      <a:pt x="0" y="7052"/>
                      <a:pt x="0" y="12158"/>
                    </a:cubicBezTo>
                    <a:lnTo>
                      <a:pt x="0" y="21600"/>
                    </a:lnTo>
                    <a:lnTo>
                      <a:pt x="6474" y="21600"/>
                    </a:lnTo>
                    <a:lnTo>
                      <a:pt x="6474" y="12158"/>
                    </a:lnTo>
                    <a:cubicBezTo>
                      <a:pt x="6474" y="10550"/>
                      <a:pt x="9139" y="9246"/>
                      <a:pt x="12427" y="9246"/>
                    </a:cubicBezTo>
                    <a:lnTo>
                      <a:pt x="15126" y="9246"/>
                    </a:lnTo>
                    <a:lnTo>
                      <a:pt x="15126" y="121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AutoShape 1246"/>
              <p:cNvSpPr/>
              <p:nvPr/>
            </p:nvSpPr>
            <p:spPr>
              <a:xfrm flipV="1" rot="151800">
                <a:off x="1863000" y="5972400"/>
                <a:ext cx="289440" cy="5328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AutoShape 1247"/>
              <p:cNvSpPr/>
              <p:nvPr/>
            </p:nvSpPr>
            <p:spPr>
              <a:xfrm flipV="1" rot="151800">
                <a:off x="2025360" y="6033600"/>
                <a:ext cx="289800" cy="5328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AutoShape 1248"/>
              <p:cNvSpPr/>
              <p:nvPr/>
            </p:nvSpPr>
            <p:spPr>
              <a:xfrm flipV="1" rot="151800">
                <a:off x="1698480" y="5912280"/>
                <a:ext cx="289800" cy="5328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AutoShape 1249"/>
              <p:cNvSpPr/>
              <p:nvPr/>
            </p:nvSpPr>
            <p:spPr>
              <a:xfrm flipV="1" rot="151800">
                <a:off x="1745640" y="5806440"/>
                <a:ext cx="289800" cy="5328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AutoShape 1250"/>
              <p:cNvSpPr/>
              <p:nvPr/>
            </p:nvSpPr>
            <p:spPr>
              <a:xfrm flipV="1" rot="151800">
                <a:off x="1623240" y="5747400"/>
                <a:ext cx="289800" cy="5328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AutoShape 1251"/>
              <p:cNvSpPr/>
              <p:nvPr/>
            </p:nvSpPr>
            <p:spPr>
              <a:xfrm flipV="1" rot="151800">
                <a:off x="1750680" y="5698800"/>
                <a:ext cx="289800" cy="5328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AutoShape 1252"/>
              <p:cNvSpPr/>
              <p:nvPr/>
            </p:nvSpPr>
            <p:spPr>
              <a:xfrm flipV="1" rot="151800">
                <a:off x="2108880" y="6037200"/>
                <a:ext cx="289800" cy="5328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AutoShape 1253"/>
              <p:cNvSpPr/>
              <p:nvPr/>
            </p:nvSpPr>
            <p:spPr>
              <a:xfrm flipV="1" rot="151800">
                <a:off x="2235600" y="5989680"/>
                <a:ext cx="289800" cy="5328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AutoShape 1254"/>
              <p:cNvSpPr/>
              <p:nvPr/>
            </p:nvSpPr>
            <p:spPr>
              <a:xfrm flipV="1" rot="18217200">
                <a:off x="1900800" y="5982840"/>
                <a:ext cx="375840" cy="3996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AutoShape 1255"/>
              <p:cNvSpPr/>
              <p:nvPr/>
            </p:nvSpPr>
            <p:spPr>
              <a:xfrm flipV="1" rot="18217200">
                <a:off x="2269440" y="6107040"/>
                <a:ext cx="375840" cy="3996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AutoShape 1256"/>
              <p:cNvSpPr/>
              <p:nvPr/>
            </p:nvSpPr>
            <p:spPr>
              <a:xfrm flipV="1" rot="18217200">
                <a:off x="2525400" y="5956920"/>
                <a:ext cx="375840" cy="3996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AutoShape 1257"/>
              <p:cNvSpPr/>
              <p:nvPr/>
            </p:nvSpPr>
            <p:spPr>
              <a:xfrm flipV="1" rot="18217200">
                <a:off x="2279160" y="5891760"/>
                <a:ext cx="375840" cy="3996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AutoShape 1258"/>
              <p:cNvSpPr/>
              <p:nvPr/>
            </p:nvSpPr>
            <p:spPr>
              <a:xfrm flipV="1" rot="18217200">
                <a:off x="2442240" y="5953320"/>
                <a:ext cx="375840" cy="3996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AutoShape 1259"/>
              <p:cNvSpPr/>
              <p:nvPr/>
            </p:nvSpPr>
            <p:spPr>
              <a:xfrm flipV="1" rot="18217200">
                <a:off x="2027520" y="5934960"/>
                <a:ext cx="375840" cy="3996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AutoShape 1260"/>
              <p:cNvSpPr/>
              <p:nvPr/>
            </p:nvSpPr>
            <p:spPr>
              <a:xfrm flipV="1" rot="18217200">
                <a:off x="2313000" y="6055920"/>
                <a:ext cx="375840" cy="3996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AutoShape 1261"/>
              <p:cNvSpPr/>
              <p:nvPr/>
            </p:nvSpPr>
            <p:spPr>
              <a:xfrm flipV="1" rot="18217200">
                <a:off x="2189160" y="6049800"/>
                <a:ext cx="375840" cy="4032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AutoShape 1262"/>
              <p:cNvSpPr/>
              <p:nvPr/>
            </p:nvSpPr>
            <p:spPr>
              <a:xfrm flipV="1" rot="18217200">
                <a:off x="2120040" y="5723280"/>
                <a:ext cx="375840" cy="3996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4" name="Oval 1263"/>
            <p:cNvSpPr/>
            <p:nvPr/>
          </p:nvSpPr>
          <p:spPr>
            <a:xfrm rot="10006800">
              <a:off x="2463480" y="6044760"/>
              <a:ext cx="14436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Oval 1264"/>
            <p:cNvSpPr/>
            <p:nvPr/>
          </p:nvSpPr>
          <p:spPr>
            <a:xfrm rot="10006800">
              <a:off x="2176200" y="6046560"/>
              <a:ext cx="7128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Oval 1265"/>
            <p:cNvSpPr/>
            <p:nvPr/>
          </p:nvSpPr>
          <p:spPr>
            <a:xfrm rot="10006800">
              <a:off x="1860120" y="5956920"/>
              <a:ext cx="21600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Oval 1266"/>
            <p:cNvSpPr/>
            <p:nvPr/>
          </p:nvSpPr>
          <p:spPr>
            <a:xfrm rot="10006800">
              <a:off x="2290680" y="5944680"/>
              <a:ext cx="7308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Oval 1267"/>
            <p:cNvSpPr/>
            <p:nvPr/>
          </p:nvSpPr>
          <p:spPr>
            <a:xfrm rot="10006800">
              <a:off x="2484720" y="5826240"/>
              <a:ext cx="730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Oval 1268"/>
            <p:cNvSpPr/>
            <p:nvPr/>
          </p:nvSpPr>
          <p:spPr>
            <a:xfrm rot="10006800">
              <a:off x="2054160" y="5836320"/>
              <a:ext cx="21600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Oval 1269"/>
            <p:cNvSpPr/>
            <p:nvPr/>
          </p:nvSpPr>
          <p:spPr>
            <a:xfrm rot="10006800">
              <a:off x="2500560" y="5895360"/>
              <a:ext cx="730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Oval 1270"/>
            <p:cNvSpPr/>
            <p:nvPr/>
          </p:nvSpPr>
          <p:spPr>
            <a:xfrm rot="10006800">
              <a:off x="1671120" y="5788080"/>
              <a:ext cx="1443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Oval 1271"/>
            <p:cNvSpPr/>
            <p:nvPr/>
          </p:nvSpPr>
          <p:spPr>
            <a:xfrm rot="10006800">
              <a:off x="2311560" y="5710320"/>
              <a:ext cx="14256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Oval 1272"/>
            <p:cNvSpPr/>
            <p:nvPr/>
          </p:nvSpPr>
          <p:spPr>
            <a:xfrm rot="10006800">
              <a:off x="1945440" y="5731200"/>
              <a:ext cx="7128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Oval 1273"/>
            <p:cNvSpPr/>
            <p:nvPr/>
          </p:nvSpPr>
          <p:spPr>
            <a:xfrm rot="10006800">
              <a:off x="2500560" y="5895360"/>
              <a:ext cx="7308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Oval 1274"/>
            <p:cNvSpPr/>
            <p:nvPr/>
          </p:nvSpPr>
          <p:spPr>
            <a:xfrm rot="10006800">
              <a:off x="2155320" y="5681880"/>
              <a:ext cx="7164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Group 1275"/>
          <p:cNvGrpSpPr/>
          <p:nvPr/>
        </p:nvGrpSpPr>
        <p:grpSpPr>
          <a:xfrm>
            <a:off x="1462680" y="5386680"/>
            <a:ext cx="1377720" cy="895320"/>
            <a:chOff x="1462680" y="5386680"/>
            <a:chExt cx="1377720" cy="895320"/>
          </a:xfrm>
        </p:grpSpPr>
        <p:grpSp>
          <p:nvGrpSpPr>
            <p:cNvPr id="1357" name="Group 1276"/>
            <p:cNvGrpSpPr/>
            <p:nvPr/>
          </p:nvGrpSpPr>
          <p:grpSpPr>
            <a:xfrm>
              <a:off x="1462680" y="5386680"/>
              <a:ext cx="1377720" cy="895320"/>
              <a:chOff x="1462680" y="5386680"/>
              <a:chExt cx="1377720" cy="895320"/>
            </a:xfrm>
          </p:grpSpPr>
          <p:sp>
            <p:nvSpPr>
              <p:cNvPr id="1358" name="AutoShape 1277"/>
              <p:cNvSpPr/>
              <p:nvPr/>
            </p:nvSpPr>
            <p:spPr>
              <a:xfrm flipV="1" rot="10989600">
                <a:off x="1470960" y="5724000"/>
                <a:ext cx="414000" cy="322200"/>
              </a:xfrm>
              <a:prstGeom prst="flowChartDecision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Oval 1278"/>
              <p:cNvSpPr/>
              <p:nvPr/>
            </p:nvSpPr>
            <p:spPr>
              <a:xfrm flipV="1" rot="10989600">
                <a:off x="1636920" y="5587920"/>
                <a:ext cx="995400" cy="591840"/>
              </a:xfrm>
              <a:prstGeom prst="ellipse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AutoShape 1279"/>
              <p:cNvSpPr/>
              <p:nvPr/>
            </p:nvSpPr>
            <p:spPr>
              <a:xfrm flipV="1" rot="10989600">
                <a:off x="2146680" y="553500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AutoShape 1280"/>
              <p:cNvSpPr/>
              <p:nvPr/>
            </p:nvSpPr>
            <p:spPr>
              <a:xfrm flipV="1" rot="10989600">
                <a:off x="2013480" y="568908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AutoShape 1281"/>
              <p:cNvSpPr/>
              <p:nvPr/>
            </p:nvSpPr>
            <p:spPr>
              <a:xfrm flipV="1" rot="10989600">
                <a:off x="1879920" y="584316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AutoShape 1282"/>
              <p:cNvSpPr/>
              <p:nvPr/>
            </p:nvSpPr>
            <p:spPr>
              <a:xfrm flipV="1" rot="10989600">
                <a:off x="2311560" y="554400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AutoShape 1283"/>
              <p:cNvSpPr/>
              <p:nvPr/>
            </p:nvSpPr>
            <p:spPr>
              <a:xfrm flipV="1" rot="10989600">
                <a:off x="2468880" y="571428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AutoShape 1284"/>
              <p:cNvSpPr/>
              <p:nvPr/>
            </p:nvSpPr>
            <p:spPr>
              <a:xfrm flipV="1" rot="10989600">
                <a:off x="1895040" y="557532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AutoShape 1285"/>
              <p:cNvSpPr/>
              <p:nvPr/>
            </p:nvSpPr>
            <p:spPr>
              <a:xfrm flipV="1" rot="10989600">
                <a:off x="2178720" y="569808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AutoShape 1286"/>
              <p:cNvSpPr/>
              <p:nvPr/>
            </p:nvSpPr>
            <p:spPr>
              <a:xfrm flipV="1" rot="10989600">
                <a:off x="2347920" y="565380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AutoShape 1287"/>
              <p:cNvSpPr/>
              <p:nvPr/>
            </p:nvSpPr>
            <p:spPr>
              <a:xfrm flipV="1" rot="10989600">
                <a:off x="2293920" y="586620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AutoShape 1288"/>
              <p:cNvSpPr/>
              <p:nvPr/>
            </p:nvSpPr>
            <p:spPr>
              <a:xfrm flipV="1" rot="10989600">
                <a:off x="1977480" y="558000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AutoShape 1289"/>
              <p:cNvSpPr/>
              <p:nvPr/>
            </p:nvSpPr>
            <p:spPr>
              <a:xfrm flipV="1" rot="10989600">
                <a:off x="2092680" y="574776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AutoShape 1290"/>
              <p:cNvSpPr/>
              <p:nvPr/>
            </p:nvSpPr>
            <p:spPr>
              <a:xfrm flipV="1" rot="10989600">
                <a:off x="2214360" y="580788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AutoShape 1291"/>
              <p:cNvSpPr/>
              <p:nvPr/>
            </p:nvSpPr>
            <p:spPr>
              <a:xfrm flipV="1" rot="10989600">
                <a:off x="2379960" y="581688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AutoShape 1292"/>
              <p:cNvSpPr/>
              <p:nvPr/>
            </p:nvSpPr>
            <p:spPr>
              <a:xfrm flipV="1" rot="10989600">
                <a:off x="2045520" y="585216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AutoShape 1293"/>
              <p:cNvSpPr/>
              <p:nvPr/>
            </p:nvSpPr>
            <p:spPr>
              <a:xfrm flipV="1" rot="10989600">
                <a:off x="1803240" y="573192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AutoShape 1294"/>
              <p:cNvSpPr/>
              <p:nvPr/>
            </p:nvSpPr>
            <p:spPr>
              <a:xfrm flipV="1" rot="10989600">
                <a:off x="2166480" y="591336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AutoShape 1295"/>
              <p:cNvSpPr/>
              <p:nvPr/>
            </p:nvSpPr>
            <p:spPr>
              <a:xfrm flipV="1" rot="10989600">
                <a:off x="2506680" y="577044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AutoShape 1296"/>
              <p:cNvSpPr/>
              <p:nvPr/>
            </p:nvSpPr>
            <p:spPr>
              <a:xfrm flipV="1" rot="10989600">
                <a:off x="2344680" y="570708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AutoShape 1297"/>
              <p:cNvSpPr/>
              <p:nvPr/>
            </p:nvSpPr>
            <p:spPr>
              <a:xfrm flipV="1" rot="10989600">
                <a:off x="1726200" y="561924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AutoShape 1298"/>
              <p:cNvSpPr/>
              <p:nvPr/>
            </p:nvSpPr>
            <p:spPr>
              <a:xfrm flipV="1" rot="10989600">
                <a:off x="2270880" y="554184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AutoShape 1299"/>
              <p:cNvSpPr/>
              <p:nvPr/>
            </p:nvSpPr>
            <p:spPr>
              <a:xfrm flipV="1" rot="10989600">
                <a:off x="1806120" y="567756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AutoShape 1300"/>
              <p:cNvSpPr/>
              <p:nvPr/>
            </p:nvSpPr>
            <p:spPr>
              <a:xfrm flipV="1" rot="10989600">
                <a:off x="1962720" y="584784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AutoShape 1301"/>
              <p:cNvSpPr/>
              <p:nvPr/>
            </p:nvSpPr>
            <p:spPr>
              <a:xfrm flipV="1" rot="10989600">
                <a:off x="2391840" y="560304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AutoShape 1302"/>
              <p:cNvSpPr/>
              <p:nvPr/>
            </p:nvSpPr>
            <p:spPr>
              <a:xfrm flipV="1" rot="10989600">
                <a:off x="2131560" y="580356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AutoShape 1303"/>
              <p:cNvSpPr/>
              <p:nvPr/>
            </p:nvSpPr>
            <p:spPr>
              <a:xfrm flipV="1" rot="10989600">
                <a:off x="2468880" y="571428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AutoShape 1304"/>
              <p:cNvSpPr/>
              <p:nvPr/>
            </p:nvSpPr>
            <p:spPr>
              <a:xfrm flipV="1" rot="10989600">
                <a:off x="2060280" y="558432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AutoShape 1305"/>
              <p:cNvSpPr/>
              <p:nvPr/>
            </p:nvSpPr>
            <p:spPr>
              <a:xfrm flipV="1" rot="10989600">
                <a:off x="1722960" y="567288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AutoShape 1306"/>
              <p:cNvSpPr/>
              <p:nvPr/>
            </p:nvSpPr>
            <p:spPr>
              <a:xfrm flipV="1" rot="10989600">
                <a:off x="2004480" y="585000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AutoShape 1307"/>
              <p:cNvSpPr/>
              <p:nvPr/>
            </p:nvSpPr>
            <p:spPr>
              <a:xfrm flipV="1" rot="10989600">
                <a:off x="1844280" y="573408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AutoShape 1308"/>
              <p:cNvSpPr/>
              <p:nvPr/>
            </p:nvSpPr>
            <p:spPr>
              <a:xfrm flipV="1" rot="10989600">
                <a:off x="1803240" y="573192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AutoShape 1309"/>
              <p:cNvSpPr/>
              <p:nvPr/>
            </p:nvSpPr>
            <p:spPr>
              <a:xfrm flipV="1" rot="10989600">
                <a:off x="1759320" y="578268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AutoShape 1310"/>
              <p:cNvSpPr/>
              <p:nvPr/>
            </p:nvSpPr>
            <p:spPr>
              <a:xfrm flipV="1" rot="10989600">
                <a:off x="1682280" y="5670720"/>
                <a:ext cx="41760" cy="2685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AutoShape 1311"/>
              <p:cNvSpPr/>
              <p:nvPr/>
            </p:nvSpPr>
            <p:spPr>
              <a:xfrm flipV="1" rot="10989600">
                <a:off x="2099520" y="5756400"/>
                <a:ext cx="331560" cy="5292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AutoShape 1312"/>
              <p:cNvSpPr/>
              <p:nvPr/>
            </p:nvSpPr>
            <p:spPr>
              <a:xfrm flipV="1" rot="10989600">
                <a:off x="2122560" y="6079320"/>
                <a:ext cx="290520" cy="543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AutoShape 1313"/>
              <p:cNvSpPr/>
              <p:nvPr/>
            </p:nvSpPr>
            <p:spPr>
              <a:xfrm flipV="1" rot="10989600">
                <a:off x="2332800" y="6035040"/>
                <a:ext cx="248400" cy="5328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AutoShape 1314"/>
              <p:cNvSpPr/>
              <p:nvPr/>
            </p:nvSpPr>
            <p:spPr>
              <a:xfrm flipV="1" rot="10989600">
                <a:off x="2385720" y="5824080"/>
                <a:ext cx="290520" cy="543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AutoShape 1315"/>
              <p:cNvSpPr/>
              <p:nvPr/>
            </p:nvSpPr>
            <p:spPr>
              <a:xfrm flipV="1" rot="10989600">
                <a:off x="2305080" y="5766120"/>
                <a:ext cx="290520" cy="5364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AutoShape 1316"/>
              <p:cNvSpPr/>
              <p:nvPr/>
            </p:nvSpPr>
            <p:spPr>
              <a:xfrm flipV="1" rot="10989600">
                <a:off x="2423520" y="5879880"/>
                <a:ext cx="290520" cy="5364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AutoShape 1317"/>
              <p:cNvSpPr/>
              <p:nvPr/>
            </p:nvSpPr>
            <p:spPr>
              <a:xfrm flipV="1" rot="10989600">
                <a:off x="2246400" y="6086160"/>
                <a:ext cx="290520" cy="543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AutoShape 1318"/>
              <p:cNvSpPr/>
              <p:nvPr/>
            </p:nvSpPr>
            <p:spPr>
              <a:xfrm flipV="1" rot="10989600">
                <a:off x="2376720" y="5985000"/>
                <a:ext cx="290520" cy="543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AutoShape 1319"/>
              <p:cNvSpPr/>
              <p:nvPr/>
            </p:nvSpPr>
            <p:spPr>
              <a:xfrm flipV="1" rot="10989600">
                <a:off x="2169360" y="5973480"/>
                <a:ext cx="290520" cy="543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AutoShape 1320"/>
              <p:cNvSpPr/>
              <p:nvPr/>
            </p:nvSpPr>
            <p:spPr>
              <a:xfrm flipV="1" rot="10989600">
                <a:off x="1959840" y="6015600"/>
                <a:ext cx="290520" cy="543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AutoShape 1321"/>
              <p:cNvSpPr/>
              <p:nvPr/>
            </p:nvSpPr>
            <p:spPr>
              <a:xfrm flipV="1" rot="10989600">
                <a:off x="2036520" y="6128280"/>
                <a:ext cx="290520" cy="5364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AutoShape 1322"/>
              <p:cNvSpPr/>
              <p:nvPr/>
            </p:nvSpPr>
            <p:spPr>
              <a:xfrm flipV="1" rot="10989600">
                <a:off x="1791360" y="6060960"/>
                <a:ext cx="290520" cy="5436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Oval 1323"/>
              <p:cNvSpPr/>
              <p:nvPr/>
            </p:nvSpPr>
            <p:spPr>
              <a:xfrm flipV="1" rot="10989600">
                <a:off x="1593360" y="5882040"/>
                <a:ext cx="41760" cy="53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AutoShape 1324"/>
              <p:cNvSpPr/>
              <p:nvPr/>
            </p:nvSpPr>
            <p:spPr>
              <a:xfrm flipH="1" flipV="1" rot="189600">
                <a:off x="1665720" y="6052680"/>
                <a:ext cx="248400" cy="107280"/>
              </a:xfrm>
              <a:custGeom>
                <a:avLst/>
                <a:gdLst>
                  <a:gd name="textAreaLeft" fmla="*/ 142560 w 248400"/>
                  <a:gd name="textAreaRight" fmla="*/ 210240 w 248400"/>
                  <a:gd name="textAreaTop" fmla="*/ 14400 h 107280"/>
                  <a:gd name="textAreaBottom" fmla="*/ 46440 h 10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5126" y="0"/>
                    </a:lnTo>
                    <a:lnTo>
                      <a:pt x="15126" y="2912"/>
                    </a:lnTo>
                    <a:lnTo>
                      <a:pt x="12427" y="2912"/>
                    </a:lnTo>
                    <a:cubicBezTo>
                      <a:pt x="5564" y="2912"/>
                      <a:pt x="0" y="7052"/>
                      <a:pt x="0" y="12158"/>
                    </a:cubicBezTo>
                    <a:lnTo>
                      <a:pt x="0" y="21600"/>
                    </a:lnTo>
                    <a:lnTo>
                      <a:pt x="6474" y="21600"/>
                    </a:lnTo>
                    <a:lnTo>
                      <a:pt x="6474" y="12158"/>
                    </a:lnTo>
                    <a:cubicBezTo>
                      <a:pt x="6474" y="10550"/>
                      <a:pt x="9139" y="9246"/>
                      <a:pt x="12427" y="9246"/>
                    </a:cubicBezTo>
                    <a:lnTo>
                      <a:pt x="15126" y="9246"/>
                    </a:lnTo>
                    <a:lnTo>
                      <a:pt x="15126" y="121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AutoShape 1325"/>
              <p:cNvSpPr/>
              <p:nvPr/>
            </p:nvSpPr>
            <p:spPr>
              <a:xfrm flipH="1" flipV="1" rot="189600">
                <a:off x="1585800" y="5992920"/>
                <a:ext cx="207360" cy="107640"/>
              </a:xfrm>
              <a:custGeom>
                <a:avLst/>
                <a:gdLst>
                  <a:gd name="textAreaLeft" fmla="*/ 119520 w 207360"/>
                  <a:gd name="textAreaRight" fmla="*/ 175680 w 207360"/>
                  <a:gd name="textAreaTop" fmla="*/ 14040 h 107640"/>
                  <a:gd name="textAreaBottom" fmla="*/ 4608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5126" y="0"/>
                    </a:lnTo>
                    <a:lnTo>
                      <a:pt x="15126" y="2912"/>
                    </a:lnTo>
                    <a:lnTo>
                      <a:pt x="12427" y="2912"/>
                    </a:lnTo>
                    <a:cubicBezTo>
                      <a:pt x="5564" y="2912"/>
                      <a:pt x="0" y="7052"/>
                      <a:pt x="0" y="12158"/>
                    </a:cubicBezTo>
                    <a:lnTo>
                      <a:pt x="0" y="21600"/>
                    </a:lnTo>
                    <a:lnTo>
                      <a:pt x="6474" y="21600"/>
                    </a:lnTo>
                    <a:lnTo>
                      <a:pt x="6474" y="12158"/>
                    </a:lnTo>
                    <a:cubicBezTo>
                      <a:pt x="6474" y="10550"/>
                      <a:pt x="9139" y="9246"/>
                      <a:pt x="12427" y="9246"/>
                    </a:cubicBezTo>
                    <a:lnTo>
                      <a:pt x="15126" y="9246"/>
                    </a:lnTo>
                    <a:lnTo>
                      <a:pt x="15126" y="121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AutoShape 1326"/>
              <p:cNvSpPr/>
              <p:nvPr/>
            </p:nvSpPr>
            <p:spPr>
              <a:xfrm rot="9839400">
                <a:off x="2037240" y="6076080"/>
                <a:ext cx="331560" cy="163080"/>
              </a:xfrm>
              <a:custGeom>
                <a:avLst/>
                <a:gdLst>
                  <a:gd name="textAreaLeft" fmla="*/ 190800 w 331560"/>
                  <a:gd name="textAreaRight" fmla="*/ 279720 w 331560"/>
                  <a:gd name="textAreaTop" fmla="*/ 22320 h 163080"/>
                  <a:gd name="textAreaBottom" fmla="*/ 69840 h 16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5126" y="0"/>
                    </a:lnTo>
                    <a:lnTo>
                      <a:pt x="15126" y="2912"/>
                    </a:lnTo>
                    <a:lnTo>
                      <a:pt x="12427" y="2912"/>
                    </a:lnTo>
                    <a:cubicBezTo>
                      <a:pt x="5564" y="2912"/>
                      <a:pt x="0" y="7052"/>
                      <a:pt x="0" y="12158"/>
                    </a:cubicBezTo>
                    <a:lnTo>
                      <a:pt x="0" y="21600"/>
                    </a:lnTo>
                    <a:lnTo>
                      <a:pt x="6474" y="21600"/>
                    </a:lnTo>
                    <a:lnTo>
                      <a:pt x="6474" y="12158"/>
                    </a:lnTo>
                    <a:cubicBezTo>
                      <a:pt x="6474" y="10550"/>
                      <a:pt x="9139" y="9246"/>
                      <a:pt x="12427" y="9246"/>
                    </a:cubicBezTo>
                    <a:lnTo>
                      <a:pt x="15126" y="9246"/>
                    </a:lnTo>
                    <a:lnTo>
                      <a:pt x="15126" y="121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AutoShape 1327"/>
              <p:cNvSpPr/>
              <p:nvPr/>
            </p:nvSpPr>
            <p:spPr>
              <a:xfrm flipV="1" rot="10989600">
                <a:off x="2312280" y="5659200"/>
                <a:ext cx="289440" cy="5328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AutoShape 1328"/>
              <p:cNvSpPr/>
              <p:nvPr/>
            </p:nvSpPr>
            <p:spPr>
              <a:xfrm flipV="1" rot="10989600">
                <a:off x="2149920" y="5596560"/>
                <a:ext cx="289800" cy="5328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AutoShape 1329"/>
              <p:cNvSpPr/>
              <p:nvPr/>
            </p:nvSpPr>
            <p:spPr>
              <a:xfrm flipV="1" rot="10989600">
                <a:off x="2475720" y="5721480"/>
                <a:ext cx="289800" cy="5328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AutoShape 1330"/>
              <p:cNvSpPr/>
              <p:nvPr/>
            </p:nvSpPr>
            <p:spPr>
              <a:xfrm flipV="1" rot="10989600">
                <a:off x="2427480" y="5826600"/>
                <a:ext cx="289800" cy="5328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AutoShape 1331"/>
              <p:cNvSpPr/>
              <p:nvPr/>
            </p:nvSpPr>
            <p:spPr>
              <a:xfrm flipV="1" rot="10989600">
                <a:off x="2549160" y="5886720"/>
                <a:ext cx="289800" cy="5328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AutoShape 1332"/>
              <p:cNvSpPr/>
              <p:nvPr/>
            </p:nvSpPr>
            <p:spPr>
              <a:xfrm flipV="1" rot="10989600">
                <a:off x="2421360" y="5934240"/>
                <a:ext cx="289800" cy="5328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AutoShape 1333"/>
              <p:cNvSpPr/>
              <p:nvPr/>
            </p:nvSpPr>
            <p:spPr>
              <a:xfrm flipV="1" rot="10989600">
                <a:off x="2066760" y="5591880"/>
                <a:ext cx="289800" cy="5328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AutoShape 1334"/>
              <p:cNvSpPr/>
              <p:nvPr/>
            </p:nvSpPr>
            <p:spPr>
              <a:xfrm flipV="1" rot="10989600">
                <a:off x="1939320" y="5637960"/>
                <a:ext cx="289800" cy="5328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AutoShape 1335"/>
              <p:cNvSpPr/>
              <p:nvPr/>
            </p:nvSpPr>
            <p:spPr>
              <a:xfrm flipV="1" rot="7454400">
                <a:off x="2187720" y="5660640"/>
                <a:ext cx="375840" cy="3996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AutoShape 1336"/>
              <p:cNvSpPr/>
              <p:nvPr/>
            </p:nvSpPr>
            <p:spPr>
              <a:xfrm flipV="1" rot="7454400">
                <a:off x="1820520" y="5532480"/>
                <a:ext cx="375840" cy="3996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AutoShape 1337"/>
              <p:cNvSpPr/>
              <p:nvPr/>
            </p:nvSpPr>
            <p:spPr>
              <a:xfrm flipV="1" rot="7454400">
                <a:off x="1563120" y="5679360"/>
                <a:ext cx="375840" cy="3996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AutoShape 1338"/>
              <p:cNvSpPr/>
              <p:nvPr/>
            </p:nvSpPr>
            <p:spPr>
              <a:xfrm flipV="1" rot="7454400">
                <a:off x="1808640" y="5747400"/>
                <a:ext cx="375840" cy="3996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AutoShape 1339"/>
              <p:cNvSpPr/>
              <p:nvPr/>
            </p:nvSpPr>
            <p:spPr>
              <a:xfrm flipV="1" rot="7454400">
                <a:off x="1646280" y="5684040"/>
                <a:ext cx="375840" cy="3996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AutoShape 1340"/>
              <p:cNvSpPr/>
              <p:nvPr/>
            </p:nvSpPr>
            <p:spPr>
              <a:xfrm flipV="1" rot="7454400">
                <a:off x="2060640" y="5707080"/>
                <a:ext cx="375840" cy="3996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AutoShape 1341"/>
              <p:cNvSpPr/>
              <p:nvPr/>
            </p:nvSpPr>
            <p:spPr>
              <a:xfrm flipV="1" rot="7454400">
                <a:off x="1776600" y="5583240"/>
                <a:ext cx="375840" cy="3996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AutoShape 1342"/>
              <p:cNvSpPr/>
              <p:nvPr/>
            </p:nvSpPr>
            <p:spPr>
              <a:xfrm flipV="1" rot="7454400">
                <a:off x="1900080" y="5590080"/>
                <a:ext cx="375840" cy="4032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AutoShape 1343"/>
              <p:cNvSpPr/>
              <p:nvPr/>
            </p:nvSpPr>
            <p:spPr>
              <a:xfrm flipV="1" rot="7454400">
                <a:off x="1965600" y="5917680"/>
                <a:ext cx="375840" cy="3996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5" name="Oval 1344"/>
            <p:cNvSpPr/>
            <p:nvPr/>
          </p:nvSpPr>
          <p:spPr>
            <a:xfrm rot="20844600">
              <a:off x="1857600" y="5563080"/>
              <a:ext cx="14436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Oval 1345"/>
            <p:cNvSpPr/>
            <p:nvPr/>
          </p:nvSpPr>
          <p:spPr>
            <a:xfrm rot="20844600">
              <a:off x="2218320" y="5491800"/>
              <a:ext cx="7128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Oval 1346"/>
            <p:cNvSpPr/>
            <p:nvPr/>
          </p:nvSpPr>
          <p:spPr>
            <a:xfrm rot="20844600">
              <a:off x="2388960" y="5585400"/>
              <a:ext cx="21600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Oval 1347"/>
            <p:cNvSpPr/>
            <p:nvPr/>
          </p:nvSpPr>
          <p:spPr>
            <a:xfrm rot="20844600">
              <a:off x="2100600" y="5664960"/>
              <a:ext cx="7308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Oval 1348"/>
            <p:cNvSpPr/>
            <p:nvPr/>
          </p:nvSpPr>
          <p:spPr>
            <a:xfrm rot="20844600">
              <a:off x="1905840" y="5781600"/>
              <a:ext cx="730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Oval 1349"/>
            <p:cNvSpPr/>
            <p:nvPr/>
          </p:nvSpPr>
          <p:spPr>
            <a:xfrm rot="20844600">
              <a:off x="2193480" y="5702400"/>
              <a:ext cx="21600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Oval 1350"/>
            <p:cNvSpPr/>
            <p:nvPr/>
          </p:nvSpPr>
          <p:spPr>
            <a:xfrm rot="20844600">
              <a:off x="1890000" y="5711760"/>
              <a:ext cx="730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Oval 1351"/>
            <p:cNvSpPr/>
            <p:nvPr/>
          </p:nvSpPr>
          <p:spPr>
            <a:xfrm rot="20844600">
              <a:off x="2647440" y="5756760"/>
              <a:ext cx="1443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Oval 1352"/>
            <p:cNvSpPr/>
            <p:nvPr/>
          </p:nvSpPr>
          <p:spPr>
            <a:xfrm rot="20844600">
              <a:off x="2007360" y="5898960"/>
              <a:ext cx="14256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Oval 1353"/>
            <p:cNvSpPr/>
            <p:nvPr/>
          </p:nvSpPr>
          <p:spPr>
            <a:xfrm rot="20844600">
              <a:off x="2445480" y="5882400"/>
              <a:ext cx="7128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Oval 1354"/>
            <p:cNvSpPr/>
            <p:nvPr/>
          </p:nvSpPr>
          <p:spPr>
            <a:xfrm rot="20844600">
              <a:off x="1890000" y="5711760"/>
              <a:ext cx="7308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Oval 1355"/>
            <p:cNvSpPr/>
            <p:nvPr/>
          </p:nvSpPr>
          <p:spPr>
            <a:xfrm rot="20844600">
              <a:off x="2234520" y="5929200"/>
              <a:ext cx="7164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7" name="爱情公寓 3片尾曲 靠近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3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4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2.59259E-006 C 0.00817 0.00532 0.01303 0.01157 0.02049 0.01828 C 0.03074 0.01597 0.04011 0.01366 0.05001 0.00926 C 0.05313 0.00486 0.05591 -0.00093 0.06147 -2.59259E-006 C 0.06615 0.00069 0.07501 0.00602 0.07501 0.00602 C 0.08056 0.01389 0.0856 0.01782 0.09324 0.02129 C 0.09706 0.02037 0.10088 0.02014 0.10452 0.01828 C 0.10713 0.0169 0.10869 0.01227 0.11147 0.01227 C 0.11945 0.01227 0.1257 0.01875 0.13178 0.0243 C 0.13629 0.02338 0.14115 0.02315 0.14549 0.02129 C 0.15869 0.01551 0.14584 0.0125 0.15903 0.01828 C 0.16129 0.02129 0.16737 0.02963 0.17049 0.03032 C 0.17292 0.03078 0.17501 0.02824 0.17726 0.02731 C 0.18039 0.02616 0.18351 0.02546 0.18647 0.0243 C 0.19098 0.02245 0.20001 0.01828 0.20001 0.01828 C 0.20226 0.01921 0.20504 0.01898 0.20678 0.02129 C 0.20851 0.02361 0.20678 0.0294 0.20903 0.03032 C 0.21181 0.03148 0.22344 0.02592 0.22726 0.0243 C 0.23039 0.02523 0.23334 0.02616 0.23647 0.02731 C 0.23872 0.02824 0.24081 0.03078 0.24324 0.03032 C 0.24792 0.02963 0.25678 0.0243 0.25678 0.0243 C 0.2599 0.02847 0.26303 0.03403 0.26824 0.03333 C 0.27449 0.03264 0.28647 0.02731 0.28647 0.02731 C 0.29706 0.01805 0.29775 0.01967 0.30452 0.03333 C 0.30678 0.03125 0.30869 0.02662 0.31147 0.02731 C 0.31685 0.02893 0.32501 0.03935 0.32501 0.03935 C 0.32883 0.03842 0.33265 0.03773 0.33647 0.03634 C 0.34098 0.03472 0.35001 0.03032 0.35001 0.03032 C 0.35903 0.03426 0.35539 0.03449 0.36598 0.03032 C 0.37049 0.02847 0.37952 0.0243 0.37952 0.0243 C 0.38178 0.02639 0.38369 0.03102 0.38647 0.03032 C 0.39306 0.02847 0.40452 0.01319 0.41372 0.00926 C 0.41563 0.01088 0.42397 0.01944 0.42726 0.01828 C 0.43091 0.0169 0.43299 0.01157 0.43647 0.00926 C 0.44081 0.00648 0.45001 0.00301 0.45001 0.00301 C 0.45157 0.00509 0.45244 0.00879 0.45452 0.00926 C 0.45765 0.00995 0.4606 0.00671 0.46372 0.00602 C 0.47119 0.00463 0.47883 0.00393 0.48647 0.00301 C 0.48872 0.00393 0.49115 0.0044 0.49324 0.00602 C 0.49515 0.00764 0.49567 0.01227 0.49775 0.01227 C 0.50122 0.01227 0.50365 0.00741 0.50678 0.00602 C 0.51042 0.0044 0.51442 0.00393 0.51824 0.00301 C 0.53351 -0.01065 0.52778 -0.01412 0.53647 -0.00301 C 0.5448 -0.00672 0.55174 -0.00857 0.55903 -0.01505 C 0.57119 -0.00463 0.58369 -0.00764 0.59549 -0.01806 C 0.60296 -0.01482 0.59983 -0.01505 0.60452 -0.01505 E">
                                      <p:cBhvr>
                                        <p:cTn id="162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1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2" dur="1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3" dur="1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8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9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4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5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1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0" dur="1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1" dur="1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11 0.01875 C 0.02292 0.00324 0.0224 0.00995 0.01788 -0.0132 C 0.01632 -0.02037 0.0125 -0.03426 0.0125 -0.03403 C 0.01528 -0.04584 0.01615 -0.05857 0.02066 -0.06945 C 0.02188 -0.07246 0.02466 -0.07384 0.02639 -0.07639 C 0.03247 -0.08588 0.03212 -0.08704 0.03473 -0.09792 C 0.03282 -0.10463 0.02361 -0.11621 0.02917 -0.11875 C 0.03473 -0.12107 0.04584 -0.12593 0.04584 -0.1257 C 0.04566 -0.12871 0.03768 -0.16713 0.04306 -0.17176 C 0.04792 -0.17593 0.0599 -0.17871 0.0599 -0.17847 C 0.05903 -0.18334 0.05834 -0.1882 0.05712 -0.19283 C 0.05538 -0.2 0.05122 -0.21412 0.05122 -0.21389 C 0.05504 -0.22778 0.05729 -0.23033 0.06823 -0.23496 C 0.06302 -0.26597 0.0533 -0.27616 0.07084 -0.29861 C 0.07552 -0.31574 0.06875 -0.31945 0.06545 -0.33727 C 0.07014 -0.35509 0.07622 -0.35116 0.09063 -0.35486 C 0.0915 -0.35834 0.09358 -0.36181 0.09341 -0.36597 C 0.09271 -0.37523 0.08785 -0.39352 0.08785 -0.39329 C 0.08872 -0.39699 0.0882 -0.40185 0.09063 -0.4044 C 0.09358 -0.40718 0.09827 -0.40579 0.10174 -0.40787 C 0.10469 -0.40949 0.10729 -0.41227 0.1099 -0.41482 C 0.11094 -0.42176 0.11077 -0.4294 0.11285 -0.43611 C 0.11372 -0.43935 0.11719 -0.44005 0.11858 -0.44306 C 0.12014 -0.4463 0.12049 -0.45 0.12136 -0.45371 C 0.11945 -0.46065 0.11754 -0.46806 0.11563 -0.47477 C 0.11476 -0.47847 0.11285 -0.48542 0.11285 -0.48496 C 0.11736 -0.50209 0.11077 -0.51088 0.10729 -0.52755 C 0.10799 -0.53102 0.10886 -0.53496 0.1099 -0.53797 C 0.11146 -0.54167 0.11563 -0.54422 0.11563 -0.54861 C 0.11563 -0.55602 0.11198 -0.56273 0.1099 -0.56991 C 0.1092 -0.57338 0.10729 -0.58033 0.10729 -0.58009 C 0.10799 -0.5838 0.10782 -0.58843 0.1099 -0.59097 C 0.12518 -0.61019 0.11389 -0.57685 0.12136 -0.60509 C 0.11563 -0.62662 0.11736 -0.64676 0.13525 -0.6544 C 0.14462 -0.69028 0.13264 -0.63426 0.12969 -0.6757 C 0.1283 -0.69722 0.14132 -0.71621 0.14636 -0.73542 C 0.14236 -0.75 0.13473 -0.75949 0.14931 -0.76713 C 0.15278 -0.76875 0.15677 -0.76713 0.16059 -0.76713 E">
                                      <p:cBhvr>
                                        <p:cTn id="229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9000"/>
                            </p:stCondLst>
                            <p:childTnLst>
                              <p:par>
                                <p:cTn id="231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9000"/>
                            </p:stCondLst>
                            <p:childTnLst>
                              <p:par>
                                <p:cTn id="237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9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0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3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5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6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07407E-006 C 0.00156 0.00301 0.00261 0.01157 0.00452 0.00903 C 0.00677 0.00602 0.0033 0.00093 0.00226 -0.00301 C 0.00104 -0.0081 -0.00017 -0.01366 -0.00225 -0.01829 C -0.0033 -0.02083 -0.00555 -0.02199 -0.00694 -0.02431 C -0.01823 -0.04421 -0.01354 -0.04931 -0.02969 -0.05463 C -0.03802 -0.06204 -0.03819 -0.06852 -0.04774 -0.07269 C -0.05555 -0.06505 -0.06267 -0.06157 -0.07048 -0.05463 C -0.07205 -0.05764 -0.07326 -0.06088 -0.075 -0.06366 C -0.07847 -0.06898 -0.08646 -0.0787 -0.08646 -0.0787 C -0.09305 -0.06991 -0.09166 -0.06644 -0.1 -0.07269 C -0.10486 -0.07616 -0.11371 -0.08495 -0.11371 -0.08495 C -0.12118 -0.1 -0.11493 -0.09375 -0.13194 -0.08796 C -0.13802 -0.08588 -0.15 -0.08171 -0.15 -0.08171 C -0.15225 -0.07894 -0.15712 -0.07083 -0.16146 -0.07269 C -0.16666 -0.075 -0.175 -0.08495 -0.175 -0.08495 C -0.17795 -0.07917 -0.17969 -0.07176 -0.18646 -0.07269 C -0.19114 -0.07338 -0.2 -0.0787 -0.2 -0.0787 C -0.20937 -0.07454 -0.21805 -0.06852 -0.22725 -0.06366 C -0.22899 -0.06134 -0.23489 -0.05208 -0.23871 -0.05463 C -0.2408 -0.05602 -0.23941 -0.06111 -0.24097 -0.06366 C -0.24271 -0.06644 -0.24548 -0.06759 -0.24774 -0.06968 C -0.24844 -0.07361 -0.24722 -0.07986 -0.25 -0.08171 C -0.25347 -0.08403 -0.25764 -0.0787 -0.26146 -0.0787 C -0.26389 -0.0787 -0.26597 -0.08079 -0.26823 -0.08171 C -0.27934 -0.07685 -0.27534 -0.07176 -0.28646 -0.06667 C -0.29722 -0.08704 -0.29323 -0.09444 -0.30469 -0.08171 C -0.30712 -0.07894 -0.3092 -0.07569 -0.31146 -0.07269 C -0.33003 -0.08102 -0.32031 -0.08264 -0.33194 -0.06968 C -0.33403 -0.06736 -0.33646 -0.06574 -0.33871 -0.06366 C -0.34149 -0.05833 -0.34531 -0.05394 -0.34774 -0.04838 C -0.35191 -0.03912 -0.34774 -0.03634 -0.35469 -0.02731 C -0.35642 -0.025 -0.35937 -0.02569 -0.36146 -0.02431 C -0.37135 -0.01782 -0.37031 -0.01829 -0.36597 -0.01829 E">
                                      <p:cBhvr>
                                        <p:cTn id="264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C -0.00156 0.01018 -0.0026 0.02037 -0.00451 0.03032 C -0.00521 0.03426 -0.00903 0.03935 -0.00677 0.04236 C -0.00486 0.0449 -0.0033 0.03657 -0.00226 0.03333 C -0.00035 0.02754 0.00069 0.02129 0.00226 0.01527 C 0.00417 0.0074 0.00677 -0.00903 0.00677 -0.00903 C 0.00747 0.00509 0.00417 0.02083 0.00903 0.03333 C 0.01181 0.04074 0.01215 0.01713 0.01372 0.00902 C 0.01424 0.00601 0.01528 0.00301 0.01597 1.11111E-006 C 0.01684 -0.00394 0.01753 -0.00811 0.01823 -0.01204 C 0.01979 -0.00903 0.0217 -0.00625 0.02274 -0.00301 C 0.02656 0.00879 0.02344 0.01736 0.02726 -0.00301 C 0.02656 0.01319 0.025 0.02916 0.025 0.04537 C 0.025 0.05763 0.02813 0.02106 0.02726 0.00902 C 0.02708 0.00625 0.02431 0.01319 0.02274 0.01527 C 0.01997 0.02638 0.01875 0.0375 0.01597 0.04861 C 0.01528 0.0456 0.01372 0.04259 0.01372 0.03935 C 0.01372 0.02314 0.01719 0.00694 0.01597 -0.00903 C 0.01545 -0.01528 0.01285 0.00301 0.01128 0.00902 C 0.000869999999999999 0.04907 0.01163 -0.00487 0.00451 0.03333 C 0.00382 0.03032 0.00226 0.02754 0.00226 0.0243 C 0.00226 -0.00209 0.01128 1.11111E-006 3.33333E-006 1.11111E-006 Z">
                                      <p:cBhvr>
                                        <p:cTn id="272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4" nodeType="afterEffect" fill="hold" presetClass="path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1.94444E-006 -1.85185E-006 L 0.00382 0.63009 E">
                                      <p:cBhvr>
                                        <p:cTn id="275" dur="500" fill="hold"/>
                                        <p:tgtEl>
                                          <p:spTgt spid="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3.88889E-006 -0.06296 L 0.01198 0.61505 E">
                                      <p:cBhvr>
                                        <p:cTn id="277" dur="5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path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.07864 -0.06296 L 0.07083 0.63009 E">
                                      <p:cBhvr>
                                        <p:cTn id="279" dur="5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" nodeType="withEffect" fill="hold" presetClass="path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.01597 2.96296E-006 L 0.01597 0.58796 E">
                                      <p:cBhvr>
                                        <p:cTn id="281" dur="7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42">
                                  <p:stCondLst>
                                    <p:cond delay="3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4.16667E-006 2.59259E-006 L -4.16667E-006 0.70347 E">
                                      <p:cBhvr>
                                        <p:cTn id="283" dur="700" fill="hold"/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nodeType="withEffect" fill="hold" presetClass="path" presetID="42">
                                  <p:stCondLst>
                                    <p:cond delay="6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02361 -7.40741E-007 L -0.01563 0.64051 E">
                                      <p:cBhvr>
                                        <p:cTn id="285" dur="8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42">
                                  <p:stCondLst>
                                    <p:cond delay="8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3.61111E-006 -4.07407E-006 L 0.00017 0.66158 E">
                                      <p:cBhvr>
                                        <p:cTn id="287" dur="800" fill="hold"/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.03941 -0.01041 L -0.00782 0.6301 E">
                                      <p:cBhvr>
                                        <p:cTn id="289" dur="2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42">
                                  <p:stCondLst>
                                    <p:cond delay="8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1.11111E-006 -1.11111E-006 L -0.00781 0.82963 E">
                                      <p:cBhvr>
                                        <p:cTn id="291" dur="9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42">
                                  <p:stCondLst>
                                    <p:cond delay="8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00764 -0.01019 L 0.0632 0.60925 E">
                                      <p:cBhvr>
                                        <p:cTn id="293" dur="9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42">
                                  <p:stCondLst>
                                    <p:cond delay="8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.00017 -0.04838 L 0.05521 0.66157 E">
                                      <p:cBhvr>
                                        <p:cTn id="295" dur="5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7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88889E-006 1.11111E-006 L 3.88889E-006 0.72453 E">
                                      <p:cBhvr>
                                        <p:cTn id="298" dur="5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8500"/>
                            </p:stCondLst>
                            <p:childTnLst>
                              <p:par>
                                <p:cTn id="300" nodeType="afterEffect" fill="hold" presetClass="emph" presetID="32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301" dur="1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02" dur="1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03" dur="1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2500"/>
                            </p:stCondLst>
                            <p:childTnLst>
                              <p:par>
                                <p:cTn id="3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29 0.78125 C 0.02518 0.77754 0.01684 0.7706 0.00886 0.75995 C 0.00452 0.74236 0.01007 0.75856 -0.00017 0.7449 C -0.00451 0.73935 -0.00416 0.73379 -0.0092 0.72963 C -0.01128 0.72801 -0.01389 0.72777 -0.01632 0.72662 C -0.03541 0.71574 -0.05573 0.7074 -0.07517 0.69953 C -0.08507 0.6956 -0.09062 0.68541 -0.10017 0.68125 C -0.10312 0.67824 -0.1059 0.67453 -0.1092 0.67222 C -0.11354 0.66944 -0.12291 0.6662 -0.12291 0.66643 C -0.12517 0.66412 -0.12725 0.66134 -0.12968 0.65995 C -0.13402 0.6574 -0.1434 0.65393 -0.1434 0.65416 C -0.1526 0.64583 -0.16232 0.64537 -0.17291 0.6419 C -0.17968 0.64282 -0.18663 0.64305 -0.1934 0.6449 C -0.19809 0.64606 -0.20243 0.64884 -0.20694 0.65092 C -0.2092 0.65185 -0.21371 0.65393 -0.21371 0.65416 C -0.21996 0.67708 -0.21128 0.71273 -0.19566 0.72662 C -0.19253 0.73935 -0.18941 0.73958 -0.18194 0.74791 C -0.17326 0.75764 -0.17465 0.76435 -0.16371 0.76921 C -0.16145 0.77222 -0.15972 0.77615 -0.15694 0.77824 C -0.15277 0.78125 -0.1434 0.78426 -0.1434 0.78449 C -0.13802 0.7912 -0.12725 0.80463 -0.12066 0.80856 C -0.1085 0.81574 -0.09479 0.82245 -0.08194 0.82662 C -0.06632 0.8243 -0.05416 0.82106 -0.03871 0.81458 C -0.01944 0.79722 -0.04409 0.81805 -0.02517 0.80555 C -0.01788 0.80046 -0.0151 0.79375 -0.00711 0.79027 C 0.00365 0.76921 -0.0026 0.77615 0.00886 0.7662 C 0.01181 0.75486 0.01268 0.7493 0.02032 0.73889 C 0.02483 0.73287 0.02934 0.72662 0.03386 0.7206 C 0.03542 0.71852 0.03855 0.71458 0.03855 0.71481 C 0.04011 0.70856 0.0415 0.70231 0.04306 0.69629 C 0.04375 0.69328 0.04532 0.68727 0.04532 0.6875 C 0.03959 0.66435 0.0467 0.64467 0.02709 0.63588 C 0.02483 0.63287 0.02309 0.6287 0.02032 0.62662 C 0.01615 0.62338 0.0066 0.6206 0.0066 0.62083 C -0.01076 0.62152 -0.02864 0.62176 -0.04566 0.62361 C -0.05937 0.625 -0.08368 0.63565 -0.09791 0.6419 C -0.10052 0.64305 -0.10208 0.64676 -0.10468 0.64791 C -0.1184 0.65463 -0.13211 0.65879 -0.14566 0.6662 C -0.15 0.66852 -0.15468 0.67014 -0.1592 0.67222 C -0.16145 0.67315 -0.16614 0.67523 -0.16614 0.67546 C -0.17517 0.68333 -0.18368 0.69051 -0.1934 0.69629 C -0.19774 0.69884 -0.20295 0.69907 -0.20694 0.70254 C -0.2158 0.71041 -0.21111 0.7074 -0.22066 0.71157 C -0.22691 0.72384 -0.23073 0.72176 -0.2342 0.73588 C -0.22968 0.75972 -0.23611 0.73981 -0.22517 0.75092 C -0.22083 0.75532 -0.21753 0.76111 -0.21371 0.7662 C -0.21041 0.7706 -0.20486 0.77106 -0.20017 0.77222 C -0.17847 0.77801 -0.18767 0.77615 -0.15243 0.77824 C -0.12968 0.77963 -0.10694 0.78032 -0.0842 0.78125 C -0.06354 0.78518 -0.06423 0.78657 -0.03871 0.78125 C -0.03402 0.78032 -0.03003 0.77731 -0.02517 0.77523 C -0.02291 0.7743 -0.01857 0.77222 -0.01857 0.77245 C -0.01163 0.76342 -0.0026 0.76296 0.00209 0.75092 E">
                                      <p:cBhvr>
                                        <p:cTn id="311" dur="3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0">
                                  <p:stCondLst>
                                    <p:cond delay="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.0632 0.60925 L -0.06284 0.59861 E">
                                      <p:cBhvr>
                                        <p:cTn id="313" dur="15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0">
                                  <p:stCondLst>
                                    <p:cond delay="11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.05521 0.66158 L 0.0316 0.76644 E">
                                      <p:cBhvr>
                                        <p:cTn id="315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0">
                                  <p:stCondLst>
                                    <p:cond delay="14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01563 0.76667 L 0.07882 0.70348 E">
                                      <p:cBhvr>
                                        <p:cTn id="317" dur="5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600"/>
                            </p:stCondLst>
                            <p:childTnLst>
                              <p:par>
                                <p:cTn id="31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0" dur="1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1" dur="1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2" dur="1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6600"/>
                            </p:stCondLst>
                            <p:childTnLst>
                              <p:par>
                                <p:cTn id="32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6600"/>
                            </p:stCondLst>
                            <p:childTnLst>
                              <p:par>
                                <p:cTn id="3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6600"/>
                            </p:stCondLst>
                            <p:childTnLst>
                              <p:par>
                                <p:cTn id="335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67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6700"/>
                            </p:stCondLst>
                            <p:childTnLst>
                              <p:par>
                                <p:cTn id="341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68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6800"/>
                            </p:stCondLst>
                            <p:childTnLst>
                              <p:par>
                                <p:cTn id="347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69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6900"/>
                            </p:stCondLst>
                            <p:childTnLst>
                              <p:par>
                                <p:cTn id="353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9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71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7100"/>
                            </p:stCondLst>
                            <p:childTnLst>
                              <p:par>
                                <p:cTn id="365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72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7200"/>
                            </p:stCondLst>
                            <p:childTnLst>
                              <p:par>
                                <p:cTn id="371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73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7300"/>
                            </p:stCondLst>
                            <p:childTnLst>
                              <p:par>
                                <p:cTn id="377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74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7400"/>
                            </p:stCondLst>
                            <p:childTnLst>
                              <p:par>
                                <p:cTn id="383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7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76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1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01" dur="1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2" dur="1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7 C -0.00226 0.00208 -0.00399 0.00602 -0.00677 0.00602 C -0.00885 0.00602 -0.00955 0.00139 -0.01146 3.7037E-007 C -0.01354 -0.00162 -0.01597 -0.00208 -0.01823 -0.00301 C -0.02048 -0.00093 -0.02239 0.0037 -0.025 0.00301 C -0.03038 0.00139 -0.03871 -0.00903 -0.03871 -0.0088 C -0.0533 -0.00417 -0.04357 -0.01019 -0.05226 0.00301 C -0.05625 0.00833 -0.06406 0.01829 -0.06406 0.01852 C -0.06597 0.01713 -0.06875 0.01736 -0.07048 0.01505 C -0.07222 0.01273 -0.07066 0.00741 -0.07344 0.00602 C -0.075 0.00463 -0.07812 0.00741 -0.07969 0.00903 C -0.08437 0.0125 -0.09357 0.0213 -0.09357 0.02153 C -0.09514 0.01852 -0.10139 0.00903 -0.10451 0.00903 C -0.10764 0.00903 -0.1092 0.01366 -0.11146 0.01505 C -0.11545 0.0169 -0.11892 0.01713 -0.12326 0.01829 C -0.125 0.01713 -0.12795 0.01736 -0.12951 0.01505 C -0.13125 0.01273 -0.13107 0.0088 -0.13177 0.00602 C -0.13298 0.00347 -0.13489 0.00208 -0.13646 3.7037E-007 C -0.13732 -0.00301 -0.13628 -0.00903 -0.13889 -0.00903 C -0.14114 -0.00903 -0.14045 -0.00301 -0.14097 3.7037E-007 C -0.14514 0.01273 -0.1441 0.00995 -0.15 0.01829 C -0.15069 0.0213 -0.15 0.02824 -0.15226 0.02731 C -0.15937 0.02407 -0.17048 0.00903 -0.17048 0.00926 C -0.17482 -0.00602 -0.17066 0.000229999999999999 -0.17726 0.00903 C -0.17934 0.01157 -0.18177 0.01296 -0.18403 0.01505 C -0.18489 0.01806 -0.18403 0.02431 -0.18646 0.02431 C -0.18976 0.02431 -0.19062 0.01782 -0.1934 0.01505 C -0.19757 0.01065 -0.20677 0.00301 -0.20677 0.00324 C -0.20989 0.00393 -0.21285 0.00602 -0.21597 0.00602 C -0.23003 0.00602 -0.21545 -0.00347 -0.22969 0.00903 C -0.24392 0.00278 -0.2401 0.01018 -0.25226 0.01829 C -0.25712 0.02153 -0.26319 0.02199 -0.26823 0.02431 C -0.27535 0.00463 -0.26944 0.01181 -0.27726 0.01829 C -0.27969 0.01991 -0.28194 0.02037 -0.28437 0.0213 C -0.28594 0.01713 -0.28594 0.01134 -0.28889 0.00903 C -0.2908 0.00741 -0.29323 0.01111 -0.29548 0.01204 C -0.3066 0.0162 -0.31805 0.01875 -0.32969 0.0213 C -0.33177 0.02338 -0.33368 0.02731 -0.33646 0.02731 C -0.34531 0.02731 -0.34809 0.00787 -0.35 3.7037E-007 C -0.35226 0.00093 -0.35469 0.00139 -0.35677 0.00301 C -0.35868 0.0044 -0.35937 0.00856 -0.36146 0.00903 C -0.36371 0.00972 -0.36597 0.00694 -0.36823 0.00602 C -0.36979 0.00301 -0.37014 -0.00232 -0.37274 -0.00301 C -0.37812 -0.0044 -0.3816 0.00949 -0.38403 0.01204 C -0.3868 0.01505 -0.39635 0.01829 -0.4 0.01829 E">
                                      <p:cBhvr>
                                        <p:cTn id="411" dur="5000" fill="hold"/>
                                        <p:tgtEl>
                                          <p:spTgt spid="1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2600"/>
                            </p:stCondLst>
                            <p:childTnLst>
                              <p:par>
                                <p:cTn id="4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" dur="34769" fill="hold"/>
                                        <p:tgtEl>
                                          <p:spTgt spid="14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 algn="ctr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仿宋"/>
                <a:ea typeface="华文仿宋"/>
              </a:rPr>
              <a:t>爬树摇枣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华文仿宋"/>
                <a:ea typeface="华文仿宋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仿宋"/>
                <a:ea typeface="华文仿宋"/>
              </a:rPr>
              <a:t>落地归枣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仿宋"/>
                <a:ea typeface="华文仿宋"/>
              </a:rPr>
              <a:t>打滚扎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仿宋"/>
                <a:ea typeface="华文仿宋"/>
              </a:rPr>
              <a:t>驮枣快跑</a:t>
            </a:r>
            <a:r>
              <a:rPr b="1" lang="zh-CN" sz="4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3"/>
          <p:cNvSpPr/>
          <p:nvPr/>
        </p:nvSpPr>
        <p:spPr>
          <a:xfrm>
            <a:off x="4356000" y="1197000"/>
            <a:ext cx="0" cy="936720"/>
          </a:xfrm>
          <a:prstGeom prst="line">
            <a:avLst/>
          </a:prstGeom>
          <a:ln w="111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4"/>
          <p:cNvSpPr/>
          <p:nvPr/>
        </p:nvSpPr>
        <p:spPr>
          <a:xfrm>
            <a:off x="4356000" y="4797360"/>
            <a:ext cx="0" cy="1008000"/>
          </a:xfrm>
          <a:prstGeom prst="line">
            <a:avLst/>
          </a:prstGeom>
          <a:ln w="111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5"/>
          <p:cNvSpPr/>
          <p:nvPr/>
        </p:nvSpPr>
        <p:spPr>
          <a:xfrm>
            <a:off x="4356000" y="2852640"/>
            <a:ext cx="0" cy="1008000"/>
          </a:xfrm>
          <a:prstGeom prst="line">
            <a:avLst/>
          </a:prstGeom>
          <a:ln w="111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AutoShape 7">
            <a:hlinkClick r:id="rId2" action="ppaction://hlinksldjump"/>
          </p:cNvPr>
          <p:cNvSpPr/>
          <p:nvPr/>
        </p:nvSpPr>
        <p:spPr>
          <a:xfrm>
            <a:off x="179280" y="5661000"/>
            <a:ext cx="1441440" cy="1197000"/>
          </a:xfrm>
          <a:custGeom>
            <a:avLst/>
            <a:gdLst>
              <a:gd name="textAreaLeft" fmla="*/ 335880 w 1441440"/>
              <a:gd name="textAreaRight" fmla="*/ 1104840 w 1441440"/>
              <a:gd name="textAreaTop" fmla="*/ 126000 h 1197000"/>
              <a:gd name="textAreaBottom" fmla="*/ 758160 h 1197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Picture 3" descr="11-51"/>
          <p:cNvPicPr/>
          <p:nvPr/>
        </p:nvPicPr>
        <p:blipFill>
          <a:blip r:embed="rId2">
            <a:lum contrast="72000"/>
          </a:blip>
          <a:srcRect l="0" t="0" r="3251" b="0"/>
          <a:stretch/>
        </p:blipFill>
        <p:spPr>
          <a:xfrm>
            <a:off x="5219640" y="3141720"/>
            <a:ext cx="3492720" cy="3581280"/>
          </a:xfrm>
          <a:prstGeom prst="rect">
            <a:avLst/>
          </a:prstGeom>
          <a:ln w="0">
            <a:noFill/>
          </a:ln>
        </p:spPr>
      </p:pic>
      <p:sp>
        <p:nvSpPr>
          <p:cNvPr id="1444" name="PubOvalCallout"/>
          <p:cNvSpPr/>
          <p:nvPr/>
        </p:nvSpPr>
        <p:spPr>
          <a:xfrm rot="21020400">
            <a:off x="1045800" y="1023480"/>
            <a:ext cx="6723000" cy="352764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20584"/>
                </a:solidFill>
                <a:latin typeface="黑体"/>
                <a:ea typeface="黑体"/>
              </a:rPr>
              <a:t>说起偷枣啊，可惊险啦！我先缓慢地往树上爬</a:t>
            </a:r>
            <a:r>
              <a:rPr b="1" lang="zh-CN" sz="3600" spc="-1" strike="noStrike">
                <a:solidFill>
                  <a:srgbClr val="020584"/>
                </a:solidFill>
                <a:latin typeface="Times New Roman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896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仿宋"/>
              </a:rPr>
              <a:t>刺猬偷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仿宋"/>
                <a:ea typeface="华文仿宋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仿宋"/>
              </a:rPr>
              <a:t>写刺猬的动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仿宋"/>
              </a:rPr>
              <a:t>（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仿宋"/>
              </a:rPr>
              <a:t>先</a:t>
            </a:r>
            <a:r>
              <a:rPr b="1" lang="zh-CN" sz="4400" spc="-1" strike="noStrike">
                <a:solidFill>
                  <a:srgbClr val="ff3300"/>
                </a:solidFill>
                <a:latin typeface="华文仿宋"/>
                <a:ea typeface="华文仿宋"/>
              </a:rPr>
              <a:t>……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仿宋"/>
              </a:rPr>
              <a:t>接着</a:t>
            </a:r>
            <a:r>
              <a:rPr b="1" lang="zh-CN" sz="4400" spc="-1" strike="noStrike">
                <a:solidFill>
                  <a:srgbClr val="ff3300"/>
                </a:solidFill>
                <a:latin typeface="华文仿宋"/>
                <a:ea typeface="华文仿宋"/>
              </a:rPr>
              <a:t>……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仿宋"/>
              </a:rPr>
              <a:t>然后</a:t>
            </a:r>
            <a:r>
              <a:rPr b="1" lang="zh-CN" sz="4400" spc="-1" strike="noStrike">
                <a:solidFill>
                  <a:srgbClr val="ff3300"/>
                </a:solidFill>
                <a:latin typeface="华文仿宋"/>
                <a:ea typeface="华文仿宋"/>
              </a:rPr>
              <a:t>……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仿宋"/>
              </a:rPr>
              <a:t>最后</a:t>
            </a:r>
            <a:r>
              <a:rPr b="1" lang="zh-CN" sz="4400" spc="-1" strike="noStrike">
                <a:solidFill>
                  <a:srgbClr val="ff3300"/>
                </a:solidFill>
                <a:latin typeface="华文仿宋"/>
                <a:ea typeface="华文仿宋"/>
              </a:rPr>
              <a:t>…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仿宋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们的动物朋友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7" name="Picture 15" descr="u=1597356492,3245828306&amp;gp=1"/>
          <p:cNvPicPr/>
          <p:nvPr/>
        </p:nvPicPr>
        <p:blipFill>
          <a:blip r:embed="rId2"/>
          <a:stretch/>
        </p:blipFill>
        <p:spPr>
          <a:xfrm>
            <a:off x="1258920" y="3284640"/>
            <a:ext cx="2305080" cy="1008000"/>
          </a:xfrm>
          <a:prstGeom prst="rect">
            <a:avLst/>
          </a:prstGeom>
          <a:ln w="0">
            <a:noFill/>
          </a:ln>
        </p:spPr>
      </p:pic>
      <p:pic>
        <p:nvPicPr>
          <p:cNvPr id="1448" name="Picture 16" descr="u=2994081647,1437608409&amp;gp=0"/>
          <p:cNvPicPr/>
          <p:nvPr/>
        </p:nvPicPr>
        <p:blipFill>
          <a:blip r:embed="rId3"/>
          <a:stretch/>
        </p:blipFill>
        <p:spPr>
          <a:xfrm>
            <a:off x="5508720" y="3357720"/>
            <a:ext cx="2305080" cy="1008000"/>
          </a:xfrm>
          <a:prstGeom prst="rect">
            <a:avLst/>
          </a:prstGeom>
          <a:ln w="0">
            <a:noFill/>
          </a:ln>
        </p:spPr>
      </p:pic>
      <p:pic>
        <p:nvPicPr>
          <p:cNvPr id="1449" name="Picture 17" descr="u=3432690227,1252797353&amp;gp=2"/>
          <p:cNvPicPr/>
          <p:nvPr/>
        </p:nvPicPr>
        <p:blipFill>
          <a:blip r:embed="rId4"/>
          <a:stretch/>
        </p:blipFill>
        <p:spPr>
          <a:xfrm>
            <a:off x="1258920" y="5013360"/>
            <a:ext cx="2305080" cy="914400"/>
          </a:xfrm>
          <a:prstGeom prst="rect">
            <a:avLst/>
          </a:prstGeom>
          <a:ln w="0">
            <a:noFill/>
          </a:ln>
        </p:spPr>
      </p:pic>
      <p:sp>
        <p:nvSpPr>
          <p:cNvPr id="1450" name="Text Box 18"/>
          <p:cNvSpPr/>
          <p:nvPr/>
        </p:nvSpPr>
        <p:spPr>
          <a:xfrm>
            <a:off x="395280" y="3860640"/>
            <a:ext cx="43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Text Box 20"/>
          <p:cNvSpPr/>
          <p:nvPr/>
        </p:nvSpPr>
        <p:spPr>
          <a:xfrm>
            <a:off x="5219640" y="61657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仿宋"/>
              </a:rPr>
              <a:t>壁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仿宋"/>
              </a:rPr>
              <a:t>能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仿宋"/>
              </a:rPr>
              <a:t>断尾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Text Box 21"/>
          <p:cNvSpPr/>
          <p:nvPr/>
        </p:nvSpPr>
        <p:spPr>
          <a:xfrm>
            <a:off x="1116000" y="6093000"/>
            <a:ext cx="29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Text Box 22"/>
          <p:cNvSpPr/>
          <p:nvPr/>
        </p:nvSpPr>
        <p:spPr>
          <a:xfrm>
            <a:off x="4211640" y="292428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仿宋"/>
              </a:rPr>
              <a:t>乌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仿宋"/>
              </a:rPr>
              <a:t>能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仿宋"/>
              </a:rPr>
              <a:t>喷墨自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Text Box 23"/>
          <p:cNvSpPr/>
          <p:nvPr/>
        </p:nvSpPr>
        <p:spPr>
          <a:xfrm>
            <a:off x="5148360" y="45086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仿宋"/>
              </a:rPr>
              <a:t>蜥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仿宋"/>
              </a:rPr>
              <a:t>能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仿宋"/>
              </a:rPr>
              <a:t>变色隐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Text Box 24"/>
          <p:cNvSpPr/>
          <p:nvPr/>
        </p:nvSpPr>
        <p:spPr>
          <a:xfrm>
            <a:off x="1476360" y="90792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能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干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6" name="Picture 27" descr="u=15732086,220855494&amp;gp=0"/>
          <p:cNvPicPr/>
          <p:nvPr/>
        </p:nvPicPr>
        <p:blipFill>
          <a:blip r:embed="rId5"/>
          <a:stretch/>
        </p:blipFill>
        <p:spPr>
          <a:xfrm>
            <a:off x="1258920" y="1773360"/>
            <a:ext cx="2305080" cy="1119240"/>
          </a:xfrm>
          <a:prstGeom prst="rect">
            <a:avLst/>
          </a:prstGeom>
          <a:ln w="0">
            <a:noFill/>
          </a:ln>
        </p:spPr>
      </p:pic>
      <p:pic>
        <p:nvPicPr>
          <p:cNvPr id="1457" name="Picture 28" descr="bh01"/>
          <p:cNvPicPr/>
          <p:nvPr/>
        </p:nvPicPr>
        <p:blipFill>
          <a:blip r:embed="rId6"/>
          <a:stretch/>
        </p:blipFill>
        <p:spPr>
          <a:xfrm>
            <a:off x="5508720" y="5013360"/>
            <a:ext cx="1511280" cy="100800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29" descr="bh02"/>
          <p:cNvPicPr/>
          <p:nvPr/>
        </p:nvPicPr>
        <p:blipFill>
          <a:blip r:embed="rId7"/>
          <a:stretch/>
        </p:blipFill>
        <p:spPr>
          <a:xfrm>
            <a:off x="7093080" y="501336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1459" name="Picture 30" descr="u=4257154307,3510173559&amp;gp=0"/>
          <p:cNvPicPr/>
          <p:nvPr/>
        </p:nvPicPr>
        <p:blipFill>
          <a:blip r:embed="rId8"/>
          <a:stretch/>
        </p:blipFill>
        <p:spPr>
          <a:xfrm>
            <a:off x="5508720" y="1773360"/>
            <a:ext cx="2303280" cy="1079280"/>
          </a:xfrm>
          <a:prstGeom prst="rect">
            <a:avLst/>
          </a:prstGeom>
          <a:ln w="0">
            <a:noFill/>
          </a:ln>
        </p:spPr>
      </p:pic>
      <p:sp>
        <p:nvSpPr>
          <p:cNvPr id="1460" name="Line 31"/>
          <p:cNvSpPr/>
          <p:nvPr/>
        </p:nvSpPr>
        <p:spPr>
          <a:xfrm>
            <a:off x="3708360" y="2349360"/>
            <a:ext cx="1584360" cy="324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32"/>
          <p:cNvSpPr/>
          <p:nvPr/>
        </p:nvSpPr>
        <p:spPr>
          <a:xfrm flipV="1">
            <a:off x="3780000" y="2204640"/>
            <a:ext cx="143964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Line 33"/>
          <p:cNvSpPr/>
          <p:nvPr/>
        </p:nvSpPr>
        <p:spPr>
          <a:xfrm flipV="1">
            <a:off x="3635280" y="3789000"/>
            <a:ext cx="158436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6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9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5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8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3739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仿宋"/>
                <a:ea typeface="华文仿宋"/>
              </a:rPr>
              <a:t>课外拓展练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学着课文的方法，介绍一种动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</a:t>
            </a:r>
            <a:r>
              <a:rPr b="1" lang="zh-CN" sz="4000" spc="-1" strike="noStrike">
                <a:solidFill>
                  <a:srgbClr val="ff3300"/>
                </a:solidFill>
                <a:latin typeface="华文仿宋"/>
                <a:ea typeface="华文仿宋"/>
              </a:rPr>
              <a:t>壁虎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的本领真大，它能</a:t>
            </a:r>
            <a:r>
              <a:rPr b="1" lang="zh-CN" sz="4000" spc="-1" strike="noStrike">
                <a:solidFill>
                  <a:srgbClr val="ff3300"/>
                </a:solidFill>
                <a:latin typeface="华文仿宋"/>
                <a:ea typeface="华文仿宋"/>
              </a:rPr>
              <a:t>断尾逃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（           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的本领真大，它能（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     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WordArt 2"/>
          <p:cNvSpPr txBox="1"/>
          <p:nvPr/>
        </p:nvSpPr>
        <p:spPr>
          <a:xfrm>
            <a:off x="826920" y="692280"/>
            <a:ext cx="2232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句子比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65" name="Rectangle 3"/>
          <p:cNvSpPr/>
          <p:nvPr/>
        </p:nvSpPr>
        <p:spPr>
          <a:xfrm>
            <a:off x="539640" y="2115360"/>
            <a:ext cx="813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第二天，月亮在云缝里时隐时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第二天，月亮在云缝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缓缓地游动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时隐时现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像是在捉迷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WordArt 2"/>
          <p:cNvSpPr txBox="1"/>
          <p:nvPr/>
        </p:nvSpPr>
        <p:spPr>
          <a:xfrm>
            <a:off x="826920" y="0"/>
            <a:ext cx="2232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句子比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67" name="Rectangle 3"/>
          <p:cNvSpPr/>
          <p:nvPr/>
        </p:nvSpPr>
        <p:spPr>
          <a:xfrm>
            <a:off x="611280" y="2542320"/>
            <a:ext cx="813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秋天，枣树上挂满了一颗颗红枣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秋天，枣树上挂满了一颗颗红枣儿，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风儿一吹，轻轻摆动，如同无数颗飘香的玛瑙晃来晃去，看着就让人眼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826920" y="2060640"/>
            <a:ext cx="6048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539640" y="260280"/>
            <a:ext cx="78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红枣儿   玛瑙   斑斑驳驳   晃来晃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惊愕      监视   诡秘   散落   钦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水沟眼儿         蹑手蹑脚      夜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溜烟儿         径直             小撅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必经之路         瘦削             繁星闪烁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Object 2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4800600" cy="6400800"/>
          </a:xfrm>
          <a:prstGeom prst="rect">
            <a:avLst/>
          </a:prstGeom>
          <a:ln w="0">
            <a:noFill/>
          </a:ln>
        </p:spPr>
      </p:pic>
      <p:sp>
        <p:nvSpPr>
          <p:cNvPr id="1469" name="Text Box 3"/>
          <p:cNvSpPr/>
          <p:nvPr/>
        </p:nvSpPr>
        <p:spPr>
          <a:xfrm>
            <a:off x="304920" y="175248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狗啃刺猬——没处下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WordArt 4"/>
          <p:cNvSpPr txBox="1"/>
          <p:nvPr/>
        </p:nvSpPr>
        <p:spPr>
          <a:xfrm>
            <a:off x="2438280" y="304920"/>
            <a:ext cx="419112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歇后语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sp>
        <p:nvSpPr>
          <p:cNvPr id="1471" name="Text Box 5"/>
          <p:cNvSpPr/>
          <p:nvPr/>
        </p:nvSpPr>
        <p:spPr>
          <a:xfrm>
            <a:off x="304920" y="351936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黑瞎子捧刺猬—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Text Box 6"/>
          <p:cNvSpPr/>
          <p:nvPr/>
        </p:nvSpPr>
        <p:spPr>
          <a:xfrm>
            <a:off x="5334120" y="358128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碰到棘手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 Box 7"/>
          <p:cNvSpPr/>
          <p:nvPr/>
        </p:nvSpPr>
        <p:spPr>
          <a:xfrm>
            <a:off x="304920" y="4859280"/>
            <a:ext cx="579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蝎子碰到刺猬—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 Box 8"/>
          <p:cNvSpPr/>
          <p:nvPr/>
        </p:nvSpPr>
        <p:spPr>
          <a:xfrm>
            <a:off x="5257800" y="487692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怎么着（蜇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6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Object 2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4800600" cy="6400800"/>
          </a:xfrm>
          <a:prstGeom prst="rect">
            <a:avLst/>
          </a:prstGeom>
          <a:ln w="0">
            <a:noFill/>
          </a:ln>
        </p:spPr>
      </p:pic>
      <p:sp>
        <p:nvSpPr>
          <p:cNvPr id="1476" name="Text Box 3"/>
          <p:cNvSpPr/>
          <p:nvPr/>
        </p:nvSpPr>
        <p:spPr>
          <a:xfrm>
            <a:off x="304920" y="1752480"/>
            <a:ext cx="51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猪八戒照镜子—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WordArt 4"/>
          <p:cNvSpPr txBox="1"/>
          <p:nvPr/>
        </p:nvSpPr>
        <p:spPr>
          <a:xfrm>
            <a:off x="2438280" y="304920"/>
            <a:ext cx="419112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歇后语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sp>
        <p:nvSpPr>
          <p:cNvPr id="1478" name="Text Box 5"/>
          <p:cNvSpPr/>
          <p:nvPr/>
        </p:nvSpPr>
        <p:spPr>
          <a:xfrm>
            <a:off x="4038480" y="423540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多管闲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Text Box 6"/>
          <p:cNvSpPr/>
          <p:nvPr/>
        </p:nvSpPr>
        <p:spPr>
          <a:xfrm>
            <a:off x="304920" y="351936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小葱拌豆腐—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Text Box 7"/>
          <p:cNvSpPr/>
          <p:nvPr/>
        </p:nvSpPr>
        <p:spPr>
          <a:xfrm>
            <a:off x="4648320" y="358128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一清（青）二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Text Box 8"/>
          <p:cNvSpPr/>
          <p:nvPr/>
        </p:nvSpPr>
        <p:spPr>
          <a:xfrm>
            <a:off x="304920" y="4859280"/>
            <a:ext cx="579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狗拿耗子—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Text Box 9"/>
          <p:cNvSpPr/>
          <p:nvPr/>
        </p:nvSpPr>
        <p:spPr>
          <a:xfrm>
            <a:off x="5334120" y="236232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里外不是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bei jing-17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4" name="Text Box 3"/>
          <p:cNvSpPr/>
          <p:nvPr/>
        </p:nvSpPr>
        <p:spPr>
          <a:xfrm>
            <a:off x="1187280" y="1884240"/>
            <a:ext cx="77058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023d"/>
                </a:solidFill>
                <a:latin typeface="Times New Roman"/>
              </a:rPr>
              <a:t>惊愕（       ）   诡秘（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023d"/>
                </a:solidFill>
                <a:latin typeface="Times New Roman"/>
              </a:rPr>
              <a:t>本事（       ）   清楚（       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023d"/>
                </a:solidFill>
                <a:latin typeface="Times New Roman"/>
              </a:rPr>
              <a:t>兴许（       ）   径直（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023d"/>
                </a:solidFill>
                <a:latin typeface="Times New Roman"/>
              </a:rPr>
              <a:t>朦胧（       ）   钦佩（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 Box 4"/>
          <p:cNvSpPr/>
          <p:nvPr/>
        </p:nvSpPr>
        <p:spPr>
          <a:xfrm>
            <a:off x="1117440" y="549360"/>
            <a:ext cx="712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023d"/>
                </a:solidFill>
                <a:latin typeface="Times New Roman"/>
                <a:ea typeface="黑体"/>
              </a:rPr>
              <a:t>说说下列词语的            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Text Box 5"/>
          <p:cNvSpPr/>
          <p:nvPr/>
        </p:nvSpPr>
        <p:spPr>
          <a:xfrm>
            <a:off x="2770200" y="180324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惊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Text Box 6"/>
          <p:cNvSpPr/>
          <p:nvPr/>
        </p:nvSpPr>
        <p:spPr>
          <a:xfrm>
            <a:off x="2698920" y="2882880"/>
            <a:ext cx="20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本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Text Box 7"/>
          <p:cNvSpPr/>
          <p:nvPr/>
        </p:nvSpPr>
        <p:spPr>
          <a:xfrm>
            <a:off x="2771640" y="381960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也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Text Box 8"/>
          <p:cNvSpPr/>
          <p:nvPr/>
        </p:nvSpPr>
        <p:spPr>
          <a:xfrm>
            <a:off x="6443640" y="285264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明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Text Box 9"/>
          <p:cNvSpPr/>
          <p:nvPr/>
        </p:nvSpPr>
        <p:spPr>
          <a:xfrm>
            <a:off x="6370560" y="3860640"/>
            <a:ext cx="20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直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Text Box 10"/>
          <p:cNvSpPr/>
          <p:nvPr/>
        </p:nvSpPr>
        <p:spPr>
          <a:xfrm>
            <a:off x="6372360" y="180324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神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Oval 11"/>
          <p:cNvSpPr/>
          <p:nvPr/>
        </p:nvSpPr>
        <p:spPr>
          <a:xfrm>
            <a:off x="971640" y="2133720"/>
            <a:ext cx="215640" cy="215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Oval 12"/>
          <p:cNvSpPr/>
          <p:nvPr/>
        </p:nvSpPr>
        <p:spPr>
          <a:xfrm>
            <a:off x="971640" y="3141720"/>
            <a:ext cx="21564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Oval 13"/>
          <p:cNvSpPr/>
          <p:nvPr/>
        </p:nvSpPr>
        <p:spPr>
          <a:xfrm>
            <a:off x="971640" y="4149720"/>
            <a:ext cx="21564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Oval 14"/>
          <p:cNvSpPr/>
          <p:nvPr/>
        </p:nvSpPr>
        <p:spPr>
          <a:xfrm>
            <a:off x="4643280" y="2133720"/>
            <a:ext cx="216000" cy="215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Oval 15"/>
          <p:cNvSpPr/>
          <p:nvPr/>
        </p:nvSpPr>
        <p:spPr>
          <a:xfrm>
            <a:off x="4643280" y="3141720"/>
            <a:ext cx="21600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Oval 16"/>
          <p:cNvSpPr/>
          <p:nvPr/>
        </p:nvSpPr>
        <p:spPr>
          <a:xfrm>
            <a:off x="4643280" y="4149720"/>
            <a:ext cx="21600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Oval 17"/>
          <p:cNvSpPr/>
          <p:nvPr/>
        </p:nvSpPr>
        <p:spPr>
          <a:xfrm>
            <a:off x="4643280" y="5157720"/>
            <a:ext cx="21600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Oval 18"/>
          <p:cNvSpPr/>
          <p:nvPr/>
        </p:nvSpPr>
        <p:spPr>
          <a:xfrm>
            <a:off x="971640" y="5084640"/>
            <a:ext cx="21564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Text Box 19"/>
          <p:cNvSpPr/>
          <p:nvPr/>
        </p:nvSpPr>
        <p:spPr>
          <a:xfrm>
            <a:off x="2843280" y="48276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模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 Box 20"/>
          <p:cNvSpPr/>
          <p:nvPr/>
        </p:nvSpPr>
        <p:spPr>
          <a:xfrm>
            <a:off x="6443640" y="4827600"/>
            <a:ext cx="20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佩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 Box 21"/>
          <p:cNvSpPr/>
          <p:nvPr/>
        </p:nvSpPr>
        <p:spPr>
          <a:xfrm>
            <a:off x="5076720" y="5796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023d"/>
                </a:solidFill>
                <a:latin typeface="Times New Roman"/>
                <a:ea typeface="黑体"/>
              </a:rPr>
              <a:t>近义词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3" name="Picture 22" descr="http://www.szkp.org.cn/info_images/15/50/811-1.jpg">
            <a:hlinkClick r:id="rId3" action="ppaction://hlinksldjump"/>
          </p:cNvPr>
          <p:cNvPicPr/>
          <p:nvPr/>
        </p:nvPicPr>
        <p:blipFill>
          <a:blip r:embed="rId4"/>
          <a:srcRect l="3704" t="3664" r="3704" b="3664"/>
          <a:stretch/>
        </p:blipFill>
        <p:spPr>
          <a:xfrm>
            <a:off x="7093080" y="5661000"/>
            <a:ext cx="190476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1492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1492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0" restart="whenNotActive" nodeType="interactiveSeq" fill="hold">
                <p:stCondLst>
                  <p:cond evt="onClick">
                    <p:tgtEl>
                      <p:spTgt spid="1493"/>
                    </p:tgtEl>
                  </p:cond>
                </p:stCondLst>
                <p:childTnLst>
                  <p:par>
                    <p:cTn id="601" fill="hold">
                      <p:stCondLst>
                        <p:cond evt="onClick">
                          <p:tgtEl>
                            <p:spTgt spid="1493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1494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1494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evt="onClick">
                    <p:tgtEl>
                      <p:spTgt spid="1495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1495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5" restart="whenNotActive" nodeType="interactiveSeq" fill="hold">
                <p:stCondLst>
                  <p:cond evt="onClick">
                    <p:tgtEl>
                      <p:spTgt spid="1496"/>
                    </p:tgtEl>
                  </p:cond>
                </p:stCondLst>
                <p:childTnLst>
                  <p:par>
                    <p:cTn id="616" fill="hold">
                      <p:stCondLst>
                        <p:cond evt="onClick">
                          <p:tgtEl>
                            <p:spTgt spid="1496"/>
                          </p:tgtEl>
                        </p:cond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0" restart="whenNotActive" nodeType="interactiveSeq" fill="hold">
                <p:stCondLst>
                  <p:cond evt="onClick">
                    <p:tgtEl>
                      <p:spTgt spid="1497"/>
                    </p:tgtEl>
                  </p:cond>
                </p:stCondLst>
                <p:childTnLst>
                  <p:par>
                    <p:cTn id="621" fill="hold">
                      <p:stCondLst>
                        <p:cond evt="onClick">
                          <p:tgtEl>
                            <p:spTgt spid="1497"/>
                          </p:tgtEl>
                        </p:cond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5" restart="whenNotActive" nodeType="interactiveSeq" fill="hold">
                <p:stCondLst>
                  <p:cond evt="onClick">
                    <p:tgtEl>
                      <p:spTgt spid="1498"/>
                    </p:tgtEl>
                  </p:cond>
                </p:stCondLst>
                <p:childTnLst>
                  <p:par>
                    <p:cTn id="626" fill="hold">
                      <p:stCondLst>
                        <p:cond evt="onClick">
                          <p:tgtEl>
                            <p:spTgt spid="1498"/>
                          </p:tgtEl>
                        </p:cond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0" restart="whenNotActive" nodeType="interactiveSeq" fill="hold">
                <p:stCondLst>
                  <p:cond evt="onClick">
                    <p:tgtEl>
                      <p:spTgt spid="1499"/>
                    </p:tgtEl>
                  </p:cond>
                </p:stCondLst>
                <p:childTnLst>
                  <p:par>
                    <p:cTn id="631" fill="hold">
                      <p:stCondLst>
                        <p:cond evt="onClick">
                          <p:tgtEl>
                            <p:spTgt spid="1499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5" restart="whenNotActive" nodeType="interactiveSeq" fill="hold">
                <p:stCondLst>
                  <p:cond evt="onClick">
                    <p:tgtEl>
                      <p:spTgt spid="1502"/>
                    </p:tgtEl>
                  </p:cond>
                </p:stCondLst>
                <p:childTnLst>
                  <p:par>
                    <p:cTn id="636" fill="hold">
                      <p:stCondLst>
                        <p:cond evt="onClick">
                          <p:tgtEl>
                            <p:spTgt spid="1502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0f5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Text Box 3"/>
          <p:cNvSpPr/>
          <p:nvPr/>
        </p:nvSpPr>
        <p:spPr>
          <a:xfrm>
            <a:off x="755640" y="1700280"/>
            <a:ext cx="792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Text Box 4"/>
          <p:cNvSpPr/>
          <p:nvPr/>
        </p:nvSpPr>
        <p:spPr>
          <a:xfrm>
            <a:off x="324000" y="260280"/>
            <a:ext cx="8137440" cy="22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华文行楷"/>
              </a:rPr>
              <a:t>扑朔迷离的保护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    比目鱼能随时改变身体上的颜色以躲避敌害，当它躺在水底淤泥上时，背部会出现与淤泥一样的细密黑点；当它游动在海草丛中时，其体色又变得与海草极为相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颈鹿的迷彩更是别具一格，当它隐蔽在树荫下时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以外，敌害就很难分辨。长颈鹿的迷彩妙用，使人们受到很大的启示，在军事上，许多战车、炮车、卡车和战士的服装，都使用了和长颈鹿花纹很相似的迷彩，起到了很好的隐蔽效果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Text Box 3"/>
          <p:cNvSpPr/>
          <p:nvPr/>
        </p:nvSpPr>
        <p:spPr>
          <a:xfrm>
            <a:off x="755640" y="1700280"/>
            <a:ext cx="792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Text Box 4"/>
          <p:cNvSpPr/>
          <p:nvPr/>
        </p:nvSpPr>
        <p:spPr>
          <a:xfrm>
            <a:off x="324000" y="260280"/>
            <a:ext cx="81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Text Box 5"/>
          <p:cNvSpPr/>
          <p:nvPr/>
        </p:nvSpPr>
        <p:spPr>
          <a:xfrm>
            <a:off x="468360" y="836640"/>
            <a:ext cx="8496360" cy="22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华文行楷"/>
              </a:rPr>
              <a:t>惟妙惟肖的伪装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ff"/>
                </a:solidFill>
                <a:latin typeface="Arial"/>
              </a:rPr>
              <a:t>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称为“伪装大师”的章鱼，它的拟态术更是技高一筹，有时把自己伪装扮成一束珊瑚，有时又把自己装扮成一堆闪光的砾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非洲的丛林里有一种非常奇特的小鸟，它的拟态本领更为绝妙，当它落在树枝上时，张开双翼，酷似五个美丽的花瓣，它的头部如同鲜艳的花蕊，这种巧妙的伪装，不仅可骗过巨鹰的袭击，而且还能轻易地捕捉到受骗上当前来“采蜜”的愚蠢小昆虫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Text Box 3"/>
          <p:cNvSpPr/>
          <p:nvPr/>
        </p:nvSpPr>
        <p:spPr>
          <a:xfrm>
            <a:off x="755640" y="1700280"/>
            <a:ext cx="792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Text Box 4"/>
          <p:cNvSpPr/>
          <p:nvPr/>
        </p:nvSpPr>
        <p:spPr>
          <a:xfrm>
            <a:off x="324000" y="260280"/>
            <a:ext cx="81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Text Box 5"/>
          <p:cNvSpPr/>
          <p:nvPr/>
        </p:nvSpPr>
        <p:spPr>
          <a:xfrm>
            <a:off x="684360" y="404640"/>
            <a:ext cx="7272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华文行楷"/>
                <a:ea typeface="华文行楷"/>
              </a:rPr>
              <a:t>针锋相对的自卫术</a:t>
            </a:r>
            <a:r>
              <a:rPr b="1" lang="zh-CN" sz="4000" spc="-1" strike="noStrike">
                <a:solidFill>
                  <a:srgbClr val="ff66ff"/>
                </a:solidFill>
                <a:latin typeface="华文行楷"/>
                <a:ea typeface="华文行楷"/>
              </a:rPr>
              <a:t> </a:t>
            </a:r>
            <a:br>
              <a:rPr sz="40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尖刺是动物自卫的一种锐利的武器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在地中海生活着一种鱼，平时针刺平贴在身上，当有危险时它便立即冲到水面，大口吞咽空气，使身体膨胀成一个圆球，而全身的针刺也向四面八方竖起，危险过去后，它便放出肚里的空气，身体又恢复原状。　 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与刺猬相比，豪猪的棘毛更加威武。御敌时，先将棘毛相互摩擦而发出响声向对方示威；如果敌害继续逼近时，它就迅速转过身来，突然向后刺去，就连凶猛的虎、豹也常常为其所伤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Text Box 3"/>
          <p:cNvSpPr/>
          <p:nvPr/>
        </p:nvSpPr>
        <p:spPr>
          <a:xfrm>
            <a:off x="539640" y="176040"/>
            <a:ext cx="799308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ff"/>
                </a:solidFill>
                <a:latin typeface="Arial"/>
                <a:ea typeface="华文行楷"/>
              </a:rPr>
              <a:t>貌似强大的威慑术</a:t>
            </a:r>
            <a:r>
              <a:rPr b="0" lang="zh-CN" sz="1800" spc="-1" strike="noStrike">
                <a:solidFill>
                  <a:srgbClr val="0099ff"/>
                </a:solidFill>
                <a:latin typeface="Arial"/>
              </a:rPr>
              <a:t>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些动物在遇到敌害时，便会假装成巨大而凶猛的样子，以吓退敌人的进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澳洲皱皮蜥蜴，在它受到敌害袭击时，便把颈部周围的皱皮展开，很象一把张开的伞，这使它的样子看起来似乎很庞大，令敌害受惊而逃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南美洲有一种“卡里果蝶”，它后翅上的图案形状和色彩均象猫头鹰的头部，如果遇到鸟儿追捕它时，就立刻头部向下，后翅朝上，鸟儿见了以为是碰到了了凶恶的猫头鹰，吓得马上飞逃而去，不敢再来侵犯它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Text Box 3"/>
          <p:cNvSpPr/>
          <p:nvPr/>
        </p:nvSpPr>
        <p:spPr>
          <a:xfrm>
            <a:off x="755640" y="1700280"/>
            <a:ext cx="792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Text Box 4"/>
          <p:cNvSpPr/>
          <p:nvPr/>
        </p:nvSpPr>
        <p:spPr>
          <a:xfrm>
            <a:off x="250920" y="620640"/>
            <a:ext cx="8137440" cy="29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9900"/>
                </a:solidFill>
                <a:latin typeface="Arial"/>
                <a:ea typeface="华文行楷"/>
              </a:rPr>
              <a:t>偃旗息鼓的装死术</a:t>
            </a:r>
            <a:r>
              <a:rPr b="1" lang="zh-CN" sz="1800" spc="-1" strike="noStrike">
                <a:solidFill>
                  <a:srgbClr val="6699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装死，也是有些动物的护身法宝。狡猾而诡计多端的狐狸，当它被猎人捉到时，就会伪装停止呼吸，任人摆布。当猎人稍一疏忽，它便乘机逃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负鼠在遇到敌害或受到惊吓时，也会躺下装死，一旦敌人受骗上当，它便逃之夭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昆虫中，为避开只吃活食的天敌而装死的例子就更多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Text Box 2"/>
          <p:cNvSpPr/>
          <p:nvPr/>
        </p:nvSpPr>
        <p:spPr>
          <a:xfrm>
            <a:off x="755640" y="1700280"/>
            <a:ext cx="792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Text Box 3"/>
          <p:cNvSpPr/>
          <p:nvPr/>
        </p:nvSpPr>
        <p:spPr>
          <a:xfrm>
            <a:off x="2050920" y="189000"/>
            <a:ext cx="813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Text Box 4"/>
          <p:cNvSpPr/>
          <p:nvPr/>
        </p:nvSpPr>
        <p:spPr>
          <a:xfrm>
            <a:off x="1763640" y="126828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4091760" y="1844640"/>
            <a:ext cx="91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一个有心人，认真观察小动物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一个有情人，与小动物交朋友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826920" y="2060640"/>
            <a:ext cx="6048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39640" y="8380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斑斑驳驳：一种颜色中加杂有别的颜色，或颜色深浅不一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多指植物和其他物体被阳光照射而形成不同的颜色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539640" y="2927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惊愕：吃惊而发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539640" y="34304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诡秘（行动、态度等）隐秘不易捉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539640" y="260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眼馋：羡慕；眼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539640" y="4006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钦佩：敬重佩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539640" y="45831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蹑手蹑脚：形容走路时脚步放得很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539640" y="50864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必经之路：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经过。一定要经过的道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z_01"/>
          <p:cNvPicPr/>
          <p:nvPr/>
        </p:nvPicPr>
        <p:blipFill>
          <a:blip r:embed="rId2"/>
          <a:stretch/>
        </p:blipFill>
        <p:spPr>
          <a:xfrm>
            <a:off x="5940360" y="1224000"/>
            <a:ext cx="3419640" cy="563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z_01"/>
          <p:cNvPicPr/>
          <p:nvPr/>
        </p:nvPicPr>
        <p:blipFill>
          <a:blip r:embed="rId3"/>
          <a:stretch/>
        </p:blipFill>
        <p:spPr>
          <a:xfrm>
            <a:off x="-152280" y="3962520"/>
            <a:ext cx="4105080" cy="30798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50920" y="2349360"/>
            <a:ext cx="6192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自读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思考：课文写了刺猬的几件事情？哪几件事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04200" y="1052640"/>
            <a:ext cx="16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自学提示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792000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的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带刺的朋友是（      ），      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              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它能利用（       ）（         ）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和（             ）。                       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仿宋"/>
                <a:ea typeface="华文仿宋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324480" y="17524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352680" y="28195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5324400" y="28954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干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981080" y="38862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干什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50"/>
                            </p:stCondLst>
                            <p:childTnLst>
                              <p:par>
                                <p:cTn id="68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"/>
                            </p:stCondLst>
                            <p:childTnLst>
                              <p:par>
                                <p:cTn id="79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50"/>
                            </p:stCondLst>
                            <p:childTnLst>
                              <p:par>
                                <p:cTn id="90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50"/>
                            </p:stCondLst>
                            <p:childTnLst>
                              <p:par>
                                <p:cTn id="101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792000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的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带刺的朋友是（      ），         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                 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它能利用（       ）（      ）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和（       ）。                    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仿宋"/>
                <a:ea typeface="华文仿宋"/>
              </a:rPr>
              <a:t>  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523880" y="1828800"/>
            <a:ext cx="180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仿宋"/>
              </a:rPr>
              <a:t>刺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581280" y="327672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仿宋"/>
              </a:rPr>
              <a:t>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6095880" y="304812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仿宋"/>
              </a:rPr>
              <a:t>偷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763640" y="4311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仿宋"/>
              </a:rPr>
              <a:t>自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395280" y="90792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仿宋"/>
              </a:rPr>
              <a:t>秋天，枣树上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仿宋"/>
              </a:rPr>
              <a:t>挂满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仿宋"/>
              </a:rPr>
              <a:t>了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仿宋"/>
              </a:rPr>
              <a:t>一颗颗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仿宋"/>
              </a:rPr>
              <a:t>红枣儿，风儿一吹，轻轻摆动，如同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仿宋"/>
              </a:rPr>
              <a:t>无数颗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仿宋"/>
              </a:rPr>
              <a:t>飘香的玛瑙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仿宋"/>
              </a:rPr>
              <a:t>晃来晃去，看着就让人眼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天晚上，新月斜挂，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朦胧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月光透过枝叶，               地洒在地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4859280" y="36450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斑斑驳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146160" y="4664160"/>
            <a:ext cx="929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9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刚走到后院的枣树旁边，忽然，看见一个圆乎乎的东西，正缓缓地往树上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我惊愕地赶忙贴到墙根，注视着它的行动。     那个东西，一定没有发现我在监视它，仍旧诡秘地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向老杈，又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向伸出的枝丫… …挂满红枣的树杈，慢慢弯下来。后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那个东西停住脚，兴许是在用力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摇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吧，树枝哗哗作响，红枣“劈里啪啦”地落了一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24000" y="0"/>
            <a:ext cx="46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仿宋"/>
              </a:rPr>
              <a:t>刺猬偷枣</a:t>
            </a:r>
            <a:r>
              <a:rPr b="1" lang="zh-CN" sz="54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—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5-08-05T20:06:36Z</dcterms:modified>
  <cp:revision>0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