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C901-792D-4CF4-A94D-744008B99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F177-F526-4E28-ACAC-B421D220F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675C-09F5-42B3-B7FE-DE7754131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3AF0-F803-462E-9513-4C58685EC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FE68-B5BD-46DB-A2FE-84EC8967D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8352-0BCB-41AE-884A-21F3AF1AD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7F64-F3C5-4A8C-BA09-C38F52824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B32E-FD93-4F38-A891-B2DBBAB0C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194E-A062-4CB5-B68D-7527C5D86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BB47-4240-4A73-A109-3FBA8594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E7AB-DCE1-4180-B902-A293A4FD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D494-A18A-463F-84F8-CEAD264A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E7CC1-82B0-47A0-8DA2-71EABADA0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ype.wav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ype.wav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ype.wav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ype.wav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ype.wav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ype.wav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ype.wav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ype.wav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2"/>
          <p:cNvSpPr/>
          <p:nvPr/>
        </p:nvSpPr>
        <p:spPr>
          <a:xfrm>
            <a:off x="0" y="5867280"/>
            <a:ext cx="91440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3"/>
          <p:cNvSpPr/>
          <p:nvPr/>
        </p:nvSpPr>
        <p:spPr>
          <a:xfrm>
            <a:off x="0" y="5789520"/>
            <a:ext cx="91440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4"/>
          <p:cNvSpPr/>
          <p:nvPr/>
        </p:nvSpPr>
        <p:spPr>
          <a:xfrm>
            <a:off x="755640" y="0"/>
            <a:ext cx="0" cy="6858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5"/>
          <p:cNvSpPr/>
          <p:nvPr/>
        </p:nvSpPr>
        <p:spPr>
          <a:xfrm>
            <a:off x="900000" y="0"/>
            <a:ext cx="0" cy="68580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189720" y="798120"/>
            <a:ext cx="710280" cy="41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Times New Roman"/>
                <a:ea typeface="楷体_GB2312"/>
              </a:rPr>
              <a:t>· ·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《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古文二则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》</a:t>
            </a:r>
            <a:r>
              <a:rPr b="1" lang="en-US" sz="3600" spc="-1" strike="noStrike">
                <a:solidFill>
                  <a:srgbClr val="bbe0e3"/>
                </a:solidFill>
                <a:latin typeface="Times New Roman"/>
                <a:ea typeface="楷体_GB2312"/>
              </a:rPr>
              <a:t>·  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1908000" y="1341360"/>
            <a:ext cx="6512040" cy="18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i="1" lang="en-US" sz="5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1" i="1" lang="zh-CN" sz="5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古文二则</a:t>
            </a:r>
            <a:r>
              <a:rPr b="1" i="1" lang="en-US" sz="5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——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菊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8">
            <a:hlinkClick r:id="rId1" action="ppaction://hlinksldjump"/>
          </p:cNvPr>
          <p:cNvSpPr/>
          <p:nvPr/>
        </p:nvSpPr>
        <p:spPr>
          <a:xfrm>
            <a:off x="149400" y="5440320"/>
            <a:ext cx="733320" cy="1486800"/>
          </a:xfrm>
          <a:prstGeom prst="irregularSeal1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174600" y="403200"/>
            <a:ext cx="58248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@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0">
            <a:hlinkClick r:id="rId2" action="ppaction://hlinksldjump"/>
          </p:cNvPr>
          <p:cNvSpPr/>
          <p:nvPr/>
        </p:nvSpPr>
        <p:spPr>
          <a:xfrm>
            <a:off x="150840" y="5440320"/>
            <a:ext cx="763560" cy="1486800"/>
          </a:xfrm>
          <a:prstGeom prst="irregularSeal1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菊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Line 2"/>
          <p:cNvSpPr/>
          <p:nvPr/>
        </p:nvSpPr>
        <p:spPr>
          <a:xfrm>
            <a:off x="0" y="5867280"/>
            <a:ext cx="91440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3"/>
          <p:cNvSpPr/>
          <p:nvPr/>
        </p:nvSpPr>
        <p:spPr>
          <a:xfrm>
            <a:off x="0" y="5789520"/>
            <a:ext cx="91440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4"/>
          <p:cNvSpPr/>
          <p:nvPr/>
        </p:nvSpPr>
        <p:spPr>
          <a:xfrm>
            <a:off x="900000" y="0"/>
            <a:ext cx="0" cy="6858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5"/>
          <p:cNvSpPr/>
          <p:nvPr/>
        </p:nvSpPr>
        <p:spPr>
          <a:xfrm>
            <a:off x="760320" y="0"/>
            <a:ext cx="0" cy="6858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189720" y="828000"/>
            <a:ext cx="710280" cy="40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600" spc="-1" strike="noStrike">
                <a:solidFill>
                  <a:srgbClr val="bbe0e3"/>
                </a:solidFill>
                <a:latin typeface="Times New Roman"/>
                <a:ea typeface="楷体_GB2312"/>
              </a:rPr>
              <a:t>· ·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《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古文二则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》</a:t>
            </a:r>
            <a:r>
              <a:rPr b="0" lang="en-US" sz="3600" spc="-1" strike="noStrike">
                <a:solidFill>
                  <a:srgbClr val="bbe0e3"/>
                </a:solidFill>
                <a:latin typeface="Times New Roman"/>
                <a:ea typeface="楷体_GB2312"/>
              </a:rPr>
              <a:t>· 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2771640" y="333360"/>
            <a:ext cx="3275280" cy="97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zh-CN" sz="59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莲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826920" y="1625760"/>
            <a:ext cx="831708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莲花，亦曰荷花。种于暮春，开于盛夏。其叶，大者如盘，小者如钱。茎横泥中，其名曰藕。其实曰莲子。藕与莲子，皆可食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9">
            <a:hlinkClick r:id="rId1"/>
          </p:cNvPr>
          <p:cNvSpPr/>
          <p:nvPr/>
        </p:nvSpPr>
        <p:spPr>
          <a:xfrm>
            <a:off x="141120" y="4421160"/>
            <a:ext cx="758880" cy="1632960"/>
          </a:xfrm>
          <a:prstGeom prst="irregularSeal1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500"/>
                            </p:stCondLst>
                            <p:childTnLst>
                              <p:par>
                                <p:cTn id="2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2582640" y="1122480"/>
            <a:ext cx="2288160" cy="8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莲花，</a:t>
            </a: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亦曰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荷花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3"/>
          <p:cNvSpPr/>
          <p:nvPr/>
        </p:nvSpPr>
        <p:spPr>
          <a:xfrm>
            <a:off x="3403440" y="1914480"/>
            <a:ext cx="0" cy="790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4"/>
          <p:cNvSpPr/>
          <p:nvPr/>
        </p:nvSpPr>
        <p:spPr>
          <a:xfrm>
            <a:off x="4124160" y="1914480"/>
            <a:ext cx="0" cy="790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3040560" y="2705040"/>
            <a:ext cx="48960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43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也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3912480" y="2705040"/>
            <a:ext cx="81720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43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叫做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3447000" y="3759120"/>
            <a:ext cx="42876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zh-CN" sz="43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译文：莲花，也叫做荷花。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205680" y="1341360"/>
            <a:ext cx="81720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43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花名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3202920" y="906480"/>
            <a:ext cx="1556640" cy="8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</a:t>
            </a: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于暮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春，开于盛夏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"/>
          <p:cNvSpPr/>
          <p:nvPr/>
        </p:nvSpPr>
        <p:spPr>
          <a:xfrm>
            <a:off x="2058840" y="1857240"/>
            <a:ext cx="0" cy="790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4"/>
          <p:cNvSpPr/>
          <p:nvPr/>
        </p:nvSpPr>
        <p:spPr>
          <a:xfrm>
            <a:off x="2762280" y="1878120"/>
            <a:ext cx="0" cy="790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833840" y="2633760"/>
            <a:ext cx="48960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43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在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2697480" y="2633760"/>
            <a:ext cx="48960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43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晚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395280" y="3790800"/>
            <a:ext cx="849636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zh-CN" sz="43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译文：在春末时节种植，在盛夏时节开放。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4000680" y="1801800"/>
            <a:ext cx="374472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43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生长时节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1331640" y="1341360"/>
            <a:ext cx="4916880" cy="8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其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叶，</a:t>
            </a: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大者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</a:t>
            </a: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盘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小者如</a:t>
            </a: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钱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3"/>
          <p:cNvSpPr/>
          <p:nvPr/>
        </p:nvSpPr>
        <p:spPr>
          <a:xfrm>
            <a:off x="612720" y="2208240"/>
            <a:ext cx="0" cy="789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4"/>
          <p:cNvSpPr/>
          <p:nvPr/>
        </p:nvSpPr>
        <p:spPr>
          <a:xfrm>
            <a:off x="2363760" y="2208240"/>
            <a:ext cx="0" cy="789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148680" y="3138480"/>
            <a:ext cx="81720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43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它的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1863720" y="3067200"/>
            <a:ext cx="81720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43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大的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7"/>
          <p:cNvSpPr/>
          <p:nvPr/>
        </p:nvSpPr>
        <p:spPr>
          <a:xfrm>
            <a:off x="3801960" y="2208240"/>
            <a:ext cx="0" cy="789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8"/>
          <p:cNvSpPr/>
          <p:nvPr/>
        </p:nvSpPr>
        <p:spPr>
          <a:xfrm>
            <a:off x="6664320" y="2208240"/>
            <a:ext cx="0" cy="789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3229920" y="3067200"/>
            <a:ext cx="81720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43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磨盘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6092280" y="2997360"/>
            <a:ext cx="81720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43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铜钱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252360" y="4075200"/>
            <a:ext cx="849636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zh-CN" sz="43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译文：莲花的叶子，大的像磨盘，小的像铜钱。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5003640" y="4799160"/>
            <a:ext cx="35276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43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莲花的叶子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2001240" y="1341360"/>
            <a:ext cx="3385440" cy="8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茎</a:t>
            </a: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横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泥中，</a:t>
            </a: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其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</a:t>
            </a: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曰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藕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3"/>
          <p:cNvSpPr/>
          <p:nvPr/>
        </p:nvSpPr>
        <p:spPr>
          <a:xfrm>
            <a:off x="1828800" y="2208240"/>
            <a:ext cx="0" cy="789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1637640" y="2997360"/>
            <a:ext cx="147276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43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横着生长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252360" y="4075200"/>
            <a:ext cx="849636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zh-CN" sz="43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译文：莲花的茎横生在淤泥里，它的名字叫做藕。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5220720" y="2257560"/>
            <a:ext cx="147276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43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莲花的茎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2730960" y="1341360"/>
            <a:ext cx="1190880" cy="8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</a:t>
            </a: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实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曰莲子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3"/>
          <p:cNvSpPr/>
          <p:nvPr/>
        </p:nvSpPr>
        <p:spPr>
          <a:xfrm>
            <a:off x="2514600" y="2208240"/>
            <a:ext cx="0" cy="789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2199600" y="2852640"/>
            <a:ext cx="81720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43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果实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252360" y="4075200"/>
            <a:ext cx="849636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zh-CN" sz="43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译文：它的果实叫做莲子。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5525280" y="1411200"/>
            <a:ext cx="180036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43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莲花的果实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2144520" y="1486080"/>
            <a:ext cx="3819600" cy="8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藕与莲子，</a:t>
            </a: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皆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</a:t>
            </a: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食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也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3"/>
          <p:cNvSpPr/>
          <p:nvPr/>
        </p:nvSpPr>
        <p:spPr>
          <a:xfrm>
            <a:off x="4245120" y="2419200"/>
            <a:ext cx="0" cy="797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5484960" y="2349360"/>
            <a:ext cx="0" cy="789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3954960" y="3286080"/>
            <a:ext cx="48960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43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都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250240" y="3216240"/>
            <a:ext cx="48960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43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吃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252360" y="4075200"/>
            <a:ext cx="849636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zh-CN" sz="43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译文：藕和莲子，都可以吃。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Line 2"/>
          <p:cNvSpPr/>
          <p:nvPr/>
        </p:nvSpPr>
        <p:spPr>
          <a:xfrm>
            <a:off x="0" y="5867280"/>
            <a:ext cx="91440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3"/>
          <p:cNvSpPr/>
          <p:nvPr/>
        </p:nvSpPr>
        <p:spPr>
          <a:xfrm>
            <a:off x="0" y="5789520"/>
            <a:ext cx="91440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4"/>
          <p:cNvSpPr/>
          <p:nvPr/>
        </p:nvSpPr>
        <p:spPr>
          <a:xfrm>
            <a:off x="900000" y="0"/>
            <a:ext cx="0" cy="6858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5"/>
          <p:cNvSpPr/>
          <p:nvPr/>
        </p:nvSpPr>
        <p:spPr>
          <a:xfrm>
            <a:off x="760320" y="0"/>
            <a:ext cx="0" cy="6858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189720" y="828000"/>
            <a:ext cx="710280" cy="40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600" spc="-1" strike="noStrike">
                <a:solidFill>
                  <a:srgbClr val="bbe0e3"/>
                </a:solidFill>
                <a:latin typeface="Times New Roman"/>
                <a:ea typeface="楷体_GB2312"/>
              </a:rPr>
              <a:t>· ·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《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古文二则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》</a:t>
            </a:r>
            <a:r>
              <a:rPr b="0" lang="en-US" sz="3600" spc="-1" strike="noStrike">
                <a:solidFill>
                  <a:srgbClr val="bbe0e3"/>
                </a:solidFill>
                <a:latin typeface="Times New Roman"/>
                <a:ea typeface="楷体_GB2312"/>
              </a:rPr>
              <a:t>· 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5003640" y="0"/>
            <a:ext cx="3276720" cy="97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zh-CN" sz="59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莲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8">
            <a:hlinkClick r:id="rId1"/>
          </p:cNvPr>
          <p:cNvSpPr/>
          <p:nvPr/>
        </p:nvSpPr>
        <p:spPr>
          <a:xfrm>
            <a:off x="141120" y="4421160"/>
            <a:ext cx="758880" cy="1632960"/>
          </a:xfrm>
          <a:prstGeom prst="irregularSeal1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1628280" y="2298600"/>
            <a:ext cx="527760" cy="8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0"/>
          <p:cNvSpPr/>
          <p:nvPr/>
        </p:nvSpPr>
        <p:spPr>
          <a:xfrm>
            <a:off x="2554200" y="766800"/>
            <a:ext cx="647640" cy="3960720"/>
          </a:xfrm>
          <a:custGeom>
            <a:avLst/>
            <a:gdLst>
              <a:gd name="textAreaLeft" fmla="*/ 414000 w 647640"/>
              <a:gd name="textAreaRight" fmla="*/ 648000 w 647640"/>
              <a:gd name="textAreaTop" fmla="*/ 102960 h 3960720"/>
              <a:gd name="textAreaBottom" fmla="*/ 3857760 h 39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3372480" y="766800"/>
            <a:ext cx="893520" cy="8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花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2"/>
          <p:cNvSpPr/>
          <p:nvPr/>
        </p:nvSpPr>
        <p:spPr>
          <a:xfrm>
            <a:off x="3551400" y="1625760"/>
            <a:ext cx="1625040" cy="8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生长时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3445560" y="2349360"/>
            <a:ext cx="893520" cy="8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花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3518640" y="3067200"/>
            <a:ext cx="893520" cy="8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花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3697560" y="3860640"/>
            <a:ext cx="1625040" cy="8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花的果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000"/>
                            </p:stCondLst>
                            <p:childTnLst>
                              <p:par>
                                <p:cTn id="4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3166920" y="114480"/>
            <a:ext cx="3276720" cy="8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3362760" y="906480"/>
            <a:ext cx="1140480" cy="6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39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练习：自选一句说说句子意思。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612720" y="1914480"/>
            <a:ext cx="831384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莲花，亦曰荷花。种于暮春，开于盛夏。其叶，大者如盘，小者如钱。茎横泥中，其名曰藕。其实曰莲子。藕与莲子，皆可食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0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with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0" y="1050840"/>
            <a:ext cx="914400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莲花，也叫做荷花。</a:t>
            </a:r>
            <a:r>
              <a:rPr b="1" lang="zh-CN" sz="5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在春末时节种植，在盛夏时节开放。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莲花的叶子，大的像磨盘，小的像铜钱。</a:t>
            </a:r>
            <a:r>
              <a:rPr b="1" lang="zh-CN" sz="5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莲花的茎横生在淤泥里，它的名字叫做藕。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它的果实叫做莲子。</a:t>
            </a:r>
            <a:r>
              <a:rPr b="1" lang="zh-CN" sz="5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藕和莲子，都可以吃。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Line 2"/>
          <p:cNvSpPr/>
          <p:nvPr/>
        </p:nvSpPr>
        <p:spPr>
          <a:xfrm>
            <a:off x="0" y="5867280"/>
            <a:ext cx="91440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3"/>
          <p:cNvSpPr/>
          <p:nvPr/>
        </p:nvSpPr>
        <p:spPr>
          <a:xfrm>
            <a:off x="0" y="5789520"/>
            <a:ext cx="91440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4"/>
          <p:cNvSpPr/>
          <p:nvPr/>
        </p:nvSpPr>
        <p:spPr>
          <a:xfrm>
            <a:off x="900000" y="0"/>
            <a:ext cx="0" cy="6858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5"/>
          <p:cNvSpPr/>
          <p:nvPr/>
        </p:nvSpPr>
        <p:spPr>
          <a:xfrm>
            <a:off x="760320" y="0"/>
            <a:ext cx="0" cy="6858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189720" y="828000"/>
            <a:ext cx="710280" cy="40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600" spc="-1" strike="noStrike">
                <a:solidFill>
                  <a:srgbClr val="bbe0e3"/>
                </a:solidFill>
                <a:latin typeface="Times New Roman"/>
                <a:ea typeface="楷体_GB2312"/>
              </a:rPr>
              <a:t>· ·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《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古文二则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》</a:t>
            </a:r>
            <a:r>
              <a:rPr b="0" lang="en-US" sz="3600" spc="-1" strike="noStrike">
                <a:solidFill>
                  <a:srgbClr val="bbe0e3"/>
                </a:solidFill>
                <a:latin typeface="Times New Roman"/>
                <a:ea typeface="楷体_GB2312"/>
              </a:rPr>
              <a:t>· 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2771640" y="333360"/>
            <a:ext cx="3275280" cy="97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zh-CN" sz="59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菊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826920" y="1555920"/>
            <a:ext cx="8317080" cy="22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菊花盛开，清香四溢。其瓣如丝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如爪。其色或黄、或白、或赭、或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，种类繁多。性耐寒，严霜既降，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花零落，惟菊独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9">
            <a:hlinkClick r:id="rId1"/>
          </p:cNvPr>
          <p:cNvSpPr/>
          <p:nvPr/>
        </p:nvSpPr>
        <p:spPr>
          <a:xfrm>
            <a:off x="141120" y="4421160"/>
            <a:ext cx="758880" cy="1632960"/>
          </a:xfrm>
          <a:prstGeom prst="irregularSeal1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莲花"/>
          <p:cNvPicPr/>
          <p:nvPr/>
        </p:nvPicPr>
        <p:blipFill>
          <a:blip r:embed="rId1"/>
          <a:srcRect l="0" t="0" r="-126" b="5925"/>
          <a:stretch/>
        </p:blipFill>
        <p:spPr>
          <a:xfrm>
            <a:off x="1000080" y="749160"/>
            <a:ext cx="715320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藕"/>
          <p:cNvPicPr/>
          <p:nvPr/>
        </p:nvPicPr>
        <p:blipFill>
          <a:blip r:embed="rId1"/>
          <a:srcRect l="0" t="0" r="36525" b="16223"/>
          <a:stretch/>
        </p:blipFill>
        <p:spPr>
          <a:xfrm>
            <a:off x="1116000" y="906480"/>
            <a:ext cx="6275520" cy="39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Line 2"/>
          <p:cNvSpPr/>
          <p:nvPr/>
        </p:nvSpPr>
        <p:spPr>
          <a:xfrm>
            <a:off x="0" y="5867280"/>
            <a:ext cx="91440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"/>
          <p:cNvSpPr/>
          <p:nvPr/>
        </p:nvSpPr>
        <p:spPr>
          <a:xfrm>
            <a:off x="0" y="5789520"/>
            <a:ext cx="91440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4"/>
          <p:cNvSpPr/>
          <p:nvPr/>
        </p:nvSpPr>
        <p:spPr>
          <a:xfrm>
            <a:off x="900000" y="0"/>
            <a:ext cx="0" cy="6858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5"/>
          <p:cNvSpPr/>
          <p:nvPr/>
        </p:nvSpPr>
        <p:spPr>
          <a:xfrm>
            <a:off x="760320" y="0"/>
            <a:ext cx="0" cy="6858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189720" y="828000"/>
            <a:ext cx="710280" cy="40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600" spc="-1" strike="noStrike">
                <a:solidFill>
                  <a:srgbClr val="bbe0e3"/>
                </a:solidFill>
                <a:latin typeface="Times New Roman"/>
                <a:ea typeface="楷体_GB2312"/>
              </a:rPr>
              <a:t>· ·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《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古文二则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》</a:t>
            </a:r>
            <a:r>
              <a:rPr b="0" lang="en-US" sz="3600" spc="-1" strike="noStrike">
                <a:solidFill>
                  <a:srgbClr val="bbe0e3"/>
                </a:solidFill>
                <a:latin typeface="Times New Roman"/>
                <a:ea typeface="楷体_GB2312"/>
              </a:rPr>
              <a:t>· 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3166920" y="184320"/>
            <a:ext cx="327672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43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菊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8">
            <a:hlinkClick r:id="rId1"/>
          </p:cNvPr>
          <p:cNvSpPr/>
          <p:nvPr/>
        </p:nvSpPr>
        <p:spPr>
          <a:xfrm>
            <a:off x="141120" y="4421160"/>
            <a:ext cx="758880" cy="1632960"/>
          </a:xfrm>
          <a:prstGeom prst="irregularSeal1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2395440" y="1122480"/>
            <a:ext cx="3751200" cy="8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菊花</a:t>
            </a: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盛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开，清香四</a:t>
            </a: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溢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0"/>
          <p:cNvSpPr/>
          <p:nvPr/>
        </p:nvSpPr>
        <p:spPr>
          <a:xfrm>
            <a:off x="2970360" y="1905120"/>
            <a:ext cx="0" cy="790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2633040" y="2494080"/>
            <a:ext cx="81720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43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旺盛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2"/>
          <p:cNvSpPr/>
          <p:nvPr/>
        </p:nvSpPr>
        <p:spPr>
          <a:xfrm>
            <a:off x="6286680" y="1905120"/>
            <a:ext cx="0" cy="790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5940720" y="2668680"/>
            <a:ext cx="114516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43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发散出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4"/>
          <p:cNvSpPr/>
          <p:nvPr/>
        </p:nvSpPr>
        <p:spPr>
          <a:xfrm>
            <a:off x="1692000" y="3759120"/>
            <a:ext cx="4421520" cy="1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zh-CN" sz="43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译文：菊花盛开，空气中散发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zh-CN" sz="43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</a:t>
            </a:r>
            <a:r>
              <a:rPr b="1" lang="zh-CN" sz="4300" spc="-1" strike="noStrike">
                <a:solidFill>
                  <a:srgbClr val="000000"/>
                </a:solidFill>
                <a:latin typeface="华文新魏"/>
                <a:ea typeface="华文新魏"/>
              </a:rPr>
              <a:t>着清香的香味儿。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5"/>
          <p:cNvSpPr/>
          <p:nvPr/>
        </p:nvSpPr>
        <p:spPr>
          <a:xfrm>
            <a:off x="4356000" y="2130480"/>
            <a:ext cx="1586160" cy="8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花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Line 2"/>
          <p:cNvSpPr/>
          <p:nvPr/>
        </p:nvSpPr>
        <p:spPr>
          <a:xfrm>
            <a:off x="0" y="5867280"/>
            <a:ext cx="91440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"/>
          <p:cNvSpPr/>
          <p:nvPr/>
        </p:nvSpPr>
        <p:spPr>
          <a:xfrm>
            <a:off x="0" y="5789520"/>
            <a:ext cx="91440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"/>
          <p:cNvSpPr/>
          <p:nvPr/>
        </p:nvSpPr>
        <p:spPr>
          <a:xfrm>
            <a:off x="900000" y="0"/>
            <a:ext cx="0" cy="6858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5"/>
          <p:cNvSpPr/>
          <p:nvPr/>
        </p:nvSpPr>
        <p:spPr>
          <a:xfrm>
            <a:off x="760320" y="0"/>
            <a:ext cx="0" cy="6858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189720" y="828000"/>
            <a:ext cx="710280" cy="40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600" spc="-1" strike="noStrike">
                <a:solidFill>
                  <a:srgbClr val="bbe0e3"/>
                </a:solidFill>
                <a:latin typeface="Times New Roman"/>
                <a:ea typeface="楷体_GB2312"/>
              </a:rPr>
              <a:t>· ·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《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古文二则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》</a:t>
            </a:r>
            <a:r>
              <a:rPr b="0" lang="en-US" sz="3600" spc="-1" strike="noStrike">
                <a:solidFill>
                  <a:srgbClr val="bbe0e3"/>
                </a:solidFill>
                <a:latin typeface="Times New Roman"/>
                <a:ea typeface="楷体_GB2312"/>
              </a:rPr>
              <a:t>· 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3166920" y="184320"/>
            <a:ext cx="327672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43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菊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8">
            <a:hlinkClick r:id="rId1"/>
          </p:cNvPr>
          <p:cNvSpPr/>
          <p:nvPr/>
        </p:nvSpPr>
        <p:spPr>
          <a:xfrm>
            <a:off x="141120" y="4421160"/>
            <a:ext cx="758880" cy="1632960"/>
          </a:xfrm>
          <a:prstGeom prst="irregularSeal1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2442960" y="1122480"/>
            <a:ext cx="2567160" cy="8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其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瓣如</a:t>
            </a: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丝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如</a:t>
            </a: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爪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0"/>
          <p:cNvSpPr/>
          <p:nvPr/>
        </p:nvSpPr>
        <p:spPr>
          <a:xfrm>
            <a:off x="1908000" y="1914480"/>
            <a:ext cx="0" cy="790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1372680" y="2705040"/>
            <a:ext cx="81720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43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菊花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2"/>
          <p:cNvSpPr/>
          <p:nvPr/>
        </p:nvSpPr>
        <p:spPr>
          <a:xfrm>
            <a:off x="3475080" y="1914480"/>
            <a:ext cx="0" cy="790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3234600" y="2822400"/>
            <a:ext cx="81720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43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细丝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1697400" y="3719520"/>
            <a:ext cx="4749120" cy="1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zh-CN" sz="43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译文：菊花的瓣像细丝，像蟹爪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zh-CN" sz="43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</a:t>
            </a:r>
            <a:r>
              <a:rPr b="1" lang="zh-CN" sz="43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细而卷曲。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5"/>
          <p:cNvSpPr/>
          <p:nvPr/>
        </p:nvSpPr>
        <p:spPr>
          <a:xfrm>
            <a:off x="5203800" y="1914480"/>
            <a:ext cx="0" cy="790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6"/>
          <p:cNvSpPr/>
          <p:nvPr/>
        </p:nvSpPr>
        <p:spPr>
          <a:xfrm>
            <a:off x="4707000" y="2752560"/>
            <a:ext cx="16556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43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蟹爪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7"/>
          <p:cNvSpPr/>
          <p:nvPr/>
        </p:nvSpPr>
        <p:spPr>
          <a:xfrm>
            <a:off x="5719680" y="1143000"/>
            <a:ext cx="1584360" cy="8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花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Line 2"/>
          <p:cNvSpPr/>
          <p:nvPr/>
        </p:nvSpPr>
        <p:spPr>
          <a:xfrm>
            <a:off x="0" y="5867280"/>
            <a:ext cx="91440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"/>
          <p:cNvSpPr/>
          <p:nvPr/>
        </p:nvSpPr>
        <p:spPr>
          <a:xfrm>
            <a:off x="0" y="5789520"/>
            <a:ext cx="91440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"/>
          <p:cNvSpPr/>
          <p:nvPr/>
        </p:nvSpPr>
        <p:spPr>
          <a:xfrm>
            <a:off x="900000" y="0"/>
            <a:ext cx="0" cy="6858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>
            <a:off x="760320" y="0"/>
            <a:ext cx="0" cy="6858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189720" y="828000"/>
            <a:ext cx="710280" cy="40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600" spc="-1" strike="noStrike">
                <a:solidFill>
                  <a:srgbClr val="bbe0e3"/>
                </a:solidFill>
                <a:latin typeface="Times New Roman"/>
                <a:ea typeface="楷体_GB2312"/>
              </a:rPr>
              <a:t>· ·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《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古文二则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》</a:t>
            </a:r>
            <a:r>
              <a:rPr b="0" lang="en-US" sz="3600" spc="-1" strike="noStrike">
                <a:solidFill>
                  <a:srgbClr val="bbe0e3"/>
                </a:solidFill>
                <a:latin typeface="Times New Roman"/>
                <a:ea typeface="楷体_GB2312"/>
              </a:rPr>
              <a:t>· 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166920" y="184320"/>
            <a:ext cx="327672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43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菊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8">
            <a:hlinkClick r:id="rId1"/>
          </p:cNvPr>
          <p:cNvSpPr/>
          <p:nvPr/>
        </p:nvSpPr>
        <p:spPr>
          <a:xfrm>
            <a:off x="141120" y="4421160"/>
            <a:ext cx="758880" cy="1632960"/>
          </a:xfrm>
          <a:prstGeom prst="irregularSeal1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2641680" y="1122480"/>
            <a:ext cx="3193560" cy="15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色</a:t>
            </a: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或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黄、</a:t>
            </a: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或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白、</a:t>
            </a: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或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赭、</a:t>
            </a: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红，种类繁多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2199600" y="-23760"/>
            <a:ext cx="81720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43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有的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3862080" y="3759120"/>
            <a:ext cx="684720" cy="1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zh-CN" sz="43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译文：它的颜色有黄的、白的、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zh-CN" sz="43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4300" spc="-1" strike="noStrike">
                <a:solidFill>
                  <a:srgbClr val="000000"/>
                </a:solidFill>
                <a:latin typeface="华文新魏"/>
                <a:ea typeface="华文新魏"/>
              </a:rPr>
              <a:t>红褐色的、红的，种类真多啊！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2"/>
          <p:cNvSpPr/>
          <p:nvPr/>
        </p:nvSpPr>
        <p:spPr>
          <a:xfrm>
            <a:off x="2700360" y="689040"/>
            <a:ext cx="0" cy="652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5372280" y="1989000"/>
            <a:ext cx="1584000" cy="8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花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Line 2"/>
          <p:cNvSpPr/>
          <p:nvPr/>
        </p:nvSpPr>
        <p:spPr>
          <a:xfrm>
            <a:off x="0" y="6240600"/>
            <a:ext cx="91440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"/>
          <p:cNvSpPr/>
          <p:nvPr/>
        </p:nvSpPr>
        <p:spPr>
          <a:xfrm>
            <a:off x="0" y="6380280"/>
            <a:ext cx="91440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4"/>
          <p:cNvSpPr/>
          <p:nvPr/>
        </p:nvSpPr>
        <p:spPr>
          <a:xfrm>
            <a:off x="468360" y="0"/>
            <a:ext cx="0" cy="6858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5"/>
          <p:cNvSpPr/>
          <p:nvPr/>
        </p:nvSpPr>
        <p:spPr>
          <a:xfrm>
            <a:off x="612720" y="0"/>
            <a:ext cx="0" cy="6858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3166920" y="-171360"/>
            <a:ext cx="327672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43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菊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1984680" y="617400"/>
            <a:ext cx="4749120" cy="1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zh-CN" sz="43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性</a:t>
            </a:r>
            <a:r>
              <a:rPr b="1" lang="zh-CN" sz="43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耐寒，严霜</a:t>
            </a:r>
            <a:r>
              <a:rPr b="1" lang="zh-CN" sz="43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既</a:t>
            </a:r>
            <a:r>
              <a:rPr b="1" lang="zh-CN" sz="43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降，百花</a:t>
            </a:r>
            <a:r>
              <a:rPr b="1" lang="zh-CN" sz="43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零落</a:t>
            </a:r>
            <a:r>
              <a:rPr b="1" lang="zh-CN" sz="43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zh-CN" sz="43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惟</a:t>
            </a:r>
            <a:r>
              <a:rPr b="1" lang="zh-CN" sz="43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菊</a:t>
            </a:r>
            <a:r>
              <a:rPr b="1" lang="zh-CN" sz="43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独</a:t>
            </a:r>
            <a:r>
              <a:rPr b="1" lang="zh-CN" sz="43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盛。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1770480" y="4005360"/>
            <a:ext cx="4749120" cy="20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zh-CN" sz="43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译文：菊花的本性耐寒，严霜既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zh-CN" sz="4300" spc="-1" strike="noStrike">
                <a:solidFill>
                  <a:srgbClr val="000000"/>
                </a:solidFill>
                <a:latin typeface="华文新魏"/>
                <a:ea typeface="华文新魏"/>
              </a:rPr>
              <a:t>降，各种花儿凋谢枯萎，只有菊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zh-CN" sz="4300" spc="-1" strike="noStrike">
                <a:solidFill>
                  <a:srgbClr val="000000"/>
                </a:solidFill>
                <a:latin typeface="华文新魏"/>
                <a:ea typeface="华文新魏"/>
              </a:rPr>
              <a:t>花独自盛开。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1420200" y="1955880"/>
            <a:ext cx="147240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43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性：</a:t>
            </a:r>
            <a:r>
              <a:rPr b="0" lang="zh-CN" sz="43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本性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4012560" y="1955880"/>
            <a:ext cx="147240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43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既：</a:t>
            </a:r>
            <a:r>
              <a:rPr b="0" lang="zh-CN" sz="43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开始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1"/>
          <p:cNvSpPr/>
          <p:nvPr/>
        </p:nvSpPr>
        <p:spPr>
          <a:xfrm>
            <a:off x="1654200" y="2633760"/>
            <a:ext cx="245592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43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零落：</a:t>
            </a:r>
            <a:r>
              <a:rPr b="0" lang="zh-CN" sz="43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凋谢枯萎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6606720" y="1989000"/>
            <a:ext cx="147240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43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惟：</a:t>
            </a:r>
            <a:r>
              <a:rPr b="0" lang="zh-CN" sz="43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只有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3"/>
          <p:cNvSpPr/>
          <p:nvPr/>
        </p:nvSpPr>
        <p:spPr>
          <a:xfrm>
            <a:off x="5882760" y="2674800"/>
            <a:ext cx="147240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43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独：</a:t>
            </a:r>
            <a:r>
              <a:rPr b="0" lang="zh-CN" sz="43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独自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4"/>
          <p:cNvSpPr/>
          <p:nvPr/>
        </p:nvSpPr>
        <p:spPr>
          <a:xfrm>
            <a:off x="1420200" y="3216240"/>
            <a:ext cx="147240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43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盛：</a:t>
            </a:r>
            <a:r>
              <a:rPr b="0" lang="zh-CN" sz="43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盛开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4573440" y="5516640"/>
            <a:ext cx="3167280" cy="6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spAutoFit/>
          </a:bodyPr>
          <a:p>
            <a:pPr>
              <a:lnSpc>
                <a:spcPct val="100000"/>
              </a:lnSpc>
              <a:spcBef>
                <a:spcPts val="2438"/>
              </a:spcBef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zh-CN" sz="3900" spc="-1" strike="noStrike">
                <a:solidFill>
                  <a:srgbClr val="ff0000"/>
                </a:solidFill>
                <a:latin typeface="Times New Roman"/>
              </a:rPr>
              <a:t>菊花的本性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Line 2"/>
          <p:cNvSpPr/>
          <p:nvPr/>
        </p:nvSpPr>
        <p:spPr>
          <a:xfrm>
            <a:off x="0" y="5867280"/>
            <a:ext cx="91440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"/>
          <p:cNvSpPr/>
          <p:nvPr/>
        </p:nvSpPr>
        <p:spPr>
          <a:xfrm>
            <a:off x="0" y="5789520"/>
            <a:ext cx="91440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4"/>
          <p:cNvSpPr/>
          <p:nvPr/>
        </p:nvSpPr>
        <p:spPr>
          <a:xfrm>
            <a:off x="755640" y="0"/>
            <a:ext cx="0" cy="6858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5"/>
          <p:cNvSpPr/>
          <p:nvPr/>
        </p:nvSpPr>
        <p:spPr>
          <a:xfrm>
            <a:off x="900000" y="0"/>
            <a:ext cx="0" cy="6858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189720" y="828000"/>
            <a:ext cx="710280" cy="40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600" spc="-1" strike="noStrike">
                <a:solidFill>
                  <a:srgbClr val="bbe0e3"/>
                </a:solidFill>
                <a:latin typeface="Times New Roman"/>
                <a:ea typeface="楷体_GB2312"/>
              </a:rPr>
              <a:t>· ·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《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古文二则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》</a:t>
            </a:r>
            <a:r>
              <a:rPr b="0" lang="en-US" sz="3600" spc="-1" strike="noStrike">
                <a:solidFill>
                  <a:srgbClr val="bbe0e3"/>
                </a:solidFill>
                <a:latin typeface="Times New Roman"/>
                <a:ea typeface="楷体_GB2312"/>
              </a:rPr>
              <a:t>· 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7">
            <a:hlinkClick r:id="rId1"/>
          </p:cNvPr>
          <p:cNvSpPr/>
          <p:nvPr/>
        </p:nvSpPr>
        <p:spPr>
          <a:xfrm>
            <a:off x="68400" y="4421160"/>
            <a:ext cx="758520" cy="1632960"/>
          </a:xfrm>
          <a:prstGeom prst="irregularSeal1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1166760" y="906480"/>
            <a:ext cx="146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1913400" y="1200240"/>
            <a:ext cx="4624200" cy="36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zh-CN" sz="39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学法小结</a:t>
            </a:r>
            <a:r>
              <a:rPr b="1" lang="en-US" sz="39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 先解释重点词的意思。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3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 </a:t>
            </a:r>
            <a:r>
              <a:rPr b="1" lang="zh-CN" sz="3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借助注释</a:t>
            </a:r>
            <a:r>
              <a:rPr b="1" lang="en-US" sz="3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通课文。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3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 </a:t>
            </a:r>
            <a:r>
              <a:rPr b="1" lang="zh-CN" sz="3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利用字典。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3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 </a:t>
            </a:r>
            <a:r>
              <a:rPr b="1" lang="zh-CN" sz="3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教他人。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 再连词成句</a:t>
            </a:r>
            <a:r>
              <a:rPr b="1" lang="en-US" sz="3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理解句子的意思。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4978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000000"/>
                </a:solidFill>
                <a:latin typeface="Arial"/>
              </a:rPr>
              <a:t>菊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199880"/>
            <a:ext cx="777096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菊花盛开，清香四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瓣如丝 如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其色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或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黄 或白 或赭 或红，种类繁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性耐寒，严霜即降，百花零落，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菊独盛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2930400" y="1774800"/>
            <a:ext cx="3175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zh-CN" sz="2500" spc="-1" strike="noStrike">
                <a:solidFill>
                  <a:srgbClr val="ff3300"/>
                </a:solidFill>
                <a:latin typeface="Arial"/>
              </a:rPr>
              <a:t>菊花盛开的时候，香气四处飘溢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2434320" y="2705040"/>
            <a:ext cx="3175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zh-CN" sz="2500" spc="-1" strike="noStrike">
                <a:solidFill>
                  <a:srgbClr val="ff3300"/>
                </a:solidFill>
                <a:latin typeface="Arial"/>
              </a:rPr>
              <a:t>它的花瓣呈丝状或是瓜状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2040120" y="3790800"/>
            <a:ext cx="2469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zh-CN" sz="2500" spc="-1" strike="noStrike">
                <a:solidFill>
                  <a:srgbClr val="ff3300"/>
                </a:solidFill>
                <a:latin typeface="Arial"/>
              </a:rPr>
              <a:t>它的颜色有黄 白 赭 红等，种类很多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755640" y="5302080"/>
            <a:ext cx="8066160" cy="7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zh-CN" sz="2500" spc="-1" strike="noStrike">
                <a:solidFill>
                  <a:srgbClr val="ff3300"/>
                </a:solidFill>
                <a:latin typeface="Arial"/>
              </a:rPr>
              <a:t>它天生不怕寒冷，严霜来临的时候，其他的花都凋零了，只有菊花开的最为茂盛。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50905_200803301857131"/>
          <p:cNvPicPr/>
          <p:nvPr/>
        </p:nvPicPr>
        <p:blipFill>
          <a:blip r:embed="rId1"/>
          <a:stretch/>
        </p:blipFill>
        <p:spPr>
          <a:xfrm>
            <a:off x="6302520" y="689040"/>
            <a:ext cx="2344680" cy="27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Line 2"/>
          <p:cNvSpPr/>
          <p:nvPr/>
        </p:nvSpPr>
        <p:spPr>
          <a:xfrm>
            <a:off x="0" y="5867280"/>
            <a:ext cx="91440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"/>
          <p:cNvSpPr/>
          <p:nvPr/>
        </p:nvSpPr>
        <p:spPr>
          <a:xfrm>
            <a:off x="0" y="5789520"/>
            <a:ext cx="91440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4"/>
          <p:cNvSpPr/>
          <p:nvPr/>
        </p:nvSpPr>
        <p:spPr>
          <a:xfrm>
            <a:off x="900000" y="0"/>
            <a:ext cx="0" cy="6858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5"/>
          <p:cNvSpPr/>
          <p:nvPr/>
        </p:nvSpPr>
        <p:spPr>
          <a:xfrm>
            <a:off x="760320" y="0"/>
            <a:ext cx="0" cy="6858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189720" y="828000"/>
            <a:ext cx="710280" cy="40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600" spc="-1" strike="noStrike">
                <a:solidFill>
                  <a:srgbClr val="bbe0e3"/>
                </a:solidFill>
                <a:latin typeface="Times New Roman"/>
                <a:ea typeface="楷体_GB2312"/>
              </a:rPr>
              <a:t>· ·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《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古文二则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》</a:t>
            </a:r>
            <a:r>
              <a:rPr b="0" lang="en-US" sz="3600" spc="-1" strike="noStrike">
                <a:solidFill>
                  <a:srgbClr val="bbe0e3"/>
                </a:solidFill>
                <a:latin typeface="Times New Roman"/>
                <a:ea typeface="楷体_GB2312"/>
              </a:rPr>
              <a:t>· 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3059280" y="0"/>
            <a:ext cx="3274920" cy="97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zh-CN" sz="59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菊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8">
            <a:hlinkClick r:id="rId1"/>
          </p:cNvPr>
          <p:cNvSpPr/>
          <p:nvPr/>
        </p:nvSpPr>
        <p:spPr>
          <a:xfrm>
            <a:off x="141120" y="4421160"/>
            <a:ext cx="758880" cy="1632960"/>
          </a:xfrm>
          <a:prstGeom prst="irregularSeal1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1341720" y="2782800"/>
            <a:ext cx="527760" cy="8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0"/>
          <p:cNvSpPr/>
          <p:nvPr/>
        </p:nvSpPr>
        <p:spPr>
          <a:xfrm>
            <a:off x="2124000" y="1697040"/>
            <a:ext cx="647640" cy="3171960"/>
          </a:xfrm>
          <a:custGeom>
            <a:avLst/>
            <a:gdLst>
              <a:gd name="textAreaLeft" fmla="*/ 414000 w 647640"/>
              <a:gd name="textAreaRight" fmla="*/ 648000 w 647640"/>
              <a:gd name="textAreaTop" fmla="*/ 82440 h 3171960"/>
              <a:gd name="textAreaBottom" fmla="*/ 3089520 h 317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3329640" y="1360440"/>
            <a:ext cx="893520" cy="8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花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3302640" y="2227320"/>
            <a:ext cx="893520" cy="8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花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3302640" y="3165480"/>
            <a:ext cx="893520" cy="8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花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4"/>
          <p:cNvSpPr/>
          <p:nvPr/>
        </p:nvSpPr>
        <p:spPr>
          <a:xfrm>
            <a:off x="3191040" y="4075200"/>
            <a:ext cx="1625040" cy="8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菊的本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/>
  <cp:keywords/>
  <dc:language>en-US</dc:language>
  <cp:lastModifiedBy>Bonny</cp:lastModifiedBy>
  <dcterms:modified xsi:type="dcterms:W3CDTF">2015-10-10T16:14:59Z</dcterms:modified>
  <cp:revision>2</cp:revision>
  <dc:subject/>
  <dc:title>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