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855-B553-48D6-A85A-9B63F9BF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2C9-D023-4BF9-91B5-E6D50314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105-062C-4794-943D-E92F7F47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BA0-3703-45A4-ABAC-6EA34885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1C1-EDD4-443D-90C0-C27BD3CF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AFD-EAF9-4095-ABCA-19C7A01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103-5738-4577-81B8-498FA55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44F-C35F-4FD3-978E-2F730A1B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AA3-E9BD-487A-92C5-0A53A43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8CC-E9CA-4040-8BAF-0F1D42F5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633-561B-49DD-A461-777A18A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AFD-0432-48F6-A47A-BE7E38FC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8CAB-388B-4625-88A5-60FE3DDAA9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2708280"/>
            <a:ext cx="554508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</a:rPr>
              <a:t>多位数的读法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-250920" y="549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 Black"/>
                <a:ea typeface="PMingLiU"/>
              </a:rPr>
              <a:t>西师大版小学数学四年级上册第二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40000" y="2314440"/>
            <a:ext cx="4608360" cy="32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88000" y="620640"/>
            <a:ext cx="4356000" cy="1800360"/>
          </a:xfrm>
          <a:prstGeom prst="cloudCallout">
            <a:avLst>
              <a:gd name="adj1" fmla="val -11953"/>
              <a:gd name="adj2" fmla="val 10670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数位有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连续有几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都只读一个“零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8560" y="836640"/>
            <a:ext cx="3240360" cy="1800360"/>
          </a:xfrm>
          <a:prstGeom prst="cloudCallout">
            <a:avLst>
              <a:gd name="adj1" fmla="val -33342"/>
              <a:gd name="adj2" fmla="val 106611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级末尾不管有几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都不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191448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4360" y="1341360"/>
            <a:ext cx="575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说一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说你对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”每级末尾不管有几个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都不读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其他数位有一个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或连续有几个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0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，都只读一个</a:t>
            </a:r>
            <a:r>
              <a:rPr b="1" lang="zh-CN" sz="4000" spc="-1" strike="noStrike">
                <a:solidFill>
                  <a:srgbClr val="cc3399"/>
                </a:solidFill>
                <a:latin typeface="Arial"/>
              </a:rPr>
              <a:t>‘  零 ’</a:t>
            </a:r>
            <a:r>
              <a:rPr b="0" lang="zh-CN" sz="40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cc3399"/>
                </a:solidFill>
                <a:latin typeface="宋体"/>
              </a:rPr>
              <a:t>。”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的理解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你认为哪些词很重要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76360" y="981000"/>
            <a:ext cx="619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经过本节课的学习，你有哪些收获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059280" y="1844640"/>
            <a:ext cx="3528720" cy="252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72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8000" y="30240"/>
            <a:ext cx="89647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2000" y="105264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截至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005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年底中国国家图书馆藏中文书约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5920000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册，外文图书约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3280000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册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700360" y="1989000"/>
          <a:ext cx="4105080" cy="3509640"/>
        </p:xfrm>
        <a:graphic>
          <a:graphicData uri="http://schemas.openxmlformats.org/drawingml/2006/table">
            <a:tbl>
              <a:tblPr/>
              <a:tblGrid>
                <a:gridCol w="2090520"/>
                <a:gridCol w="201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万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 万 万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 位 位 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个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 位 位 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9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2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826920" y="1052640"/>
            <a:ext cx="36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052640"/>
            <a:ext cx="936720" cy="504720"/>
          </a:xfrm>
          <a:prstGeom prst="ellipse">
            <a:avLst/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981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出下面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10680" y="362124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 五 百 九 十 二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0680" y="41734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 三 百 二十八 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052640"/>
            <a:ext cx="36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052640"/>
            <a:ext cx="720720" cy="431640"/>
          </a:xfrm>
          <a:prstGeom prst="ellipse">
            <a:avLst/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98100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出下面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4360" y="1773360"/>
          <a:ext cx="4248000" cy="3557520"/>
        </p:xfrm>
        <a:graphic>
          <a:graphicData uri="http://schemas.openxmlformats.org/drawingml/2006/table">
            <a:tbl>
              <a:tblPr/>
              <a:tblGrid>
                <a:gridCol w="2163600"/>
                <a:gridCol w="208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万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 万 万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 位 位 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个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 位 位 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9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2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6920" y="1052640"/>
            <a:ext cx="36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1052640"/>
            <a:ext cx="936360" cy="504720"/>
          </a:xfrm>
          <a:prstGeom prst="ellipse">
            <a:avLst/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981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出下面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34360" y="486900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>
            <a:off x="4715640" y="1628640"/>
            <a:ext cx="4427640" cy="2880000"/>
          </a:xfrm>
          <a:prstGeom prst="cloudCallout">
            <a:avLst>
              <a:gd name="adj1" fmla="val -23865"/>
              <a:gd name="adj2" fmla="val 70393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这些数有什么相同点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读法有什么相同点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4330800" cy="3565440"/>
        </p:xfrm>
        <a:graphic>
          <a:graphicData uri="http://schemas.openxmlformats.org/drawingml/2006/table">
            <a:tbl>
              <a:tblPr/>
              <a:tblGrid>
                <a:gridCol w="2205000"/>
                <a:gridCol w="212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万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 万 万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 位 位 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个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 位 位 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9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2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32720" y="3716280"/>
            <a:ext cx="1650960" cy="180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1249200" cy="187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132000" y="4508640"/>
            <a:ext cx="1424160" cy="216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2915640" y="620640"/>
            <a:ext cx="3168360" cy="3095640"/>
          </a:xfrm>
          <a:prstGeom prst="cloudCallout">
            <a:avLst>
              <a:gd name="adj1" fmla="val 24194"/>
              <a:gd name="adj2" fmla="val 73689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级的数按照个级的数的读法来读，并在后面加上“万”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9280" y="1484280"/>
            <a:ext cx="2376720" cy="1368360"/>
          </a:xfrm>
          <a:prstGeom prst="cloudCallout">
            <a:avLst>
              <a:gd name="adj1" fmla="val -6046"/>
              <a:gd name="adj2" fmla="val 121574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读万级，再读个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155640" y="692280"/>
            <a:ext cx="2376360" cy="2016000"/>
          </a:xfrm>
          <a:prstGeom prst="cloudCallout">
            <a:avLst>
              <a:gd name="adj1" fmla="val -27356"/>
              <a:gd name="adj2" fmla="val 100472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级上全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不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101960" y="979560"/>
            <a:ext cx="1798200" cy="647640"/>
            <a:chOff x="1101960" y="979560"/>
            <a:chExt cx="1798200" cy="647640"/>
          </a:xfrm>
        </p:grpSpPr>
        <p:sp>
          <p:nvSpPr>
            <p:cNvPr id="68" name=""/>
            <p:cNvSpPr/>
            <p:nvPr/>
          </p:nvSpPr>
          <p:spPr>
            <a:xfrm>
              <a:off x="1101960" y="979560"/>
              <a:ext cx="790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35320" y="979560"/>
              <a:ext cx="790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95680" y="979560"/>
              <a:ext cx="790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4880" y="97956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049360" y="19512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 三百零五万零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71040" y="26971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 一千万二千零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6320" y="334476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 三亿零七百万零四百九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33360"/>
            <a:ext cx="936360" cy="503280"/>
          </a:xfrm>
          <a:prstGeom prst="ellipse">
            <a:avLst/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260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出下面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55640" y="1052640"/>
          <a:ext cx="3648240" cy="3652560"/>
        </p:xfrm>
        <a:graphic>
          <a:graphicData uri="http://schemas.openxmlformats.org/drawingml/2006/table">
            <a:tbl>
              <a:tblPr/>
              <a:tblGrid>
                <a:gridCol w="669960"/>
                <a:gridCol w="1414440"/>
                <a:gridCol w="1563840"/>
              </a:tblGrid>
              <a:tr h="8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0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0  0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7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4  9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925880" y="4029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作： 八亿零二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685800"/>
            <a:ext cx="8229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30680" y="1123920"/>
            <a:ext cx="1798200" cy="647640"/>
            <a:chOff x="1030680" y="1123920"/>
            <a:chExt cx="1798200" cy="647640"/>
          </a:xfrm>
        </p:grpSpPr>
        <p:sp>
          <p:nvSpPr>
            <p:cNvPr id="81" name=""/>
            <p:cNvSpPr/>
            <p:nvPr/>
          </p:nvSpPr>
          <p:spPr>
            <a:xfrm>
              <a:off x="1030680" y="1123920"/>
              <a:ext cx="790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64040" y="1123920"/>
              <a:ext cx="790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24400" y="1123920"/>
              <a:ext cx="7902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43600" y="1123920"/>
              <a:ext cx="485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947480" y="177336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： 三百零五万零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47480" y="23256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： 一千万二千零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53760" y="285264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： 三亿零七百万零四百九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1253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76280"/>
            <a:ext cx="936720" cy="576360"/>
          </a:xfrm>
          <a:prstGeom prst="ellipse">
            <a:avLst/>
          </a:prstGeom>
          <a:solidFill>
            <a:srgbClr val="ffff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40464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出下面各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55640" y="1197000"/>
          <a:ext cx="3529080" cy="2521080"/>
        </p:xfrm>
        <a:graphic>
          <a:graphicData uri="http://schemas.openxmlformats.org/drawingml/2006/table">
            <a:tbl>
              <a:tblPr/>
              <a:tblGrid>
                <a:gridCol w="647640"/>
                <a:gridCol w="1368360"/>
                <a:gridCol w="15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 百 十 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0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0  0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7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4  9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0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844160" y="328464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作： 八亿零二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4000" y="3860640"/>
            <a:ext cx="7774920" cy="1673280"/>
            <a:chOff x="324000" y="3860640"/>
            <a:chExt cx="7774920" cy="1673280"/>
          </a:xfrm>
        </p:grpSpPr>
        <p:sp>
          <p:nvSpPr>
            <p:cNvPr id="94" name=""/>
            <p:cNvSpPr/>
            <p:nvPr/>
          </p:nvSpPr>
          <p:spPr>
            <a:xfrm>
              <a:off x="2771640" y="4221000"/>
              <a:ext cx="5327280" cy="1312920"/>
            </a:xfrm>
            <a:prstGeom prst="rect">
              <a:avLst/>
            </a:prstGeom>
            <a:noFill/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上面的数，哪些</a:t>
              </a:r>
              <a:r>
                <a:rPr b="1" lang="en-US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0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要读，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哪些</a:t>
              </a:r>
              <a:r>
                <a:rPr b="1" lang="en-US" sz="40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</a:rPr>
                <a:t>不读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4000" y="3860640"/>
              <a:ext cx="2520720" cy="752400"/>
            </a:xfrm>
            <a:prstGeom prst="cloudCallout">
              <a:avLst>
                <a:gd name="adj1" fmla="val 28402"/>
                <a:gd name="adj2" fmla="val 120254"/>
              </a:avLst>
            </a:prstGeom>
            <a:solidFill>
              <a:srgbClr val="ff00ff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ff00"/>
                  </a:solidFill>
                  <a:latin typeface="Times New Roman"/>
                  <a:ea typeface="华文彩云"/>
                </a:rPr>
                <a:t>议一议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2:32:04Z</dcterms:created>
  <dc:creator> </dc:creator>
  <dc:description> </dc:description>
  <cp:keywords/>
  <dc:language>en-US</dc:language>
  <cp:lastModifiedBy>admin</cp:lastModifiedBy>
  <cp:lastPrinted>1899-12-30T00:00:00Z</cp:lastPrinted>
  <dcterms:modified xsi:type="dcterms:W3CDTF">2014-10-09T05:55:57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