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gif" ContentType="image/gif"/>
  <Override PartName="/ppt/media/image18.jpeg" ContentType="image/jpeg"/>
  <Override PartName="/ppt/media/image2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6.wmf" ContentType="image/x-wmf"/>
  <Override PartName="/ppt/media/image15.png" ContentType="image/png"/>
  <Override PartName="/ppt/media/image17.png" ContentType="image/png"/>
  <Override PartName="/ppt/media/image14.gif" ContentType="image/gif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0859-0FEA-4519-9D42-8CFCC2F8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9E3D-A1C6-409C-B980-5D740E60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976-43C2-4D9D-AF50-B5081748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FA5-9837-4336-9746-87BB46E1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50C8-DAEE-4544-97A1-A5AA46D1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216-B7DF-4937-B310-59C55658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A55-0A8B-460C-91DB-F9D5AC53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552-13F3-45D5-B483-009273E7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6D01-4E87-4A39-9766-6063E7E4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5CB-01F7-4E81-BA3A-9108DE8D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0F2-59F7-42DE-A06F-9F481F43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DF1-178E-428F-83D0-4F17E0D0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E092-D819-4873-9F15-C3C3F32C26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hongen.com/art/twdg/btyjz/img/tb0004as.jpg&amp;imgrefurl=http://www.hongen.com/art/twdg/btyjz/tb0004.htm&amp;h=200&amp;w=200&amp;sz=7&amp;tbnid=lFm5MCoOi2IJ:&amp;tbnh=99&amp;tbnw=99&amp;hl=zh-CN&amp;start=5&amp;prev=/images%3Fq%3D%25E5%259C%25B0%25E7%2590%2583%26svnum%3D10%26hl%3Dzh-CN%26lr%3D%26newwindow%3D1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3357720"/>
            <a:ext cx="775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华文彩云"/>
              </a:rPr>
              <a:t>亿以内数的大小比较及改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83664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西师大版四年级数学上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26520" y="692280"/>
            <a:ext cx="3381120" cy="5205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把下面的数改写成用万作单位的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042920" y="1413000"/>
            <a:ext cx="6408720" cy="4853880"/>
            <a:chOff x="1042920" y="1413000"/>
            <a:chExt cx="6408720" cy="4853880"/>
          </a:xfrm>
        </p:grpSpPr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1052640" y="1484280"/>
              <a:ext cx="245736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042920" y="3357720"/>
              <a:ext cx="244800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内蒙古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: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10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3"/>
            <a:stretch/>
          </p:blipFill>
          <p:spPr>
            <a:xfrm>
              <a:off x="4932360" y="1413000"/>
              <a:ext cx="2476440" cy="18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932360" y="3298680"/>
              <a:ext cx="251928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青海：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72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4"/>
            <a:stretch/>
          </p:blipFill>
          <p:spPr>
            <a:xfrm>
              <a:off x="1074600" y="3933720"/>
              <a:ext cx="2521080" cy="18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1074600" y="5807160"/>
              <a:ext cx="256068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西藏：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2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5"/>
            <a:stretch/>
          </p:blipFill>
          <p:spPr>
            <a:xfrm>
              <a:off x="4956120" y="3860640"/>
              <a:ext cx="2495520" cy="18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932360" y="5746680"/>
              <a:ext cx="251928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新疆：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66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582000" y="3357720"/>
            <a:ext cx="11224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=110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09080" y="5805360"/>
            <a:ext cx="11224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=12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8400" y="3332160"/>
            <a:ext cx="9532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=7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11120" y="5780160"/>
            <a:ext cx="11224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=166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 flipH="1">
            <a:off x="250560" y="0"/>
            <a:ext cx="6778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1042920" y="1773360"/>
            <a:ext cx="7008120" cy="2772360"/>
            <a:chOff x="1042920" y="1773360"/>
            <a:chExt cx="7008120" cy="2772360"/>
          </a:xfrm>
        </p:grpSpPr>
        <p:grpSp>
          <p:nvGrpSpPr>
            <p:cNvPr id="244" name=""/>
            <p:cNvGrpSpPr/>
            <p:nvPr/>
          </p:nvGrpSpPr>
          <p:grpSpPr>
            <a:xfrm>
              <a:off x="1042920" y="1773360"/>
              <a:ext cx="7008120" cy="2772360"/>
              <a:chOff x="1042920" y="1773360"/>
              <a:chExt cx="7008120" cy="2772360"/>
            </a:xfrm>
          </p:grpSpPr>
          <p:sp>
            <p:nvSpPr>
              <p:cNvPr id="245" name=""/>
              <p:cNvSpPr/>
              <p:nvPr/>
            </p:nvSpPr>
            <p:spPr>
              <a:xfrm>
                <a:off x="1042920" y="1773360"/>
                <a:ext cx="7008120" cy="2772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6" name="" descr="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1965960" y="3929400"/>
                <a:ext cx="461880" cy="46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739040" y="1794960"/>
                <a:ext cx="2694240" cy="2750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8" name=""/>
            <p:cNvSpPr/>
            <p:nvPr/>
          </p:nvSpPr>
          <p:spPr>
            <a:xfrm>
              <a:off x="4203360" y="3914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66"/>
                  </a:solidFill>
                  <a:latin typeface="Arial"/>
                  <a:ea typeface="隶书"/>
                </a:rPr>
                <a:t>太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57480" y="39297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66"/>
                  </a:solidFill>
                  <a:latin typeface="Arial"/>
                  <a:ea typeface="隶书"/>
                </a:rPr>
                <a:t>地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92120" y="692280"/>
            <a:ext cx="5977080" cy="459720"/>
            <a:chOff x="492120" y="692280"/>
            <a:chExt cx="5977080" cy="459720"/>
          </a:xfrm>
        </p:grpSpPr>
        <p:sp>
          <p:nvSpPr>
            <p:cNvPr id="251" name=""/>
            <p:cNvSpPr/>
            <p:nvPr/>
          </p:nvSpPr>
          <p:spPr>
            <a:xfrm>
              <a:off x="492120" y="717480"/>
              <a:ext cx="5977080" cy="43200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10000" y="692280"/>
              <a:ext cx="365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地球的直径大约是多少万千米？太阳的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364000" y="2022120"/>
            <a:ext cx="1335240" cy="2089080"/>
            <a:chOff x="5364000" y="2022120"/>
            <a:chExt cx="1335240" cy="2089080"/>
          </a:xfrm>
        </p:grpSpPr>
        <p:sp>
          <p:nvSpPr>
            <p:cNvPr id="254" name=""/>
            <p:cNvSpPr/>
            <p:nvPr/>
          </p:nvSpPr>
          <p:spPr>
            <a:xfrm>
              <a:off x="5364000" y="2023920"/>
              <a:ext cx="1335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64000" y="4111200"/>
              <a:ext cx="1335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638760" y="2022120"/>
              <a:ext cx="0" cy="2088720"/>
              <a:chOff x="6638760" y="2022120"/>
              <a:chExt cx="0" cy="208872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6638760" y="2022120"/>
                <a:ext cx="0" cy="13928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38760" y="3336840"/>
                <a:ext cx="0" cy="774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"/>
          <p:cNvSpPr/>
          <p:nvPr/>
        </p:nvSpPr>
        <p:spPr>
          <a:xfrm rot="5400000">
            <a:off x="6129360" y="281880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38900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45960" y="3750840"/>
            <a:ext cx="469440" cy="360360"/>
            <a:chOff x="1245960" y="3750840"/>
            <a:chExt cx="469440" cy="360360"/>
          </a:xfrm>
        </p:grpSpPr>
        <p:sp>
          <p:nvSpPr>
            <p:cNvPr id="261" name=""/>
            <p:cNvSpPr/>
            <p:nvPr/>
          </p:nvSpPr>
          <p:spPr>
            <a:xfrm flipV="1">
              <a:off x="1246320" y="3750840"/>
              <a:ext cx="0" cy="360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714320" y="3750840"/>
              <a:ext cx="0" cy="360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1245960" y="3823920"/>
              <a:ext cx="469440" cy="0"/>
              <a:chOff x="1245960" y="3823920"/>
              <a:chExt cx="469440" cy="0"/>
            </a:xfrm>
          </p:grpSpPr>
          <p:sp>
            <p:nvSpPr>
              <p:cNvPr id="264" name=""/>
              <p:cNvSpPr/>
              <p:nvPr/>
            </p:nvSpPr>
            <p:spPr>
              <a:xfrm>
                <a:off x="1480680" y="3823920"/>
                <a:ext cx="234720" cy="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1245960" y="3823920"/>
                <a:ext cx="234360" cy="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781200" y="317664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2756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千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59280" y="2276640"/>
            <a:ext cx="1873080" cy="649080"/>
          </a:xfrm>
          <a:prstGeom prst="wedgeRoundRectCallout">
            <a:avLst>
              <a:gd name="adj1" fmla="val 2458"/>
              <a:gd name="adj2" fmla="val 41930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大约有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130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万个地球那么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58720" y="490392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756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66680" y="4927680"/>
            <a:ext cx="23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89000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773440" y="5408640"/>
            <a:ext cx="863640" cy="503280"/>
            <a:chOff x="2773440" y="5408640"/>
            <a:chExt cx="863640" cy="503280"/>
          </a:xfrm>
        </p:grpSpPr>
        <p:sp>
          <p:nvSpPr>
            <p:cNvPr id="271" name=""/>
            <p:cNvSpPr/>
            <p:nvPr/>
          </p:nvSpPr>
          <p:spPr>
            <a:xfrm>
              <a:off x="2773440" y="5408640"/>
              <a:ext cx="0" cy="503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73440" y="591192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644720" y="5407200"/>
            <a:ext cx="864000" cy="504720"/>
            <a:chOff x="4644720" y="5407200"/>
            <a:chExt cx="864000" cy="504720"/>
          </a:xfrm>
        </p:grpSpPr>
        <p:sp>
          <p:nvSpPr>
            <p:cNvPr id="274" name=""/>
            <p:cNvSpPr/>
            <p:nvPr/>
          </p:nvSpPr>
          <p:spPr>
            <a:xfrm>
              <a:off x="5508720" y="540720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644720" y="591192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522600" y="569592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仿宋_GB2312"/>
              </a:rPr>
              <a:t>约等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21960" y="605628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作“约等于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700"/>
                            </p:stCondLst>
                            <p:childTnLst>
                              <p:par>
                                <p:cTn id="4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26920" y="2421000"/>
            <a:ext cx="6050160" cy="2592360"/>
          </a:xfrm>
          <a:prstGeom prst="wedgeRoundRectCallout">
            <a:avLst>
              <a:gd name="adj1" fmla="val 47245"/>
              <a:gd name="adj2" fmla="val -6206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73440" y="2924280"/>
            <a:ext cx="388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“舍”还是“入”，要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省略的尾数部分的最高位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于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还是等于或大于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6516720" y="13413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84360" y="765000"/>
            <a:ext cx="7848360" cy="23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44160" y="898560"/>
            <a:ext cx="16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    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90120" y="1403280"/>
            <a:ext cx="8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95360" y="907920"/>
            <a:ext cx="119556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48800" y="2122560"/>
            <a:ext cx="2660040" cy="9471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于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它和右面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全舍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改写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412720" y="907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27280" y="147492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787200" y="895320"/>
            <a:ext cx="1430280" cy="584280"/>
            <a:chOff x="3787200" y="895320"/>
            <a:chExt cx="1430280" cy="584280"/>
          </a:xfrm>
        </p:grpSpPr>
        <p:sp>
          <p:nvSpPr>
            <p:cNvPr id="289" name=""/>
            <p:cNvSpPr/>
            <p:nvPr/>
          </p:nvSpPr>
          <p:spPr>
            <a:xfrm>
              <a:off x="4134600" y="895320"/>
              <a:ext cx="1082880" cy="58140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87200" y="89820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4284360" y="1398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6156360" y="836640"/>
            <a:ext cx="1440000" cy="14270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84360" y="3213000"/>
            <a:ext cx="7848360" cy="288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91880" y="3922560"/>
            <a:ext cx="130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018680" y="4648320"/>
            <a:ext cx="2498760" cy="13737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于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向前一位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它和右面的数全舍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改写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788000" y="399744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05240" y="3917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059160" y="3357720"/>
            <a:ext cx="1824840" cy="584280"/>
            <a:chOff x="6059160" y="3357720"/>
            <a:chExt cx="1824840" cy="584280"/>
          </a:xfrm>
        </p:grpSpPr>
        <p:sp>
          <p:nvSpPr>
            <p:cNvPr id="299" name=""/>
            <p:cNvSpPr/>
            <p:nvPr/>
          </p:nvSpPr>
          <p:spPr>
            <a:xfrm>
              <a:off x="6801120" y="3357720"/>
              <a:ext cx="1082880" cy="58140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59160" y="3360600"/>
              <a:ext cx="130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39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643280" y="3432240"/>
            <a:ext cx="1081080" cy="573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116000" y="3284640"/>
            <a:ext cx="1525680" cy="16556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885480" y="3429000"/>
            <a:ext cx="23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8        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56000" y="3429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3429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evt="end">
                                        <p:tn val="515"/>
                                      </p:cond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7380360" cy="55134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8229600" cy="67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判断划线的数是近似数还是准确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116000" y="1773360"/>
            <a:ext cx="2881440" cy="2160360"/>
            <a:chOff x="1116000" y="1773360"/>
            <a:chExt cx="2881440" cy="2160360"/>
          </a:xfrm>
        </p:grpSpPr>
        <p:sp>
          <p:nvSpPr>
            <p:cNvPr id="309" name=""/>
            <p:cNvSpPr/>
            <p:nvPr/>
          </p:nvSpPr>
          <p:spPr>
            <a:xfrm>
              <a:off x="1116000" y="1773360"/>
              <a:ext cx="2881440" cy="2160360"/>
            </a:xfrm>
            <a:prstGeom prst="wedgeRoundRectCallout">
              <a:avLst>
                <a:gd name="adj1" fmla="val 48787"/>
                <a:gd name="adj2" fmla="val 6116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53960" y="1917720"/>
              <a:ext cx="25718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我国有</a:t>
              </a:r>
              <a:r>
                <a:rPr b="1" lang="zh-CN" sz="2800" spc="-1" strike="noStrike" u="sng">
                  <a:solidFill>
                    <a:srgbClr val="ff0066"/>
                  </a:solidFill>
                  <a:uFillTx/>
                  <a:latin typeface="Arial"/>
                </a:rPr>
                <a:t>56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个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族，其中汉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人口最多，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有</a:t>
              </a:r>
              <a:r>
                <a:rPr b="1" lang="zh-CN" sz="2800" spc="-1" strike="noStrike" u="sng">
                  <a:solidFill>
                    <a:srgbClr val="ff0066"/>
                  </a:solidFill>
                  <a:uFillTx/>
                  <a:latin typeface="Arial"/>
                </a:rPr>
                <a:t>11594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万人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80"/>
                            </p:stCondLst>
                            <p:childTnLst>
                              <p:par>
                                <p:cTn id="5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760"/>
                            </p:stCondLst>
                            <p:childTnLst>
                              <p:par>
                                <p:cTn id="5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324000" y="2924280"/>
            <a:ext cx="8569080" cy="3529080"/>
            <a:chOff x="324000" y="2924280"/>
            <a:chExt cx="8569080" cy="3529080"/>
          </a:xfrm>
        </p:grpSpPr>
        <p:sp>
          <p:nvSpPr>
            <p:cNvPr id="312" name=""/>
            <p:cNvSpPr/>
            <p:nvPr/>
          </p:nvSpPr>
          <p:spPr>
            <a:xfrm>
              <a:off x="428760" y="2924280"/>
              <a:ext cx="8448480" cy="35290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78080" y="4732560"/>
              <a:ext cx="659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78080" y="5591520"/>
              <a:ext cx="659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8760" y="3870360"/>
              <a:ext cx="844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78080" y="2924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51880" y="2924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87440" y="3938760"/>
              <a:ext cx="26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省略百位后面的尾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86720" y="4773960"/>
              <a:ext cx="26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省略千位后面的尾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4360" y="5635800"/>
              <a:ext cx="26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省略万位后面的尾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51880" y="3097440"/>
              <a:ext cx="204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近似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14880" y="3097440"/>
              <a:ext cx="2041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要     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4000" y="3079800"/>
              <a:ext cx="204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原  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4000" y="4800960"/>
              <a:ext cx="204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26526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2544120" y="1779480"/>
            <a:ext cx="42400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图书馆藏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26526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6560" y="3940200"/>
            <a:ext cx="19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265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77080" y="4732200"/>
            <a:ext cx="19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265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77080" y="5595840"/>
            <a:ext cx="19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27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755640" y="2852640"/>
            <a:ext cx="5977080" cy="302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92360" y="2852640"/>
            <a:ext cx="720720" cy="30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15760" y="1160640"/>
            <a:ext cx="304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求下面各数的近似数（省略万位后面的尾数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5640" y="2349360"/>
            <a:ext cx="5977080" cy="5050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5640" y="2347920"/>
            <a:ext cx="597708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5640" y="285264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5640" y="335772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386244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55640" y="436572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487044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537372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340000" y="234792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234792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6920" y="23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地区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21320" y="235440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人口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7200" y="23544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人口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万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35080" y="2924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上  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82600" y="340524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山  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24000" y="3933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浙  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06360" y="441324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湖  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08880" y="49165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广  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08160" y="53481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云  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746080" y="292428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16737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741400" y="34290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9079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41400" y="393372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46769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46080" y="44132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64400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741400" y="491652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44893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76320" y="54198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4287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04000" y="3357720"/>
            <a:ext cx="2195640" cy="1150920"/>
          </a:xfrm>
          <a:prstGeom prst="wedgeRoundRectCallout">
            <a:avLst>
              <a:gd name="adj1" fmla="val -15435"/>
              <a:gd name="adj2" fmla="val -77449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我国每十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进行一次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口普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12800" y="1887480"/>
            <a:ext cx="2251080" cy="389160"/>
          </a:xfrm>
          <a:prstGeom prst="borderCallout2">
            <a:avLst>
              <a:gd name="adj1" fmla="val 18750"/>
              <a:gd name="adj2" fmla="val -8333"/>
              <a:gd name="adj3" fmla="val 29388"/>
              <a:gd name="adj4" fmla="val -21370"/>
              <a:gd name="adj5" fmla="val 115101"/>
              <a:gd name="adj6" fmla="val -33851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五次人口普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960440" y="285264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67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61880" y="340344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07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61880" y="39085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67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61880" y="44118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4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61880" y="49165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48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61880" y="54198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28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956720" y="6093000"/>
            <a:ext cx="792000" cy="5047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86" h="21600">
                <a:moveTo>
                  <a:pt x="0" y="0"/>
                </a:moveTo>
                <a:lnTo>
                  <a:pt x="33886" y="0"/>
                </a:lnTo>
                <a:lnTo>
                  <a:pt x="33886" y="21600"/>
                </a:lnTo>
                <a:lnTo>
                  <a:pt x="0" y="21600"/>
                </a:lnTo>
                <a:close/>
              </a:path>
              <a:path fill="lightenLess" w="33886" h="21600">
                <a:moveTo>
                  <a:pt x="0" y="0"/>
                </a:moveTo>
                <a:lnTo>
                  <a:pt x="33886" y="0"/>
                </a:lnTo>
                <a:lnTo>
                  <a:pt x="32486" y="1400"/>
                </a:lnTo>
                <a:lnTo>
                  <a:pt x="1400" y="1400"/>
                </a:lnTo>
                <a:close/>
              </a:path>
              <a:path fill="darken" w="33886" h="21600">
                <a:moveTo>
                  <a:pt x="33886" y="0"/>
                </a:moveTo>
                <a:lnTo>
                  <a:pt x="33886" y="21600"/>
                </a:lnTo>
                <a:lnTo>
                  <a:pt x="32486" y="20200"/>
                </a:lnTo>
                <a:lnTo>
                  <a:pt x="32486" y="1400"/>
                </a:lnTo>
                <a:close/>
              </a:path>
              <a:path fill="darkenLess" w="33886" h="21600">
                <a:moveTo>
                  <a:pt x="33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6" y="20200"/>
                </a:lnTo>
                <a:close/>
              </a:path>
              <a:path fill="lighten" w="33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86" h="21600">
                <a:moveTo>
                  <a:pt x="13444" y="10800"/>
                </a:moveTo>
                <a:lnTo>
                  <a:pt x="23949" y="3794"/>
                </a:lnTo>
                <a:lnTo>
                  <a:pt x="23949" y="17806"/>
                </a:lnTo>
                <a:close/>
              </a:path>
              <a:path fill="darken" w="33886" h="21600">
                <a:moveTo>
                  <a:pt x="9936" y="3794"/>
                </a:moveTo>
                <a:lnTo>
                  <a:pt x="11599" y="3794"/>
                </a:lnTo>
                <a:lnTo>
                  <a:pt x="11599" y="17806"/>
                </a:lnTo>
                <a:lnTo>
                  <a:pt x="9936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2771640" y="1268280"/>
            <a:ext cx="3529080" cy="100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本课小结</a:t>
            </a:r>
            <a:endParaRPr b="0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7" name=""/>
          <p:cNvSpPr/>
          <p:nvPr/>
        </p:nvSpPr>
        <p:spPr>
          <a:xfrm>
            <a:off x="2050920" y="2997360"/>
            <a:ext cx="5113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本节课我们主要学习了亿以内数的大小比较以及数的改写，同学们要掌握比较数的大小的方法，能够正确的比较两个数的大小，并且能够按照要求把一个数改写成以万作单位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627280" y="836640"/>
            <a:ext cx="374508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教学目标</a:t>
            </a:r>
            <a:endParaRPr b="0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349360"/>
            <a:ext cx="5688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本节课我们主要来学习亿以内数的大小比较以及数的改写，同学们首先要掌握比较数的大小的规则，能够按照要求比较两个数的大小，能够用四舍五入法把一个数改写成以万作单位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37280" y="371520"/>
            <a:ext cx="3546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下面是我国面积最大的六个省份（单位：平方千米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95280" y="1052640"/>
            <a:ext cx="8137440" cy="4826880"/>
            <a:chOff x="395280" y="1052640"/>
            <a:chExt cx="8137440" cy="482688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3228840" y="3478320"/>
              <a:ext cx="2521080" cy="18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6037200" y="3502080"/>
              <a:ext cx="2495520" cy="18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395280" y="1052640"/>
              <a:ext cx="244800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>
              <a:off x="420840" y="3502080"/>
              <a:ext cx="2476440" cy="18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>
              <a:off x="6012000" y="1052640"/>
              <a:ext cx="2476440" cy="18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3193920" y="1052640"/>
              <a:ext cx="24577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31080" y="2924280"/>
              <a:ext cx="200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黑龙江：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454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54480" y="2924280"/>
              <a:ext cx="216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内蒙古：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10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14400" y="2924280"/>
              <a:ext cx="181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青海：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72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50240" y="5419800"/>
              <a:ext cx="181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四川：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485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82640" y="5419800"/>
              <a:ext cx="198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西藏：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2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76600" y="5373720"/>
              <a:ext cx="198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新疆：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66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187280" y="6021360"/>
            <a:ext cx="6048720" cy="825480"/>
            <a:chOff x="1187280" y="6021360"/>
            <a:chExt cx="6048720" cy="825480"/>
          </a:xfrm>
        </p:grpSpPr>
        <p:sp>
          <p:nvSpPr>
            <p:cNvPr id="61" name=""/>
            <p:cNvSpPr/>
            <p:nvPr/>
          </p:nvSpPr>
          <p:spPr>
            <a:xfrm>
              <a:off x="1187280" y="6021360"/>
              <a:ext cx="6048720" cy="503280"/>
            </a:xfrm>
            <a:prstGeom prst="cloudCallout">
              <a:avLst>
                <a:gd name="adj1" fmla="val 51050"/>
                <a:gd name="adj2" fmla="val 64194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35280" y="6021360"/>
              <a:ext cx="496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你会比较每两个省面积的大小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7451640" y="5445000"/>
            <a:ext cx="6778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47160" y="1674720"/>
            <a:ext cx="136944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4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3840" y="2262240"/>
            <a:ext cx="156744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1844640"/>
            <a:ext cx="216000" cy="792360"/>
          </a:xfrm>
          <a:custGeom>
            <a:avLst/>
            <a:gdLst>
              <a:gd name="textAreaLeft" fmla="*/ 0 w 216000"/>
              <a:gd name="textAreaRight" fmla="*/ 78120 w 216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987640" y="1844640"/>
            <a:ext cx="3888000" cy="719280"/>
            <a:chOff x="2987640" y="1844640"/>
            <a:chExt cx="3888000" cy="719280"/>
          </a:xfrm>
        </p:grpSpPr>
        <p:sp>
          <p:nvSpPr>
            <p:cNvPr id="68" name=""/>
            <p:cNvSpPr/>
            <p:nvPr/>
          </p:nvSpPr>
          <p:spPr>
            <a:xfrm>
              <a:off x="2987640" y="1844640"/>
              <a:ext cx="3888000" cy="719280"/>
            </a:xfrm>
            <a:prstGeom prst="cloudCallout">
              <a:avLst>
                <a:gd name="adj1" fmla="val 43671"/>
                <a:gd name="adj2" fmla="val 86425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4680" y="187632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位数多的数就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24000" y="4076640"/>
            <a:ext cx="3563640" cy="719280"/>
            <a:chOff x="324000" y="4076640"/>
            <a:chExt cx="3563640" cy="719280"/>
          </a:xfrm>
        </p:grpSpPr>
        <p:sp>
          <p:nvSpPr>
            <p:cNvPr id="71" name=""/>
            <p:cNvSpPr/>
            <p:nvPr/>
          </p:nvSpPr>
          <p:spPr>
            <a:xfrm>
              <a:off x="324000" y="4076640"/>
              <a:ext cx="3563640" cy="719280"/>
            </a:xfrm>
            <a:prstGeom prst="cloudCallout">
              <a:avLst>
                <a:gd name="adj1" fmla="val -26615"/>
                <a:gd name="adj2" fmla="val 96356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25480" y="4202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试着比一比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635280" y="3521160"/>
            <a:ext cx="4969080" cy="2571840"/>
            <a:chOff x="3635280" y="3521160"/>
            <a:chExt cx="4969080" cy="2571840"/>
          </a:xfrm>
        </p:grpSpPr>
        <p:sp>
          <p:nvSpPr>
            <p:cNvPr id="74" name=""/>
            <p:cNvSpPr/>
            <p:nvPr/>
          </p:nvSpPr>
          <p:spPr>
            <a:xfrm>
              <a:off x="3635280" y="3645000"/>
              <a:ext cx="4969080" cy="244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64200" y="35211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0360" y="5013360"/>
              <a:ext cx="2890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40360" y="5587920"/>
              <a:ext cx="289080" cy="28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4140720" y="3713040"/>
              <a:ext cx="3775680" cy="2238840"/>
              <a:chOff x="4140720" y="3713040"/>
              <a:chExt cx="3775680" cy="2238840"/>
            </a:xfrm>
          </p:grpSpPr>
          <p:sp>
            <p:nvSpPr>
              <p:cNvPr id="79" name=""/>
              <p:cNvSpPr/>
              <p:nvPr/>
            </p:nvSpPr>
            <p:spPr>
              <a:xfrm>
                <a:off x="4140720" y="3713040"/>
                <a:ext cx="3775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1660000     485000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940360" y="3860640"/>
                <a:ext cx="289080" cy="28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428000" y="4292640"/>
                <a:ext cx="3437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78234      132000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940360" y="4437000"/>
                <a:ext cx="289080" cy="28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85080" y="4865760"/>
                <a:ext cx="3437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530000      89654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501440" y="5370480"/>
                <a:ext cx="3338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99999      10000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5920560" y="3789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20560" y="4365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20560" y="4941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14440" y="5516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923760" cy="857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32000" y="836640"/>
            <a:ext cx="5184720" cy="649440"/>
          </a:xfrm>
          <a:prstGeom prst="cloudCallout">
            <a:avLst>
              <a:gd name="adj1" fmla="val -48560"/>
              <a:gd name="adj2" fmla="val 67115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舒体"/>
              </a:rPr>
              <a:t>如果位数相同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042920" y="1844640"/>
            <a:ext cx="1735560" cy="1096920"/>
            <a:chOff x="1042920" y="1844640"/>
            <a:chExt cx="1735560" cy="1096920"/>
          </a:xfrm>
        </p:grpSpPr>
        <p:sp>
          <p:nvSpPr>
            <p:cNvPr id="92" name=""/>
            <p:cNvSpPr/>
            <p:nvPr/>
          </p:nvSpPr>
          <p:spPr>
            <a:xfrm>
              <a:off x="1405800" y="2421000"/>
              <a:ext cx="1369440" cy="5205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720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09040" y="1844640"/>
              <a:ext cx="1369440" cy="5205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548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042920" y="1989000"/>
              <a:ext cx="216000" cy="792360"/>
            </a:xfrm>
            <a:custGeom>
              <a:avLst/>
              <a:gdLst>
                <a:gd name="textAreaLeft" fmla="*/ 360 w 216000"/>
                <a:gd name="textAreaRight" fmla="*/ 78480 w 21600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067280" y="1828800"/>
            <a:ext cx="1661040" cy="1096920"/>
            <a:chOff x="4067280" y="1828800"/>
            <a:chExt cx="1661040" cy="1096920"/>
          </a:xfrm>
        </p:grpSpPr>
        <p:sp>
          <p:nvSpPr>
            <p:cNvPr id="96" name=""/>
            <p:cNvSpPr/>
            <p:nvPr/>
          </p:nvSpPr>
          <p:spPr>
            <a:xfrm>
              <a:off x="4358880" y="1828800"/>
              <a:ext cx="1369440" cy="5205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548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58880" y="2405160"/>
              <a:ext cx="1369440" cy="5205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85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067280" y="1987560"/>
              <a:ext cx="216000" cy="792000"/>
            </a:xfrm>
            <a:custGeom>
              <a:avLst/>
              <a:gdLst>
                <a:gd name="textAreaLeft" fmla="*/ 360 w 216000"/>
                <a:gd name="textAreaRight" fmla="*/ 78480 w 21600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987640" y="4356000"/>
            <a:ext cx="6192720" cy="2313000"/>
            <a:chOff x="2987640" y="4356000"/>
            <a:chExt cx="6192720" cy="2313000"/>
          </a:xfrm>
        </p:grpSpPr>
        <p:sp>
          <p:nvSpPr>
            <p:cNvPr id="100" name=""/>
            <p:cNvSpPr/>
            <p:nvPr/>
          </p:nvSpPr>
          <p:spPr>
            <a:xfrm>
              <a:off x="2987640" y="4356000"/>
              <a:ext cx="6192720" cy="2313000"/>
            </a:xfrm>
            <a:prstGeom prst="cloudCallout">
              <a:avLst>
                <a:gd name="adj1" fmla="val 27620"/>
                <a:gd name="adj2" fmla="val -1071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95560" y="4603680"/>
              <a:ext cx="48722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如果位数相同，先比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左起第一位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如果左起第一位也相同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再比较左起第二位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104480" y="3573360"/>
            <a:ext cx="1664280" cy="1096560"/>
            <a:chOff x="1104480" y="3573360"/>
            <a:chExt cx="1664280" cy="1096560"/>
          </a:xfrm>
        </p:grpSpPr>
        <p:sp>
          <p:nvSpPr>
            <p:cNvPr id="103" name=""/>
            <p:cNvSpPr/>
            <p:nvPr/>
          </p:nvSpPr>
          <p:spPr>
            <a:xfrm>
              <a:off x="1399320" y="3573360"/>
              <a:ext cx="1369440" cy="5205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85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99320" y="4149360"/>
              <a:ext cx="1369440" cy="5205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851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104120" y="3732120"/>
              <a:ext cx="215640" cy="792000"/>
            </a:xfrm>
            <a:custGeom>
              <a:avLst/>
              <a:gdLst>
                <a:gd name="textAreaLeft" fmla="*/ -360 w 215640"/>
                <a:gd name="textAreaRight" fmla="*/ 77400 w 21564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929600" y="6211800"/>
            <a:ext cx="10951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试试哟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1880" y="2924280"/>
            <a:ext cx="253944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548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2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69920" y="2924280"/>
            <a:ext cx="253944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548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8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59320" y="4653000"/>
            <a:ext cx="264744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85200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＞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851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397080" y="333360"/>
            <a:ext cx="5823000" cy="3531600"/>
            <a:chOff x="397080" y="333360"/>
            <a:chExt cx="5823000" cy="3531600"/>
          </a:xfrm>
        </p:grpSpPr>
        <p:grpSp>
          <p:nvGrpSpPr>
            <p:cNvPr id="111" name=""/>
            <p:cNvGrpSpPr/>
            <p:nvPr/>
          </p:nvGrpSpPr>
          <p:grpSpPr>
            <a:xfrm>
              <a:off x="420120" y="333360"/>
              <a:ext cx="2638800" cy="459720"/>
              <a:chOff x="420120" y="333360"/>
              <a:chExt cx="2638800" cy="459720"/>
            </a:xfrm>
          </p:grpSpPr>
          <p:sp>
            <p:nvSpPr>
              <p:cNvPr id="112" name=""/>
              <p:cNvSpPr/>
              <p:nvPr/>
            </p:nvSpPr>
            <p:spPr>
              <a:xfrm>
                <a:off x="420120" y="333360"/>
                <a:ext cx="2638800" cy="459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08910       8888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92000" y="406440"/>
                <a:ext cx="287280" cy="287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3600720" y="333360"/>
              <a:ext cx="2555280" cy="459720"/>
              <a:chOff x="3600720" y="333360"/>
              <a:chExt cx="2555280" cy="459720"/>
            </a:xfrm>
          </p:grpSpPr>
          <p:sp>
            <p:nvSpPr>
              <p:cNvPr id="115" name=""/>
              <p:cNvSpPr/>
              <p:nvPr/>
            </p:nvSpPr>
            <p:spPr>
              <a:xfrm>
                <a:off x="3600720" y="333360"/>
                <a:ext cx="2555280" cy="4597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0120        4000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824360" y="406440"/>
                <a:ext cx="287280" cy="287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406800" y="1892160"/>
              <a:ext cx="3146400" cy="459720"/>
              <a:chOff x="406800" y="1892160"/>
              <a:chExt cx="3146400" cy="459720"/>
            </a:xfrm>
          </p:grpSpPr>
          <p:sp>
            <p:nvSpPr>
              <p:cNvPr id="118" name=""/>
              <p:cNvSpPr/>
              <p:nvPr/>
            </p:nvSpPr>
            <p:spPr>
              <a:xfrm>
                <a:off x="406800" y="1892160"/>
                <a:ext cx="3146400" cy="459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003000       300300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44280" y="1965240"/>
                <a:ext cx="287640" cy="287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407520" y="2684520"/>
              <a:ext cx="3484800" cy="459720"/>
              <a:chOff x="407520" y="2684520"/>
              <a:chExt cx="3484800" cy="459720"/>
            </a:xfrm>
          </p:grpSpPr>
          <p:sp>
            <p:nvSpPr>
              <p:cNvPr id="121" name=""/>
              <p:cNvSpPr/>
              <p:nvPr/>
            </p:nvSpPr>
            <p:spPr>
              <a:xfrm>
                <a:off x="407520" y="2684520"/>
                <a:ext cx="3484800" cy="4597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1320030       4132002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82600" y="2757600"/>
                <a:ext cx="287280" cy="287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97080" y="1100160"/>
              <a:ext cx="2808000" cy="459720"/>
              <a:chOff x="397080" y="1100160"/>
              <a:chExt cx="2808000" cy="459720"/>
            </a:xfrm>
          </p:grpSpPr>
          <p:sp>
            <p:nvSpPr>
              <p:cNvPr id="124" name=""/>
              <p:cNvSpPr/>
              <p:nvPr/>
            </p:nvSpPr>
            <p:spPr>
              <a:xfrm>
                <a:off x="397080" y="1100160"/>
                <a:ext cx="2808000" cy="4597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67900       2682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692360" y="1172880"/>
                <a:ext cx="287280" cy="287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3581280" y="1100160"/>
              <a:ext cx="2638800" cy="459720"/>
              <a:chOff x="3581280" y="1100160"/>
              <a:chExt cx="2638800" cy="459720"/>
            </a:xfrm>
          </p:grpSpPr>
          <p:sp>
            <p:nvSpPr>
              <p:cNvPr id="127" name=""/>
              <p:cNvSpPr/>
              <p:nvPr/>
            </p:nvSpPr>
            <p:spPr>
              <a:xfrm>
                <a:off x="3581280" y="1100160"/>
                <a:ext cx="2638800" cy="4597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50000       4852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40200" y="1173240"/>
                <a:ext cx="287280" cy="287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029240" y="3405240"/>
              <a:ext cx="2485080" cy="459720"/>
              <a:chOff x="1029240" y="3405240"/>
              <a:chExt cx="2485080" cy="459720"/>
            </a:xfrm>
          </p:grpSpPr>
          <p:sp>
            <p:nvSpPr>
              <p:cNvPr id="130" name=""/>
              <p:cNvSpPr/>
              <p:nvPr/>
            </p:nvSpPr>
            <p:spPr>
              <a:xfrm>
                <a:off x="1029240" y="3405240"/>
                <a:ext cx="2485080" cy="4597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最小的六位数      十个一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94080" y="3478320"/>
                <a:ext cx="287280" cy="287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1672560" y="333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69640" y="333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2560" y="1087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16920" y="1879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33360" y="1087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98080" y="2671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74640" y="3403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6156360" y="3789360"/>
            <a:ext cx="1960560" cy="244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 rot="19084200">
            <a:off x="4356000" y="2781000"/>
            <a:ext cx="2592360" cy="1033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新魏"/>
              </a:rPr>
              <a:t>考考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181080" y="-243000"/>
            <a:ext cx="9504360" cy="72010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331200" y="3921120"/>
            <a:ext cx="2245320" cy="1452600"/>
            <a:chOff x="331200" y="3921120"/>
            <a:chExt cx="2245320" cy="1452600"/>
          </a:xfrm>
        </p:grpSpPr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1082520" y="424188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31200" y="392112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0204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275920" y="3632040"/>
            <a:ext cx="2242080" cy="1452600"/>
            <a:chOff x="2275920" y="3632040"/>
            <a:chExt cx="2242080" cy="1452600"/>
          </a:xfrm>
        </p:grpSpPr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3024000" y="395280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275920" y="363204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0304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878080" y="3573360"/>
            <a:ext cx="2242080" cy="1452600"/>
            <a:chOff x="5878080" y="3573360"/>
            <a:chExt cx="2242080" cy="1452600"/>
          </a:xfrm>
        </p:grpSpPr>
        <p:pic>
          <p:nvPicPr>
            <p:cNvPr id="149" name="" descr=""/>
            <p:cNvPicPr/>
            <p:nvPr/>
          </p:nvPicPr>
          <p:blipFill>
            <a:blip r:embed="rId5"/>
            <a:stretch/>
          </p:blipFill>
          <p:spPr>
            <a:xfrm>
              <a:off x="6626160" y="389412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878080" y="357336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2040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058640" y="5216400"/>
            <a:ext cx="2241720" cy="1452600"/>
            <a:chOff x="4058640" y="5216400"/>
            <a:chExt cx="2241720" cy="1452600"/>
          </a:xfrm>
        </p:grpSpPr>
        <p:pic>
          <p:nvPicPr>
            <p:cNvPr id="152" name="" descr=""/>
            <p:cNvPicPr/>
            <p:nvPr/>
          </p:nvPicPr>
          <p:blipFill>
            <a:blip r:embed="rId6"/>
            <a:stretch/>
          </p:blipFill>
          <p:spPr>
            <a:xfrm>
              <a:off x="4806720" y="553716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058640" y="521640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402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154280" y="5576760"/>
            <a:ext cx="2241720" cy="1452600"/>
            <a:chOff x="7154280" y="5576760"/>
            <a:chExt cx="2241720" cy="1452600"/>
          </a:xfrm>
        </p:grpSpPr>
        <p:pic>
          <p:nvPicPr>
            <p:cNvPr id="155" name="" descr=""/>
            <p:cNvPicPr/>
            <p:nvPr/>
          </p:nvPicPr>
          <p:blipFill>
            <a:blip r:embed="rId7"/>
            <a:stretch/>
          </p:blipFill>
          <p:spPr>
            <a:xfrm>
              <a:off x="7902360" y="589752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154280" y="557676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0208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3080" y="-458640"/>
            <a:ext cx="5435280" cy="2270160"/>
            <a:chOff x="73080" y="-458640"/>
            <a:chExt cx="5435280" cy="2270160"/>
          </a:xfrm>
        </p:grpSpPr>
        <p:sp>
          <p:nvSpPr>
            <p:cNvPr id="158" name=""/>
            <p:cNvSpPr/>
            <p:nvPr/>
          </p:nvSpPr>
          <p:spPr>
            <a:xfrm>
              <a:off x="73080" y="620280"/>
              <a:ext cx="5435280" cy="11912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给小金鱼排排队吧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（按照从小到大的顺序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712240" y="-458640"/>
              <a:ext cx="0" cy="1152000"/>
            </a:xfrm>
            <a:prstGeom prst="line">
              <a:avLst/>
            </a:prstGeom>
            <a:ln w="349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329560" y="4424400"/>
            <a:ext cx="2245320" cy="1452600"/>
            <a:chOff x="2329560" y="4424400"/>
            <a:chExt cx="2245320" cy="1452600"/>
          </a:xfrm>
        </p:grpSpPr>
        <p:pic>
          <p:nvPicPr>
            <p:cNvPr id="161" name="" descr=""/>
            <p:cNvPicPr/>
            <p:nvPr/>
          </p:nvPicPr>
          <p:blipFill>
            <a:blip r:embed="rId8"/>
            <a:stretch/>
          </p:blipFill>
          <p:spPr>
            <a:xfrm>
              <a:off x="3080880" y="474516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329560" y="442440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0204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36200" y="4424400"/>
            <a:ext cx="2242080" cy="1452600"/>
            <a:chOff x="736200" y="4424400"/>
            <a:chExt cx="2242080" cy="1452600"/>
          </a:xfrm>
        </p:grpSpPr>
        <p:pic>
          <p:nvPicPr>
            <p:cNvPr id="164" name="" descr=""/>
            <p:cNvPicPr/>
            <p:nvPr/>
          </p:nvPicPr>
          <p:blipFill>
            <a:blip r:embed="rId9"/>
            <a:stretch/>
          </p:blipFill>
          <p:spPr>
            <a:xfrm>
              <a:off x="1484280" y="474516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36200" y="442440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0304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968280" y="4424400"/>
            <a:ext cx="2242080" cy="1452600"/>
            <a:chOff x="3968280" y="4424400"/>
            <a:chExt cx="2242080" cy="1452600"/>
          </a:xfrm>
        </p:grpSpPr>
        <p:pic>
          <p:nvPicPr>
            <p:cNvPr id="167" name="" descr=""/>
            <p:cNvPicPr/>
            <p:nvPr/>
          </p:nvPicPr>
          <p:blipFill>
            <a:blip r:embed="rId10"/>
            <a:stretch/>
          </p:blipFill>
          <p:spPr>
            <a:xfrm>
              <a:off x="4716360" y="474516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968280" y="442440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2040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154280" y="4424400"/>
            <a:ext cx="2241720" cy="1452600"/>
            <a:chOff x="7154280" y="4424400"/>
            <a:chExt cx="2241720" cy="1452600"/>
          </a:xfrm>
        </p:grpSpPr>
        <p:pic>
          <p:nvPicPr>
            <p:cNvPr id="170" name="" descr=""/>
            <p:cNvPicPr/>
            <p:nvPr/>
          </p:nvPicPr>
          <p:blipFill>
            <a:blip r:embed="rId11"/>
            <a:stretch/>
          </p:blipFill>
          <p:spPr>
            <a:xfrm>
              <a:off x="7902360" y="474516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154280" y="442440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402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569920" y="4424400"/>
            <a:ext cx="2241720" cy="1452600"/>
            <a:chOff x="5569920" y="4424400"/>
            <a:chExt cx="2241720" cy="1452600"/>
          </a:xfrm>
        </p:grpSpPr>
        <p:pic>
          <p:nvPicPr>
            <p:cNvPr id="173" name="" descr=""/>
            <p:cNvPicPr/>
            <p:nvPr/>
          </p:nvPicPr>
          <p:blipFill>
            <a:blip r:embed="rId12"/>
            <a:stretch/>
          </p:blipFill>
          <p:spPr>
            <a:xfrm>
              <a:off x="6318000" y="474516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569920" y="442440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0208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24000" y="6093000"/>
            <a:ext cx="792000" cy="5047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86" h="21600">
                <a:moveTo>
                  <a:pt x="0" y="0"/>
                </a:moveTo>
                <a:lnTo>
                  <a:pt x="33886" y="0"/>
                </a:lnTo>
                <a:lnTo>
                  <a:pt x="33886" y="21600"/>
                </a:lnTo>
                <a:lnTo>
                  <a:pt x="0" y="21600"/>
                </a:lnTo>
                <a:close/>
              </a:path>
              <a:path fill="lightenLess" w="33886" h="21600">
                <a:moveTo>
                  <a:pt x="0" y="0"/>
                </a:moveTo>
                <a:lnTo>
                  <a:pt x="33886" y="0"/>
                </a:lnTo>
                <a:lnTo>
                  <a:pt x="32486" y="1400"/>
                </a:lnTo>
                <a:lnTo>
                  <a:pt x="1400" y="1400"/>
                </a:lnTo>
                <a:close/>
              </a:path>
              <a:path fill="darken" w="33886" h="21600">
                <a:moveTo>
                  <a:pt x="33886" y="0"/>
                </a:moveTo>
                <a:lnTo>
                  <a:pt x="33886" y="21600"/>
                </a:lnTo>
                <a:lnTo>
                  <a:pt x="32486" y="20200"/>
                </a:lnTo>
                <a:lnTo>
                  <a:pt x="32486" y="1400"/>
                </a:lnTo>
                <a:close/>
              </a:path>
              <a:path fill="darkenLess" w="33886" h="21600">
                <a:moveTo>
                  <a:pt x="33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6" y="20200"/>
                </a:lnTo>
                <a:close/>
              </a:path>
              <a:path fill="lighten" w="33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86" h="21600">
                <a:moveTo>
                  <a:pt x="13444" y="10800"/>
                </a:moveTo>
                <a:lnTo>
                  <a:pt x="23949" y="3794"/>
                </a:lnTo>
                <a:lnTo>
                  <a:pt x="23949" y="17806"/>
                </a:lnTo>
                <a:close/>
              </a:path>
              <a:path fill="darken" w="33886" h="21600">
                <a:moveTo>
                  <a:pt x="9936" y="3794"/>
                </a:moveTo>
                <a:lnTo>
                  <a:pt x="11599" y="3794"/>
                </a:lnTo>
                <a:lnTo>
                  <a:pt x="11599" y="17806"/>
                </a:lnTo>
                <a:lnTo>
                  <a:pt x="9936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971640" y="1227240"/>
            <a:ext cx="1912680" cy="13842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77" name=""/>
          <p:cNvGrpSpPr/>
          <p:nvPr/>
        </p:nvGrpSpPr>
        <p:grpSpPr>
          <a:xfrm>
            <a:off x="3132000" y="1197000"/>
            <a:ext cx="2808360" cy="825480"/>
            <a:chOff x="3132000" y="1197000"/>
            <a:chExt cx="2808360" cy="825480"/>
          </a:xfrm>
        </p:grpSpPr>
        <p:sp>
          <p:nvSpPr>
            <p:cNvPr id="178" name=""/>
            <p:cNvSpPr/>
            <p:nvPr/>
          </p:nvSpPr>
          <p:spPr>
            <a:xfrm>
              <a:off x="3132000" y="1226880"/>
              <a:ext cx="2808360" cy="792000"/>
            </a:xfrm>
            <a:prstGeom prst="wedgeRoundRectCallout">
              <a:avLst>
                <a:gd name="adj1" fmla="val -73120"/>
                <a:gd name="adj2" fmla="val -21944"/>
                <a:gd name="adj3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99000" y="1197000"/>
              <a:ext cx="164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白细胞：能消灭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菌，清洁血液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413080" y="2421000"/>
            <a:ext cx="3671640" cy="459720"/>
            <a:chOff x="2413080" y="2421000"/>
            <a:chExt cx="3671640" cy="459720"/>
          </a:xfrm>
        </p:grpSpPr>
        <p:sp>
          <p:nvSpPr>
            <p:cNvPr id="181" name=""/>
            <p:cNvSpPr/>
            <p:nvPr/>
          </p:nvSpPr>
          <p:spPr>
            <a:xfrm>
              <a:off x="2413080" y="2444760"/>
              <a:ext cx="3671640" cy="433440"/>
            </a:xfrm>
            <a:prstGeom prst="wedgeRoundRectCallout">
              <a:avLst>
                <a:gd name="adj1" fmla="val -45328"/>
                <a:gd name="adj2" fmla="val -100550"/>
                <a:gd name="adj3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49280" y="242100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红细胞：能输送氧气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327760" y="5434200"/>
            <a:ext cx="5208840" cy="958320"/>
            <a:chOff x="2327760" y="5434200"/>
            <a:chExt cx="5208840" cy="958320"/>
          </a:xfrm>
        </p:grpSpPr>
        <p:sp>
          <p:nvSpPr>
            <p:cNvPr id="184" name=""/>
            <p:cNvSpPr/>
            <p:nvPr/>
          </p:nvSpPr>
          <p:spPr>
            <a:xfrm rot="21297600">
              <a:off x="2339640" y="5660640"/>
              <a:ext cx="5184720" cy="504720"/>
            </a:xfrm>
            <a:prstGeom prst="cloudCallout">
              <a:avLst>
                <a:gd name="adj1" fmla="val -45560"/>
                <a:gd name="adj2" fmla="val 70125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1297600">
              <a:off x="2912040" y="5651280"/>
              <a:ext cx="42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方正姚体"/>
                </a:rPr>
                <a:t>数字很大，写起来很麻烦哟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484360" y="3429000"/>
            <a:ext cx="6193080" cy="1979640"/>
            <a:chOff x="2484360" y="3429000"/>
            <a:chExt cx="6193080" cy="1979640"/>
          </a:xfrm>
        </p:grpSpPr>
        <p:sp>
          <p:nvSpPr>
            <p:cNvPr id="187" name=""/>
            <p:cNvSpPr/>
            <p:nvPr/>
          </p:nvSpPr>
          <p:spPr>
            <a:xfrm>
              <a:off x="2484360" y="3429000"/>
              <a:ext cx="6193080" cy="197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cc0000"/>
              </a:solidFill>
              <a:miter/>
            </a:ln>
            <a:effectLst>
              <a:outerShdw dist="153753" dir="2700000" blurRad="0" rotWithShape="0">
                <a:srgbClr val="7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02960" y="4149720"/>
              <a:ext cx="171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红细胞：</a:t>
              </a: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5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93600" y="415620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0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13760" y="4695840"/>
              <a:ext cx="168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白细胞：    </a:t>
              </a: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2880" y="4672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93600" y="46864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0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72880" y="4167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3360" y="35733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一小滴血液含有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3402000" y="4078440"/>
            <a:ext cx="230040" cy="64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02000" y="4078440"/>
                      <a:ext cx="230040" cy="64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684360" y="2924280"/>
            <a:ext cx="7920000" cy="2520720"/>
            <a:chOff x="684360" y="2924280"/>
            <a:chExt cx="7920000" cy="2520720"/>
          </a:xfrm>
        </p:grpSpPr>
        <p:sp>
          <p:nvSpPr>
            <p:cNvPr id="198" name=""/>
            <p:cNvSpPr/>
            <p:nvPr/>
          </p:nvSpPr>
          <p:spPr>
            <a:xfrm>
              <a:off x="684360" y="2924280"/>
              <a:ext cx="7920000" cy="252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40080" y="3522600"/>
              <a:ext cx="192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红细胞：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52920" y="352260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51960" y="4359240"/>
              <a:ext cx="189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白细胞：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68560" y="43322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00360" y="434952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97360" y="34988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84440" y="34988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00280" y="43592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89320" y="3498840"/>
              <a:ext cx="125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cc0000"/>
                  </a:solidFill>
                  <a:uFillTx/>
                  <a:latin typeface="Arial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29560" y="4362480"/>
              <a:ext cx="136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 u="sng">
                  <a:solidFill>
                    <a:srgbClr val="cc0000"/>
                  </a:solidFill>
                  <a:uFillTx/>
                  <a:latin typeface="Arial"/>
                </a:rPr>
                <a:t>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258920" y="907920"/>
            <a:ext cx="3527280" cy="648000"/>
          </a:xfrm>
          <a:prstGeom prst="cloudCallout">
            <a:avLst>
              <a:gd name="adj1" fmla="val -54185"/>
              <a:gd name="adj2" fmla="val 54412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换一种写法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 flipH="1" rot="20712000">
            <a:off x="394920" y="1125000"/>
            <a:ext cx="762120" cy="90540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2195640" y="1700280"/>
            <a:ext cx="4321080" cy="934920"/>
            <a:chOff x="2195640" y="1700280"/>
            <a:chExt cx="4321080" cy="934920"/>
          </a:xfrm>
        </p:grpSpPr>
        <p:sp>
          <p:nvSpPr>
            <p:cNvPr id="212" name=""/>
            <p:cNvSpPr/>
            <p:nvPr/>
          </p:nvSpPr>
          <p:spPr>
            <a:xfrm>
              <a:off x="2195640" y="1700280"/>
              <a:ext cx="4321080" cy="934920"/>
            </a:xfrm>
            <a:prstGeom prst="wedgeRoundRectCallout">
              <a:avLst>
                <a:gd name="adj1" fmla="val 64069"/>
                <a:gd name="adj2" fmla="val 161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09680" y="1741680"/>
              <a:ext cx="264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方正姚体"/>
                </a:rPr>
                <a:t>有时为了读写方便，把整万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方正姚体"/>
                </a:rPr>
                <a:t>数改写成用“万”作单位的数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684360" y="2924280"/>
            <a:ext cx="7920000" cy="25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40080" y="3522600"/>
            <a:ext cx="192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细胞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52560" y="35226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51960" y="435924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细胞：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68560" y="4332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5440" y="4365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97000" y="3498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84440" y="3498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00280" y="4359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6680" y="3498840"/>
            <a:ext cx="16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56680" y="4362480"/>
            <a:ext cx="16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15000" y="3497400"/>
            <a:ext cx="11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500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85000" y="429264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8000" y="5805360"/>
            <a:ext cx="3743640" cy="64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样写简便多啦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29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31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 </dc:creator>
  <dc:description> </dc:description>
  <cp:keywords/>
  <dc:language>en-US</dc:language>
  <cp:lastModifiedBy>admin</cp:lastModifiedBy>
  <dcterms:modified xsi:type="dcterms:W3CDTF">2014-10-09T05:56:00Z</dcterms:modified>
  <cp:revision>1</cp:revision>
  <dc:subject> </dc:subject>
  <dc:title> </dc:title>
</cp:coreProperties>
</file>