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chimes.wav" ContentType="audio/x-wav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0BD-5A9A-4ACD-9934-92BD769E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4AC-F7D6-492B-944C-C275BCEE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6A0-C514-4592-AD0D-1AB32D01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495-B9BE-4C26-BC66-BB78FC4D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38C8-0730-45EA-8E8E-C2B529A0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665-EC96-4767-B6C5-0C68D9E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BD08-5A1D-4BFD-B88B-A0CD46FE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685-F771-4FFF-8036-893C00A2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F6FB-34F7-41A0-8298-2CF6CD2C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96A3-5EA3-49E2-B737-B07C4DB0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E11C-9421-486A-8707-DD52A30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2D6-09D8-4075-A47D-775E7BDA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34A1-AACE-495C-BA62-A76F9B8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D32A-FC03-45B1-A6B0-AE24672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0519-15B8-4876-A014-3B3518B4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EAF8-99D0-4EA2-8F87-28F248A6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CDF5-148C-4B1F-A337-105DC568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C570-2A25-4652-BBD2-DA9F80C3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410C-4F3B-4340-BD4F-41171E5C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0C32-842C-416C-8981-E30CC6D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1E71-E914-4E4A-B03B-74A2275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06B9-A359-43CD-9393-320C7EA3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FB2-1498-4DAB-A280-9E1FA537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48A8-CC51-426A-9A7E-0EEDE2D2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826D-E769-474B-9C26-217A31A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07E5-2DE2-4B75-A9D3-4251D3A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D9DE-F684-4B96-8497-4C94409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1701-900B-4052-9E35-E1E8B74D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9DC0-C1FB-468F-9675-052E930A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CD09-D388-47C2-96D9-00B072D1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26DC-65E1-4778-BB18-374C189B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7053-403B-488A-B1C7-18EC09C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1435-CC1A-4ECD-B670-E25FBE9E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5AE-B11D-459D-9A72-BFAD4CE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6C3C-BA5C-4041-8A45-49D3FA14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F475-32BB-4C6A-AE09-C88DB6B1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9749-E813-4FCE-846A-943EE962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5245-F8EE-4EDB-8E99-573DA1F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1E0EB-705F-403E-B8D9-9DC2D5EA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2914-5CD2-4AF5-BF38-52BFBC7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F33F-5617-44BC-92AB-F38303E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2C40-6769-4EFF-929D-A8EFB027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BD285-9D02-4143-A108-B6522BB6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A791-1130-48ED-ACA2-A66B544E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9DE-1FBD-4E73-BE4A-308B759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CDB8-6287-4979-A1A0-2F848D8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4974-C931-4314-A506-4D03F30E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1AD7-D03A-460E-A6CE-89E80F5E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E184-DE6F-49F8-91E6-E4ACD69C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DACC-2502-4A3C-8E95-F30C7A7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3FDC-0630-4329-836F-8F6A0110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01BB-09A8-4B42-A42F-397DFBF4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7887-FDB8-4D60-8D97-621D908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377D-DF96-4D1F-8BA9-0B4E89A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90DEC-54F7-474D-BD69-A3F6FEE3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97F-3223-4457-97B0-21D8F5F2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05FC-AFD6-45D6-8DA6-177EA451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0D50-EA8A-4C26-879A-AEA907FF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5DEA-E3CC-4886-978C-3FDDF001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41ADE-E4CA-455D-8F13-FDB7503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37AE3-DCCB-4A28-89A2-E1EC1C9E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C0135-E655-4956-BA79-3D7ABBCC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2F67-21B0-4401-A6AB-E42E6206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4765-FD62-44B5-9F7D-D07B3A4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7DD8F-5A44-49A3-BC16-EBC28AE0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CE71-9EBE-46FD-BD69-69324C8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B45-825D-47F8-B5E8-40F9A0F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24489-9823-420B-BCB6-9F5E2612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A6D2-1FF1-4D6C-BF54-716A1866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53852-0EAC-4794-92C4-E8CD0D21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DBF9-5EFD-4A72-A925-E104CC45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4C945-120D-456C-A029-C37D6FF5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50ADB-DB65-4D83-8CA5-E64D2070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3A9DE-8D57-4085-A2FD-94ACB67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CE03-2246-4F6F-9613-E6AA4957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34519-0C25-44DE-8034-ECF8E4FD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8EEA-7BFB-437F-A361-1C4031D1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DF8-0764-4319-B5F6-7CC17FD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67FC4-BBE2-4D96-A65A-0E4091FF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827E-9933-4113-8D4B-1E4B855A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D8235-E8F4-4F2A-9505-5D077D94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E0FBB-033C-4871-9779-00C1287E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FA0C-9A3B-464D-A4DA-6E18448E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50D-8886-4DAA-B255-EA4F8B8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6516-DF56-46B3-9502-92CBC06BB5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24FE-8D19-45F9-8CAA-1094CADD3A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C23-9CF1-4566-92A2-C9403ED8AC7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8DBE-9B81-4161-AEF6-44A125CDBF9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99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45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59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73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87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01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15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29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31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48FB-D724-4503-A544-46352D9293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87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01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8E8-AB4C-40D4-9F0B-8967CEA15A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51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606-2410-4F31-BF56-E7577997B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2050920" y="1268280"/>
            <a:ext cx="504036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solidFill>
                    <a:srgbClr val="ffffff"/>
                  </a:solidFill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平角和周角</a:t>
            </a:r>
            <a:endParaRPr b="0" lang="en-US" sz="1800" spc="1" strike="noStrike">
              <a:ln w="0">
                <a:solidFill>
                  <a:srgbClr val="ffffff"/>
                </a:solidFill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2047680" y="19749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的角按从小到大的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547640" y="30542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钝角    平角    周角    直角    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50920" y="41338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omic Sans MS"/>
              </a:rPr>
              <a:t>（　　　）＜（　　　）＜（　　　）＜（　　　）＜（　　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2268360" y="620640"/>
            <a:ext cx="2017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第三关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067" name=""/>
          <p:cNvSpPr/>
          <p:nvPr/>
        </p:nvSpPr>
        <p:spPr>
          <a:xfrm>
            <a:off x="55260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065320" y="4062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605040" y="40482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46560" y="4046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65964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400"/>
                            </p:stCondLst>
                            <p:childTnLst>
                              <p:par>
                                <p:cTn id="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350"/>
                            </p:stCondLst>
                            <p:childTnLst>
                              <p:par>
                                <p:cTn id="4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71640" y="112536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复习旧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58920" y="2421000"/>
            <a:ext cx="691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出角的各部分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的大小是由什么决定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学过了哪些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533520" cy="94284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2050920" y="981000"/>
            <a:ext cx="5112000" cy="506592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356000" y="3573360"/>
            <a:ext cx="28728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500720" y="1988640"/>
            <a:ext cx="0" cy="1584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500720" y="2492280"/>
            <a:ext cx="576000" cy="1154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00360" y="3645000"/>
            <a:ext cx="11509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427280" y="3645000"/>
            <a:ext cx="1152360" cy="576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4500360" y="3716280"/>
            <a:ext cx="647640" cy="9367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500720" y="3789360"/>
            <a:ext cx="0" cy="1008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500720" y="2997000"/>
            <a:ext cx="1079280" cy="6476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258920" y="2205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人说：平角就是一条直线，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92360" y="191628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9640" y="191628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780000" y="2854440"/>
            <a:ext cx="1079280" cy="1079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1835280" y="765000"/>
            <a:ext cx="5111640" cy="506592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140360" y="3357720"/>
            <a:ext cx="287280" cy="21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284720" y="1773000"/>
            <a:ext cx="0" cy="158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284720" y="2349000"/>
            <a:ext cx="576360" cy="107964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356000" y="2781000"/>
            <a:ext cx="1008000" cy="64764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84720" y="3429000"/>
            <a:ext cx="1224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84720" y="3429000"/>
            <a:ext cx="1008000" cy="576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284720" y="3429000"/>
            <a:ext cx="503280" cy="9349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284720" y="3500280"/>
            <a:ext cx="0" cy="10810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779640" y="3429000"/>
            <a:ext cx="431640" cy="10080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47640" y="3500280"/>
            <a:ext cx="863640" cy="5050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276720" y="3429000"/>
            <a:ext cx="1008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3276720" y="2852280"/>
            <a:ext cx="1008000" cy="576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3564000" y="2421000"/>
            <a:ext cx="720720" cy="10080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284720" y="2205000"/>
            <a:ext cx="0" cy="1152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578640" y="29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周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"/>
          <p:cNvGrpSpPr/>
          <p:nvPr/>
        </p:nvGrpSpPr>
        <p:grpSpPr>
          <a:xfrm>
            <a:off x="3995640" y="765000"/>
            <a:ext cx="1152360" cy="1079280"/>
            <a:chOff x="3995640" y="765000"/>
            <a:chExt cx="1152360" cy="1079280"/>
          </a:xfrm>
        </p:grpSpPr>
        <p:sp>
          <p:nvSpPr>
            <p:cNvPr id="875" name=""/>
            <p:cNvSpPr/>
            <p:nvPr/>
          </p:nvSpPr>
          <p:spPr>
            <a:xfrm>
              <a:off x="3995640" y="765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5640" y="1844280"/>
              <a:ext cx="115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971640" y="476280"/>
            <a:ext cx="1152360" cy="1366920"/>
            <a:chOff x="971640" y="476280"/>
            <a:chExt cx="1152360" cy="1366920"/>
          </a:xfrm>
        </p:grpSpPr>
        <p:sp>
          <p:nvSpPr>
            <p:cNvPr id="878" name=""/>
            <p:cNvSpPr/>
            <p:nvPr/>
          </p:nvSpPr>
          <p:spPr>
            <a:xfrm flipH="1">
              <a:off x="971640" y="476280"/>
              <a:ext cx="792000" cy="7920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3640" y="476280"/>
              <a:ext cx="360360" cy="1366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227280" y="475920"/>
            <a:ext cx="2089440" cy="1729080"/>
            <a:chOff x="6227280" y="475920"/>
            <a:chExt cx="2089440" cy="1729080"/>
          </a:xfrm>
        </p:grpSpPr>
        <p:sp>
          <p:nvSpPr>
            <p:cNvPr id="881" name=""/>
            <p:cNvSpPr/>
            <p:nvPr/>
          </p:nvSpPr>
          <p:spPr>
            <a:xfrm flipV="1">
              <a:off x="7164000" y="475920"/>
              <a:ext cx="1152720" cy="360360"/>
            </a:xfrm>
            <a:prstGeom prst="line">
              <a:avLst/>
            </a:prstGeom>
            <a:ln w="7632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227280" y="836640"/>
              <a:ext cx="936360" cy="1368360"/>
            </a:xfrm>
            <a:prstGeom prst="line">
              <a:avLst/>
            </a:prstGeom>
            <a:ln w="7632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227640" y="4437000"/>
            <a:ext cx="2233800" cy="1008000"/>
            <a:chOff x="6227640" y="4437000"/>
            <a:chExt cx="2233800" cy="1008000"/>
          </a:xfrm>
        </p:grpSpPr>
        <p:sp>
          <p:nvSpPr>
            <p:cNvPr id="884" name=""/>
            <p:cNvSpPr/>
            <p:nvPr/>
          </p:nvSpPr>
          <p:spPr>
            <a:xfrm>
              <a:off x="6227640" y="4437000"/>
              <a:ext cx="1008000" cy="1008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32360" y="4940280"/>
              <a:ext cx="1729080" cy="0"/>
            </a:xfrm>
            <a:prstGeom prst="line">
              <a:avLst/>
            </a:prstGeom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61080" y="486900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826920" y="4149720"/>
            <a:ext cx="3097080" cy="647280"/>
            <a:chOff x="826920" y="4149720"/>
            <a:chExt cx="3097080" cy="647280"/>
          </a:xfrm>
        </p:grpSpPr>
        <p:sp>
          <p:nvSpPr>
            <p:cNvPr id="888" name=""/>
            <p:cNvSpPr/>
            <p:nvPr/>
          </p:nvSpPr>
          <p:spPr>
            <a:xfrm>
              <a:off x="826920" y="4725720"/>
              <a:ext cx="309708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266560" y="4652640"/>
              <a:ext cx="73080" cy="144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1834920" y="4149720"/>
              <a:ext cx="94284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"/>
          <p:cNvSpPr/>
          <p:nvPr/>
        </p:nvSpPr>
        <p:spPr>
          <a:xfrm>
            <a:off x="3778200" y="2276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900000" y="2133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锐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04000" y="234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Arial"/>
                <a:ea typeface="黑体"/>
              </a:rPr>
              <a:t>钝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454800" y="551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周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919520" y="546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平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908000" y="1557360"/>
            <a:ext cx="68868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Arial"/>
                <a:ea typeface="华文彩云"/>
              </a:rPr>
              <a:t>智力训练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412080" y="4076640"/>
            <a:ext cx="5731560" cy="2519280"/>
            <a:chOff x="3412080" y="4076640"/>
            <a:chExt cx="5731560" cy="2519280"/>
          </a:xfrm>
        </p:grpSpPr>
        <p:sp>
          <p:nvSpPr>
            <p:cNvPr id="899" name=""/>
            <p:cNvSpPr/>
            <p:nvPr/>
          </p:nvSpPr>
          <p:spPr>
            <a:xfrm>
              <a:off x="3412080" y="5259240"/>
              <a:ext cx="3657960" cy="764280"/>
            </a:xfrm>
            <a:prstGeom prst="rect">
              <a:avLst/>
            </a:prstGeom>
            <a:noFill/>
            <a:ln w="3240">
              <a:solidFill>
                <a:srgbClr val="f1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准备好了吗</a:t>
              </a: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?</a:t>
              </a: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开始吧</a:t>
              </a: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0" name="" descr=""/>
            <p:cNvPicPr/>
            <p:nvPr/>
          </p:nvPicPr>
          <p:blipFill>
            <a:blip r:embed="rId3"/>
            <a:stretch/>
          </p:blipFill>
          <p:spPr>
            <a:xfrm>
              <a:off x="7883280" y="4076640"/>
              <a:ext cx="126036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039400" y="141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填空，说出下面角各是哪种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914400" y="2276280"/>
            <a:ext cx="1785960" cy="1082520"/>
            <a:chOff x="914400" y="2276280"/>
            <a:chExt cx="1785960" cy="1082520"/>
          </a:xfrm>
        </p:grpSpPr>
        <p:sp>
          <p:nvSpPr>
            <p:cNvPr id="903" name=""/>
            <p:cNvSpPr/>
            <p:nvPr/>
          </p:nvSpPr>
          <p:spPr>
            <a:xfrm>
              <a:off x="1476360" y="3141720"/>
              <a:ext cx="1224000" cy="0"/>
            </a:xfrm>
            <a:prstGeom prst="line">
              <a:avLst/>
            </a:prstGeom>
            <a:ln w="3816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42920" y="2276280"/>
              <a:ext cx="433440" cy="865080"/>
            </a:xfrm>
            <a:prstGeom prst="line">
              <a:avLst/>
            </a:prstGeom>
            <a:ln w="3816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14400" y="2924280"/>
              <a:ext cx="8632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132000" y="2852640"/>
            <a:ext cx="2232000" cy="504720"/>
            <a:chOff x="3132000" y="2852640"/>
            <a:chExt cx="2232000" cy="504720"/>
          </a:xfrm>
        </p:grpSpPr>
        <p:grpSp>
          <p:nvGrpSpPr>
            <p:cNvPr id="907" name=""/>
            <p:cNvGrpSpPr/>
            <p:nvPr/>
          </p:nvGrpSpPr>
          <p:grpSpPr>
            <a:xfrm>
              <a:off x="3132000" y="3097080"/>
              <a:ext cx="2232000" cy="71640"/>
              <a:chOff x="3132000" y="3097080"/>
              <a:chExt cx="2232000" cy="71640"/>
            </a:xfrm>
          </p:grpSpPr>
          <p:sp>
            <p:nvSpPr>
              <p:cNvPr id="908" name=""/>
              <p:cNvSpPr/>
              <p:nvPr/>
            </p:nvSpPr>
            <p:spPr>
              <a:xfrm>
                <a:off x="3132000" y="314172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213080" y="3097080"/>
                <a:ext cx="71640" cy="71640"/>
              </a:xfrm>
              <a:prstGeom prst="ellipse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3995640" y="2852640"/>
              <a:ext cx="504720" cy="5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1205"/>
                  </a:moveTo>
                  <a:arcTo wR="10800" hR="10800" stAng="10670911" swAng="10929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1205"/>
                  </a:moveTo>
                  <a:arcTo wR="10800" hR="10800" stAng="10670911" swAng="10929089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084720" y="2492280"/>
            <a:ext cx="1582920" cy="952560"/>
            <a:chOff x="6084720" y="2492280"/>
            <a:chExt cx="1582920" cy="952560"/>
          </a:xfrm>
        </p:grpSpPr>
        <p:sp>
          <p:nvSpPr>
            <p:cNvPr id="912" name=""/>
            <p:cNvSpPr/>
            <p:nvPr/>
          </p:nvSpPr>
          <p:spPr>
            <a:xfrm>
              <a:off x="6084720" y="3141720"/>
              <a:ext cx="1582920" cy="0"/>
            </a:xfrm>
            <a:prstGeom prst="line">
              <a:avLst/>
            </a:prstGeom>
            <a:ln w="381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156360" y="2492280"/>
              <a:ext cx="1511280" cy="649440"/>
            </a:xfrm>
            <a:prstGeom prst="line">
              <a:avLst/>
            </a:prstGeom>
            <a:ln w="381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005600" y="2867040"/>
              <a:ext cx="1454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1763280" y="4365720"/>
            <a:ext cx="1584720" cy="1150920"/>
            <a:chOff x="1763280" y="4365720"/>
            <a:chExt cx="1584720" cy="1150920"/>
          </a:xfrm>
        </p:grpSpPr>
        <p:sp>
          <p:nvSpPr>
            <p:cNvPr id="916" name=""/>
            <p:cNvSpPr/>
            <p:nvPr/>
          </p:nvSpPr>
          <p:spPr>
            <a:xfrm>
              <a:off x="2195280" y="4365720"/>
              <a:ext cx="1152720" cy="43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1763280" y="4365720"/>
              <a:ext cx="431640" cy="1150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152440" y="4422600"/>
              <a:ext cx="172800" cy="144360"/>
              <a:chOff x="2152440" y="4422600"/>
              <a:chExt cx="172800" cy="144360"/>
            </a:xfrm>
          </p:grpSpPr>
          <p:sp>
            <p:nvSpPr>
              <p:cNvPr id="919" name=""/>
              <p:cNvSpPr/>
              <p:nvPr/>
            </p:nvSpPr>
            <p:spPr>
              <a:xfrm>
                <a:off x="2152440" y="4510080"/>
                <a:ext cx="14292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2280960" y="4422600"/>
                <a:ext cx="44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4083120" y="4321080"/>
            <a:ext cx="1641240" cy="358560"/>
            <a:chOff x="4083120" y="4321080"/>
            <a:chExt cx="1641240" cy="358560"/>
          </a:xfrm>
        </p:grpSpPr>
        <p:sp>
          <p:nvSpPr>
            <p:cNvPr id="922" name=""/>
            <p:cNvSpPr/>
            <p:nvPr/>
          </p:nvSpPr>
          <p:spPr>
            <a:xfrm>
              <a:off x="4284720" y="4508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83120" y="4321080"/>
              <a:ext cx="358560" cy="35856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26040" y="4479840"/>
              <a:ext cx="7308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13616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58560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177960" y="34862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999800" y="55450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33240" y="55166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7236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195640" y="54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8000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5416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332000" y="341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09680" y="217440"/>
            <a:ext cx="23050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琥珀"/>
              </a:rPr>
              <a:t>第一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936" name=""/>
          <p:cNvSpPr/>
          <p:nvPr/>
        </p:nvSpPr>
        <p:spPr>
          <a:xfrm>
            <a:off x="125892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564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15636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0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995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433680" y="3068640"/>
            <a:ext cx="122580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2920" y="3056040"/>
            <a:ext cx="1225440" cy="71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84360" y="1027080"/>
            <a:ext cx="1944720" cy="1944720"/>
            <a:chOff x="684360" y="1027080"/>
            <a:chExt cx="1944720" cy="1944720"/>
          </a:xfrm>
        </p:grpSpPr>
        <p:grpSp>
          <p:nvGrpSpPr>
            <p:cNvPr id="944" name=""/>
            <p:cNvGrpSpPr/>
            <p:nvPr/>
          </p:nvGrpSpPr>
          <p:grpSpPr>
            <a:xfrm>
              <a:off x="684360" y="1027080"/>
              <a:ext cx="1944720" cy="1944720"/>
              <a:chOff x="684360" y="1027080"/>
              <a:chExt cx="1944720" cy="1944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684360" y="1027080"/>
                <a:ext cx="1944720" cy="1944720"/>
                <a:chOff x="684360" y="1027080"/>
                <a:chExt cx="1944720" cy="19447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84360" y="10270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57440" y="11001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23558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556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V="1">
                  <a:off x="1663920" y="26859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V="1">
                  <a:off x="1663920" y="10890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881280" y="1216800"/>
                <a:ext cx="1555200" cy="1572120"/>
                <a:chOff x="881280" y="1216800"/>
                <a:chExt cx="1555200" cy="1572120"/>
              </a:xfrm>
            </p:grpSpPr>
            <p:sp>
              <p:nvSpPr>
                <p:cNvPr id="953" name=""/>
                <p:cNvSpPr/>
                <p:nvPr/>
              </p:nvSpPr>
              <p:spPr>
                <a:xfrm flipV="1">
                  <a:off x="2060640" y="12236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2347560" y="15534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1228680" y="27000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207440" y="1216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039400" y="26964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347200" y="24328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899640" y="24328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81280" y="15444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1" name=""/>
            <p:cNvSpPr/>
            <p:nvPr/>
          </p:nvSpPr>
          <p:spPr>
            <a:xfrm>
              <a:off x="1649520" y="19987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60720" y="1041480"/>
            <a:ext cx="1944720" cy="1944720"/>
            <a:chOff x="3060720" y="1041480"/>
            <a:chExt cx="1944720" cy="1944720"/>
          </a:xfrm>
        </p:grpSpPr>
        <p:grpSp>
          <p:nvGrpSpPr>
            <p:cNvPr id="963" name=""/>
            <p:cNvGrpSpPr/>
            <p:nvPr/>
          </p:nvGrpSpPr>
          <p:grpSpPr>
            <a:xfrm>
              <a:off x="3060720" y="1041480"/>
              <a:ext cx="1944720" cy="1944720"/>
              <a:chOff x="3060720" y="1041480"/>
              <a:chExt cx="1944720" cy="1944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3060720" y="1041480"/>
                <a:ext cx="1944720" cy="1944720"/>
                <a:chOff x="3060720" y="1041480"/>
                <a:chExt cx="1944720" cy="194472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3060720" y="10414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133800" y="11145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7322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1320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4040280" y="27003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4040280" y="11034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257640" y="1231200"/>
                <a:ext cx="1555200" cy="1572120"/>
                <a:chOff x="3257640" y="1231200"/>
                <a:chExt cx="1555200" cy="1572120"/>
              </a:xfrm>
            </p:grpSpPr>
            <p:sp>
              <p:nvSpPr>
                <p:cNvPr id="972" name=""/>
                <p:cNvSpPr/>
                <p:nvPr/>
              </p:nvSpPr>
              <p:spPr>
                <a:xfrm flipV="1">
                  <a:off x="4437000" y="12380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4723920" y="15678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V="1">
                  <a:off x="3605040" y="27144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583800" y="1231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4415760" y="2710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723560" y="24472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3276000" y="24472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257640" y="15588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0" name=""/>
            <p:cNvSpPr/>
            <p:nvPr/>
          </p:nvSpPr>
          <p:spPr>
            <a:xfrm>
              <a:off x="4025880" y="20131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666800" y="1362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1558080" y="1726920"/>
            <a:ext cx="583560" cy="3578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048200" y="13780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3911760" y="2033640"/>
            <a:ext cx="672120" cy="14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5479920" y="1052640"/>
            <a:ext cx="1944720" cy="1944720"/>
            <a:chOff x="5479920" y="1052640"/>
            <a:chExt cx="1944720" cy="1944720"/>
          </a:xfrm>
        </p:grpSpPr>
        <p:grpSp>
          <p:nvGrpSpPr>
            <p:cNvPr id="986" name=""/>
            <p:cNvGrpSpPr/>
            <p:nvPr/>
          </p:nvGrpSpPr>
          <p:grpSpPr>
            <a:xfrm>
              <a:off x="5479920" y="1052640"/>
              <a:ext cx="1944720" cy="1944720"/>
              <a:chOff x="5479920" y="1052640"/>
              <a:chExt cx="1944720" cy="194472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5479920" y="1052640"/>
                <a:ext cx="1944720" cy="1944720"/>
                <a:chOff x="5479920" y="1052640"/>
                <a:chExt cx="1944720" cy="19447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5479920" y="105264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553000" y="112572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1514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5512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V="1">
                  <a:off x="6459480" y="271152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6459480" y="11145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5676840" y="1242360"/>
                <a:ext cx="1555200" cy="1572120"/>
                <a:chOff x="5676840" y="1242360"/>
                <a:chExt cx="1555200" cy="1572120"/>
              </a:xfrm>
            </p:grpSpPr>
            <p:sp>
              <p:nvSpPr>
                <p:cNvPr id="995" name=""/>
                <p:cNvSpPr/>
                <p:nvPr/>
              </p:nvSpPr>
              <p:spPr>
                <a:xfrm flipV="1">
                  <a:off x="6856200" y="1249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7143120" y="15789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6024240" y="272556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003000" y="12423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834960" y="27219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142760" y="245844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5695200" y="245844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76840" y="156996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6445080" y="202428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467400" y="1389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6412320" y="1958040"/>
            <a:ext cx="324360" cy="5886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959200" y="3998880"/>
            <a:ext cx="1944720" cy="1944720"/>
            <a:chOff x="2959200" y="3998880"/>
            <a:chExt cx="1944720" cy="1944720"/>
          </a:xfrm>
        </p:grpSpPr>
        <p:grpSp>
          <p:nvGrpSpPr>
            <p:cNvPr id="1007" name=""/>
            <p:cNvGrpSpPr/>
            <p:nvPr/>
          </p:nvGrpSpPr>
          <p:grpSpPr>
            <a:xfrm>
              <a:off x="2959200" y="3998880"/>
              <a:ext cx="1944720" cy="1944720"/>
              <a:chOff x="2959200" y="3998880"/>
              <a:chExt cx="1944720" cy="1944720"/>
            </a:xfrm>
          </p:grpSpPr>
          <p:grpSp>
            <p:nvGrpSpPr>
              <p:cNvPr id="1008" name=""/>
              <p:cNvGrpSpPr/>
              <p:nvPr/>
            </p:nvGrpSpPr>
            <p:grpSpPr>
              <a:xfrm>
                <a:off x="2959200" y="3998880"/>
                <a:ext cx="1944720" cy="1944720"/>
                <a:chOff x="2959200" y="3998880"/>
                <a:chExt cx="1944720" cy="194472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2959200" y="39988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032280" y="40719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6306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0304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V="1">
                  <a:off x="3938760" y="56577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3938760" y="40608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3156120" y="4188600"/>
                <a:ext cx="1555200" cy="1572120"/>
                <a:chOff x="3156120" y="4188600"/>
                <a:chExt cx="1555200" cy="1572120"/>
              </a:xfrm>
            </p:grpSpPr>
            <p:sp>
              <p:nvSpPr>
                <p:cNvPr id="1016" name=""/>
                <p:cNvSpPr/>
                <p:nvPr/>
              </p:nvSpPr>
              <p:spPr>
                <a:xfrm flipV="1">
                  <a:off x="4335480" y="41954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4622400" y="45252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3503520" y="56718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482280" y="41886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314240" y="5668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622040" y="54046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3174480" y="5404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156120" y="45162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"/>
            <p:cNvSpPr/>
            <p:nvPr/>
          </p:nvSpPr>
          <p:spPr>
            <a:xfrm>
              <a:off x="3924360" y="49705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40200" y="43354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3940560" y="4903560"/>
            <a:ext cx="2160" cy="703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5435640" y="4005360"/>
            <a:ext cx="1944720" cy="1944720"/>
            <a:chOff x="5435640" y="4005360"/>
            <a:chExt cx="1944720" cy="1944720"/>
          </a:xfrm>
        </p:grpSpPr>
        <p:grpSp>
          <p:nvGrpSpPr>
            <p:cNvPr id="1028" name=""/>
            <p:cNvGrpSpPr/>
            <p:nvPr/>
          </p:nvGrpSpPr>
          <p:grpSpPr>
            <a:xfrm>
              <a:off x="5435640" y="4005360"/>
              <a:ext cx="1944720" cy="1944720"/>
              <a:chOff x="5435640" y="4005360"/>
              <a:chExt cx="1944720" cy="194472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5435640" y="4005360"/>
                <a:ext cx="1944720" cy="1944720"/>
                <a:chOff x="5435640" y="4005360"/>
                <a:chExt cx="1944720" cy="194472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435640" y="400536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508720" y="407844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1071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5069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6415200" y="566424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6415200" y="406728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5632560" y="4195080"/>
                <a:ext cx="1555200" cy="1572120"/>
                <a:chOff x="5632560" y="4195080"/>
                <a:chExt cx="1555200" cy="1572120"/>
              </a:xfrm>
            </p:grpSpPr>
            <p:sp>
              <p:nvSpPr>
                <p:cNvPr id="1037" name=""/>
                <p:cNvSpPr/>
                <p:nvPr/>
              </p:nvSpPr>
              <p:spPr>
                <a:xfrm flipV="1">
                  <a:off x="6811920" y="420192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H="1">
                  <a:off x="7098840" y="4531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5979960" y="567828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958720" y="41950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790680" y="56746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098480" y="541116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>
                  <a:off x="5650920" y="54111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632560" y="452268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"/>
            <p:cNvSpPr/>
            <p:nvPr/>
          </p:nvSpPr>
          <p:spPr>
            <a:xfrm>
              <a:off x="6400800" y="497700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6416640" y="434196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416640" y="4517280"/>
            <a:ext cx="1440" cy="6087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9528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说出每个钟面上的时间，并说出每个钟面上时针和分针所成角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16080" y="309708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锐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621240" y="311292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881680" y="306864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068880" y="311292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钝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34800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535200" y="606600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平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83884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925960" y="6066000"/>
            <a:ext cx="1081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周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84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059280" y="2693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551560" y="27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016080" y="5689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506920" y="5705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50920" y="4005360"/>
            <a:ext cx="216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97000"/>
                  </a:srgbClr>
                </a:solidFill>
                <a:latin typeface="宋体"/>
              </a:rPr>
              <a:t>第二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97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80"/>
                            </p:stCondLst>
                            <p:childTnLst>
                              <p:par>
                                <p:cTn id="3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3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0:56:19Z</dcterms:created>
  <dc:creator> </dc:creator>
  <dc:description> </dc:description>
  <dc:language>en-US</dc:language>
  <cp:lastModifiedBy>微软用户</cp:lastModifiedBy>
  <dcterms:modified xsi:type="dcterms:W3CDTF">2013-08-27T00:44:03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