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1.png" ContentType="image/png"/>
  <Override PartName="/ppt/media/wait0.wav" ContentType="audio/x-wav"/>
  <Override PartName="/ppt/media/image24.png" ContentType="image/png"/>
  <Override PartName="/ppt/media/image19.gif" ContentType="image/gif"/>
  <Override PartName="/ppt/media/image18.gif" ContentType="image/gif"/>
  <Override PartName="/ppt/media/image20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C28-F0B4-468E-902A-8903F875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4D2-0D6B-4039-B98E-4B8C97AF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871-D3AA-4C4B-851A-6F83BB18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58D-FBB3-48A3-BC77-0FC64C13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192-CFF7-4DBE-A235-ADB9317C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EA1-C1E5-4DA8-95B8-672FAD19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8D5-538E-4DA3-9FA2-B46797D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5D2D-0349-46F5-99BF-E13AED8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297B-2049-4A19-A425-CFB23B7D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D6D-C604-4FAE-B659-37D8F4DE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AA2F-F822-4146-AA45-40E3CDB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863-5545-4A61-B009-1FFC4995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861F-31AA-4FA3-9F83-4C9918483E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5837400"/>
            <a:ext cx="212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gif"/><Relationship Id="rId12" Type="http://schemas.openxmlformats.org/officeDocument/2006/relationships/image" Target="../media/image17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20.gif"/><Relationship Id="rId16" Type="http://schemas.openxmlformats.org/officeDocument/2006/relationships/image" Target="../media/image18.gif"/><Relationship Id="rId17" Type="http://schemas.openxmlformats.org/officeDocument/2006/relationships/image" Target="../media/image19.gif"/><Relationship Id="rId18" Type="http://schemas.openxmlformats.org/officeDocument/2006/relationships/image" Target="../media/image20.gif"/><Relationship Id="rId19" Type="http://schemas.openxmlformats.org/officeDocument/2006/relationships/audio" Target="../media/wait0.wav"/><Relationship Id="rId2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20.gif"/><Relationship Id="rId16" Type="http://schemas.openxmlformats.org/officeDocument/2006/relationships/image" Target="../media/image25.pn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18.gif"/><Relationship Id="rId11" Type="http://schemas.openxmlformats.org/officeDocument/2006/relationships/image" Target="../media/image19.gif"/><Relationship Id="rId12" Type="http://schemas.openxmlformats.org/officeDocument/2006/relationships/image" Target="../media/image20.gif"/><Relationship Id="rId13" Type="http://schemas.openxmlformats.org/officeDocument/2006/relationships/image" Target="../media/image18.gif"/><Relationship Id="rId14" Type="http://schemas.openxmlformats.org/officeDocument/2006/relationships/image" Target="../media/image19.gif"/><Relationship Id="rId15" Type="http://schemas.openxmlformats.org/officeDocument/2006/relationships/image" Target="../media/image20.gif"/><Relationship Id="rId16" Type="http://schemas.openxmlformats.org/officeDocument/2006/relationships/image" Target="../media/image25.png"/><Relationship Id="rId17" Type="http://schemas.openxmlformats.org/officeDocument/2006/relationships/image" Target="../media/image26.jpeg"/><Relationship Id="rId1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24000" y="2276640"/>
            <a:ext cx="4608720" cy="17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solidFill>
                    <a:srgbClr val="33cccc"/>
                  </a:solidFill>
                </a:ln>
                <a:solidFill>
                  <a:srgbClr val="0099cc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可能性</a:t>
            </a:r>
            <a:endParaRPr b="0" lang="en-US" sz="1800" spc="1" strike="noStrike">
              <a:ln w="0">
                <a:solidFill>
                  <a:srgbClr val="33cccc"/>
                </a:solidFill>
              </a:ln>
              <a:solidFill>
                <a:srgbClr val="0099cc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4936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Impact"/>
              </a:rPr>
              <a:t>北京版四年级数学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6000" y="191628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“一定”“可能”和“不可能”说说生活里的事情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920" y="19080"/>
            <a:ext cx="7866720" cy="6735240"/>
            <a:chOff x="160920" y="19080"/>
            <a:chExt cx="7866720" cy="6735240"/>
          </a:xfrm>
        </p:grpSpPr>
        <p:sp>
          <p:nvSpPr>
            <p:cNvPr id="87" name=""/>
            <p:cNvSpPr txBox="1"/>
            <p:nvPr/>
          </p:nvSpPr>
          <p:spPr>
            <a:xfrm rot="1788000">
              <a:off x="893520" y="260280"/>
              <a:ext cx="1296360" cy="122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66"/>
                      </a:gs>
                      <a:gs pos="50000">
                        <a:srgbClr val="ffffcc"/>
                      </a:gs>
                      <a:gs pos="100000">
                        <a:srgbClr val="ffff66"/>
                      </a:gs>
                    </a:gsLst>
                    <a:lin ang="3612000"/>
                  </a:gradFill>
                  <a:latin typeface="华文琥珀"/>
                </a:rPr>
                <a:t>硬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  <a:ea typeface="华文琥珀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 rot="20380800">
              <a:off x="323640" y="1628280"/>
              <a:ext cx="1170360" cy="1148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华文琥珀"/>
                </a:rPr>
                <a:t>币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589800">
              <a:off x="800280" y="5516640"/>
              <a:ext cx="1170360" cy="11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华文琥珀"/>
                </a:rPr>
                <a:t>来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 rot="20952000">
              <a:off x="392400" y="4076280"/>
              <a:ext cx="1172160" cy="11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6"/>
                    <a:srcRect/>
                    <a:stretch/>
                  </a:blipFill>
                  <a:latin typeface="华文琥珀"/>
                </a:rPr>
                <a:t>起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 rot="1000800">
              <a:off x="799920" y="2852640"/>
              <a:ext cx="1170360" cy="1146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38160">
                    <a:solidFill>
                      <a:srgbClr val="000000"/>
                    </a:solidFill>
                    <a:miter/>
                  </a:ln>
                  <a:blipFill rotWithShape="0">
                    <a:blip r:embed="rId8"/>
                    <a:srcRect/>
                    <a:stretch/>
                  </a:blipFill>
                  <a:latin typeface="华文琥珀"/>
                </a:rPr>
                <a:t>转</a:t>
              </a:r>
              <a:endParaRPr b="0" lang="en-US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华文琥珀"/>
                <a:ea typeface="华文琥珀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0"/>
            <a:stretch/>
          </p:blipFill>
          <p:spPr>
            <a:xfrm>
              <a:off x="2919240" y="692280"/>
              <a:ext cx="5108400" cy="183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"/>
          <p:cNvGrpSpPr/>
          <p:nvPr/>
        </p:nvGrpSpPr>
        <p:grpSpPr>
          <a:xfrm>
            <a:off x="2050920" y="2708280"/>
            <a:ext cx="6626520" cy="2071800"/>
            <a:chOff x="2050920" y="2708280"/>
            <a:chExt cx="6626520" cy="2071800"/>
          </a:xfrm>
        </p:grpSpPr>
        <p:sp>
          <p:nvSpPr>
            <p:cNvPr id="94" name=""/>
            <p:cNvSpPr/>
            <p:nvPr/>
          </p:nvSpPr>
          <p:spPr>
            <a:xfrm>
              <a:off x="2124000" y="2708280"/>
              <a:ext cx="65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同桌一起转动硬币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8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次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并把转动后的结果记录下来</a:t>
              </a:r>
              <a:r>
                <a:rPr b="1" lang="zh-CN" sz="1800" spc="-1" strike="noStrike">
                  <a:solidFill>
                    <a:srgbClr val="ff00ff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24000" y="4076640"/>
              <a:ext cx="6553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也可以和好朋友发明其他“玩硬币”的新游戏。</a:t>
              </a:r>
              <a:r>
                <a:rPr b="1" lang="zh-CN" sz="4000" spc="-1" strike="noStrike">
                  <a:solidFill>
                    <a:srgbClr val="ff00ff"/>
                  </a:solidFill>
                  <a:latin typeface="楷体_GB2312"/>
                  <a:ea typeface="楷体_GB2312"/>
                </a:rPr>
                <a:t>	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1"/>
            <a:stretch/>
          </p:blipFill>
          <p:spPr>
            <a:xfrm>
              <a:off x="2050920" y="2779920"/>
              <a:ext cx="57492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2"/>
            <a:stretch/>
          </p:blipFill>
          <p:spPr>
            <a:xfrm>
              <a:off x="2050920" y="4148280"/>
              <a:ext cx="574920" cy="57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651672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370836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7885080" y="0"/>
            <a:ext cx="514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ait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5" name=""/>
          <p:cNvSpPr txBox="1"/>
          <p:nvPr/>
        </p:nvSpPr>
        <p:spPr>
          <a:xfrm rot="1788000">
            <a:off x="636120" y="260280"/>
            <a:ext cx="134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</a:rPr>
              <a:t>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ffcc"/>
                  </a:gs>
                  <a:gs pos="100000">
                    <a:srgbClr val="ffff66"/>
                  </a:gs>
                </a:gsLst>
                <a:lin ang="3612000"/>
              </a:gradFill>
              <a:latin typeface="华文琥珀"/>
              <a:ea typeface="华文琥珀"/>
            </a:endParaRPr>
          </a:p>
        </p:txBody>
      </p:sp>
      <p:sp>
        <p:nvSpPr>
          <p:cNvPr id="106" name=""/>
          <p:cNvSpPr txBox="1"/>
          <p:nvPr/>
        </p:nvSpPr>
        <p:spPr>
          <a:xfrm rot="20380800">
            <a:off x="394920" y="1699920"/>
            <a:ext cx="121284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琥珀"/>
              </a:rPr>
              <a:t>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07" name=""/>
          <p:cNvSpPr txBox="1"/>
          <p:nvPr/>
        </p:nvSpPr>
        <p:spPr>
          <a:xfrm rot="589800">
            <a:off x="826920" y="544500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来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08" name=""/>
          <p:cNvSpPr txBox="1"/>
          <p:nvPr/>
        </p:nvSpPr>
        <p:spPr>
          <a:xfrm rot="20952000">
            <a:off x="468000" y="4076280"/>
            <a:ext cx="12142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华文琥珀"/>
              </a:rPr>
              <a:t>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09" name=""/>
          <p:cNvSpPr txBox="1"/>
          <p:nvPr/>
        </p:nvSpPr>
        <p:spPr>
          <a:xfrm rot="1000800">
            <a:off x="684360" y="292428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华文琥珀"/>
              </a:rPr>
              <a:t>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华文琥珀"/>
              <a:ea typeface="华文琥珀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687708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7380360" y="83664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8101080" y="0"/>
            <a:ext cx="514440" cy="5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979640" y="1844640"/>
          <a:ext cx="6696000" cy="3672000"/>
        </p:xfrm>
        <a:graphic>
          <a:graphicData uri="http://schemas.openxmlformats.org/drawingml/2006/table">
            <a:tbl>
              <a:tblPr/>
              <a:tblGrid>
                <a:gridCol w="1371240"/>
                <a:gridCol w="676440"/>
                <a:gridCol w="665280"/>
                <a:gridCol w="663480"/>
                <a:gridCol w="663480"/>
                <a:gridCol w="663480"/>
                <a:gridCol w="665280"/>
                <a:gridCol w="662040"/>
                <a:gridCol w="665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17" name="1角花" descr=""/>
          <p:cNvPicPr/>
          <p:nvPr/>
        </p:nvPicPr>
        <p:blipFill>
          <a:blip r:embed="rId16"/>
          <a:stretch/>
        </p:blipFill>
        <p:spPr>
          <a:xfrm>
            <a:off x="2197080" y="450864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1角字" descr=""/>
          <p:cNvPicPr/>
          <p:nvPr/>
        </p:nvPicPr>
        <p:blipFill>
          <a:blip r:embed="rId17"/>
          <a:stretch/>
        </p:blipFill>
        <p:spPr>
          <a:xfrm>
            <a:off x="2268360" y="3429000"/>
            <a:ext cx="989280" cy="100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83664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转硬币情况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413080" y="5805360"/>
            <a:ext cx="475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快乐大本营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3" name=""/>
          <p:cNvSpPr txBox="1"/>
          <p:nvPr/>
        </p:nvSpPr>
        <p:spPr>
          <a:xfrm rot="1788000">
            <a:off x="636120" y="260280"/>
            <a:ext cx="134316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ffcc"/>
                    </a:gs>
                    <a:gs pos="100000">
                      <a:srgbClr val="ffff66"/>
                    </a:gs>
                  </a:gsLst>
                  <a:lin ang="3612000"/>
                </a:gradFill>
                <a:latin typeface="华文琥珀"/>
              </a:rPr>
              <a:t>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ffcc"/>
                  </a:gs>
                  <a:gs pos="100000">
                    <a:srgbClr val="ffff66"/>
                  </a:gs>
                </a:gsLst>
                <a:lin ang="3612000"/>
              </a:gradFill>
              <a:latin typeface="华文琥珀"/>
              <a:ea typeface="华文琥珀"/>
            </a:endParaRPr>
          </a:p>
        </p:txBody>
      </p:sp>
      <p:sp>
        <p:nvSpPr>
          <p:cNvPr id="124" name=""/>
          <p:cNvSpPr txBox="1"/>
          <p:nvPr/>
        </p:nvSpPr>
        <p:spPr>
          <a:xfrm rot="20380800">
            <a:off x="394920" y="1699920"/>
            <a:ext cx="121284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琥珀"/>
              </a:rPr>
              <a:t>币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25" name=""/>
          <p:cNvSpPr txBox="1"/>
          <p:nvPr/>
        </p:nvSpPr>
        <p:spPr>
          <a:xfrm rot="589800">
            <a:off x="826920" y="544500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来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26" name=""/>
          <p:cNvSpPr txBox="1"/>
          <p:nvPr/>
        </p:nvSpPr>
        <p:spPr>
          <a:xfrm rot="20952000">
            <a:off x="468000" y="4076280"/>
            <a:ext cx="12142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华文琥珀"/>
              </a:rPr>
              <a:t>起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华文琥珀"/>
              <a:ea typeface="华文琥珀"/>
            </a:endParaRPr>
          </a:p>
        </p:txBody>
      </p:sp>
      <p:sp>
        <p:nvSpPr>
          <p:cNvPr id="127" name=""/>
          <p:cNvSpPr txBox="1"/>
          <p:nvPr/>
        </p:nvSpPr>
        <p:spPr>
          <a:xfrm rot="1000800">
            <a:off x="684360" y="2924280"/>
            <a:ext cx="12128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latin typeface="华文琥珀"/>
              </a:rPr>
              <a:t>转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stretch/>
              </a:blipFill>
              <a:latin typeface="华文琥珀"/>
              <a:ea typeface="华文琥珀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2484360" y="5493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11280" y="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4572000" y="260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77080" y="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7380360" y="83664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8101080" y="0"/>
            <a:ext cx="514440" cy="5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979640" y="1844640"/>
          <a:ext cx="6696000" cy="3672000"/>
        </p:xfrm>
        <a:graphic>
          <a:graphicData uri="http://schemas.openxmlformats.org/drawingml/2006/table">
            <a:tbl>
              <a:tblPr/>
              <a:tblGrid>
                <a:gridCol w="1371240"/>
                <a:gridCol w="676440"/>
                <a:gridCol w="665280"/>
                <a:gridCol w="663480"/>
                <a:gridCol w="663480"/>
                <a:gridCol w="663480"/>
                <a:gridCol w="665280"/>
                <a:gridCol w="662040"/>
                <a:gridCol w="665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ff"/>
                          </a:solidFill>
                          <a:latin typeface="Times New Roman"/>
                          <a:ea typeface="楷体_GB2312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35" name="1角花" descr=""/>
          <p:cNvPicPr/>
          <p:nvPr/>
        </p:nvPicPr>
        <p:blipFill>
          <a:blip r:embed="rId16"/>
          <a:stretch/>
        </p:blipFill>
        <p:spPr>
          <a:xfrm>
            <a:off x="2197080" y="4508640"/>
            <a:ext cx="1079640" cy="100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1角字" descr=""/>
          <p:cNvPicPr/>
          <p:nvPr/>
        </p:nvPicPr>
        <p:blipFill>
          <a:blip r:embed="rId17"/>
          <a:stretch/>
        </p:blipFill>
        <p:spPr>
          <a:xfrm>
            <a:off x="2268360" y="3429000"/>
            <a:ext cx="989280" cy="100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37200" y="2905200"/>
            <a:ext cx="67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83664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楷体_GB2312"/>
              </a:rPr>
              <a:t>转硬币情况记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79640" y="256536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说一说本节课我们都学习了哪些内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87280" y="22766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本节课我们主要来学习可能性，同学们要掌握可能性的概念，能够判别一些常见事物的可能性大小，知道哪些游戏是公平的，哪些是不公平的。并且可以用“一定”、“可能”、“不可能”等词来描述一些事物的发生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627280" y="83664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学目标</a:t>
            </a:r>
            <a:endParaRPr b="0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24000" y="2062080"/>
            <a:ext cx="4319640" cy="388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4284720" y="3357360"/>
            <a:ext cx="431640" cy="647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5640" y="404640"/>
            <a:ext cx="2303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猜一猜：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4437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袋子里有红球，有黄球，也有绿球时，任意摸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240" y="403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7628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口袋里任意摸出一个球，摸出的一定是红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9600" y="2205000"/>
            <a:ext cx="24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一定是红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20968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袋子里全是红球时，任意摸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54560" y="342900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可能是红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433680"/>
            <a:ext cx="590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袋子里没有红球时，</a:t>
            </a:r>
            <a:r>
              <a:rPr b="1" lang="zh-CN" sz="2800" spc="-1" strike="noStrike">
                <a:solidFill>
                  <a:srgbClr val="000000"/>
                </a:solidFill>
                <a:latin typeface="Impact"/>
              </a:rPr>
              <a:t>任意摸一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4869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能是红球，可能是黄球，也可能是绿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1940040" cy="280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1973160" cy="29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26920" y="2060640"/>
            <a:ext cx="1987560" cy="287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1280" y="620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每个口袋里任意摸一个球，一定是黄球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410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5410080"/>
            <a:ext cx="1600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400040" cy="2006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55640" y="98100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每次口袋该放什么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任意摸一个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不可能是绿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3789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任意摸一个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可能是绿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486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任意摸一个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定是绿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35280" y="1197000"/>
            <a:ext cx="42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981000"/>
            <a:ext cx="8208720" cy="64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合作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Impact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先商量好该放什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3300"/>
                </a:solidFill>
                <a:latin typeface="Impact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牵袋子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放球，最后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看放的球对不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089440" cy="194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V="1">
            <a:off x="1619280" y="3213000"/>
            <a:ext cx="28872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348000" y="2781360"/>
            <a:ext cx="1943280" cy="1893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flipV="1">
            <a:off x="4356000" y="3357720"/>
            <a:ext cx="43200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940360" y="2852640"/>
            <a:ext cx="1944720" cy="1919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6804000" y="3428640"/>
            <a:ext cx="43200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484280"/>
            <a:ext cx="70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Impact"/>
              </a:rPr>
              <a:t>你会猜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9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26920" y="24210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，明天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31417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天会下雨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393372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阿姨快生宝宝了，会生个女孩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8720" y="48751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太阳会从西边升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6028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cc"/>
                </a:solidFill>
                <a:latin typeface="Impact"/>
              </a:rPr>
              <a:t>想一想，说一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4:16:50Z</dcterms:created>
  <dc:creator> </dc:creator>
  <dc:description> </dc:description>
  <dc:language>en-US</dc:language>
  <cp:lastModifiedBy>微软用户</cp:lastModifiedBy>
  <dcterms:modified xsi:type="dcterms:W3CDTF">2013-08-27T00:44:03Z</dcterms:modified>
  <cp:revision>0</cp:revision>
  <dc:subject> </dc:subject>
  <dc:title> </dc:title>
</cp:coreProperties>
</file>