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1F1-CC0D-42B9-86E1-025AEB0E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FC2-DE8F-42F5-9C92-B0BC0AE5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1D8-1623-426A-BBA0-BD67BBE0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D8B-2E40-4B29-848E-410C2EE5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889-FEB5-420A-8610-F5CC6A2C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4ED-77D8-46B0-B8E7-4470BB04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A8E-6EB9-4136-B90D-C7C70E40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45C-4DF6-4434-A24A-E962F9E2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739-7464-4E1A-8E7A-12CD8DB7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C2F-69DC-432A-A30E-1DFF87F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3DE-1DE5-4E59-9381-F366D3F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1B0-311A-4104-8F18-ED309AB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D504-DC6B-4220-B840-96E90441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895480"/>
            <a:ext cx="6858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彩云"/>
              </a:rPr>
              <a:t>三位数乘两位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219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北京版四年级数学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6120" cy="2133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2057400" y="228600"/>
            <a:ext cx="337176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智力大比拼！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18288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同学们进行电脑打字比赛，小强平均每分钟打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106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个字，一节课（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分钟）大约打了多少个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34290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下面这块长方形绿地的宽要增加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米，长不变。扩大后的绿地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1080" y="4572000"/>
            <a:ext cx="6248520" cy="1447920"/>
            <a:chOff x="1981080" y="4572000"/>
            <a:chExt cx="6248520" cy="1447920"/>
          </a:xfrm>
        </p:grpSpPr>
        <p:grpSp>
          <p:nvGrpSpPr>
            <p:cNvPr id="188" name=""/>
            <p:cNvGrpSpPr/>
            <p:nvPr/>
          </p:nvGrpSpPr>
          <p:grpSpPr>
            <a:xfrm>
              <a:off x="1981080" y="4572000"/>
              <a:ext cx="6095880" cy="1447920"/>
              <a:chOff x="1981080" y="4572000"/>
              <a:chExt cx="6095880" cy="144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1981080" y="4572000"/>
                <a:ext cx="5638680" cy="1447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04960" y="5181480"/>
                <a:ext cx="190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560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平方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19760" y="4572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19760" y="601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7848360" y="45720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84836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75438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362320" y="1295280"/>
            <a:ext cx="4076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3048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节课我们学习了三位数乘两位数的笔算，同学们课下要多多的练习，熟练的掌握计算步骤，提高计算的速度和准确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90920" y="1143000"/>
            <a:ext cx="3733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温故知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514600"/>
            <a:ext cx="586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×6=            8×20=         13×2=       4×130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581280"/>
            <a:ext cx="6400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4=            150×3=          120×7=         680×1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724280"/>
            <a:ext cx="6172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×15=           4×25=          6×140=           380×2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514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514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2514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581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581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581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3581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8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47242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7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21440" y="9208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8 × 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48080" y="2666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9040" y="274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7040" y="33526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429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 9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7040" y="4572000"/>
            <a:ext cx="15242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8280" y="4662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3520" y="4659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67560" y="4662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960" y="4648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62640" y="914400"/>
            <a:ext cx="1467720" cy="534960"/>
            <a:chOff x="4562640" y="914400"/>
            <a:chExt cx="1467720" cy="534960"/>
          </a:xfrm>
        </p:grpSpPr>
        <p:sp>
          <p:nvSpPr>
            <p:cNvPr id="70" name=""/>
            <p:cNvSpPr/>
            <p:nvPr/>
          </p:nvSpPr>
          <p:spPr>
            <a:xfrm>
              <a:off x="5646960" y="928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72560" y="9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26240" y="928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62640" y="914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124080" y="2133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 9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0384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9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 rot="5400000">
            <a:off x="-390960" y="3210480"/>
            <a:ext cx="36781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会用竖式计算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3048120"/>
            <a:ext cx="23623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看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 ×14=28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796920" y="97308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国发射的第一颗人造地球卫星，绕地球一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要用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14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。绕地球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周要用多少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48400" y="29862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 1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66280" y="35812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16400" y="3581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476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9200" y="424980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 0 2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868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44760" y="5334120"/>
            <a:ext cx="15238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920" y="5424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8680" y="5421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08720" y="5424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3800" y="541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3560" y="23623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4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×59=___________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51560" y="4738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380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180320" y="2286000"/>
            <a:ext cx="1467720" cy="534960"/>
            <a:chOff x="4180320" y="2286000"/>
            <a:chExt cx="1467720" cy="534960"/>
          </a:xfrm>
        </p:grpSpPr>
        <p:sp>
          <p:nvSpPr>
            <p:cNvPr id="94" name=""/>
            <p:cNvSpPr/>
            <p:nvPr/>
          </p:nvSpPr>
          <p:spPr>
            <a:xfrm>
              <a:off x="5264640" y="2300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90240" y="2297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43920" y="2300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803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666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1333800" cy="100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295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个小花坛一共需要多少盆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657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个花坛需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盆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495680"/>
            <a:ext cx="64771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×20=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所以大约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05320" y="18288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    1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895480"/>
            <a:ext cx="266724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  1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0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4191120"/>
            <a:ext cx="27432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419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8  3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029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答：一共需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3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盆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71800" y="11430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用竖式计算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7400" y="2209680"/>
            <a:ext cx="9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81952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640" y="2805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414600"/>
            <a:ext cx="1523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1840" y="3473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07080" y="3470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1120" y="3473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2920" y="4027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42040" y="4024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0800" y="4027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4633920"/>
            <a:ext cx="15238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380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2920" y="4721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60800" y="4710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990720"/>
            <a:ext cx="1828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1714320" y="1028520"/>
            <a:ext cx="533160" cy="457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73560" y="220968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7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19520" y="2805120"/>
            <a:ext cx="8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0" y="2805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6360" y="3414600"/>
            <a:ext cx="1523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2560" y="3473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28160" y="3470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1840" y="3473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0760" y="4027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6000" y="4024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0040" y="4027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16360" y="4633920"/>
            <a:ext cx="15238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760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32840" y="4721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688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3280" y="4710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18400" y="2209680"/>
            <a:ext cx="15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80512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32840" y="2805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61200" y="3414600"/>
            <a:ext cx="1523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47400" y="3473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72640" y="3470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26680" y="3473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85600" y="4027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10840" y="4024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64880" y="4027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61200" y="4633920"/>
            <a:ext cx="15238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208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77680" y="4721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3136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67760" y="4710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35880" y="3473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85400" y="3471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4160" y="2057400"/>
            <a:ext cx="91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大展身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3581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我会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42670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32=                54×145=                   328×2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502920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22=                 208×30=                  180×5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9810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计算因数末尾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乘法时，可以先把（     ）前面的数相乘，然后看两个因数的末尾一共有几个（       ），就在乘得的数的（           ）添写几个（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2057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743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末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3124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52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4267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78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4267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8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52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5029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6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9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4160" y="2057400"/>
            <a:ext cx="91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大展身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362320"/>
            <a:ext cx="5639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货车在普通公路上以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时的速度行驶，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小时可以行多少千米？小轿车在高速公路上行驶的速度是货车的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倍，小轿车用同样的时间可行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07:19:31Z</dcterms:created>
  <dc:creator>21cnjy</dc:creator>
  <dc:description>21cnjy</dc:description>
  <cp:keywords>21cnjy</cp:keywords>
  <dc:language>en-US</dc:language>
  <cp:lastModifiedBy>微软用户</cp:lastModifiedBy>
  <dcterms:modified xsi:type="dcterms:W3CDTF">2015-12-01T07:19:51Z</dcterms:modified>
  <cp:revision>11</cp:revision>
  <dc:subject>21cnjy</dc:subject>
  <dc:title>21cnj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