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6B5-1588-46B2-B881-CE2D5A69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9BE-6678-4FC8-8C8D-B5F7D02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798-53D1-4E9E-91C0-E10EF88D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712-8BEF-4F83-A59C-28F7BA6E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CE3-20D4-497C-84CD-95A72910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256-6641-4686-84F3-15C899E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EC0-84CF-4CB8-81B5-2552E5F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0D4-5CC4-45F0-AE9C-7CAB1DF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1C5-4A37-46C8-8E89-B7F936D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2DA-538F-47EF-B40B-BB42FDE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B2F-3941-475E-9186-E6A6A4B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3EB-DFCA-403F-A232-BE54E4D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B5C2-729D-47C1-A372-9ED794EA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781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幼圆"/>
              </a:rPr>
              <a:t>三位数乘两位数笔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7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ff"/>
                </a:solidFill>
                <a:latin typeface="Arial"/>
              </a:rPr>
              <a:t>北京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89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9640" y="1628640"/>
            <a:ext cx="3348000" cy="3049200"/>
            <a:chOff x="539640" y="1628640"/>
            <a:chExt cx="3348000" cy="3049200"/>
          </a:xfrm>
        </p:grpSpPr>
        <p:sp>
          <p:nvSpPr>
            <p:cNvPr id="82" name=""/>
            <p:cNvSpPr/>
            <p:nvPr/>
          </p:nvSpPr>
          <p:spPr>
            <a:xfrm>
              <a:off x="1079280" y="1628640"/>
              <a:ext cx="280836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 8 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 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863280" y="2923920"/>
              <a:ext cx="360360" cy="431640"/>
              <a:chOff x="863280" y="2923920"/>
              <a:chExt cx="360360" cy="4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934920" y="2923920"/>
                <a:ext cx="21600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863280" y="2923920"/>
                <a:ext cx="36036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539640" y="3573360"/>
              <a:ext cx="284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27640" y="1700280"/>
            <a:ext cx="3241080" cy="3049200"/>
            <a:chOff x="4427640" y="1700280"/>
            <a:chExt cx="3241080" cy="3049200"/>
          </a:xfrm>
        </p:grpSpPr>
        <p:sp>
          <p:nvSpPr>
            <p:cNvPr id="88" name=""/>
            <p:cNvSpPr/>
            <p:nvPr/>
          </p:nvSpPr>
          <p:spPr>
            <a:xfrm>
              <a:off x="4860720" y="1700280"/>
              <a:ext cx="280800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8 5 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 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644720" y="2924280"/>
              <a:ext cx="360000" cy="431640"/>
              <a:chOff x="4644720" y="2924280"/>
              <a:chExt cx="360000" cy="431640"/>
            </a:xfrm>
          </p:grpSpPr>
          <p:sp>
            <p:nvSpPr>
              <p:cNvPr id="90" name=""/>
              <p:cNvSpPr/>
              <p:nvPr/>
            </p:nvSpPr>
            <p:spPr>
              <a:xfrm>
                <a:off x="4715640" y="2924280"/>
                <a:ext cx="21564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644720" y="2924280"/>
                <a:ext cx="36000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4427640" y="3573360"/>
              <a:ext cx="2842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50920" y="3573360"/>
            <a:ext cx="3023640" cy="2625480"/>
            <a:chOff x="250920" y="3573360"/>
            <a:chExt cx="3023640" cy="2625480"/>
          </a:xfrm>
        </p:grpSpPr>
        <p:sp>
          <p:nvSpPr>
            <p:cNvPr id="94" name=""/>
            <p:cNvSpPr/>
            <p:nvPr/>
          </p:nvSpPr>
          <p:spPr>
            <a:xfrm>
              <a:off x="753840" y="3573360"/>
              <a:ext cx="22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 2 8 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7000"/>
              <a:ext cx="22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 6 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2920" y="5302080"/>
              <a:ext cx="27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3840" y="5373720"/>
              <a:ext cx="22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 9 0 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995640" y="3573360"/>
            <a:ext cx="3240000" cy="2625480"/>
            <a:chOff x="3995640" y="3573360"/>
            <a:chExt cx="3240000" cy="2625480"/>
          </a:xfrm>
        </p:grpSpPr>
        <p:sp>
          <p:nvSpPr>
            <p:cNvPr id="99" name=""/>
            <p:cNvSpPr/>
            <p:nvPr/>
          </p:nvSpPr>
          <p:spPr>
            <a:xfrm>
              <a:off x="4498920" y="3573360"/>
              <a:ext cx="252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 7 1 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95640" y="4365360"/>
              <a:ext cx="252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 5 7 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11640" y="523080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11640" y="5373720"/>
              <a:ext cx="280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 4 2 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1413000"/>
          <a:ext cx="6432480" cy="4236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86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价（元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（只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价（元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足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0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篮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1511280" cy="90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16720" y="836640"/>
            <a:ext cx="177804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2276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234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5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赵老师带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钱，要替学校购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同样的电话机，有多少种购买方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79640" y="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X56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26828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X99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08000" y="83664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是一个合格的“医生”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2637000"/>
            <a:ext cx="252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 0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× 2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 7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 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6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9 5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2619360"/>
            <a:ext cx="4032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 2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×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1 4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 8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宋体"/>
              </a:rPr>
              <a:t>1 2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6 0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4859280" y="5300280"/>
            <a:ext cx="2665440" cy="73080"/>
          </a:xfrm>
          <a:prstGeom prst="line">
            <a:avLst/>
          </a:prstGeom>
          <a:ln w="34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260280"/>
            <a:ext cx="68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请同学们算出人造地球卫星绕地球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圈、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圈、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圈各需要多少时间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997360"/>
            <a:ext cx="25192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4 ×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2997360"/>
            <a:ext cx="223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4 ×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6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8000" y="2997360"/>
            <a:ext cx="237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4 ×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1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2952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765000"/>
            <a:ext cx="73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绕地球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21</a:t>
            </a:r>
            <a:r>
              <a:rPr b="1" lang="zh-CN" sz="6000" spc="-1" strike="noStrike">
                <a:solidFill>
                  <a:srgbClr val="00ff00"/>
                </a:solidFill>
                <a:latin typeface="Arial"/>
              </a:rPr>
              <a:t>周需要多少时间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2852640"/>
            <a:ext cx="5400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114×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3933720"/>
            <a:ext cx="0" cy="1224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3860640"/>
            <a:ext cx="0" cy="1297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522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522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000" y="378936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估算出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说出估算的过程和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独立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90792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114 × 2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3780000" cy="46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方法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114×20=228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114×1=11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280+114=23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利用旧知识先算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圈再算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692280"/>
            <a:ext cx="4032360" cy="448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方法二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114×2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= 114×7×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=798×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=23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把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看作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7×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利用旧知识多位数乘一位数。</a:t>
            </a:r>
            <a:r>
              <a:rPr b="0" lang="en-US" sz="32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333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方法展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8000" y="1341360"/>
            <a:ext cx="53992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     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      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332000" y="3716280"/>
            <a:ext cx="50328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716280"/>
            <a:ext cx="50328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4941720"/>
            <a:ext cx="712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580000" y="2565360"/>
            <a:ext cx="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419640" y="2492280"/>
            <a:ext cx="2016000" cy="115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76720" y="2565000"/>
            <a:ext cx="1942920" cy="115092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059280" y="2565000"/>
            <a:ext cx="72720" cy="107964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56000" y="47628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两位数乘两位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62064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</a:rPr>
              <a:t>你会算吗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060640"/>
            <a:ext cx="6193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403×23 </a:t>
            </a:r>
            <a:r>
              <a:rPr b="1" lang="en-US" sz="129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240×3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9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836640"/>
            <a:ext cx="421164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  <a:ea typeface="华文新魏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4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×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12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8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92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836640"/>
            <a:ext cx="439236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  <a:ea typeface="华文新魏"/>
              </a:rPr>
              <a:t> 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2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× 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  </a:t>
            </a:r>
            <a:r>
              <a:rPr b="1" lang="en-US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72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华文中宋"/>
                <a:ea typeface="华文中宋"/>
              </a:rPr>
              <a:t>81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1916280"/>
            <a:ext cx="0" cy="360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1844640"/>
            <a:ext cx="0" cy="3889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2843280" cy="1668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59280" y="549360"/>
            <a:ext cx="2808000" cy="1647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227640" y="476280"/>
            <a:ext cx="2916360" cy="171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71640" y="38606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每个花坛需要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198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盆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501336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摆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个花坛需要多少盆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1:41:46Z</dcterms:created>
  <dc:creator>21cnjy</dc:creator>
  <dc:description>21cnjy</dc:description>
  <cp:keywords>21cnjy</cp:keywords>
  <dc:language>en-US</dc:language>
  <cp:lastModifiedBy>微软用户</cp:lastModifiedBy>
  <dcterms:modified xsi:type="dcterms:W3CDTF">2015-12-01T07:20:46Z</dcterms:modified>
  <cp:revision>2</cp:revision>
  <dc:subject>21cnjy</dc:subject>
  <dc:title>21cnj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