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B20-76E2-4A8A-BB17-F2C11B24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596C-652B-471C-AA11-2B9F8D51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47C-86CA-40D1-938D-31A75410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B8C-EDA7-4F54-A644-8107AA58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D75D-3BCB-4D73-B45E-DCD6A8D3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EB5-81BC-461B-AB54-840EA1CF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71D3-1D24-446E-98FD-363CB188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BC8-4CDE-4A85-97EF-AF7BD683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CDA-707C-4F7B-8B4C-91DA3C10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CD9-40A3-4FA4-8FBC-70217C2E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CDA-D877-4947-BC19-FB56C694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E45-4F4C-40AD-B3DF-1C1C64F7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607E-574B-4611-8F70-BB567CF8E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268360" y="1556640"/>
            <a:ext cx="51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去二三里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烟村四五家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亭台六七座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八九十枝花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1403280" y="150480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我听得入迷，恍如</a:t>
            </a: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身临其境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。田老师</a:t>
            </a: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戛（</a:t>
            </a:r>
            <a:r>
              <a:rPr b="0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ji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á</a:t>
            </a: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）然而止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我却仍在发呆，直到同桌捅了我一下，我才惊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468360" y="260280"/>
            <a:ext cx="77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娓娓动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形容很会说话，说起来委婉动听，使人爱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身临其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己亲身到了那个地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戛然而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形容突然停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引人入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吸引人进入一种美好的境界。常指风景或文艺作品非常吸引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恭恭敬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形容对长辈或宾客非常有礼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9640" y="126828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展开丰富想象，练习说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恍如身临其境，好象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又好象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14400" y="29718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5940360" y="256536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1042920" y="3429000"/>
            <a:ext cx="74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2050920" y="4221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826920" y="508464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>
            <a:hlinkClick r:id="rId1" action="ppaction://hlinksldjump"/>
          </p:cNvPr>
          <p:cNvSpPr/>
          <p:nvPr/>
        </p:nvSpPr>
        <p:spPr>
          <a:xfrm>
            <a:off x="7467480" y="59436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611280" y="150480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我在田老师门下受业四年，听到上千个故事。这些故事，有如点点春雨，滋润着我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33520" y="9144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089c"/>
                </a:solidFill>
                <a:latin typeface="Times New Roman"/>
                <a:ea typeface="楷体_GB2312"/>
              </a:rPr>
              <a:t>　　我在田老师门下受业四年，听到上千个故事，有如春雨点点入土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09480" y="2057400"/>
            <a:ext cx="47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089c"/>
                </a:solidFill>
                <a:latin typeface="Times New Roman"/>
                <a:ea typeface="楷体_GB2312"/>
              </a:rPr>
              <a:t>１、“门下受业”什么意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609480" y="25146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089c"/>
                </a:solidFill>
                <a:latin typeface="Times New Roman"/>
                <a:ea typeface="楷体_GB2312"/>
              </a:rPr>
              <a:t>２、“听到上千个故事”是指听到上千个＿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089c"/>
                </a:solidFill>
                <a:latin typeface="Times New Roman"/>
                <a:ea typeface="楷体_GB2312"/>
              </a:rPr>
              <a:t>＿＿＿＿的故事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33520" y="3505320"/>
            <a:ext cx="86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089c"/>
                </a:solidFill>
                <a:latin typeface="Times New Roman"/>
                <a:ea typeface="楷体_GB2312"/>
              </a:rPr>
              <a:t>３、“春雨”在文中指＿＿＿＿＿，“春雨点点入土”就是＿＿＿＿＿＿＿＿＿＿在这里用了＿＿＿修辞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3520" y="5105520"/>
            <a:ext cx="71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85800" y="51055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089c"/>
                </a:solidFill>
                <a:latin typeface="Times New Roman"/>
                <a:ea typeface="楷体_GB2312"/>
              </a:rPr>
              <a:t>４、句子字面意思是＿＿＿＿＿＿＿＿＿＿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089c"/>
                </a:solidFill>
                <a:latin typeface="Times New Roman"/>
                <a:ea typeface="楷体_GB2312"/>
              </a:rPr>
              <a:t>含义是＿＿＿＿＿＿＿＿＿＿＿＿＿＿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391280" y="3419640"/>
            <a:ext cx="18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上千个故                                                                                                                                                                                        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858760" y="38862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知识道理技能被吸收掌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04920" y="1196640"/>
            <a:ext cx="854064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填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些故事，有如点点春雨，滋润着我。”这个比喻句把（这些故事）比喻成（点点春雨）。春雨无私，默默滋润大地，每一个故事就似（一滴春雨），四年来我在田老师那里听到的上千个（故事）就像千万滴（春雨）滋润大地一样让（知识）的种子在我幼小的心灵里发芽。老师就是这样把我领入（文学）之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539640" y="1484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从事文学创作，需要丰富的想像力，在这方面，田老师培育了我，给我开了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611280" y="36655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谈起往事，我深深感谢老师在我那幼小的心田里，播下文学的种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324000" y="1052640"/>
            <a:ext cx="699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老人摇摇头说：“这不过是无心插柳柳成荫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84360" y="378936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比喻有心做的事办不成，无意做的事却获得成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217960" y="2349360"/>
            <a:ext cx="2619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有心栽花花不开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无心插柳柳成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4257360" y="2133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老师领进门，修行靠自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33520" y="1311120"/>
            <a:ext cx="103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十年树木，百年树人。插柳之恩，我怎能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685800" y="2305080"/>
            <a:ext cx="60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１、两个“树”分别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85800" y="3143160"/>
            <a:ext cx="48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２、“插柳之恩”的含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85800" y="39830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３、整句话的含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84360" y="479736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培养人才十分不易，是老师引导我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文学的大门，老师教育培养的恩情，我永远不能忘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971640" y="476280"/>
            <a:ext cx="75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8000"/>
                </a:solidFill>
                <a:latin typeface="黑体"/>
                <a:ea typeface="黑体"/>
              </a:rPr>
              <a:t>1</a:t>
            </a:r>
            <a:r>
              <a:rPr b="0" lang="en-US" sz="8800" spc="-1" strike="noStrike">
                <a:solidFill>
                  <a:srgbClr val="008000"/>
                </a:solidFill>
                <a:latin typeface="黑体"/>
                <a:ea typeface="黑体"/>
              </a:rPr>
              <a:t>.</a:t>
            </a:r>
            <a:r>
              <a:rPr b="1" lang="zh-CN" sz="8800" spc="-1" strike="noStrike">
                <a:solidFill>
                  <a:srgbClr val="008000"/>
                </a:solidFill>
                <a:latin typeface="黑体"/>
                <a:ea typeface="黑体"/>
              </a:rPr>
              <a:t>老师领进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03275_a"/>
          <p:cNvPicPr/>
          <p:nvPr/>
        </p:nvPicPr>
        <p:blipFill>
          <a:blip r:embed="rId1"/>
          <a:stretch/>
        </p:blipFill>
        <p:spPr>
          <a:xfrm>
            <a:off x="2124000" y="1773360"/>
            <a:ext cx="3925800" cy="4319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168200" y="2349360"/>
            <a:ext cx="54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句子含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年树木，百年树人；插柳之恩，终身难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棵小树苗长大需要十年，而培养一个人成才则需要更多的时间。老师虽然是无意中培养了学生，可学生不能忘记老师的恩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258920" y="765000"/>
            <a:ext cx="56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十年树木，百年树人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插柳之恩，终身难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553920" y="1446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比喻培养人才不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042920" y="3716280"/>
            <a:ext cx="66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黑体"/>
              </a:rPr>
              <a:t>     </a:t>
            </a: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老师对“我”的教育、培养，“我”不能忘记，即使是小的恩情，“我”也不能忘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课堂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田老师领“我”进入的是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，我在田老师门下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，听到了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，这些故事，有如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，培养了“我”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明白田老师把“我”领进文学之门的主线索，培养学生语言表达的准确性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巩固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把自己知道的尊敬老师、赞美老师的话写下来。可以是自己的，也可以是别人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训练表达的简练，准确。不写错别字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826920" y="1268280"/>
            <a:ext cx="65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语言直播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你还有哪些不忘师恩的故事？     你自己有哪些尊敬老师的事？说给大家听好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1258920" y="836640"/>
            <a:ext cx="727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刘绍棠：当代著名作家。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13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岁开始写作，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15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岁成名。著有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蒲柳人家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瓜棚柳巷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春草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地火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等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27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部作品。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他的作品格调清新淳朴，文笔通俗晓畅，描写从容自然，结构简洁完整，乡土色彩浓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1332000" y="476280"/>
            <a:ext cx="6697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娓娓动听    身临其境  戛然而止    引人入胜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恭恭敬敬    拄着拐杖  炊烟袅袅    衣襟  滋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开窍   喝住   歇脚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289548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403280" y="1504800"/>
            <a:ext cx="748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我仍然像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40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年前的一年级小学生那样，恭恭敬敬地向他行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谈起往事，我深深感谢老师在我幼小的心田里，播下文学的种子。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971640" y="1484280"/>
            <a:ext cx="967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读课文，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田老师把“我”领进了什么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020320" y="3068640"/>
            <a:ext cx="5325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田老师把我领进了文学殿堂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大门。田老师使幼小的“我”对文学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生了浓厚的兴趣，文学的种子在“我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幼小的心田里生根发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289548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403280" y="150480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128400" y="1342440"/>
            <a:ext cx="413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主要从哪两方面回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己的启蒙老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开学第一天上课的情景；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十年后相逢的情景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1476360" y="1268280"/>
            <a:ext cx="63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再读课文中描写的“田老师上语文课”时的情景，说说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田老师是怎样把“我”领进门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837240" y="1052640"/>
            <a:ext cx="1643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娓娓动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身临其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引人入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Bonny</cp:lastModifiedBy>
  <dcterms:modified xsi:type="dcterms:W3CDTF">2015-10-11T18:01:37Z</dcterms:modified>
  <cp:revision>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