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744-0BB3-4A00-8725-3F19CDF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18A-DA74-43CC-B948-2FE747E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BE3-0EB8-4366-B3C1-6D73288A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438-B3C4-43FB-917F-2C71ACD5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ADA-D842-40CA-89C7-F01E8D54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C56-2603-4B27-B450-94394191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2BF-E348-4851-927A-BDB98301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7A0-6FC3-4199-A454-70910D9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E7E-B5E5-4C39-AF8A-C068B2D2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DA8-9A80-4891-911F-B60B8F8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20E-F12B-4E1F-9806-F8E3DBE6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F7F-4205-4CA1-959E-9C49983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CD1-1ECB-489C-9B48-575ED6ACC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" Target="slide6.xml"/><Relationship Id="rId9" Type="http://schemas.openxmlformats.org/officeDocument/2006/relationships/image" Target="../media/image5.png"/><Relationship Id="rId10" Type="http://schemas.openxmlformats.org/officeDocument/2006/relationships/slide" Target="slide10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b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10" descr=""/>
          <p:cNvPicPr/>
          <p:nvPr/>
        </p:nvPicPr>
        <p:blipFill>
          <a:blip r:embed="rId12"/>
          <a:stretch/>
        </p:blipFill>
        <p:spPr>
          <a:xfrm>
            <a:off x="774720" y="1974960"/>
            <a:ext cx="7704000" cy="206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b6"/>
          <p:cNvPicPr/>
          <p:nvPr/>
        </p:nvPicPr>
        <p:blipFill>
          <a:blip r:embed="rId13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2"/>
          <p:cNvSpPr/>
          <p:nvPr/>
        </p:nvSpPr>
        <p:spPr>
          <a:xfrm>
            <a:off x="285840" y="601560"/>
            <a:ext cx="8715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空组成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（    ）而（    ）     不（    ）而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（    ）而（    ）     不（    ）而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500040" y="2500200"/>
            <a:ext cx="73580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盼    期待   期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    ）母亲能早日康复出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军（    ）着大学毕业后能有所作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同学都（    ）着我能得个大奖回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285840" y="878400"/>
            <a:ext cx="85723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联系语境，在文中找出与“看”的意思相符合的词语，填在括号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我们在森林里到处寻找马鹿。（搜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前爪按地，眼睛对着马鹿的喉咙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跑到老柞树下仔细地看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鹿目不转睛地看着我们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马鹿靠着妈妈不停地向四周看看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26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瞄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21400" y="3284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26104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注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91320" y="45608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张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5"/>
          <p:cNvSpPr/>
          <p:nvPr/>
        </p:nvSpPr>
        <p:spPr>
          <a:xfrm>
            <a:off x="1999440" y="577800"/>
            <a:ext cx="551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抄写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喉咙 注视 机警  期盼 不约而同  陷阱  惊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练笔：（二选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摘抄赞美母爱的诗文并写读后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“妈妈给我的爱”为题写一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add"/>
          <p:cNvPicPr/>
          <p:nvPr/>
        </p:nvPicPr>
        <p:blipFill>
          <a:blip r:embed="rId5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1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13" name="WordArt 10" descr=""/>
          <p:cNvPicPr/>
          <p:nvPr/>
        </p:nvPicPr>
        <p:blipFill>
          <a:blip r:embed="rId7"/>
          <a:stretch/>
        </p:blipFill>
        <p:spPr>
          <a:xfrm>
            <a:off x="774720" y="1974960"/>
            <a:ext cx="7704000" cy="206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b6"/>
          <p:cNvPicPr/>
          <p:nvPr/>
        </p:nvPicPr>
        <p:blipFill>
          <a:blip r:embed="rId8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back"/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285920" y="2138400"/>
            <a:ext cx="6932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鹿有情，母爱伟大，人类不也如此吗？殷殷深厚的母爱，你感受到了吗？用一两句话来谈谈你对“母爱”的理解，并结合身边的事来举例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63200" y="134136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拓展作业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39640" y="836640"/>
            <a:ext cx="8136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主认识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“倏、瘸、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积累词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“凄惨、拦截、机警、不约而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语境，重点理解并积累文中形容马鹿叫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词语和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四个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马鹿的情绪变化，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继续从解题入手，抓课文重点，深入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理解课文内容的基础上，感受无私而伟大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5" name="矩形 8"/>
          <p:cNvSpPr/>
          <p:nvPr/>
        </p:nvSpPr>
        <p:spPr>
          <a:xfrm>
            <a:off x="2000160" y="2500200"/>
            <a:ext cx="678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马鹿有</a:t>
            </a: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57160" y="642960"/>
            <a:ext cx="7929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主学习本课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自己喜欢的方式理解“凄惨、拦截、机警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约而同”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通课文，填一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森林中拯救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马鹿，又在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引导下，救出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马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5"/>
          <p:cNvSpPr/>
          <p:nvPr/>
        </p:nvSpPr>
        <p:spPr>
          <a:xfrm>
            <a:off x="1137240" y="870480"/>
            <a:ext cx="6310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倏     一跛一瘸     陷阱    拦截    凄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6"/>
          <p:cNvSpPr/>
          <p:nvPr/>
        </p:nvSpPr>
        <p:spPr>
          <a:xfrm>
            <a:off x="395280" y="2671560"/>
            <a:ext cx="8501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一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森林中拯救了（         ）的大马鹿，又在（      ）的引导下，救出了（          ）的小马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5072040" y="3141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危在旦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1566720" y="380376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马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215040" y="37893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掉在陷阱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3492360" y="227664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116000" y="53578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填空，把课文分成两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8"/>
          <p:cNvSpPr/>
          <p:nvPr/>
        </p:nvSpPr>
        <p:spPr>
          <a:xfrm>
            <a:off x="642960" y="250776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鹿一动不动地站在那里，傻了似的眼睛直直地注视着我们。我的伙伴捡起一块石子扔了过去，马鹿机警地一闪身，敏捷地躲开了。然后迈着方步，不情愿地朝林中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1476360" y="2276640"/>
            <a:ext cx="7056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1619280" y="479736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755640" y="3213000"/>
            <a:ext cx="2089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843280" y="29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427640" y="4508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4"/>
          <p:cNvSpPr/>
          <p:nvPr/>
        </p:nvSpPr>
        <p:spPr>
          <a:xfrm>
            <a:off x="785880" y="240732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鹿向前走了几步，忽然停了下来，回头用期盼的目光望着我们，而后又死死地盯着林中的一个地方，一步一回头地朝那里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鹿将我们带到密林深处，在一棵老柞树下，发出低沉的叫声。它围着一个坑子转了一圈之后就跑出去很远，站在一个较高的地方，大声地鸣叫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14240" y="664920"/>
            <a:ext cx="7572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联系上下文想象说话：（任选一题完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马鹿用期盼的目光望着我们，似乎在说：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马鹿在一棵老柞树下，发出低沉的叫声，仿佛在说：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马鹿站在一个较高的地方，大声地鸣叫起来，好像在说：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395280" y="23493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只（      ）的马鹿，因为（         ）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