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glass.wav" ContentType="audio/x-wav"/>
  <Override PartName="/ppt/media/applause.wav" ContentType="audio/x-wav"/>
  <Override PartName="/ppt/media/whoosh.wav" ContentType="audio/x-wav"/>
  <Override PartName="/ppt/media/image10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type.wav" ContentType="audio/x-wav"/>
  <Override PartName="/ppt/media/image11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camera.wav" ContentType="audio/x-wav"/>
  <Override PartName="/ppt/media/image5.jpeg" ContentType="image/jpeg"/>
  <Override PartName="/ppt/media/image4.jpeg" ContentType="image/jpeg"/>
  <Override PartName="/ppt/media/suction.wav" ContentType="audio/x-wav"/>
  <Override PartName="/ppt/media/image3.png" ContentType="image/png"/>
  <Override PartName="/ppt/media/image17.jpeg" ContentType="image/jpeg"/>
  <Override PartName="/ppt/media/carbrake.wav" ContentType="audio/x-wav"/>
  <Override PartName="/ppt/media/image1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26.wmf" ContentType="image/x-wmf"/>
  <Override PartName="/ppt/media/laser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03C-5F98-4051-9B4D-8E4F8B75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A08-15F1-4822-A7AA-532EAB5D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468-665B-4DDF-93BD-59F39473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1F7-478C-4AE7-B608-E7C10C6D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293-F183-4BFD-B371-24603BC9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EFA-BB47-4CE6-A95B-A6BFDD40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80-E1EC-4690-BD77-8B32B7E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9DB-FD7D-4932-A310-3891807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EF6-BE9A-4292-B4BC-1951939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9AF-5F3D-4C09-AA0B-9BFA816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4FD-15FD-40CD-91DE-CDA8486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78A-3A96-4BAF-B305-9544632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1E2-9EF4-4E03-9FF8-070081F3E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applause.wav"/><Relationship Id="rId12" Type="http://schemas.openxmlformats.org/officeDocument/2006/relationships/audio" Target="../media/camera.wav"/><Relationship Id="rId13" Type="http://schemas.openxmlformats.org/officeDocument/2006/relationships/audio" Target="../media/laser.wav"/><Relationship Id="rId14" Type="http://schemas.openxmlformats.org/officeDocument/2006/relationships/audio" Target="../media/applause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鸟  的  天  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富 有 生 命 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560" y="189000"/>
            <a:ext cx="7812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△</a:t>
            </a:r>
            <a:r>
              <a:rPr b="1" lang="zh-CN" sz="3600" spc="-1" strike="noStrike">
                <a:solidFill>
                  <a:srgbClr val="000066"/>
                </a:solidFill>
                <a:latin typeface="华文行楷"/>
                <a:ea typeface="华文行楷"/>
              </a:rPr>
              <a:t>大榕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有机会看清它的真面目，真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株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树，枝干的数目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不可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枝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根，有许多根直垂到地上，伸进泥土里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部分树枝垂到水面，从远处看，就像一株大树卧在水面上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树占地面积很大，的确是太大了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534168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hatu1"/>
          <p:cNvPicPr/>
          <p:nvPr/>
        </p:nvPicPr>
        <p:blipFill>
          <a:blip r:embed="rId1"/>
          <a:stretch/>
        </p:blipFill>
        <p:spPr>
          <a:xfrm>
            <a:off x="0" y="0"/>
            <a:ext cx="43941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rongshu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4920" y="189000"/>
            <a:ext cx="8459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茂盛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那么多的绿叶，一簇堆在另一簇的上面，不留一点缝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不留一点缝隙：说明树叶多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那翠绿的颜色，明亮地照耀着我们的眼睛，似乎每一片绿叶上都有一个新的生命在颤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longleylau1064080298014qua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这美丽的南国的树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课文写出了鸟儿的什么特点？画出描写鸟儿特点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09680" y="2057040"/>
            <a:ext cx="5562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多（各种各样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780000"/>
            <a:ext cx="5943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欢  乐（活跃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000" y="0"/>
            <a:ext cx="806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华文楷体"/>
              </a:rPr>
              <a:t>△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华文楷体"/>
              </a:rPr>
              <a:t>鸟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宋体"/>
              </a:rPr>
              <a:t>1.</a:t>
            </a:r>
            <a:r>
              <a:rPr b="1" lang="zh-CN" sz="3700" spc="-1" strike="noStrike">
                <a:solidFill>
                  <a:srgbClr val="000066"/>
                </a:solidFill>
                <a:latin typeface="宋体"/>
              </a:rPr>
              <a:t>鸟多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们继续拍掌，树上就变得热闹了，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到处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鸟声，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到处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鸟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宋体"/>
              </a:rPr>
              <a:t>（两个“到处”说明鸟很多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注意地看着，眼睛</a:t>
            </a:r>
            <a:r>
              <a:rPr b="1" lang="zh-CN" sz="3000" spc="-1" strike="noStrike">
                <a:solidFill>
                  <a:srgbClr val="990000"/>
                </a:solidFill>
                <a:latin typeface="宋体"/>
              </a:rPr>
              <a:t>应接不暇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看清了这只，又错过了那只，看见了那只，另一只又飞起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宋体"/>
              </a:rPr>
              <a:t>（“应接不暇”，说明鸟太多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753913_090700007_2.jpg"/>
          <p:cNvPicPr/>
          <p:nvPr/>
        </p:nvPicPr>
        <p:blipFill>
          <a:blip r:embed="rId1"/>
          <a:srcRect l="0" t="0" r="-8" b="1053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2014099_110812630125_2.jpg"/>
          <p:cNvPicPr/>
          <p:nvPr/>
        </p:nvPicPr>
        <p:blipFill>
          <a:blip r:embed="rId2"/>
          <a:srcRect l="0" t="0" r="1642" b="5987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3367382_082625012754_2.jpg"/>
          <p:cNvPicPr/>
          <p:nvPr/>
        </p:nvPicPr>
        <p:blipFill>
          <a:blip r:embed="rId3"/>
          <a:srcRect l="0" t="0" r="3280" b="43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3394024_072256023466_2.jpg"/>
          <p:cNvPicPr/>
          <p:nvPr/>
        </p:nvPicPr>
        <p:blipFill>
          <a:blip r:embed="rId4"/>
          <a:srcRect l="3150" t="5641" r="7865" b="41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189000"/>
            <a:ext cx="84960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华文行楷"/>
                <a:ea typeface="华文行楷"/>
              </a:rPr>
              <a:t>鸟欢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的，小的，花的，黑的，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站在树枝上叫，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飞起来，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扑翅膀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（有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有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有的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）说明鸟的姿态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只画眉鸟飞了起来，被我们的掌声一吓，又飞进了叶丛，站在一根小枝上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兴奋地叫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歌声真好听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想象一下树上还有哪些鸟，什么姿态的鸟？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nbflower.com/bird/bird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200872415919707_2.jpg"/>
          <p:cNvPicPr/>
          <p:nvPr/>
        </p:nvPicPr>
        <p:blipFill>
          <a:blip r:embed="rId2"/>
          <a:srcRect l="0" t="0" r="1642" b="61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5916071094157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200742841759409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 者 简 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2286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金，现代文学家、出版家、翻译家。同时也被誉为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文化运动以来最有影响的作家之一，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中国杰出的文学大师、中国当代文坛的巨匠。代表作有著名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激流三部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0101231121737937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百鸟出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81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309f5"/>
                </a:solidFill>
                <a:latin typeface="Arial"/>
                <a:ea typeface="华文彩云"/>
              </a:rPr>
              <a:t>百鸟出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群鸟枝头闹"/>
          <p:cNvPicPr/>
          <p:nvPr/>
        </p:nvPicPr>
        <p:blipFill>
          <a:blip r:embed="rId1"/>
          <a:stretch/>
        </p:blipFill>
        <p:spPr>
          <a:xfrm>
            <a:off x="304920" y="3505320"/>
            <a:ext cx="380988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百鸟出巢"/>
          <p:cNvPicPr/>
          <p:nvPr/>
        </p:nvPicPr>
        <p:blipFill>
          <a:blip r:embed="rId2"/>
          <a:stretch/>
        </p:blipFill>
        <p:spPr>
          <a:xfrm>
            <a:off x="5105520" y="2286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百鸟归巢"/>
          <p:cNvPicPr/>
          <p:nvPr/>
        </p:nvPicPr>
        <p:blipFill>
          <a:blip r:embed="rId3"/>
          <a:stretch/>
        </p:blipFill>
        <p:spPr>
          <a:xfrm>
            <a:off x="304920" y="228600"/>
            <a:ext cx="3809880" cy="27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牛背鹭"/>
          <p:cNvPicPr/>
          <p:nvPr/>
        </p:nvPicPr>
        <p:blipFill>
          <a:blip r:embed="rId4"/>
          <a:stretch/>
        </p:blipFill>
        <p:spPr>
          <a:xfrm>
            <a:off x="5105520" y="3473280"/>
            <a:ext cx="3809880" cy="292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ic018"/>
          <p:cNvPicPr/>
          <p:nvPr/>
        </p:nvPicPr>
        <p:blipFill>
          <a:blip r:embed="rId5"/>
          <a:stretch/>
        </p:blipFill>
        <p:spPr>
          <a:xfrm>
            <a:off x="4267080" y="5867280"/>
            <a:ext cx="7621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那“鸟的天堂”的确是鸟的天堂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90720" y="68580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里五次提到鸟的天堂，为什么有的加引号，有的没有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4382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加引号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指大榕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加引号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亲眼看到被人们誉为“鸟的  天堂”的大榕树，看到鸟儿生活十分自由、幸福，就像天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文中哪些地方是静态描写？哪些地方是动态描写？这样写的好处是什么？再读课文，讨论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258920" y="765000"/>
            <a:ext cx="1400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一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文章时，注意动态描写和静态描写，就能把内容写得更具体、更准确，动静结合，可以增强文章的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260280"/>
            <a:ext cx="83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榕树是静止不动的，文中作者从根、干、枝、叶等部位逐项来写，这就是对榕树的静态描写。如“枝干的数目不可计数。枝上又生根，有许多根直垂到地上，伸进泥土里”，绿叶“一簇堆在另一簇上面，不留一点缝隙”，“那翠绿的颜色，明亮地照耀着我们的眼睛，似乎每一片绿叶上都有一个新的生命在颤动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24000" y="2492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第二次到鸟的天堂看到的景象，主要写了鸟的活动，是动态描写。如：“到处是鸟声，到处是鸟影。大的，小的，花的，黑的，有的站在枝上叫，有的飞起来，有的在扑翅膀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611280" y="465300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美丽的南国的树”这句话抒发了作者对榕树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141300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作者第一次到鸟的天堂并没有看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，而是由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地观察到大榕树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的特点，作者抓住这些特点，对榕树进行了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态的描写，突出了榕树奇特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971640" y="0"/>
            <a:ext cx="4752720" cy="263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05092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59280" y="1916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740720" y="20606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茂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11600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生机勃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556000" y="2924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619280" y="51577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赞美和喜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451640" y="14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804000" y="198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f15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43200" y="27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f15c2"/>
                </a:solidFill>
                <a:latin typeface="Arial"/>
              </a:rPr>
              <a:t>鸟的天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835280" y="213372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461680" y="19890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579040" y="3573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78160" y="1916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278160" y="191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33800" y="3573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4343400" y="191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株榕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874680" y="3573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鸟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860080" y="134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5724360" y="191628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茂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5900040" y="24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勃勃生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5292720" y="1557360"/>
            <a:ext cx="287280" cy="1150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4427640" y="2852640"/>
            <a:ext cx="144360" cy="1871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483012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5269680" y="4437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由、快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4903200" y="37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140360" y="1484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静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3708360" y="42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1"/>
          <p:cNvSpPr/>
          <p:nvPr/>
        </p:nvSpPr>
        <p:spPr>
          <a:xfrm>
            <a:off x="7236000" y="1628640"/>
            <a:ext cx="215640" cy="3384720"/>
          </a:xfrm>
          <a:custGeom>
            <a:avLst/>
            <a:gdLst>
              <a:gd name="textAreaLeft" fmla="*/ 0 w 215640"/>
              <a:gd name="textAreaRight" fmla="*/ 77760 w 215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7451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380a"/>
                </a:solidFill>
                <a:latin typeface="Times New Roman"/>
              </a:rPr>
              <a:t>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767016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380a"/>
                </a:solidFill>
                <a:latin typeface="Times New Roman"/>
              </a:rPr>
              <a:t>留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87640" y="476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回顾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500"/>
                            </p:stCondLst>
                            <p:childTnLst>
                              <p:par>
                                <p:cTn id="5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1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6100"/>
                            </p:stCondLst>
                            <p:childTnLst>
                              <p:par>
                                <p:cTn id="6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1100"/>
                            </p:stCondLst>
                            <p:childTnLst>
                              <p:par>
                                <p:cTn id="6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16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2600"/>
                            </p:stCondLst>
                            <p:childTnLst>
                              <p:par>
                                <p:cTn id="6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2600"/>
                            </p:stCondLst>
                            <p:childTnLst>
                              <p:par>
                                <p:cTn id="65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4600"/>
                            </p:stCondLst>
                            <p:childTnLst>
                              <p:par>
                                <p:cTn id="6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6600"/>
                            </p:stCondLst>
                            <p:childTnLst>
                              <p:par>
                                <p:cTn id="6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8600"/>
                            </p:stCondLst>
                            <p:childTnLst>
                              <p:par>
                                <p:cTn id="69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803600" y="1301760"/>
            <a:ext cx="55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天是我的眼睛骗了我，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的天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确是鸟的天堂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900000" y="278136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中第一个“鸟的天堂”加了引号是因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第二个没有加引号是因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（ 把序号填在括号里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大榕树的称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的确是鸟栖息的好地方，是作者由衷的赞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个鸟的天堂： 大榕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个鸟的天堂：鸟儿们自由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的生活乐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280" y="4876920"/>
            <a:ext cx="9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达了作者对鸟的天堂的喜爱与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巴金3"/>
          <p:cNvPicPr/>
          <p:nvPr/>
        </p:nvPicPr>
        <p:blipFill>
          <a:blip r:embed="rId1"/>
          <a:stretch/>
        </p:blipFill>
        <p:spPr>
          <a:xfrm>
            <a:off x="34920" y="44280"/>
            <a:ext cx="4537080" cy="36846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pic>
        <p:nvPicPr>
          <p:cNvPr id="47" name="Picture 3" descr="巴金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72000"/>
          </a:xfrm>
          <a:prstGeom prst="rect">
            <a:avLst/>
          </a:prstGeom>
          <a:ln w="28440">
            <a:solidFill>
              <a:srgbClr val="ff66ff"/>
            </a:solidFill>
            <a:miter/>
          </a:ln>
        </p:spPr>
      </p:pic>
      <p:grpSp>
        <p:nvGrpSpPr>
          <p:cNvPr id="48" name="Group 4"/>
          <p:cNvGrpSpPr/>
          <p:nvPr/>
        </p:nvGrpSpPr>
        <p:grpSpPr>
          <a:xfrm>
            <a:off x="222120" y="3789360"/>
            <a:ext cx="8921880" cy="3068640"/>
            <a:chOff x="222120" y="3789360"/>
            <a:chExt cx="8921880" cy="3068640"/>
          </a:xfrm>
        </p:grpSpPr>
        <p:pic>
          <p:nvPicPr>
            <p:cNvPr id="49" name="Picture 5" descr="字7"/>
            <p:cNvPicPr/>
            <p:nvPr/>
          </p:nvPicPr>
          <p:blipFill>
            <a:blip r:embed="rId3"/>
            <a:stretch/>
          </p:blipFill>
          <p:spPr>
            <a:xfrm>
              <a:off x="222120" y="3789360"/>
              <a:ext cx="2051280" cy="3068640"/>
            </a:xfrm>
            <a:prstGeom prst="rect">
              <a:avLst/>
            </a:prstGeom>
            <a:ln w="9360">
              <a:solidFill>
                <a:srgbClr val="ff66ff"/>
              </a:solidFill>
              <a:miter/>
            </a:ln>
          </p:spPr>
        </p:pic>
        <p:pic>
          <p:nvPicPr>
            <p:cNvPr id="50" name="Picture 6" descr="字5"/>
            <p:cNvPicPr/>
            <p:nvPr/>
          </p:nvPicPr>
          <p:blipFill>
            <a:blip r:embed="rId4"/>
            <a:stretch/>
          </p:blipFill>
          <p:spPr>
            <a:xfrm>
              <a:off x="2417760" y="3789360"/>
              <a:ext cx="2087640" cy="3068640"/>
            </a:xfrm>
            <a:prstGeom prst="rect">
              <a:avLst/>
            </a:prstGeom>
            <a:ln w="9360">
              <a:solidFill>
                <a:srgbClr val="ff66ff"/>
              </a:solidFill>
              <a:miter/>
            </a:ln>
          </p:spPr>
        </p:pic>
        <p:pic>
          <p:nvPicPr>
            <p:cNvPr id="51" name="Picture 7" descr="字4"/>
            <p:cNvPicPr/>
            <p:nvPr/>
          </p:nvPicPr>
          <p:blipFill>
            <a:blip r:embed="rId5"/>
            <a:stretch/>
          </p:blipFill>
          <p:spPr>
            <a:xfrm>
              <a:off x="4649760" y="3789360"/>
              <a:ext cx="2160720" cy="3068640"/>
            </a:xfrm>
            <a:prstGeom prst="rect">
              <a:avLst/>
            </a:prstGeom>
            <a:ln w="9360">
              <a:solidFill>
                <a:srgbClr val="ff66ff"/>
              </a:solidFill>
              <a:miter/>
            </a:ln>
          </p:spPr>
        </p:pic>
        <p:pic>
          <p:nvPicPr>
            <p:cNvPr id="52" name="Picture 8" descr="字3"/>
            <p:cNvPicPr/>
            <p:nvPr/>
          </p:nvPicPr>
          <p:blipFill>
            <a:blip r:embed="rId6"/>
            <a:stretch/>
          </p:blipFill>
          <p:spPr>
            <a:xfrm>
              <a:off x="6954840" y="3789360"/>
              <a:ext cx="2189160" cy="3068640"/>
            </a:xfrm>
            <a:prstGeom prst="rect">
              <a:avLst/>
            </a:prstGeom>
            <a:ln w="9360">
              <a:solidFill>
                <a:srgbClr val="ff66ff"/>
              </a:solidFill>
              <a:miter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906560" y="533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0" y="228600"/>
            <a:ext cx="1523880" cy="1905120"/>
          </a:xfrm>
          <a:prstGeom prst="vertic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81920" y="533520"/>
            <a:ext cx="30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者一共去了鸟的天堂几次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别在什么时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每一次看到了什么景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些景物分别有什么特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抒发了作者怎样的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905120" y="243828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79360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430800" y="2438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65300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株榕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5638680" y="21337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56386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5638680" y="2819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6220440" y="184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6283080" y="2382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茂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642384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勃勃生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71764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早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35448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24152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4876920" y="38095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4876920" y="41911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55468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659920" y="3525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5659920" y="390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111720" y="4267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由、快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3557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1523880" y="26668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4527360" y="276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静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4298760" y="360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380a"/>
                </a:solidFill>
                <a:latin typeface="Times New Roman"/>
              </a:rPr>
              <a:t>动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9"/>
          <p:cNvSpPr/>
          <p:nvPr/>
        </p:nvSpPr>
        <p:spPr>
          <a:xfrm>
            <a:off x="7467480" y="19051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413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7848720" y="243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380a"/>
                </a:solidFill>
                <a:latin typeface="Times New Roman"/>
              </a:rPr>
              <a:t>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7995600" y="3071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380a"/>
                </a:solidFill>
                <a:latin typeface="Times New Roman"/>
              </a:rPr>
              <a:t>留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292320" y="31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f15c2"/>
                </a:solidFill>
                <a:latin typeface="Times New Roman"/>
              </a:rPr>
              <a:t>鸟的天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24720" y="472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f15c2"/>
                </a:solidFill>
                <a:uFillTx/>
                <a:latin typeface="Times New Roman"/>
              </a:rPr>
              <a:t>本课在写法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3187440" y="52992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抓住景物特点，进行静态与动态的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3435120" y="58672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借景物描写表达感情与直接表达感情相结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7" descr="BS00975_"/>
          <p:cNvPicPr/>
          <p:nvPr/>
        </p:nvPicPr>
        <p:blipFill>
          <a:blip r:embed="rId1"/>
          <a:stretch/>
        </p:blipFill>
        <p:spPr>
          <a:xfrm>
            <a:off x="7010280" y="51814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8"/>
          <p:cNvSpPr/>
          <p:nvPr/>
        </p:nvSpPr>
        <p:spPr>
          <a:xfrm>
            <a:off x="2031840" y="38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9"/>
          <p:cNvSpPr/>
          <p:nvPr/>
        </p:nvSpPr>
        <p:spPr>
          <a:xfrm>
            <a:off x="80010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7315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导 学 归 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写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经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的天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一次是在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是在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99072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反 馈 训 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写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经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的天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一次是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,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是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,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的天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确是鸟的天堂啊！两个鸟的天堂分别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883480" y="6140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380880"/>
            <a:ext cx="813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灿烂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续   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竿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律   榕树   主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支乐曲   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株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计数 茂盛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缝隙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耀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禁  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梢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   应接不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  大概   留恋  的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章写了谁在什么时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了什么地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179280" y="0"/>
            <a:ext cx="3313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来回答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2708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去了几次“鸟的天堂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50920" y="3357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的天堂”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0920" y="551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５读完课文，这株树给你什么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9640" y="1557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我”和“我”的朋友们在傍晚的时候去了“鸟的天堂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372360" y="256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两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364000" y="3357720"/>
            <a:ext cx="33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隶书"/>
              </a:rPr>
              <a:t>一株大榕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042920" y="6033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隶书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916360" y="60958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茂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79280" y="4005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４课文所写的这株榕树是在南方的还是北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268360" y="4653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南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4"/>
          <p:cNvSpPr txBox="1"/>
          <p:nvPr/>
        </p:nvSpPr>
        <p:spPr>
          <a:xfrm>
            <a:off x="4716360" y="5734080"/>
            <a:ext cx="37432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真的有预习的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63528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男生女生向前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28600" y="5778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把作者两次游览“鸟的天堂”各为一段，那全文可分成几段？各段的大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33520" y="152388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：傍晚，我和朋友们划船出去游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：写我和朋友们第一次经过“鸟的天堂”时看到了“鸟的天堂”── 大榕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）： 写第二天早晨，“我”和朋友们再次经过“鸟的天堂”时看到了鸟儿的活动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：写作者对“鸟的天堂”的赞美和留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066680"/>
            <a:ext cx="792468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者几次经过鸟的天堂？看到   的景象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2438280"/>
            <a:ext cx="70102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一次：大榕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二次： 许多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课文写出了榕树的什么特点？画出描写榕树特点的句子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32004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 （茂盛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6:21:46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