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7CA-B654-4A92-89E2-CBD29CD8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96C-019F-4DFA-8ED4-68405BF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C8D-94AC-4B8A-836F-83F8B5B5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8C2-D037-46BF-B104-47DD0072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4FC-8C49-4CBF-95AC-5036B4A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6DF-6A4A-4F2B-B90F-C1D8522A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431-1B9C-432E-9D48-46866F2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05F-4964-4923-9DA3-841D781D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4B6-7B42-4CCA-8101-100984BD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E7F-CD05-4F0F-A6BA-48DBA74D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8F8-A40D-440B-BB7C-CE9824B2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AD2-F4CA-47E8-A6C7-FAAEA2F2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CC55-129B-40DD-A303-A9B6056E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4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764294"/>
          <p:cNvPicPr/>
          <p:nvPr/>
        </p:nvPicPr>
        <p:blipFill>
          <a:blip r:embed="rId1"/>
          <a:srcRect l="0" t="0" r="324" b="27683"/>
          <a:stretch/>
        </p:blipFill>
        <p:spPr>
          <a:xfrm>
            <a:off x="1258920" y="620640"/>
            <a:ext cx="6818400" cy="3265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484360" y="5445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躺在波浪上读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温润的水把我整个身体托浮起来，像托浮着一片树叶。我只须保持着身体的平衡，就像躺在床上那样舒服自在。细浪在我的耳畔絮语。微风拂面而过，明晃晃的阳光从蓝得透明的晴空洒下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几乎想在这温润的、摇晃的“床”上睡一觉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721044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球表面的最低点是死海。那里的水面平均低于海平面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死海是一个内陆盐湖，位于以色列和约旦之间的约旦谷地。西岸为犹太山地，东岸为外约旦高原。约旦河从北注入。死海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里，宽处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里，表面积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方公里，最深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神秘的死海"/>
          <p:cNvPicPr/>
          <p:nvPr/>
        </p:nvPicPr>
        <p:blipFill>
          <a:blip r:embed="rId1"/>
          <a:stretch/>
        </p:blipFill>
        <p:spPr>
          <a:xfrm>
            <a:off x="179280" y="189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007720145710288"/>
          <p:cNvPicPr/>
          <p:nvPr/>
        </p:nvPicPr>
        <p:blipFill>
          <a:blip r:embed="rId2"/>
          <a:stretch/>
        </p:blipFill>
        <p:spPr>
          <a:xfrm>
            <a:off x="4643280" y="189000"/>
            <a:ext cx="43563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00705160909562224c"/>
          <p:cNvPicPr/>
          <p:nvPr/>
        </p:nvPicPr>
        <p:blipFill>
          <a:blip r:embed="rId1"/>
          <a:stretch/>
        </p:blipFill>
        <p:spPr>
          <a:xfrm>
            <a:off x="111240" y="33480"/>
            <a:ext cx="4762440" cy="3571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200705160910368d882"/>
          <p:cNvPicPr/>
          <p:nvPr/>
        </p:nvPicPr>
        <p:blipFill>
          <a:blip r:embed="rId2"/>
          <a:srcRect l="0" t="0" r="71" b="13827"/>
          <a:stretch/>
        </p:blipFill>
        <p:spPr>
          <a:xfrm>
            <a:off x="3851280" y="1341360"/>
            <a:ext cx="4759200" cy="3078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619280" y="4581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未命名"/>
          <p:cNvPicPr/>
          <p:nvPr/>
        </p:nvPicPr>
        <p:blipFill>
          <a:blip r:embed="rId3"/>
          <a:srcRect l="18558" t="0" r="0" b="0"/>
          <a:stretch/>
        </p:blipFill>
        <p:spPr>
          <a:xfrm>
            <a:off x="3505320" y="2133720"/>
            <a:ext cx="392904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3381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读读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起伏荡漾    从容   游览   著名  城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滋味    戛然而止    辽阔    细波如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苍茫    观赏    沉默    涌动    奇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奇迹    温润    平衡    耳畔   拂面而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保存    絮语    苦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死海其实是个内陆湖，总面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方公里；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水中含盐量特别高，达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33%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，竟高于一般海水的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倍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任何生物都不能在这样的水中生存，“死海”因此得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面上没有帆影，没有海鸥，也没有一只其他的水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站在高高的水泥平台上放眼望去，只见辽阔的海面上细波如鳞，那灰色的海水远接苍茫的天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发现脚下的海水在轻轻地涌动，泛出一种奇特的光晕，五颜六色，像彩虹似的变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08000" y="6165720"/>
            <a:ext cx="8970840" cy="749160"/>
            <a:chOff x="108000" y="6165720"/>
            <a:chExt cx="8970840" cy="749160"/>
          </a:xfrm>
        </p:grpSpPr>
        <p:pic>
          <p:nvPicPr>
            <p:cNvPr id="58" name="Picture 2" descr="back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108000" y="616572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up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4411800" y="6165720"/>
              <a:ext cx="73656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4" descr="next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317080" y="6165720"/>
              <a:ext cx="76176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8" descr="1_1-1-21-312_20030125145850"/>
          <p:cNvPicPr/>
          <p:nvPr/>
        </p:nvPicPr>
        <p:blipFill>
          <a:blip r:embed="rId4"/>
          <a:stretch/>
        </p:blipFill>
        <p:spPr>
          <a:xfrm>
            <a:off x="571680" y="500040"/>
            <a:ext cx="814356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1_1-1-21-312_20030125145834"/>
          <p:cNvPicPr/>
          <p:nvPr/>
        </p:nvPicPr>
        <p:blipFill>
          <a:blip r:embed="rId5"/>
          <a:stretch/>
        </p:blipFill>
        <p:spPr>
          <a:xfrm>
            <a:off x="428760" y="500040"/>
            <a:ext cx="828648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5"/>
          <p:cNvGraphicFramePr/>
          <p:nvPr/>
        </p:nvGraphicFramePr>
        <p:xfrm>
          <a:off x="392040" y="428760"/>
          <a:ext cx="8323200" cy="5616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040" y="428760"/>
                    <a:ext cx="83232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2774" descr="back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75" descr="up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4284720" y="61214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76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172360" y="6121440"/>
            <a:ext cx="762120" cy="73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13T08:47:27Z</dcterms:modified>
  <cp:revision>3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