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09E-E005-4281-BF9C-4E7E640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FE4-16E0-4598-B7B2-5B1608D0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CD7-62E9-4334-9C1A-D44C56F7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043-B987-4A84-B4B3-D9DDC8A3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E9A-58BB-4CBB-BA6D-E53E0A4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F36-AA07-42BA-BCD3-ACA1079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2261-0A7F-4388-ACD7-3DCAADC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6F4-F496-4F35-A108-5F9A626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4EF-A19B-4ECF-8C60-2D8EF965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2FF-38A5-45FC-8A2C-E657CBF8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5CB-D050-4D36-9CB6-EA269FF1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362-6B5D-40A7-B9F2-D96BE9E4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BC01-94CA-46DE-879B-2324CBD3BC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40360" y="1341360"/>
            <a:ext cx="36334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守信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60360" y="2133720"/>
            <a:ext cx="1727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8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60360" y="162864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见笔直平坦的大道上，一个风尘仆仆的行人正在急急赶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17080" y="5950080"/>
            <a:ext cx="142560" cy="215640"/>
          </a:xfrm>
          <a:custGeom>
            <a:avLst/>
            <a:gdLst>
              <a:gd name="textAreaLeft" fmla="*/ 9000 w 142560"/>
              <a:gd name="textAreaRight" fmla="*/ 133560 w 142560"/>
              <a:gd name="textAreaTop" fmla="*/ 9000 h 215640"/>
              <a:gd name="textAreaBottom" fmla="*/ 206640 h 215640"/>
            </a:gdLst>
            <a:ahLst/>
            <a:rect l="textAreaLeft" t="textAreaTop" r="textAreaRight" b="textAreaBottom"/>
            <a:pathLst>
              <a:path w="21600" h="32645">
                <a:moveTo>
                  <a:pt x="0" y="0"/>
                </a:moveTo>
                <a:lnTo>
                  <a:pt x="21600" y="0"/>
                </a:lnTo>
                <a:lnTo>
                  <a:pt x="21600" y="32645"/>
                </a:lnTo>
                <a:lnTo>
                  <a:pt x="0" y="32645"/>
                </a:lnTo>
                <a:close/>
              </a:path>
              <a:path fill="lightenLess" w="21600" h="32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45">
                <a:moveTo>
                  <a:pt x="21600" y="0"/>
                </a:moveTo>
                <a:lnTo>
                  <a:pt x="21600" y="32645"/>
                </a:lnTo>
                <a:lnTo>
                  <a:pt x="20200" y="31245"/>
                </a:lnTo>
                <a:lnTo>
                  <a:pt x="20200" y="1400"/>
                </a:lnTo>
                <a:close/>
              </a:path>
              <a:path fill="darkenLess" w="21600" h="32645">
                <a:moveTo>
                  <a:pt x="21600" y="32645"/>
                </a:moveTo>
                <a:lnTo>
                  <a:pt x="0" y="32645"/>
                </a:lnTo>
                <a:lnTo>
                  <a:pt x="1400" y="31245"/>
                </a:lnTo>
                <a:lnTo>
                  <a:pt x="20200" y="31245"/>
                </a:lnTo>
                <a:close/>
              </a:path>
              <a:path fill="lighten" w="21600" h="32645">
                <a:moveTo>
                  <a:pt x="0" y="32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45"/>
                </a:lnTo>
                <a:close/>
              </a:path>
              <a:path fill="darken" w="21600" h="32645">
                <a:moveTo>
                  <a:pt x="3794" y="16322"/>
                </a:moveTo>
                <a:lnTo>
                  <a:pt x="17806" y="9316"/>
                </a:lnTo>
                <a:lnTo>
                  <a:pt x="17806" y="233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4080" y="2565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风尘仆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256536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急急赶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3" descr="game 001"/>
          <p:cNvPicPr/>
          <p:nvPr/>
        </p:nvPicPr>
        <p:blipFill>
          <a:blip r:embed="rId2">
            <a:lum contrast="18000"/>
          </a:blip>
          <a:srcRect l="0" t="0" r="0" b="29558"/>
          <a:stretch/>
        </p:blipFill>
        <p:spPr>
          <a:xfrm>
            <a:off x="395280" y="693720"/>
            <a:ext cx="8424720" cy="54738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" name="Picture 2" descr="back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up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"/>
          <p:cNvSpPr/>
          <p:nvPr/>
        </p:nvSpPr>
        <p:spPr>
          <a:xfrm>
            <a:off x="1357200" y="1000080"/>
            <a:ext cx="68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的父母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感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说：“范式这孩子，真是个守信的好少年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428760" y="692280"/>
            <a:ext cx="8358120" cy="1800000"/>
          </a:xfrm>
          <a:prstGeom prst="cloudCallout">
            <a:avLst>
              <a:gd name="adj1" fmla="val -17995"/>
              <a:gd name="adj2" fmla="val 630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12720" y="260280"/>
            <a:ext cx="468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诚实守信的名言</a:t>
            </a: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24000" y="1541520"/>
          <a:ext cx="8208720" cy="313848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31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君子一言，驷马难追。——《论语》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与朋友交，言而有信。——《论语》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民无信不立。——《论语》 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言必信，行必果。——《论语》</a:t>
                      </a:r>
                      <a:br>
                        <a:rPr sz="3200"/>
                      </a:b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轻诺必寡信。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—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老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人而无信，不知其可也。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——《论语》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539640" y="50688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言九鼎     一诺千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960840" y="60012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拓展：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395280" y="20890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回家后，和爸爸、妈妈一起谈谈怎样才能做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772440" y="3239280"/>
            <a:ext cx="15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小练笔：写一写身边同学守信的小故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476280"/>
            <a:ext cx="47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读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70172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自由轻声读课文，注意读通顺、读准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想想文中，谁是守信的人。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理解：太学、投缘、志同道合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270080"/>
            <a:ext cx="81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古代有个名叫范式的人，少年时在京城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太学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读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2860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范式和同学张劭是好朋友，两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志同道合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，非常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投缘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60720" y="278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太学是中国古代的大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0"/>
          <p:cNvSpPr/>
          <p:nvPr/>
        </p:nvSpPr>
        <p:spPr>
          <a:xfrm>
            <a:off x="971640" y="4796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志同道合：志向相同，意见相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6999120" y="4796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投缘：情意相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333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郑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27440" y="90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468360" y="878760"/>
            <a:ext cx="813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式郑重地对张劭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约好，两年以后的今天，我到你家去，拜见你的父母双亲以后，我们一起再回京城继续求学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571680" y="2271600"/>
            <a:ext cx="81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句中的“拜见”可以换成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参见、探望、看望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等词吗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为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653640" y="3137760"/>
            <a:ext cx="1736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拜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拜会；通常指看望老师、长辈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中指以一定的礼节进见，多指见师长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探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指远道看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望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到长辈或亲友处问候起居情况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701720"/>
            <a:ext cx="71298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仔细读读课文的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—8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节，把表现范式守信的句子用“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”划出来，把表现张劭守信的句子用“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~~~”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5278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约定相见的那天早晨，张劭把范式要来作客的事告诉母亲，请她准备酒菜招待客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3766680"/>
            <a:ext cx="863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说：“你们分别已经整整两年，他的家乡离开我们这儿又有千里之遥，相约的话恐怕早就忘记了。你相信他会来吗？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8317080" y="5950080"/>
            <a:ext cx="142560" cy="215640"/>
          </a:xfrm>
          <a:custGeom>
            <a:avLst/>
            <a:gdLst>
              <a:gd name="textAreaLeft" fmla="*/ 9000 w 142560"/>
              <a:gd name="textAreaRight" fmla="*/ 133560 w 142560"/>
              <a:gd name="textAreaTop" fmla="*/ 9000 h 215640"/>
              <a:gd name="textAreaBottom" fmla="*/ 206640 h 215640"/>
            </a:gdLst>
            <a:ahLst/>
            <a:rect l="textAreaLeft" t="textAreaTop" r="textAreaRight" b="textAreaBottom"/>
            <a:pathLst>
              <a:path w="21600" h="32645">
                <a:moveTo>
                  <a:pt x="0" y="0"/>
                </a:moveTo>
                <a:lnTo>
                  <a:pt x="21600" y="0"/>
                </a:lnTo>
                <a:lnTo>
                  <a:pt x="21600" y="32645"/>
                </a:lnTo>
                <a:lnTo>
                  <a:pt x="0" y="32645"/>
                </a:lnTo>
                <a:close/>
              </a:path>
              <a:path fill="lightenLess" w="21600" h="32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45">
                <a:moveTo>
                  <a:pt x="21600" y="0"/>
                </a:moveTo>
                <a:lnTo>
                  <a:pt x="21600" y="32645"/>
                </a:lnTo>
                <a:lnTo>
                  <a:pt x="20200" y="31245"/>
                </a:lnTo>
                <a:lnTo>
                  <a:pt x="20200" y="1400"/>
                </a:lnTo>
                <a:close/>
              </a:path>
              <a:path fill="darkenLess" w="21600" h="32645">
                <a:moveTo>
                  <a:pt x="21600" y="32645"/>
                </a:moveTo>
                <a:lnTo>
                  <a:pt x="0" y="32645"/>
                </a:lnTo>
                <a:lnTo>
                  <a:pt x="1400" y="31245"/>
                </a:lnTo>
                <a:lnTo>
                  <a:pt x="20200" y="31245"/>
                </a:lnTo>
                <a:close/>
              </a:path>
              <a:path fill="lighten" w="21600" h="32645">
                <a:moveTo>
                  <a:pt x="0" y="32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45"/>
                </a:lnTo>
                <a:close/>
              </a:path>
              <a:path fill="darken" w="21600" h="32645">
                <a:moveTo>
                  <a:pt x="3794" y="16322"/>
                </a:moveTo>
                <a:lnTo>
                  <a:pt x="17806" y="9316"/>
                </a:lnTo>
                <a:lnTo>
                  <a:pt x="17806" y="233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26800" y="32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整整两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66440" y="378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千里之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162864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十分肯定地说：“范式是个很讲信用的人，他一定不会失约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8317080" y="5950080"/>
            <a:ext cx="142560" cy="215640"/>
          </a:xfrm>
          <a:custGeom>
            <a:avLst/>
            <a:gdLst>
              <a:gd name="textAreaLeft" fmla="*/ 9000 w 142560"/>
              <a:gd name="textAreaRight" fmla="*/ 133560 w 142560"/>
              <a:gd name="textAreaTop" fmla="*/ 9000 h 215640"/>
              <a:gd name="textAreaBottom" fmla="*/ 206640 h 215640"/>
            </a:gdLst>
            <a:ahLst/>
            <a:rect l="textAreaLeft" t="textAreaTop" r="textAreaRight" b="textAreaBottom"/>
            <a:pathLst>
              <a:path w="21600" h="32645">
                <a:moveTo>
                  <a:pt x="0" y="0"/>
                </a:moveTo>
                <a:lnTo>
                  <a:pt x="21600" y="0"/>
                </a:lnTo>
                <a:lnTo>
                  <a:pt x="21600" y="32645"/>
                </a:lnTo>
                <a:lnTo>
                  <a:pt x="0" y="32645"/>
                </a:lnTo>
                <a:close/>
              </a:path>
              <a:path fill="lightenLess" w="21600" h="32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45">
                <a:moveTo>
                  <a:pt x="21600" y="0"/>
                </a:moveTo>
                <a:lnTo>
                  <a:pt x="21600" y="32645"/>
                </a:lnTo>
                <a:lnTo>
                  <a:pt x="20200" y="31245"/>
                </a:lnTo>
                <a:lnTo>
                  <a:pt x="20200" y="1400"/>
                </a:lnTo>
                <a:close/>
              </a:path>
              <a:path fill="darkenLess" w="21600" h="32645">
                <a:moveTo>
                  <a:pt x="21600" y="32645"/>
                </a:moveTo>
                <a:lnTo>
                  <a:pt x="0" y="32645"/>
                </a:lnTo>
                <a:lnTo>
                  <a:pt x="1400" y="31245"/>
                </a:lnTo>
                <a:lnTo>
                  <a:pt x="20200" y="31245"/>
                </a:lnTo>
                <a:close/>
              </a:path>
              <a:path fill="lighten" w="21600" h="32645">
                <a:moveTo>
                  <a:pt x="0" y="32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45"/>
                </a:lnTo>
                <a:close/>
              </a:path>
              <a:path fill="darken" w="21600" h="32645">
                <a:moveTo>
                  <a:pt x="3794" y="16322"/>
                </a:moveTo>
                <a:lnTo>
                  <a:pt x="17806" y="9316"/>
                </a:lnTo>
                <a:lnTo>
                  <a:pt x="17806" y="2332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47600" y="1731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十分肯定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2565360"/>
            <a:ext cx="13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一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17080" y="6165720"/>
            <a:ext cx="792000" cy="69228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5640" y="1125360"/>
            <a:ext cx="741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把屋里屋外打扫得干干净净，到村口去等候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189000"/>
            <a:ext cx="38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比较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3429000"/>
            <a:ext cx="741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劭等候好朋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57400" y="3809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6477120" y="3886200"/>
            <a:ext cx="976320" cy="485640"/>
          </a:xfrm>
          <a:custGeom>
            <a:avLst/>
            <a:gdLst>
              <a:gd name="textAreaLeft" fmla="*/ 0 w 976320"/>
              <a:gd name="textAreaRight" fmla="*/ 976680 w 976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867280"/>
            <a:ext cx="1067040" cy="685800"/>
          </a:xfrm>
          <a:prstGeom prst="rightArrow">
            <a:avLst>
              <a:gd name="adj1" fmla="val 50000"/>
              <a:gd name="adj2" fmla="val 388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981000"/>
            <a:ext cx="8839440" cy="28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等候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到村口去等候好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张劭把屋里屋外打扫得干干净净，到村口去等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3573360"/>
            <a:ext cx="849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迎接爷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迎接爷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_________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____________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迎接爷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63640" y="1890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照样子把句子写具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