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6EFB-D828-4A39-94E5-B25938AA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0F82-ACAD-4980-B4E0-09C9C6041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F2C-4B43-4B63-BCB0-8BFB02D3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F7A-4852-48A4-8611-24D4870B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4CB-6064-48F3-B24D-18A8FBD8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9EE-9CC9-466B-9206-2334FD59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3FA3-4FB9-46F1-9881-C69EC7F2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F5A-7618-4F79-8615-D876229C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4DF-4D6D-40D3-BBF3-96F144FB3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1886-911D-440E-9AA3-774733A0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6FB0-EB4A-4A79-BCD7-E2D63DA2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6236-7F4F-43DB-85EE-68F4F101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88EF-48B2-4747-80DB-3564BDF920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         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种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长篇小说，中篇小说，短篇小说，小小说，微型小说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结构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开端，发展，高潮，结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要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环境，情节，人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560" y="65520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　　水手们笑的声音更大了，孩子的脸红了。他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脱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tu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了上衣，爬上桅杆去追猴子。不一会儿，他已经顺着绳子爬到第一根横木上了。就在孩子想去抓住帽子的时候，猴子又往上爬了，爬得比孩子更灵巧、更快。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你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逃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t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á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o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不了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孩子一边喊一边往上爬。猴子不时回过头来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逗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dòu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孩子，孩子气急了，不停地往上追。眼看就要爬到桅杆的顶端了，这时猴子把身子尽量伸直，用后脚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钩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gōu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）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绳子，把帽子挂在最高的横木的一头，然后爬到桅杆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顶端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du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ā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n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，乱扭着身子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龇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zī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）着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做着怪样。从桅杆到挂帽子的横木的一头有一米多。要拿着帽子，手必须放开绳子和桅杆，此外没有别的办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04560" y="1188720"/>
            <a:ext cx="83818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　　孩子气极了。他丢开桅杆，走上横木。甲板上的人都在望着，都在笑猴子戏弄船长的儿子。但是他们看到孩子放开了绳子，两只手摇摇摆摆地走上那最高的横木，全都惊呆了。只要孩子一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失足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  <a:ea typeface="华文楷体"/>
              </a:rPr>
              <a:t>（失脚）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，他就会跌到甲板上，摔个粉碎。即使他不失足，拿到了帽子也难以转身走回来。所有的人都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不知所措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cuò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） 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  <a:ea typeface="华文楷体"/>
              </a:rPr>
              <a:t>（不知道该怎么办）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　　忽然，人群里有个人吓得大叫一声。孩子听见下边的叫声才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醒悟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w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ù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） 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  <a:ea typeface="华文楷体"/>
              </a:rPr>
              <a:t>（明白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过来。他往下一望，脚底下就摇晃起来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52280" y="1371240"/>
            <a:ext cx="876312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　　正在这时候，孩子的父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船长从船舱里走了出来，手里拿着一支枪，本来是要打海鸥的。他看见儿子在桅杆的顶端的横木上，就立刻向他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瞄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，同时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跳到水里，赶快跳到水里，不跳我就开枪了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小孩在上面摇晃着，没有听明白爸爸的话。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跳到水里，不然我就开枪了！一！二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在父亲刚喊出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的时候，小孩把头往下一低就跳了下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3805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扑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一声，孩子像一颗炮弹落到大海里。二十个勇敢的水手已经由船上跳到海里。四十秒钟以后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大家已经觉得时间太长了，孩子的身体浮上来了。水手们把他抓住，拉到甲板上。过了几分钟，孩子的鼻子里、嘴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控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kòng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）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许多水。他又开始呼吸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　　船长一看到这儿，突然间，好像嗓子被什么东西捅了一下似的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呜咽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è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） 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华文楷体"/>
              </a:rPr>
              <a:t>（低声哭泣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起来。为了不让人看到自己的这副模样，他赶忙一头钻到船长室里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2971800" y="4797360"/>
            <a:ext cx="4419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ā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：咽喉，咽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à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：咽气，狼吞虎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è</a:t>
            </a: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：哽咽，呜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按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开端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发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高潮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结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把全文分成四部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（　—　）：开端。写了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（　—　）：发展。写了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（　—　）：高潮。写了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四（　—　）：结局。写了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9604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　　　有一艘环游世界的轮船，正往回航行。这一天风平浪静，船上的人都站在甲板上。有一只大猴子在人群里钻来钻去，做出可笑的鬼脸，模仿人的样子。它显然知道大家拿它取乐，因而更加放肆起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762120" y="4419720"/>
            <a:ext cx="754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一（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）：开端。写了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9601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    　猴子跳到一个十二岁的孩子（他是船长的儿子）面前，把他的帽子摘下来，戴在自己的头上，很快地爬上了桅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　忽然，人群里有个人吓得大叫一声。孩子听见下边的叫声才醒悟过来。他往下一望，脚底下就摇晃起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762120" y="4419720"/>
            <a:ext cx="754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二（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2—6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）：发展。写了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96012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       正在这时候，孩子的父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船长从船舱里走了出来，手里拿着一支枪，本来是要打海鸥的。他看见儿子在桅杆的顶端的横木上，就立刻向他瞄准，同时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跳到水里，赶快跳到水里，不跳我就开枪了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小孩在上面摇晃着，没有听明白爸爸的话。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跳到水里，不然我就开枪了！一！二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在父亲刚喊出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的时候，小孩把头往下一低就跳了下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762120" y="4419720"/>
            <a:ext cx="754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三（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）：高潮。写了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04920" y="960120"/>
            <a:ext cx="8534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扑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一声，孩子像一颗炮弹落到大海里。二十个勇敢的水手已经由船上跳到海里。四十秒钟以后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大家已经觉得时间太长了，孩子的身体浮上来了。水手们把他抓住，拉到甲板上。过了几分钟，孩子的鼻子里、嘴里控出许多水。他又开始呼吸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    　船长一看到这儿，突然间，好像嗓子被什么东西捅了一下似的，呜咽起来。为了不让人看到自己的这副模样，他赶忙一头钻到船长室里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762120" y="5149800"/>
            <a:ext cx="754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四（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8—9</a:t>
            </a:r>
            <a:r>
              <a:rPr b="0" lang="zh-CN" sz="2600" spc="-1" strike="noStrike">
                <a:solidFill>
                  <a:srgbClr val="ff0000"/>
                </a:solidFill>
                <a:latin typeface="Arial"/>
              </a:rPr>
              <a:t>）：结局。写了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533520" y="71532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再读课文，文中的水手、猴子、孩子、船长是怎样联系在一起的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62040" y="3962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水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2719440" y="3962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猴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5234040" y="3962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孩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7900920" y="39625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船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1600200" y="4267080"/>
            <a:ext cx="976320" cy="152640"/>
          </a:xfrm>
          <a:prstGeom prst="rightArrow">
            <a:avLst>
              <a:gd name="adj1" fmla="val 50000"/>
              <a:gd name="adj2" fmla="val 1599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689480" y="3733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取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9"/>
          <p:cNvSpPr/>
          <p:nvPr/>
        </p:nvSpPr>
        <p:spPr>
          <a:xfrm>
            <a:off x="3657600" y="4267080"/>
            <a:ext cx="1447920" cy="152640"/>
          </a:xfrm>
          <a:prstGeom prst="rightArrow">
            <a:avLst>
              <a:gd name="adj1" fmla="val 50000"/>
              <a:gd name="adj2" fmla="val 2371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670920" y="3733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放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1"/>
          <p:cNvSpPr/>
          <p:nvPr/>
        </p:nvSpPr>
        <p:spPr>
          <a:xfrm>
            <a:off x="4578840" y="3733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6172200" y="4267080"/>
            <a:ext cx="1600200" cy="152640"/>
          </a:xfrm>
          <a:prstGeom prst="leftArrow">
            <a:avLst>
              <a:gd name="adj1" fmla="val 50000"/>
              <a:gd name="adj2" fmla="val 2620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3657600" y="4495680"/>
            <a:ext cx="1371600" cy="152640"/>
          </a:xfrm>
          <a:prstGeom prst="leftArrow">
            <a:avLst>
              <a:gd name="adj1" fmla="val 50000"/>
              <a:gd name="adj2" fmla="val 2246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4122360" y="45720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5"/>
          <p:cNvSpPr/>
          <p:nvPr/>
        </p:nvSpPr>
        <p:spPr>
          <a:xfrm>
            <a:off x="6426000" y="3733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命令跳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16"/>
          <p:cNvGrpSpPr/>
          <p:nvPr/>
        </p:nvGrpSpPr>
        <p:grpSpPr>
          <a:xfrm>
            <a:off x="1981080" y="4495680"/>
            <a:ext cx="3733200" cy="990000"/>
            <a:chOff x="1981080" y="4495680"/>
            <a:chExt cx="3733200" cy="990000"/>
          </a:xfrm>
        </p:grpSpPr>
        <p:grpSp>
          <p:nvGrpSpPr>
            <p:cNvPr id="88" name="Group 17"/>
            <p:cNvGrpSpPr/>
            <p:nvPr/>
          </p:nvGrpSpPr>
          <p:grpSpPr>
            <a:xfrm>
              <a:off x="1981080" y="4495680"/>
              <a:ext cx="3657600" cy="990000"/>
              <a:chOff x="1981080" y="4495680"/>
              <a:chExt cx="3657600" cy="990000"/>
            </a:xfrm>
          </p:grpSpPr>
          <p:sp>
            <p:nvSpPr>
              <p:cNvPr id="89" name="Line 18"/>
              <p:cNvSpPr/>
              <p:nvPr/>
            </p:nvSpPr>
            <p:spPr>
              <a:xfrm>
                <a:off x="1981080" y="4495680"/>
                <a:ext cx="0" cy="990000"/>
              </a:xfrm>
              <a:prstGeom prst="line">
                <a:avLst/>
              </a:prstGeom>
              <a:ln w="572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19"/>
              <p:cNvSpPr/>
              <p:nvPr/>
            </p:nvSpPr>
            <p:spPr>
              <a:xfrm flipH="1">
                <a:off x="1981080" y="5485680"/>
                <a:ext cx="3657600" cy="0"/>
              </a:xfrm>
              <a:prstGeom prst="line">
                <a:avLst/>
              </a:prstGeom>
              <a:ln w="5724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AutoShape 20"/>
            <p:cNvSpPr/>
            <p:nvPr/>
          </p:nvSpPr>
          <p:spPr>
            <a:xfrm flipH="1">
              <a:off x="5561640" y="4724280"/>
              <a:ext cx="152280" cy="747720"/>
            </a:xfrm>
            <a:prstGeom prst="upArrow">
              <a:avLst>
                <a:gd name="adj1" fmla="val 50000"/>
                <a:gd name="adj2" fmla="val 122754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spcBef>
                  <a:spcPts val="649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 Box 21"/>
          <p:cNvSpPr/>
          <p:nvPr/>
        </p:nvSpPr>
        <p:spPr>
          <a:xfrm>
            <a:off x="2920680" y="5562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救上甲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2"/>
          <p:cNvSpPr/>
          <p:nvPr/>
        </p:nvSpPr>
        <p:spPr>
          <a:xfrm>
            <a:off x="5499720" y="5562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得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俄国     列夫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·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托尔斯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代表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《安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卡列尼娜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《复活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《战争与和平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评价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世界十大文豪之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列宁：俄国革命的镜子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Arial"/>
              </a:rPr>
              <a:t>选入小学语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《跳水》（四下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《穷人》（六上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列夫·托尔斯泰画像"/>
          <p:cNvPicPr/>
          <p:nvPr/>
        </p:nvPicPr>
        <p:blipFill>
          <a:blip r:embed="rId2"/>
          <a:stretch/>
        </p:blipFill>
        <p:spPr>
          <a:xfrm>
            <a:off x="4495680" y="1139760"/>
            <a:ext cx="4524480" cy="55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课后习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文怎样描写孩子的表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体会他的心理变化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152280" y="0"/>
            <a:ext cx="9067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</a:t>
            </a: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有一艘环游世界的轮船，正往回航行。这一天风平浪静，船上的人都站在甲板上。有一只大猴子在人群里钻来钻去，做出可笑的鬼脸，模仿人的样子。它显然知道大家拿它取乐，因而更加放肆起来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       猴子跳到一个十二岁的孩子（他是船长的儿子）面前，把他的帽子摘下来，戴在自己的头上，很快地爬上了桅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      水手们都笑起来，只有</a:t>
            </a:r>
            <a:r>
              <a:rPr b="1" lang="zh-CN" sz="2100" spc="-1" strike="noStrike">
                <a:solidFill>
                  <a:srgbClr val="0000ff"/>
                </a:solidFill>
                <a:latin typeface="华文楷体"/>
                <a:ea typeface="华文楷体"/>
              </a:rPr>
              <a:t>那个孩子哭笑不得</a:t>
            </a:r>
            <a:r>
              <a:rPr b="1" lang="zh-CN" sz="2100" spc="-1" strike="noStrike">
                <a:solidFill>
                  <a:srgbClr val="ff0000"/>
                </a:solidFill>
                <a:latin typeface="华文楷体"/>
                <a:ea typeface="华文楷体"/>
              </a:rPr>
              <a:t>，光着头站在那里。</a:t>
            </a: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猴子坐到桅杆的第一根横木上，把帽子摘下来，用牙齿和爪子撕。它好像故意让这孩子生气，指着孩子，冲着他做种种鬼脸。</a:t>
            </a:r>
            <a:r>
              <a:rPr b="1" lang="zh-CN" sz="2100" spc="-1" strike="noStrike">
                <a:solidFill>
                  <a:srgbClr val="ff0000"/>
                </a:solidFill>
                <a:latin typeface="华文楷体"/>
                <a:ea typeface="华文楷体"/>
              </a:rPr>
              <a:t>孩子吓唬它，朝着它大声叫喊，</a:t>
            </a: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但是它撕得更凶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       水手们笑的声音更大了，</a:t>
            </a:r>
            <a:r>
              <a:rPr b="1" lang="zh-CN" sz="2100" spc="-1" strike="noStrike">
                <a:solidFill>
                  <a:srgbClr val="0000ff"/>
                </a:solidFill>
                <a:latin typeface="华文楷体"/>
                <a:ea typeface="华文楷体"/>
              </a:rPr>
              <a:t>孩子的脸红了。</a:t>
            </a:r>
            <a:r>
              <a:rPr b="1" lang="zh-CN" sz="2100" spc="-1" strike="noStrike">
                <a:solidFill>
                  <a:srgbClr val="ff0000"/>
                </a:solidFill>
                <a:latin typeface="华文楷体"/>
                <a:ea typeface="华文楷体"/>
              </a:rPr>
              <a:t>他脱了上衣，爬上桅杆去追猴子。</a:t>
            </a: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一会儿，他已经顺着绳子爬到第一根横木上了。就在孩子想去抓住帽子的时候，猴子又往上爬了，爬得比孩子更灵巧、更快。“你逃不了！”</a:t>
            </a:r>
            <a:r>
              <a:rPr b="1" lang="zh-CN" sz="2100" spc="-1" strike="noStrike">
                <a:solidFill>
                  <a:srgbClr val="ff0000"/>
                </a:solidFill>
                <a:latin typeface="华文楷体"/>
                <a:ea typeface="华文楷体"/>
              </a:rPr>
              <a:t>孩子一边喊一边往上爬。</a:t>
            </a: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猴子不时回过头来逗孩子，</a:t>
            </a:r>
            <a:r>
              <a:rPr b="1" lang="zh-CN" sz="2100" spc="-1" strike="noStrike">
                <a:solidFill>
                  <a:srgbClr val="0000ff"/>
                </a:solidFill>
                <a:latin typeface="华文楷体"/>
                <a:ea typeface="华文楷体"/>
              </a:rPr>
              <a:t>孩子气急了，</a:t>
            </a:r>
            <a:r>
              <a:rPr b="1" lang="zh-CN" sz="21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不停地往上追。</a:t>
            </a: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眼看就要爬到桅杆的顶端了，这时猴子把身子尽量伸直，用后脚钩住绳子，把帽子挂在最高的横木的一头，然后爬到桅杆的顶端，乱扭着身子，龇着牙做着怪样。从桅杆到挂帽子的横木的一头有一米多。要拿着帽子，手必须放开绳子和桅杆，此外没有别的办法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-152280" y="0"/>
            <a:ext cx="9067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      </a:t>
            </a:r>
            <a:r>
              <a:rPr b="1" lang="zh-CN" sz="2100" spc="-1" strike="noStrike">
                <a:solidFill>
                  <a:srgbClr val="0000ff"/>
                </a:solidFill>
                <a:latin typeface="华文楷体"/>
                <a:ea typeface="华文楷体"/>
              </a:rPr>
              <a:t>孩子气极了。</a:t>
            </a:r>
            <a:r>
              <a:rPr b="1" lang="zh-CN" sz="2100" spc="-1" strike="noStrike">
                <a:solidFill>
                  <a:srgbClr val="ff0000"/>
                </a:solidFill>
                <a:latin typeface="华文楷体"/>
                <a:ea typeface="华文楷体"/>
              </a:rPr>
              <a:t>他丢开桅杆，走上横木。</a:t>
            </a: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甲板上的人都在望着，都在笑猴子戏弄船长的儿子。但是他们看到孩子放开了绳子，两只手摇摇摆摆地走上那最高的横木，全都惊呆了。只要孩子一失足，他就会跌到甲板上，摔个粉碎。即使他不失足，拿到了帽子也难以转身走回来。所有的人都不知所措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      忽然，人群里有个人吓得大叫一声。</a:t>
            </a:r>
            <a:r>
              <a:rPr b="1" lang="zh-CN" sz="2100" spc="-1" strike="noStrike">
                <a:solidFill>
                  <a:srgbClr val="0000ff"/>
                </a:solidFill>
                <a:latin typeface="华文楷体"/>
                <a:ea typeface="华文楷体"/>
              </a:rPr>
              <a:t>孩子听见下边的叫声才醒悟过来。</a:t>
            </a: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往下一望，脚底下就摇晃起来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       正在这时候，孩子的父亲——船长从船舱里走了出来，手里拿着一支枪，本来是要打海鸥的。他看见儿子在桅杆的顶端的横木上，就立刻向他瞄准，同时喊</a:t>
            </a: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:“</a:t>
            </a: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跳到水里，赶快跳到水里，不跳我就开枪了！”</a:t>
            </a:r>
            <a:r>
              <a:rPr b="1" lang="zh-CN" sz="21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小孩在上面摇晃着，没有听明白爸爸的话</a:t>
            </a: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“跳到水里，不然我就开枪了！一！二！”在父亲刚喊出“三”的时候，</a:t>
            </a:r>
            <a:r>
              <a:rPr b="1" lang="zh-CN" sz="21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小孩把头往下一低就跳了下来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    “扑通”一声，孩子像一颗炮弹落到大海里。二十个勇敢的水手已经由船上跳到海里。四十秒钟以后——大家已经觉得时间太长了，孩子的身体浮上来了。水手们把他抓住，拉到甲板上。</a:t>
            </a:r>
            <a:r>
              <a:rPr b="1" lang="zh-CN" sz="21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过了几分钟，孩子的鼻子里、嘴里控出许多水。他又开始呼吸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       船长一看到这儿，突然间，好像嗓子被什么东西捅了一下似的，呜咽起来。为了不让人看到自己的这副模样，他赶忙一头钻到船长室里去了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思     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课文的主人公是谁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父亲真的想开枪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不开枪能救孩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父亲开枪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枪里有子弹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还有其他的办法救孩子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为什么说四十秒钟已经很长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楷体"/>
              </a:rPr>
              <a:t>这是一个怎样的船长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多音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钻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z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（动词）钻来钻去，钻空子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zu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（名词）钻子，钻石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模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模样，模板，模子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m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模仿，模范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冲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chōn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冲动，冲走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chòn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冲我，冲他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尽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jǐ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尽管，尽量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j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无穷无尽，尽力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着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zh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拿着，说着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zh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着急，着火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zhu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衣着，着装</a:t>
            </a:r>
            <a:r>
              <a:rPr b="0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的”字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放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）的猴子          填形容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船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）的猴子          填名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（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他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楷体"/>
              </a:rPr>
              <a:t>）的猴子          填代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课文大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什么时候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回航的一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因为什么跳水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因为爬到顶端横木而跳水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结果怎样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楷体"/>
              </a:rPr>
              <a:t>被水手救上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因果关系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因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，所以水手们都站在甲板上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因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，所以猴子更加放肆起来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因为猴子更加放肆起来，所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因为水手们笑，所以孩子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因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，所以猴子又往上爬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因为孩子生气了，不停地往上追，所以猴子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因为孩子气极了，所以他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因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，所以船长用枪逼孩子跳水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因为孩子跳水了，所以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Arial"/>
                <a:ea typeface="华文楷体"/>
              </a:rPr>
              <a:t>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066680" y="1295280"/>
            <a:ext cx="358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这一天风平浪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066680" y="1720800"/>
            <a:ext cx="358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大家拿他取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4343400" y="2133720"/>
            <a:ext cx="358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摘掉孩子的帽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3962520" y="2590920"/>
            <a:ext cx="358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气急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1066680" y="3048120"/>
            <a:ext cx="358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孩子去追猴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867280" y="3505320"/>
            <a:ext cx="320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爬到最高横木上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352680" y="3930480"/>
            <a:ext cx="358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走上横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066680" y="4343400"/>
            <a:ext cx="358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孩子马上要失足摔下来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3581280" y="4800600"/>
            <a:ext cx="358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被水手救上来了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Ink 13"/>
          <p:cNvSpPr/>
          <p:nvPr/>
        </p:nvSpPr>
        <p:spPr>
          <a:xfrm>
            <a:off x="2795760" y="1670040"/>
            <a:ext cx="500040" cy="527040"/>
          </a:xfrm>
          <a:custGeom>
            <a:avLst/>
            <a:gdLst/>
            <a:ahLst/>
            <a:rect l="l" t="t" r="r" b="b"/>
            <a:pathLst>
              <a:path w="1390" h="1465">
                <a:moveTo>
                  <a:pt x="7913" y="5680"/>
                </a:moveTo>
                <a:cubicBezTo>
                  <a:pt x="7913" y="5559"/>
                  <a:pt x="7910" y="5449"/>
                  <a:pt x="7938" y="5333"/>
                </a:cubicBezTo>
                <a:cubicBezTo>
                  <a:pt x="7959" y="5244"/>
                  <a:pt x="7997" y="5148"/>
                  <a:pt x="8012" y="5060"/>
                </a:cubicBezTo>
                <a:cubicBezTo>
                  <a:pt x="8018" y="5026"/>
                  <a:pt x="8022" y="4943"/>
                  <a:pt x="8037" y="4911"/>
                </a:cubicBezTo>
                <a:cubicBezTo>
                  <a:pt x="8062" y="4858"/>
                  <a:pt x="8080" y="4789"/>
                  <a:pt x="8111" y="4738"/>
                </a:cubicBezTo>
                <a:cubicBezTo>
                  <a:pt x="8129" y="4709"/>
                  <a:pt x="8132" y="4701"/>
                  <a:pt x="8161" y="4663"/>
                </a:cubicBezTo>
                <a:cubicBezTo>
                  <a:pt x="8176" y="4644"/>
                  <a:pt x="8199" y="4640"/>
                  <a:pt x="8235" y="4638"/>
                </a:cubicBezTo>
                <a:cubicBezTo>
                  <a:pt x="8331" y="4632"/>
                  <a:pt x="8426" y="4651"/>
                  <a:pt x="8508" y="4663"/>
                </a:cubicBezTo>
                <a:cubicBezTo>
                  <a:pt x="8560" y="4670"/>
                  <a:pt x="8587" y="4690"/>
                  <a:pt x="8632" y="4738"/>
                </a:cubicBezTo>
                <a:cubicBezTo>
                  <a:pt x="8684" y="4793"/>
                  <a:pt x="8761" y="4791"/>
                  <a:pt x="8806" y="4837"/>
                </a:cubicBezTo>
                <a:cubicBezTo>
                  <a:pt x="8829" y="4860"/>
                  <a:pt x="8886" y="4958"/>
                  <a:pt x="8905" y="4986"/>
                </a:cubicBezTo>
                <a:cubicBezTo>
                  <a:pt x="8934" y="5028"/>
                  <a:pt x="8959" y="5070"/>
                  <a:pt x="8979" y="5110"/>
                </a:cubicBezTo>
                <a:cubicBezTo>
                  <a:pt x="8999" y="5149"/>
                  <a:pt x="9009" y="5227"/>
                  <a:pt x="9029" y="5259"/>
                </a:cubicBezTo>
                <a:cubicBezTo>
                  <a:pt x="9071" y="5327"/>
                  <a:pt x="9095" y="5377"/>
                  <a:pt x="9128" y="5457"/>
                </a:cubicBezTo>
                <a:cubicBezTo>
                  <a:pt x="9144" y="5496"/>
                  <a:pt x="9151" y="5537"/>
                  <a:pt x="9153" y="5581"/>
                </a:cubicBezTo>
                <a:cubicBezTo>
                  <a:pt x="9156" y="5639"/>
                  <a:pt x="9159" y="5702"/>
                  <a:pt x="9128" y="5755"/>
                </a:cubicBezTo>
                <a:cubicBezTo>
                  <a:pt x="9101" y="5800"/>
                  <a:pt x="9066" y="5840"/>
                  <a:pt x="9029" y="5879"/>
                </a:cubicBezTo>
                <a:cubicBezTo>
                  <a:pt x="8966" y="5945"/>
                  <a:pt x="8927" y="5918"/>
                  <a:pt x="8855" y="5953"/>
                </a:cubicBezTo>
                <a:cubicBezTo>
                  <a:pt x="8787" y="5986"/>
                  <a:pt x="8726" y="6018"/>
                  <a:pt x="8657" y="6052"/>
                </a:cubicBezTo>
                <a:cubicBezTo>
                  <a:pt x="8616" y="6073"/>
                  <a:pt x="8584" y="6092"/>
                  <a:pt x="8533" y="6102"/>
                </a:cubicBezTo>
                <a:cubicBezTo>
                  <a:pt x="8439" y="6120"/>
                  <a:pt x="8483" y="6070"/>
                  <a:pt x="8458" y="6028"/>
                </a:cubicBezTo>
                <a:cubicBezTo>
                  <a:pt x="8412" y="5949"/>
                  <a:pt x="8363" y="5899"/>
                  <a:pt x="8310" y="5829"/>
                </a:cubicBezTo>
                <a:cubicBezTo>
                  <a:pt x="8244" y="5741"/>
                  <a:pt x="8179" y="5716"/>
                  <a:pt x="8086" y="5655"/>
                </a:cubicBezTo>
                <a:cubicBezTo>
                  <a:pt x="8045" y="5628"/>
                  <a:pt x="8014" y="5597"/>
                  <a:pt x="7987" y="5581"/>
                </a:cubicBezTo>
                <a:cubicBezTo>
                  <a:pt x="7944" y="5555"/>
                  <a:pt x="7933" y="5571"/>
                  <a:pt x="7888" y="5556"/>
                </a:cubicBezTo>
                <a:cubicBezTo>
                  <a:pt x="7814" y="5531"/>
                  <a:pt x="7843" y="5480"/>
                  <a:pt x="7789" y="5432"/>
                </a:cubicBezTo>
                <a:cubicBezTo>
                  <a:pt x="7781" y="5432"/>
                  <a:pt x="7772" y="5432"/>
                  <a:pt x="7764" y="54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14"/>
          <p:cNvSpPr/>
          <p:nvPr/>
        </p:nvSpPr>
        <p:spPr>
          <a:xfrm>
            <a:off x="4670280" y="125280"/>
            <a:ext cx="714600" cy="857520"/>
          </a:xfrm>
          <a:custGeom>
            <a:avLst/>
            <a:gdLst/>
            <a:ahLst/>
            <a:rect l="l" t="t" r="r" b="b"/>
            <a:pathLst>
              <a:path w="1985" h="2383">
                <a:moveTo>
                  <a:pt x="13791" y="347"/>
                </a:moveTo>
                <a:cubicBezTo>
                  <a:pt x="13828" y="371"/>
                  <a:pt x="13816" y="413"/>
                  <a:pt x="13816" y="471"/>
                </a:cubicBezTo>
                <a:cubicBezTo>
                  <a:pt x="13816" y="526"/>
                  <a:pt x="13852" y="763"/>
                  <a:pt x="13791" y="794"/>
                </a:cubicBezTo>
                <a:cubicBezTo>
                  <a:pt x="13767" y="794"/>
                  <a:pt x="13758" y="794"/>
                  <a:pt x="13742" y="794"/>
                </a:cubicBezTo>
              </a:path>
              <a:path w="1985" h="2383">
                <a:moveTo>
                  <a:pt x="13047" y="843"/>
                </a:moveTo>
                <a:cubicBezTo>
                  <a:pt x="13047" y="900"/>
                  <a:pt x="13017" y="920"/>
                  <a:pt x="12998" y="967"/>
                </a:cubicBezTo>
                <a:cubicBezTo>
                  <a:pt x="12983" y="1005"/>
                  <a:pt x="12979" y="1084"/>
                  <a:pt x="12973" y="1116"/>
                </a:cubicBezTo>
                <a:cubicBezTo>
                  <a:pt x="12968" y="1144"/>
                  <a:pt x="12973" y="1185"/>
                  <a:pt x="12973" y="1215"/>
                </a:cubicBezTo>
              </a:path>
              <a:path w="1985" h="2383">
                <a:moveTo>
                  <a:pt x="12998" y="992"/>
                </a:moveTo>
                <a:cubicBezTo>
                  <a:pt x="13045" y="987"/>
                  <a:pt x="13078" y="974"/>
                  <a:pt x="13122" y="967"/>
                </a:cubicBezTo>
                <a:cubicBezTo>
                  <a:pt x="13201" y="954"/>
                  <a:pt x="13291" y="960"/>
                  <a:pt x="13370" y="943"/>
                </a:cubicBezTo>
                <a:cubicBezTo>
                  <a:pt x="13493" y="917"/>
                  <a:pt x="13636" y="879"/>
                  <a:pt x="13767" y="868"/>
                </a:cubicBezTo>
                <a:cubicBezTo>
                  <a:pt x="13950" y="853"/>
                  <a:pt x="14129" y="824"/>
                  <a:pt x="14312" y="819"/>
                </a:cubicBezTo>
                <a:cubicBezTo>
                  <a:pt x="14447" y="815"/>
                  <a:pt x="14576" y="799"/>
                  <a:pt x="14709" y="794"/>
                </a:cubicBezTo>
                <a:cubicBezTo>
                  <a:pt x="14791" y="791"/>
                  <a:pt x="14875" y="794"/>
                  <a:pt x="14957" y="794"/>
                </a:cubicBezTo>
                <a:cubicBezTo>
                  <a:pt x="14937" y="884"/>
                  <a:pt x="14899" y="925"/>
                  <a:pt x="14833" y="992"/>
                </a:cubicBezTo>
                <a:cubicBezTo>
                  <a:pt x="14768" y="1058"/>
                  <a:pt x="14730" y="1032"/>
                  <a:pt x="14660" y="1091"/>
                </a:cubicBezTo>
                <a:cubicBezTo>
                  <a:pt x="14652" y="1099"/>
                  <a:pt x="14643" y="1108"/>
                  <a:pt x="14635" y="1116"/>
                </a:cubicBezTo>
              </a:path>
              <a:path w="1985" h="2383">
                <a:moveTo>
                  <a:pt x="14213" y="1389"/>
                </a:moveTo>
                <a:cubicBezTo>
                  <a:pt x="14213" y="1445"/>
                  <a:pt x="14219" y="1487"/>
                  <a:pt x="14188" y="1538"/>
                </a:cubicBezTo>
                <a:cubicBezTo>
                  <a:pt x="14147" y="1604"/>
                  <a:pt x="14095" y="1672"/>
                  <a:pt x="14039" y="1736"/>
                </a:cubicBezTo>
                <a:cubicBezTo>
                  <a:pt x="14006" y="1773"/>
                  <a:pt x="13935" y="1849"/>
                  <a:pt x="13891" y="1860"/>
                </a:cubicBezTo>
                <a:cubicBezTo>
                  <a:pt x="13816" y="1878"/>
                  <a:pt x="13744" y="1891"/>
                  <a:pt x="13667" y="1910"/>
                </a:cubicBezTo>
                <a:cubicBezTo>
                  <a:pt x="13589" y="1930"/>
                  <a:pt x="13476" y="1910"/>
                  <a:pt x="13395" y="1910"/>
                </a:cubicBezTo>
              </a:path>
              <a:path w="1985" h="2383">
                <a:moveTo>
                  <a:pt x="13395" y="1240"/>
                </a:moveTo>
                <a:cubicBezTo>
                  <a:pt x="13395" y="1325"/>
                  <a:pt x="13317" y="2693"/>
                  <a:pt x="13419" y="2729"/>
                </a:cubicBezTo>
                <a:cubicBezTo>
                  <a:pt x="13628" y="2802"/>
                  <a:pt x="14334" y="2795"/>
                  <a:pt x="14536" y="2704"/>
                </a:cubicBezTo>
                <a:cubicBezTo>
                  <a:pt x="14581" y="2684"/>
                  <a:pt x="14580" y="2666"/>
                  <a:pt x="14610" y="2629"/>
                </a:cubicBezTo>
                <a:cubicBezTo>
                  <a:pt x="14630" y="2605"/>
                  <a:pt x="14632" y="2598"/>
                  <a:pt x="14635" y="2555"/>
                </a:cubicBezTo>
                <a:cubicBezTo>
                  <a:pt x="14642" y="2440"/>
                  <a:pt x="14635" y="2323"/>
                  <a:pt x="14635" y="220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1000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感到船长是这样一个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华文楷体"/>
              </a:rPr>
              <a:t>富有经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华文楷体"/>
              </a:rPr>
              <a:t>果断机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华文楷体"/>
              </a:rPr>
              <a:t>充满父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图片2"/>
          <p:cNvPicPr/>
          <p:nvPr/>
        </p:nvPicPr>
        <p:blipFill>
          <a:blip r:embed="rId2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762120" y="228600"/>
            <a:ext cx="30477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3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200" spc="-1" strike="noStrike">
                <a:solidFill>
                  <a:srgbClr val="ff0000"/>
                </a:solidFill>
                <a:latin typeface="华文楷体"/>
                <a:ea typeface="华文楷体"/>
              </a:rPr>
              <a:t>跳   水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谁要跳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谁让他跳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什么跳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怎样跳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不跳水行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哪里跳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跳水以后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9601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　　有一艘环游世界的轮船，正往回航行。这一天风平浪静，船上的人都站在甲板上。有一只大猴子在人群里钻来钻去，做出可笑的鬼脸，模仿人的样子。它显然知道大家拿它取乐，因而更加放肆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　　猴子跳到一个十二岁的孩子（他是船长的儿子）面前，把他的帽子摘下来，戴在自己的头上，很快地爬上了桅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　　水手们都笑起来，只有那个孩子哭笑不得，光着头站在那里。猴子坐到桅杆的第一根横木上，把帽子摘下来，用牙齿和爪子撕。它好像故意让这孩子生气，指着孩子，冲着他做种种鬼脸。孩子吓唬它，朝着它大声叫喊，但是它撕得更凶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33520" y="15228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轮读课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560" y="655200"/>
            <a:ext cx="83818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　　水手们笑的声音更大了，孩子的脸红了。他脱了上衣，爬上桅杆去追猴子。不一会儿，他已经顺着绳子爬到第一根横木上了。就在孩子想去抓住帽子的时候，猴子又往上爬了，爬得比孩子更灵巧、更快。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你逃不了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孩子一边喊一边往上爬。猴子不时回过头来逗孩子，孩子气急了，不停地往上追。眼看就要爬到桅杆的顶端了，这时猴子把身子尽量伸直，用后脚钩住绳子，把帽子挂在最高的横木的一头，然后爬到桅杆的顶端，乱扭着身子，龇着牙做着怪样。从桅杆到挂帽子的横木的一头有一米多。要拿着帽子，手必须放开绳子和桅杆，此外没有别的办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560" y="1188720"/>
            <a:ext cx="83818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　　孩子气极了。他丢开桅杆，走上横木。甲板上的人都在望着，都在笑猴子戏弄船长的儿子。但是他们看到孩子放开了绳子，两只手摇摇摆摆地走上那最高的横木，全都惊呆了。只要孩子一失足，他就会跌到甲板上，摔个粉碎。即使他不失足，拿到了帽子也难以转身走回来。所有的人都不知所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　　忽然，人群里有个人吓得大叫一声。孩子听见下边的叫声才醒悟过来。他往下一望，脚底下就摇晃起来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　　正在这时候，孩子的父亲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船长从船舱里走了出来，手里拿着一支枪，本来是要打海鸥的。他看见儿子在桅杆的顶端的横木上，就立刻向他瞄准，同时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跳到水里，赶快跳到水里，不跳我就开枪了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小孩在上面摇晃着，没有听明白爸爸的话。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跳到水里，不然我就开枪了！一！二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在父亲刚喊出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三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的时候，小孩把头往下一低就跳了下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4560" y="761760"/>
            <a:ext cx="83818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　　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扑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一声，孩子像一颗炮弹落到大海里。二十个勇敢的水手已经由船上跳到海里。四十秒钟以后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大家已经觉得时间太长了，孩子的身体浮上来了。水手们把他抓住，拉到甲板上。过了几分钟，孩子的鼻子里、嘴里控出许多水。他又开始呼吸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　　船长一看到这儿，突然间，好像嗓子被什么东西捅了一下似的，呜咽起来。为了不让人看到自己的这副模样，他赶忙一头钻到船长室里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914400" y="5486400"/>
            <a:ext cx="7315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用三四句话说说全文写了什么。用一句话呢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28600" y="960120"/>
            <a:ext cx="86868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　　有一艘环游世界的轮船，正往回航行。这一天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风平浪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，船上的人都站在甲板上。有一只大猴子在人群里钻来钻去，做出可笑的鬼脸，模仿人的样子。它显然知道大家拿它取乐，因而更加放肆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华文楷体"/>
              </a:rPr>
              <a:t>（说话做事太随意了，太过分了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　　猴子跳到一个十二岁的孩子（他是船长的儿子）面前，把他的帽子摘下来，戴在自己的头上，很快地爬上了桅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　　　水手们都笑起来，只有那个孩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哭笑不得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华文楷体"/>
              </a:rPr>
              <a:t>（哭也不是，笑也不是）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，光着头站在那里。猴子坐到桅杆的第一根横木上，把帽子摘下来，用牙齿和爪子撕。它好像故意让这孩子生气，指着孩子，冲着他做种种鬼脸。孩子吓唬它，朝着它大声叫喊，但是它撕得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更凶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xiōng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楷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楷体"/>
              </a:rPr>
              <a:t>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533520" y="15228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Arial"/>
              </a:rPr>
              <a:t>学习生字新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/>
  <dc:language>en-US</dc:language>
  <cp:lastModifiedBy>USER</cp:lastModifiedBy>
  <dcterms:modified xsi:type="dcterms:W3CDTF">2015-08-05T20:06:36Z</dcterms:modified>
  <cp:revision>0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