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842-E28F-4268-89DD-B25D7583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779-2F5E-4C45-B289-65664BB2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21B-12EF-4039-9F47-AE8FA746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C22-2625-4573-A254-1205D55D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E9A-A515-4409-A7E7-44506ADC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4EB-2D20-4E61-A4C6-0AE4DA5F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FCF-98B2-4673-A368-41AFCE7D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690-2D96-42F3-9128-B28331F7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FDD-1F7F-48D9-8452-D246A9A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4C0-A3BD-4ECE-8C40-FD573E4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CB9-97FE-49CA-AC3F-FA74908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307-FE45-496E-87F8-1E90E2C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6E00-6D12-458F-90ED-0F9B6704D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680;%D7%D3&amp;in=18955&amp;cl=2&amp;lm=-1&amp;pn=0&amp;rn=1&amp;di=5013576423&amp;ln=2000&amp;fr=&amp;fmq=&amp;ic=&amp;s=0&amp;se=&amp;sme=0&amp;tab=&amp;width=&amp;height=&amp;face=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84464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38.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我和狮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963880"/>
            <a:ext cx="374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685800"/>
            <a:ext cx="8686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我首先教它学会自己捕获食物。（爱尔莎快两岁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我们喂它奶粉和鱼肝油、葡萄糖配成的饮料。（爱尔莎出生才两三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它恋恋不舍地向森林走去。（爱尔莎三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我轻轻地摇动它快要脱落的乳牙，它闭着眼睛，一动也不动。（爱尔莎开始换牙的时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762120"/>
            <a:ext cx="86104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推荐书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《野生的爱尔莎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我的朋友——猎豹皮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陪尼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者：奥地利  乔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亚当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《我的野生动物朋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者：法国  蒂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德格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7621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乔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亚当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911—1980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奥地利女生物学家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出生在奥地利的维也纳。父亲是个颇有名望的建筑工程师。她从小把假期的全部时间都花在父亲的庄园里，专心致志地对野鹿、狐狸等动物进行驯化工作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3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她在东非肯尼亚旅行。那辽阔无边的热带原始森林和出没其间的各种珍禽异兽，一下子把她吸引住了。于是，她决定留在肯尼亚，这一留就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。后来，她丈夫在丛林中发现三只小狮子，便带回营地进行驯化实验，并把其中两只大的送往荷兰动物园，留下最小的爱尔莎，继续驯化实验。她以自己的亲身经历写成了《野生的爱尔莎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213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文主要讲了“我”精心驯养失去母亲的小狮子爱尔莎，和它一起生活了三年，又把它交回了大自然的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课文主要写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219320"/>
            <a:ext cx="8686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（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）“我”抱回刚出生两三天就失去母亲的爱尔莎，悉心喂养它，以及爱尔莎对“我”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（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—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）讲小狮子从五个月到两岁的成长过程中，表现出来的顽皮、勇敢、驯服和善解人意的特点以及“我”和爱尔莎之间的深厚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（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—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）“我”决定把爱尔莎送回大自然的原因，以及为此做出的努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838080"/>
            <a:ext cx="82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文中哪几件事给你留下深刻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一、小狮子洗澡时，跟“我”开玩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809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438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二、小狮子为保护“我”，敢与脾气暴躁的犀牛搏斗，赶走了犀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733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三、小狮子换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4956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四、小狮子夜闯驴群，被“我”教训了一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7621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自然段   “不离开我”“一起睡”、“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37160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自然段   “轻轻地把我扑倒”、“和我开玩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05740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自然段   “爱尔莎从远处跑来，勇敢地和犀牛搏斗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0040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自然段    “张开嘴给我看”“我轻轻摇动……它闭着眼睛，一动也不动”“靠在爱尔莎身上看书或者画画”“它吮吸我的大拇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876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自然段 能驯服地忍受“我”的责打而不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63868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六—九自然段   “十分想念它”、“整夜想着它”、“莫大的痛苦”、“恋恋不舍”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3716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一，爱尔莎本来就是属于大自然的，那里才是它生活的故乡。在大自然中爱尔莎才能像其它动物一样，自由自在地过幸福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二，“我”虽然十分喜爱爱尔莎，但为了让爱尔莎更好地生存，也为科学实验的需要，所以忍痛把它放回大自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371600"/>
            <a:ext cx="8686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）我首先教它学会自己捕获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）我们喂它奶粉和鱼肝油、葡萄糖配成的饮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）它恋恋不舍地向森林走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）我轻轻地摇动它快要脱落的乳牙，它闭着眼睛，一动也不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60020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我首先教它学会自己捕获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我们喂它奶粉和鱼肝油、葡萄糖配成的饮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它恋恋不舍地向森林走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我轻轻地摇动它快要脱落的乳牙，它闭着眼睛，一动也不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