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6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3.png" ContentType="image/png"/>
  <Override PartName="/ppt/media/image13.jpeg" ContentType="image/jpeg"/>
  <Override PartName="/ppt/media/image7.jpeg" ContentType="image/jpeg"/>
  <Override PartName="/ppt/media/image11.jpeg" ContentType="image/jpeg"/>
  <Override PartName="/ppt/media/coin.wav" ContentType="audio/x-wav"/>
  <Override PartName="/ppt/media/image9.jpeg" ContentType="image/jpeg"/>
  <Override PartName="/ppt/media/image24.jpeg" ContentType="image/jpeg"/>
  <Override PartName="/ppt/media/voltage.wav" ContentType="audio/x-wav"/>
  <Override PartName="/ppt/media/image3.jpeg" ContentType="image/jpeg"/>
  <Override PartName="/ppt/media/image25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14.jpeg" ContentType="image/jpeg"/>
  <Override PartName="/ppt/media/image15.jpeg" ContentType="image/jpeg"/>
  <Override PartName="/ppt/media/laser.wav" ContentType="audio/x-wav"/>
  <Override PartName="/ppt/media/image16.jpeg" ContentType="image/jpeg"/>
  <Override PartName="/ppt/media/%E8%B0%90%E6%B3%A2.wav" ContentType="audio/x-wav"/>
  <Override PartName="/ppt/media/wind.wav" ContentType="audio/x-wav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6EA-D8BF-4C27-B8E0-B41E69CE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40A-63FE-4FFE-81B6-AFB0D0A0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715-9AD0-42F9-8BFA-8DA4EF7E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C42-D10F-4CD6-BB7A-AF163AD7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CF2-FA33-4AA9-B830-3DA25B76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24F-36A7-460B-B247-189A5BFC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220-6954-48E4-AD53-D5AB94CF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675-C9EB-47F1-8DDF-F68A63AF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7BF-EF58-494D-983F-9C3A7548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0C3-4583-4271-A782-DB1133A8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479-EB3A-48E4-806A-C33E23FD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E2C-E698-45CF-ACBC-8580007D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CD36-93E3-43FB-85A0-9ABC31E603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wind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voltage.wav"/><Relationship Id="rId4" Type="http://schemas.openxmlformats.org/officeDocument/2006/relationships/audio" Target="../media/type.wav"/><Relationship Id="rId5" Type="http://schemas.openxmlformats.org/officeDocument/2006/relationships/audio" Target="../media/wind.wav"/><Relationship Id="rId6" Type="http://schemas.openxmlformats.org/officeDocument/2006/relationships/audio" Target="../media/type.wav"/><Relationship Id="rId7" Type="http://schemas.openxmlformats.org/officeDocument/2006/relationships/audio" Target="../media/wind.wav"/><Relationship Id="rId8" Type="http://schemas.openxmlformats.org/officeDocument/2006/relationships/audio" Target="../media/type.wav"/><Relationship Id="rId9" Type="http://schemas.openxmlformats.org/officeDocument/2006/relationships/audio" Target="../media/wind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" Target="slide11.xml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5.jpeg"/><Relationship Id="rId9" Type="http://schemas.openxmlformats.org/officeDocument/2006/relationships/image" Target="../media/image4.png"/><Relationship Id="rId10" Type="http://schemas.openxmlformats.org/officeDocument/2006/relationships/slide" Target="slide4.xm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slide" Target="slide5.xml"/><Relationship Id="rId14" Type="http://schemas.openxmlformats.org/officeDocument/2006/relationships/image" Target="../media/image8.jpeg"/><Relationship Id="rId15" Type="http://schemas.openxmlformats.org/officeDocument/2006/relationships/image" Target="../media/image9.jpeg"/><Relationship Id="rId16" Type="http://schemas.openxmlformats.org/officeDocument/2006/relationships/slide" Target="slide10.xml"/><Relationship Id="rId17" Type="http://schemas.openxmlformats.org/officeDocument/2006/relationships/image" Target="../media/image10.jpeg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&#35856;&#27874;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0.jpeg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image" Target="../media/image12.jpeg"/><Relationship Id="rId4" Type="http://schemas.openxmlformats.org/officeDocument/2006/relationships/slide" Target="slide5.xml"/><Relationship Id="rId5" Type="http://schemas.openxmlformats.org/officeDocument/2006/relationships/image" Target="../media/image13.jpeg"/><Relationship Id="rId6" Type="http://schemas.openxmlformats.org/officeDocument/2006/relationships/slide" Target="slide7.xml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" Target="slide25.xml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slide" Target="slide20.xml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bedu.org/cczxxx/wucaichi/pic/aa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1844640"/>
            <a:ext cx="58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5050"/>
                </a:solidFill>
                <a:latin typeface="华文彩云"/>
                <a:ea typeface="华文彩云"/>
              </a:rPr>
              <a:t>8</a:t>
            </a:r>
            <a:r>
              <a:rPr b="1" lang="zh-CN" sz="6600" spc="-1" strike="noStrike">
                <a:solidFill>
                  <a:srgbClr val="ff5050"/>
                </a:solidFill>
                <a:latin typeface="华文彩云"/>
                <a:ea typeface="华文彩云"/>
              </a:rPr>
              <a:t>、五彩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0920" y="2781360"/>
            <a:ext cx="30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292428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池子的边沿是金黄色，像一圈圈金色的带子把池子围成各种好看的形状：有的像葫芦，有的像镰刀，有的像脸盆，有的像盛开的莲花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956720" y="6093000"/>
            <a:ext cx="502920" cy="475920"/>
          </a:xfrm>
          <a:custGeom>
            <a:avLst/>
            <a:gdLst>
              <a:gd name="textAreaLeft" fmla="*/ 30600 w 502920"/>
              <a:gd name="textAreaRight" fmla="*/ 472320 w 50292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6" y="10800"/>
                </a:moveTo>
                <a:lnTo>
                  <a:pt x="18419" y="3794"/>
                </a:lnTo>
                <a:lnTo>
                  <a:pt x="1841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33336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479520"/>
            <a:ext cx="7704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边是金黄色的石粉凝成的，像一圈圈彩带，把大大小小的水池围成各种不同的形状，有像葫芦的，有像镰刀的，有像盘子的，有像莲花的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264960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句话写了水池哪几种形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3573360"/>
            <a:ext cx="7993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句话运用了＿＿＿＿＿＿修辞方法，把＿＿＿＿分别比作＿＿＿　＿＿＿　　＿＿＿　＿＿＿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64000" y="342900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29080" y="35701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比喻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4149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3640" y="41497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葫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42051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镰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4724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盘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47102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莲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6760" y="3922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5734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谁能说说这句话中省略号的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92360" y="191628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水池大的面积不足一亩，水深不过一丈；小的像菜碟，水很浅，用小拇指就能触到池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692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大的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105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6778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的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98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4354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大的水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34354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的水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516720" y="378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198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像个菜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49482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不过一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46864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用小拇指就能触到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198900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不足一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476280"/>
            <a:ext cx="7561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更使我惊奇的是，所有的池水来自同一条溪流，溪水流到各个水池里，颜色却不同了。有些水池的水还不止一种颜色，上层是咖啡色的，下层却是成了柠檬黄；左半边是天蓝色的，右半边却成了橄榄绿。可是把水舀起来看，又跟普通的清水一个样，什么颜色也没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柠檬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22827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咖啡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0920" y="2852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蓝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3429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橄榄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0920" y="65181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3809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蓝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柠檬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80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橄榄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57600" y="54864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蓝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495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橄榄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038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柠檬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2895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咖啡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495680" y="5105160"/>
            <a:ext cx="381240" cy="53316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7086240" y="4266720"/>
            <a:ext cx="609480" cy="3049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5334120" y="3886200"/>
            <a:ext cx="380880" cy="3808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638320" y="3352680"/>
            <a:ext cx="304920" cy="3049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55640" y="476280"/>
            <a:ext cx="7561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ff5050"/>
                </a:solidFill>
                <a:latin typeface="Arial"/>
              </a:rPr>
              <a:t>更使我惊奇的是，所有的池水来自同一条溪流，溪水流到各个水池里，颜色却不同了。有些水池的水还不止一种颜色，上层是咖啡色的，下层却是成了柠檬黄；左半边是天蓝色的，右半边却成了橄榄绿。可是把水舀起来看，又跟普通的清水一个样，什么颜色也没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16351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04000" y="2222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上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279864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下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357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左半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00720" y="3375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右半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55640" y="620640"/>
            <a:ext cx="77770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明明是清水，为什么在水池里会显出不同的颜色来呢？原来池底长着许多石笋，有的像起伏的丘陵，有的像险峻的山峰，有的像矗立的宝塔，有的像成簇的珊瑚。石笋表面凝结着一层细腻的透明的石粉。阳光透过池水射到池底，石笋就像高低不平的折光镜，把阳光折射成各种不同的色彩。水池周围的树木花草长得很茂盛，五光十色的倒影使池水更加瑰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26920" y="141300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形成原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285264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一、池底长着石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371628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二、石笋表面凝结着石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44370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三、阳光的折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229360"/>
            <a:ext cx="55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四、树木花草的倒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408560" y="60199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池底长着许多石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00400" y="2362320"/>
            <a:ext cx="1981080" cy="162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429000" y="30492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" y="30492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38080" y="2362320"/>
            <a:ext cx="2057400" cy="1604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7391520" y="2370240"/>
            <a:ext cx="1752480" cy="159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248520" y="380880"/>
            <a:ext cx="2666880" cy="176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838080" y="4203720"/>
            <a:ext cx="2057400" cy="1892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276720" y="4270320"/>
            <a:ext cx="1904760" cy="1825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5"/>
          <a:stretch/>
        </p:blipFill>
        <p:spPr>
          <a:xfrm>
            <a:off x="5410080" y="4267080"/>
            <a:ext cx="1859040" cy="1752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7391520" y="41911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8"/>
          <a:stretch/>
        </p:blipFill>
        <p:spPr>
          <a:xfrm>
            <a:off x="5410080" y="2362320"/>
            <a:ext cx="1905120" cy="164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2920" y="304920"/>
            <a:ext cx="7290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五彩池美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4360" y="2924280"/>
            <a:ext cx="597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99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原来五彩的瑶池就在人间，不在天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87280" y="112536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2565360"/>
            <a:ext cx="57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课文明明写的是藏龙山的五彩池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为什么在开头的  第一段里先写有关瑶池的神话故事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它在这里起到什么作用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2286000" y="609480"/>
            <a:ext cx="4419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池水颜色不同的原因</a:t>
            </a:r>
            <a:endParaRPr b="0" lang="en-US" sz="1800" spc="1" strike="noStrike">
              <a:ln w="1908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8" name=""/>
          <p:cNvSpPr/>
          <p:nvPr/>
        </p:nvSpPr>
        <p:spPr>
          <a:xfrm>
            <a:off x="3435120" y="2514600"/>
            <a:ext cx="106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池底有高低不平的石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石笋表面有石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阳光折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花木倒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75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75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75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75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52560" y="11430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为五彩池写广告词，吸引大家来旅游 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9960" y="3657600"/>
            <a:ext cx="78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游人来到五彩池，飘飘欲仙当瑶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4876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藏龙五彩池，心中的瑶池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8%B0%90%E6%B3%A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2781360"/>
            <a:ext cx="648000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五彩池（姿态万千）：有的像（   　　），有的像（　　　）有的像（　　　），有的像（　　）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1197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我会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71640" y="5493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柠檬黄、天蓝、咖啡色、橄榄绿等是“物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﹢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色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”式的词。你还能说出这样的词吗？并能用它们来填写下面的句子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3284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有的上边的池水是（　　　），流到下边的池就成了（　　　）；有的左半边的池水是（　　　），右半边的池水却是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15238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教材依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334120"/>
            <a:ext cx="9144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2590920" cy="1752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781680" y="1981080"/>
            <a:ext cx="2362320" cy="1600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858000" y="53341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0" y="457200"/>
            <a:ext cx="2438280" cy="1523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23880" y="0"/>
            <a:ext cx="152424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教学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0"/>
            <a:ext cx="15238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五彩池美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0"/>
            <a:ext cx="15238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线阅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0"/>
            <a:ext cx="152424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五彩池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0"/>
            <a:ext cx="15238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五彩池讨论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533520"/>
            <a:ext cx="2057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457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材分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981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38098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重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410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难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6094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课文讲的是“我”到四川松潘去旅游，在藏龙山上看到五彩池的情景，课文通过对五彩池美丽、神奇特点的描写，赞美大自然，表达了“我”对祖国山河的热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2133720"/>
            <a:ext cx="52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了解五彩池这一奇特景观，从中感受大自然的美，培养学生热爱祖国河山的思想感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有感情地朗读课文，能与同伴一起合作学习，提高自己网上合作的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8098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了解五彩池的特点以及池水呈现出不同颜色的原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56386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让学生理解五彩池池水显出不同颜色的原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228600"/>
            <a:ext cx="220968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0" y="304920"/>
            <a:ext cx="2514600" cy="229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58000" y="304920"/>
            <a:ext cx="203040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4800600" y="304920"/>
            <a:ext cx="20257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2286000" y="3276720"/>
            <a:ext cx="2286000" cy="2361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648320" y="3276720"/>
            <a:ext cx="2286000" cy="2361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2"/>
          <a:stretch/>
        </p:blipFill>
        <p:spPr>
          <a:xfrm>
            <a:off x="0" y="3200400"/>
            <a:ext cx="220968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010280" y="3352680"/>
            <a:ext cx="2133720" cy="2210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9320" y="5791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首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304920"/>
            <a:ext cx="7010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32000" y="1125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90792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请给课题《五彩池》加一个修饰的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2349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_________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的五彩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5300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美丽   好看  漂亮  奇特  奇异  神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2276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神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7524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ǒng             jià        màn               yào    m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哄 骗    腾云 驾 雾    漫 山遍野 闪 耀  一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zhàng mǔ        lián          sǔn         fú  qiū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 丈     拇  指    镰 刀   竹 笋    起 伏  丘 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hè     lún     níng méng  níng    yǎo          jù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射  昆 仑山    柠   檬       凝 成  舀 水   险 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600"/>
            <a:ext cx="2743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记住我了吗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70760" y="1828800"/>
            <a:ext cx="7335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哄 骗     腾云驾雾     漫山遍野    闪 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 亩     一 丈     拇 指    镰 刀    竹 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起 伏    丘 陵     折 射    昆仑山   柠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凝成      舀水     险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45720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新魏"/>
              </a:rPr>
              <a:t>我的帽子没有了，你还认识我吗？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76360" y="333360"/>
            <a:ext cx="8316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那是个晴朗的日子，我乘汽车来到藏龙山，只见漫山遍野都是大大小小的水池。无数的水池在灿烂的阳光下，闪耀着各种不同颜色的光辉，好像是铺展着的巨幅地毯上的宝石。水池大的面积不足一亩，水深不过一丈；小的像个菜碟，水很浅，用小拇指就能触到池底。池边是金黄色的石粉凝成的，像一圈圈彩带，把大大小小的水池围成各种不同的形状，有像葫芦的，有像镰刀的，有像盘子的，有像莲花的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933720"/>
            <a:ext cx="8425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池边是金黄色的石粉凝成的，像一圈圈彩带，把大大小小的水池围成各种不同的形状，有像葫芦的，有像镰刀的，有像盘子的，有像莲花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5-08-05T20:06:36Z</dcterms:modified>
  <cp:revision>0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