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yw4-5b.wav" ContentType="audio/x-wav"/>
  <Override PartName="/ppt/media/image6.jpeg" ContentType="image/jpeg"/>
  <Override PartName="/ppt/media/image10.png" ContentType="image/png"/>
  <Override PartName="/ppt/media/image15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chimes.wav" ContentType="audio/x-wav"/>
  <Override PartName="/ppt/media/image14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8FA-3382-47E2-85F7-5CE11722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D33-2364-425B-AB2F-82FE0619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168-EB8F-4FCE-AA32-BB6C5E0C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C9B-9787-4709-A9F3-51B441DA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24F-AF4F-4EC6-AFB1-CB40B472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E47-D9C3-4110-9A72-FE2A9294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15C-A4C9-4A40-BE8D-ABB13C25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CF80-E178-441B-B864-0B7934B2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435-B004-476D-BE33-F1382537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C1C-8FD8-4AAA-8A3C-D82B5EBD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FC3-01BB-4B5E-8A52-1334530D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B15-3FD9-4F05-B2BD-BC321F22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A78D-74E3-49BB-B5B2-5762A9D4D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yw4-5b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yw4-5b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76360" y="1557360"/>
            <a:ext cx="63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19.</a:t>
            </a:r>
            <a:r>
              <a:rPr b="0" lang="zh-CN" sz="9600" spc="-1" strike="noStrike">
                <a:solidFill>
                  <a:srgbClr val="ffffff"/>
                </a:solidFill>
                <a:latin typeface="Arial"/>
              </a:rPr>
              <a:t>赵州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03a1002"/>
          <p:cNvPicPr/>
          <p:nvPr/>
        </p:nvPicPr>
        <p:blipFill>
          <a:blip r:embed="rId1"/>
          <a:stretch/>
        </p:blipFill>
        <p:spPr>
          <a:xfrm>
            <a:off x="1447920" y="173160"/>
            <a:ext cx="6324480" cy="4398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44956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假如你来到赵州桥的设计者李春面前，你想对他说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611280" y="22096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赵州桥不但</a:t>
            </a:r>
            <a:r>
              <a:rPr b="0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坚固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，而且</a:t>
            </a:r>
            <a:r>
              <a:rPr b="0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美观</a:t>
            </a:r>
            <a:r>
              <a:rPr b="0" lang="zh-CN" sz="4400" spc="-1" strike="noStrike">
                <a:solidFill>
                  <a:srgbClr val="ff99ff"/>
                </a:solidFill>
                <a:latin typeface="Times New Roman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3"/>
          <p:cNvSpPr txBox="1"/>
          <p:nvPr/>
        </p:nvSpPr>
        <p:spPr>
          <a:xfrm>
            <a:off x="684360" y="404640"/>
            <a:ext cx="2493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8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认一认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619280" y="3284640"/>
            <a:ext cx="669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过渡句（承上启下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这座桥不但坚固，而且美观。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桥面两侧有石栏，栏板上雕刻着精美的图案：有的刻着两条相互缠绕的龙，嘴里吐出美丽的水花；有的刻着两条飞龙，前爪相互抵着，各自回首遥望；还有的刻着双龙戏珠。所有的龙似乎都在游动，真像活了一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3733920" y="19810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0" y="34290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5486400" y="4038480"/>
            <a:ext cx="1981080" cy="762120"/>
          </a:xfrm>
          <a:custGeom>
            <a:avLst/>
            <a:gdLst>
              <a:gd name="textAreaLeft" fmla="*/ 49320 w 1981080"/>
              <a:gd name="textAreaRight" fmla="*/ 1931760 w 1981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>
            <a:lum bright="-6000"/>
          </a:blip>
          <a:srcRect l="11999" t="23335" r="47003" b="35337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94280" y="60958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相互缠绕  吐出美丽的水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>
            <a:lum bright="-6000"/>
          </a:blip>
          <a:srcRect l="31003" t="24671" r="28003" b="32666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2189880" y="609588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前爪相互抵着  各自回首遥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47003" t="24671" r="11999" b="3400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725280" y="6095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双龙戏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829944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 flipV="1" rot="5400000">
            <a:off x="4201200" y="-1915200"/>
            <a:ext cx="588960" cy="6705720"/>
          </a:xfrm>
          <a:custGeom>
            <a:avLst/>
            <a:gdLst>
              <a:gd name="textAreaLeft" fmla="*/ 376200 w 588960"/>
              <a:gd name="textAreaRight" fmla="*/ 589320 w 58896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587040" y="304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精美的图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23768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098240" y="1905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846840" y="19051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还有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840600" y="5589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所有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1">
            <a:lum bright="-12000"/>
          </a:blip>
          <a:srcRect l="31003" t="24671" r="28003" b="32666"/>
          <a:stretch/>
        </p:blipFill>
        <p:spPr>
          <a:xfrm>
            <a:off x="2987640" y="2838600"/>
            <a:ext cx="2952720" cy="230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2">
            <a:lum bright="-12000"/>
          </a:blip>
          <a:srcRect l="47003" t="24671" r="11999" b="34001"/>
          <a:stretch/>
        </p:blipFill>
        <p:spPr>
          <a:xfrm>
            <a:off x="6248520" y="2819520"/>
            <a:ext cx="2895480" cy="2334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3">
            <a:lum bright="-12000"/>
          </a:blip>
          <a:srcRect l="11999" t="23335" r="47003" b="35337"/>
          <a:stretch/>
        </p:blipFill>
        <p:spPr>
          <a:xfrm>
            <a:off x="0" y="2819520"/>
            <a:ext cx="2771640" cy="2324160"/>
          </a:xfrm>
          <a:prstGeom prst="rect">
            <a:avLst/>
          </a:prstGeom>
          <a:ln w="0">
            <a:noFill/>
          </a:ln>
        </p:spPr>
      </p:pic>
      <p:sp>
        <p:nvSpPr>
          <p:cNvPr id="93" name="Line 12"/>
          <p:cNvSpPr/>
          <p:nvPr/>
        </p:nvSpPr>
        <p:spPr>
          <a:xfrm>
            <a:off x="2340000" y="6237360"/>
            <a:ext cx="619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>
            <a:hlinkClick r:id="rId1"/>
          </p:cNvPr>
          <p:cNvSpPr/>
          <p:nvPr/>
        </p:nvSpPr>
        <p:spPr>
          <a:xfrm>
            <a:off x="0" y="7632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这座桥不但（        ），而且（        ）。桥面两侧有石栏，栏板上雕刻着（       ）的图案：有的刻着两条（               ）的龙，嘴里吐出美丽的水花；有的刻着两条飞龙，前爪（               ），各自（               ） ；  还有的刻着（              ）。所有的龙似乎都在（      ），真像（      ）的一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050800" y="76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坚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36000" y="838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美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831480" y="1523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精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181760" y="2286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相互缠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24760" y="3672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相互抵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277000" y="443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回首遥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032120" y="5181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双龙戏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890240" y="5943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783720" y="5958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游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539640" y="4046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赵州桥表现了劳动人民的智慧和才干，是我国宝贵的历史遗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zhaozhouqiao"/>
          <p:cNvPicPr/>
          <p:nvPr/>
        </p:nvPicPr>
        <p:blipFill>
          <a:blip r:embed="rId1"/>
          <a:stretch/>
        </p:blipFill>
        <p:spPr>
          <a:xfrm>
            <a:off x="533520" y="1523880"/>
            <a:ext cx="830556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3964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赵州桥表现了劳动人民的智慧和才干，是我国宝贵的历史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遗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zhaozhouqiao"/>
          <p:cNvPicPr/>
          <p:nvPr/>
        </p:nvPicPr>
        <p:blipFill>
          <a:blip r:embed="rId1"/>
          <a:stretch/>
        </p:blipFill>
        <p:spPr>
          <a:xfrm>
            <a:off x="533520" y="1523880"/>
            <a:ext cx="830556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00000" y="14842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赵县    安济桥     石匠    横跨      坚固      雕刻    前爪      智慧      栏板         图案      宝贵</a:t>
            </a:r>
            <a:r>
              <a:rPr b="0" lang="zh-CN" sz="7200" spc="-1" strike="noStrike">
                <a:solidFill>
                  <a:srgbClr val="ff9900"/>
                </a:solidFill>
                <a:latin typeface="Arial"/>
              </a:rPr>
              <a:t>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北京十七孔桥春色"/>
          <p:cNvPicPr/>
          <p:nvPr/>
        </p:nvPicPr>
        <p:blipFill>
          <a:blip r:embed="rId1">
            <a:lum bright="-12000"/>
          </a:blip>
          <a:srcRect l="0" t="0" r="0" b="31119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855000" y="60339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北京的十七孔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yw4-5b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南浦大桥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10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4876920" y="228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南浦大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59-2"/>
          <p:cNvPicPr/>
          <p:nvPr/>
        </p:nvPicPr>
        <p:blipFill>
          <a:blip r:embed="rId1"/>
          <a:stretch/>
        </p:blipFill>
        <p:spPr>
          <a:xfrm>
            <a:off x="0" y="0"/>
            <a:ext cx="9144000" cy="7539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685800" y="1523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80880" y="22860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金门大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13119012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zzq"/>
          <p:cNvPicPr/>
          <p:nvPr/>
        </p:nvPicPr>
        <p:blipFill>
          <a:blip r:embed="rId2">
            <a:lum bright="-18000"/>
          </a:blip>
          <a:srcRect l="2524" t="4533" r="2524" b="4391"/>
          <a:stretch/>
        </p:blipFill>
        <p:spPr>
          <a:xfrm>
            <a:off x="216000" y="216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684360" y="23634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赵州桥既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的建造是建桥史上的一个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充分体现了我国劳动人民的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547640" y="83664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会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116000" y="47242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、背诵喜欢的部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755640" y="620640"/>
            <a:ext cx="77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桥长五十多米，有九米多宽，中间行车马，两旁走人。这么长的桥，全部用石头砌成，下面没有桥墩，只有一个拱形的大桥洞，横跨在三十七米多宽的河面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zhaozhouqiao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56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4495680" y="510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974400" y="2057400"/>
            <a:ext cx="22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桥长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539640" y="4005360"/>
            <a:ext cx="770436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450440" y="476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桥长五十多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haozhouqiao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50" name="Line 3"/>
          <p:cNvSpPr/>
          <p:nvPr/>
        </p:nvSpPr>
        <p:spPr>
          <a:xfrm>
            <a:off x="2666880" y="4876920"/>
            <a:ext cx="5257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476600" y="494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846240" y="5157720"/>
            <a:ext cx="266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河面宽</a:t>
            </a:r>
            <a:r>
              <a:rPr b="0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7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68360" y="-674640"/>
            <a:ext cx="842472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桥长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五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米，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九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宽，中间行车马，两旁走人。这么</a:t>
            </a:r>
            <a:r>
              <a:rPr b="1" lang="zh-CN" sz="24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桥，</a:t>
            </a:r>
            <a:r>
              <a:rPr b="1" lang="zh-CN" sz="24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全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石头砌成，下面</a:t>
            </a:r>
            <a:r>
              <a:rPr b="1" lang="zh-CN" sz="24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没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桥墩，</a:t>
            </a:r>
            <a:r>
              <a:rPr b="1" lang="zh-CN" sz="24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只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拱形的大桥洞，</a:t>
            </a:r>
            <a:r>
              <a:rPr b="1" lang="zh-CN" sz="24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横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十七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宽的河面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7"/>
          <p:cNvSpPr txBox="1"/>
          <p:nvPr/>
        </p:nvSpPr>
        <p:spPr>
          <a:xfrm>
            <a:off x="5435640" y="1628640"/>
            <a:ext cx="158436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雄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3736800" y="1614600"/>
            <a:ext cx="15843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非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95280" y="4581360"/>
            <a:ext cx="82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“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</a:rPr>
              <a:t>这种设计，在建桥史上是一个创举”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。“这种设计”指的是什么？有什么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zz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895480" y="38862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204f"/>
                </a:solidFill>
                <a:latin typeface="Times New Roman"/>
                <a:ea typeface="隶书"/>
              </a:rPr>
              <a:t>小桥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1042920" y="4221000"/>
            <a:ext cx="1928880" cy="46080"/>
          </a:xfrm>
          <a:prstGeom prst="line">
            <a:avLst/>
          </a:prstGeom>
          <a:ln w="57240">
            <a:solidFill>
              <a:srgbClr val="e62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5364000" y="3357720"/>
            <a:ext cx="2133720" cy="0"/>
          </a:xfrm>
          <a:prstGeom prst="line">
            <a:avLst/>
          </a:prstGeom>
          <a:ln w="57240">
            <a:solidFill>
              <a:srgbClr val="e62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30280" y="2286000"/>
            <a:ext cx="1399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204f"/>
                </a:solidFill>
                <a:latin typeface="Times New Roman"/>
                <a:ea typeface="隶书"/>
              </a:rPr>
              <a:t>大桥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F03Q250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29200" y="0"/>
            <a:ext cx="4114800" cy="3084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Picture 7" descr="F03Q2510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3932280"/>
            <a:ext cx="3902040" cy="2925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4" name="Text Box 8"/>
          <p:cNvSpPr/>
          <p:nvPr/>
        </p:nvSpPr>
        <p:spPr>
          <a:xfrm>
            <a:off x="395280" y="1268280"/>
            <a:ext cx="3816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平时，河水从大桥洞流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067280" y="4149720"/>
            <a:ext cx="507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发大水的时候，河水还可以从四个小桥洞流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33520" y="1143000"/>
          <a:ext cx="7924680" cy="4087800"/>
        </p:xfrm>
        <a:graphic>
          <a:graphicData uri="http://schemas.openxmlformats.org/drawingml/2006/table">
            <a:tbl>
              <a:tblPr/>
              <a:tblGrid>
                <a:gridCol w="3124080"/>
                <a:gridCol w="4800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设计特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好     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没有桥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节省石料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减少流水的冲击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行船方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大拱上有四个小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节省石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减轻桥自身重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减少流水对桥身的冲击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10-14T09:18:19Z</dcterms:modified>
  <cp:revision>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